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4D29-0380-4100-8239-E4AD76745271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E531-9C2F-406C-8A75-3851005C4C50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1F1C-9A6B-4E2F-8A00-D0F6001A207C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E52E-9B43-4C89-8495-13B108F815C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B0CD-CC41-4C34-B15A-D31B0CA31D4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D0BF-CDB2-4CE2-B079-DD40D44D4166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9CB6-6421-4471-9006-197DDAE72A4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B518-8E1D-4FB8-8912-95A9F211D93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3400-9A38-40EE-8A64-BAEB57C4FD93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501B-C81E-4759-8F35-93B8C9EA01CA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F1B1-FF4C-483C-869A-4754B87F5F2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A4F4-07C1-4592-BCCD-F26894165A70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1528-A24F-4A8E-900B-D63CCEF0ABB7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B54-9720-4341-9E2A-D627C63A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C44-9154-48C4-82BF-90C49B3D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318-987B-40CB-9A60-3BC1186E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082-0778-499F-A943-C5E0798F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2EF5-A90E-45A7-B4EC-0AB41A81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0188-FC65-4752-BA58-A27ADDBA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E667-2E37-429D-9ED4-2012AB3E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6192-5171-49C9-AEC6-9294AEC7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E020-A426-4AAA-814D-735795FB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C4F5-59CD-4445-9ECD-133891BB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1571-95C7-4323-ACBF-DDFE1C96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94D1-6DEC-4099-8371-8A9F6FCD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026C-6A53-4CDA-AC39-A66B67D2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208D-69E0-43DD-B9DD-85DFF204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99DC-98CB-4BAF-9E6A-7D730F45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A8AD-12AE-4B98-95AA-8F953CBD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A799-6A14-41E0-977D-E7F8A76D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026-111F-432D-86F4-688B9F4D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D00-0352-49AA-A69D-48175CA0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D475-7B73-405D-ACEA-19C0C7B1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718-E234-4C18-94FC-AE198D43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3C6-1732-4D0B-9E62-2D4EF8CD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4B0-3A62-4818-AD91-3263B96B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25B-DCB4-4A77-8FBD-7693724B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671C-AF55-460C-9CA0-02B825CBC0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255B-D784-4911-9A85-2ABF1E953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609480"/>
            <a:ext cx="8643960" cy="60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طرق التكاثر في الفطريات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[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Fungal Reproduction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] </a:t>
            </a:r>
            <a:r>
              <a:rPr b="0" lang="ar-SA" sz="1400" spc="-1" strike="noStrike" u="sng">
                <a:solidFill>
                  <a:srgbClr val="ffcc66"/>
                </a:solidFill>
                <a:uFillTx/>
                <a:latin typeface="Arial"/>
              </a:rPr>
              <a:t>: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ar-SA" sz="2400" spc="-1" strike="noStrike" u="sng">
                <a:solidFill>
                  <a:srgbClr val="ff0000"/>
                </a:solidFill>
                <a:uFillTx/>
                <a:latin typeface="Arial"/>
              </a:rPr>
              <a:t>تستطيع الفطريات أن تتكاثر بطريقتين :</a:t>
            </a:r>
            <a:br>
              <a:rPr sz="2400"/>
            </a:br>
            <a:br>
              <a:rPr sz="1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أ- تكاثر جنسي       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exual Reproduction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.</a:t>
            </a:r>
            <a:br>
              <a:rPr sz="2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ب- تكاثر لا جنسي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Asexual Reproduction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ffcc66"/>
                </a:solidFill>
                <a:uFillTx/>
                <a:latin typeface="Arial"/>
              </a:rPr>
              <a:t>أولاً : التكاثر اللاجنسي .</a:t>
            </a:r>
            <a:br>
              <a:rPr sz="2400"/>
            </a:br>
            <a:br>
              <a:rPr sz="1400"/>
            </a:b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عرف التكاثر اللاجنسي بالتكاثر الجسد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atic R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"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أو التكاثر الخضر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getative Re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"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</a:t>
            </a:r>
            <a:br>
              <a:rPr sz="2400"/>
            </a:b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*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تكاثر الفطريات لاجنسياً بواسطة خلايا مختلفة الأشكال والأحجام تنتج أفراداً جديدة دون اتحاد أنوية أو خلايا أو أعضاء ذكرية وأخرى أنثوية .</a:t>
            </a:r>
            <a:br>
              <a:rPr sz="2400"/>
            </a:b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**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تكاثر اللاجنسي أكثر شيوعاً من التكاثر الجنسي ، حيث تتكرر دورة حياة الفطر اللاجنسية أكثر من مرة خلال فترة نموه ، بينما يظهر الطور الجنسي في كثير من الفطريات مرة واحدة فقط في نهاية دورة حياته "وأحياناً لا يظهر على الإطلاق مثل الفطريات الناقصة" .</a:t>
            </a: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8763120" y="228600"/>
            <a:ext cx="2379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cs"/>
              </a:rPr>
              <a:t>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cs"/>
              <a:ea typeface="+mn-c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28760" y="1428840"/>
            <a:ext cx="81439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الجراثيم الأسيدي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ecidiospor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جراثيم كونيدية تتكون داخل وعاء كأسي الشكل يعرف باس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ciu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،تترتب هذه الجراثيم في سلاسل كم في فطر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uccinia gramini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الاسيرفيوله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cervul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: وهو تركيب طبقي الشكل يتكون من وسادة هيفية تحمل حوامل كونيدية قصيرة تتكون عليها الجراثيم الكونيدية ، والتي تخرج وتنتشر بعد تمزق بشرة النبات العائل ، وذلك مثل فطر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olletotrichum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28760" y="785880"/>
            <a:ext cx="814392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9" name="Picture 2" descr="http://www.biologie.uni-hamburg.de/b-online/fo33/uredo5.jpg"/>
          <p:cNvPicPr/>
          <p:nvPr/>
        </p:nvPicPr>
        <p:blipFill>
          <a:blip r:embed="rId1"/>
          <a:stretch/>
        </p:blipFill>
        <p:spPr>
          <a:xfrm>
            <a:off x="6286680" y="2000160"/>
            <a:ext cx="2571480" cy="300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s://encrypted-tbn3.gstatic.com/images?q=tbn:ANd9GcSGtKx31zqn6iV-9uSWziHmu0pReL0Agwo5pV-an93AccVVet3Z"/>
          <p:cNvPicPr/>
          <p:nvPr/>
        </p:nvPicPr>
        <p:blipFill>
          <a:blip r:embed="rId2"/>
          <a:stretch/>
        </p:blipFill>
        <p:spPr>
          <a:xfrm>
            <a:off x="3286080" y="2000160"/>
            <a:ext cx="2824200" cy="3000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ttp://www.cals.ncsu.edu/course/pp318/profiles_mirror/deuteromycetes/072717.jpg"/>
          <p:cNvPicPr/>
          <p:nvPr/>
        </p:nvPicPr>
        <p:blipFill>
          <a:blip r:embed="rId3"/>
          <a:stretch/>
        </p:blipFill>
        <p:spPr>
          <a:xfrm>
            <a:off x="285840" y="1928880"/>
            <a:ext cx="2857320" cy="3000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6286680" y="571680"/>
            <a:ext cx="257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الجراثيم الأسيدي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Aecidiospores]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8880" y="5429160"/>
            <a:ext cx="35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الاسيرفيوله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Acervule]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A:\Thanks.GIF"/>
          <p:cNvPicPr/>
          <p:nvPr/>
        </p:nvPicPr>
        <p:blipFill>
          <a:blip r:embed="rId1"/>
          <a:stretch/>
        </p:blipFill>
        <p:spPr>
          <a:xfrm>
            <a:off x="5183280" y="3890880"/>
            <a:ext cx="34272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-197280"/>
            <a:ext cx="8858160" cy="704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طرق التكاثر اللاجنسي </a:t>
            </a:r>
            <a:br>
              <a:rPr sz="2800"/>
            </a:br>
            <a:br>
              <a:rPr sz="1600"/>
            </a:b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- تجزئة الميسيليوم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Mycelium Fragmentation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: وهو يحدث في الفطريات التي تُكَوّن غزل فطري وفيه يتفتت الغزل الفطر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cel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إلى وحدات صغيرة ، كل وحدة تحتوي على خلية واحدة أو أكثر ، تستطيع هذه الخلية أن تنمو مكونة غزلاً فطرياً جديداً إذا هُيئت لها الظروف البيئية المناسبة للنمو.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400"/>
            </a:b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- الانشطار المستعرض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Transfers Fission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هو يحدث في الفطريات وحيدة الخلية ، مثل فطريات الخميرة . بحيث تأخذ كل خلية بالإستطالة حتى تنقسم نواتها إلى نواتين ، ثم يتخصر وسط الخلية إلى أن تنفصل إلى خليتين ، كل خلية تحتوي على نواة واحدة .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400"/>
            </a:b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- التبرعم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Budding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] 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Blastospores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هو يحدث في الفطريات وحيدة الخلية "الخميرة" ، بحيث يبدأ بظهور بروز خارجي من الخلية الأم يسمى البرع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ثم تنقسم نواة الخلية الأم إلى نواتين أثناء تكوين البرعم ، وتنتقل إحدى النواتين إلى البرعم ، ويأخذ حجم البرعم في الازدياد مع تخصره عند مكان إتصاله بالخلية الأم ، إلى أن ينفصل عنها مكوناً فرداً جديداً ، ويعرف البرعم باسم 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stospore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" .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600" y="4793760"/>
            <a:ext cx="35002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Arial"/>
              </a:rPr>
              <a:t>التبرعم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Budding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] </a:t>
            </a:r>
            <a:r>
              <a:rPr b="0" lang="ar-SA" sz="1800" spc="-1" strike="noStrike">
                <a:solidFill>
                  <a:srgbClr val="ffc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Blastospores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Picture 2" descr="C:\vack-up\unfiled\minew\backup\book_program_pictures\pic2\c1\1-17.jpg"/>
          <p:cNvPicPr/>
          <p:nvPr/>
        </p:nvPicPr>
        <p:blipFill>
          <a:blip r:embed="rId1"/>
          <a:stretch/>
        </p:blipFill>
        <p:spPr>
          <a:xfrm>
            <a:off x="4572000" y="714240"/>
            <a:ext cx="4429080" cy="400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vack-up\unfiled\minew\backup\book_program_pictures\pic2\c1\1-21.jpg"/>
          <p:cNvPicPr/>
          <p:nvPr/>
        </p:nvPicPr>
        <p:blipFill>
          <a:blip r:embed="rId2"/>
          <a:stretch/>
        </p:blipFill>
        <p:spPr>
          <a:xfrm>
            <a:off x="214200" y="714240"/>
            <a:ext cx="4286520" cy="3929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6215040" y="48578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c000"/>
                </a:solidFill>
                <a:latin typeface="Times New Roman"/>
              </a:rPr>
              <a:t>تجزئة الميسيليوم</a:t>
            </a:r>
            <a:r>
              <a:rPr b="0" lang="ar-SA" sz="18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00040" y="5357880"/>
            <a:ext cx="3786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c000"/>
                </a:solidFill>
                <a:latin typeface="Times New Roman"/>
              </a:rPr>
              <a:t>الانشطار </a:t>
            </a:r>
            <a:r>
              <a:rPr b="0" lang="ar-SA" sz="1800" spc="-1" strike="noStrike">
                <a:solidFill>
                  <a:srgbClr val="ffc000"/>
                </a:solidFill>
                <a:latin typeface="Times New Roman"/>
              </a:rPr>
              <a:t>المستعرض</a:t>
            </a:r>
            <a:r>
              <a:rPr b="0" lang="ar-SA" sz="1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</a:rPr>
              <a:t>[Transfers Fission]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- تكوين الأويدات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Oidium Formation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Arthrospores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: حيث يحدث تخصر جزئي في خلايا الغزل الفطري مكونة وحدات لا جنسية تعرف بالاويدي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id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أو الجراثيم المفصل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hrospo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حتفظ كل وحدة فيها بخواص الفطر الأصلية .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- تكوين الأجسام الحجرية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clerotial Formation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: حيث تجتمع الهيفات الفطرية لتكوين جسم صلب محكم يسمى بالجسم الحجر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lerot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متلئ خلاياه بالمواد الغذائية وعندما تتحسن الظروف البيئية فإن تلك الأجسام تنبت معطية وساد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تكمل نموها لتعطي فطراً جديداً مثل فطر الكلافيسبس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.</a:t>
            </a:r>
            <a:br>
              <a:rPr sz="2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 </a:t>
            </a:r>
            <a:br>
              <a:rPr sz="2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- تكوين الجراثيم الكلاميدية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hlamydospore Formation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بعض الفطريات تغلف احدى خلايا الغزل الفطري بجدار سميك وتختزن بداخلها المواد الغذائية قبل أن تنفصل عن الغزل الفطري ، ويطلق  عليها جراثيم كلاميدية ، وهي إما أن تكون طرفية أو بينية ، وتستطيع هذه الجراثيم تحمل الظروف البيئية الصعبة ، وتنمو عندما تتحسن هذه الظروف معطية فطراً جديداً . </a:t>
            </a:r>
            <a:br>
              <a:rPr sz="24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85840" y="500040"/>
            <a:ext cx="85723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2" descr="http://2.bp.blogspot.com/--FekbnAYHE0/USmQ9nNaV9I/AAAAAAAAIfU/_S0WglLB-ck/s400/07-+Arthrographis+sp+%28400+10X%29.jpg"/>
          <p:cNvPicPr/>
          <p:nvPr/>
        </p:nvPicPr>
        <p:blipFill>
          <a:blip r:embed="rId1"/>
          <a:stretch/>
        </p:blipFill>
        <p:spPr>
          <a:xfrm>
            <a:off x="428760" y="571680"/>
            <a:ext cx="4214520" cy="2643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www.cals.ncsu.edu/course/pp728/S_minor/S_%20minor_pod_sclerotia.jpg"/>
          <p:cNvPicPr/>
          <p:nvPr/>
        </p:nvPicPr>
        <p:blipFill>
          <a:blip r:embed="rId2"/>
          <a:stretch/>
        </p:blipFill>
        <p:spPr>
          <a:xfrm>
            <a:off x="285840" y="3786120"/>
            <a:ext cx="2928960" cy="271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https://encrypted-tbn3.gstatic.com/images?q=tbn:ANd9GcRAUd_c4h4fgUL2bR5x-jBb3mfUtvYRoOI7_qwMonIb54wp5Lhd"/>
          <p:cNvPicPr/>
          <p:nvPr/>
        </p:nvPicPr>
        <p:blipFill>
          <a:blip r:embed="rId3"/>
          <a:stretch/>
        </p:blipFill>
        <p:spPr>
          <a:xfrm>
            <a:off x="6143760" y="3786120"/>
            <a:ext cx="2571480" cy="264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http://www.aspergillus.org.uk/secure/image_library/flavus/Aspergillus%20041%5b1%5d.jpg"/>
          <p:cNvPicPr/>
          <p:nvPr/>
        </p:nvPicPr>
        <p:blipFill>
          <a:blip r:embed="rId4"/>
          <a:stretch/>
        </p:blipFill>
        <p:spPr>
          <a:xfrm>
            <a:off x="3429000" y="3786120"/>
            <a:ext cx="2571840" cy="2643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5"/>
          <p:cNvSpPr/>
          <p:nvPr/>
        </p:nvSpPr>
        <p:spPr>
          <a:xfrm>
            <a:off x="1714680" y="1429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rthrospor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2943360" y="3286080"/>
            <a:ext cx="31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clerotial Form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18" descr=""/>
          <p:cNvPicPr/>
          <p:nvPr/>
        </p:nvPicPr>
        <p:blipFill>
          <a:blip r:embed="rId5"/>
          <a:stretch/>
        </p:blipFill>
        <p:spPr>
          <a:xfrm>
            <a:off x="4929120" y="571680"/>
            <a:ext cx="3857760" cy="2643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9"/>
          <p:cNvSpPr/>
          <p:nvPr/>
        </p:nvSpPr>
        <p:spPr>
          <a:xfrm>
            <a:off x="5143680" y="192888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hlamydospo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501040" cy="614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 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وتقسم هذه الجراثيم طبقاً للكيفية التي تتكون وتحمل بها إلى :</a:t>
            </a:r>
            <a:br>
              <a:rPr sz="2400"/>
            </a:br>
            <a:br>
              <a:rPr sz="2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- الجراثيم الداخلية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Endospores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هي الجراثيم التي تتكون داخل حوافظ أو أكياس جرثومية ، وتقسم إلى نوعين طبقاً لقدرتها على الحركة إلى :جراثيم متحركة ، وجراثيم ساكنة .</a:t>
            </a:r>
            <a:br>
              <a:rPr sz="2400"/>
            </a:br>
            <a:br>
              <a:rPr sz="1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أ- الجراثيم السابحة 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هي جراثيم داخلية متحركة تتكون داخل حافظة جرثومية تسمى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osporangium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، وتتحرك هذه الجراثيم بمساعدة الأسواط والتي إما أن تكون أمامية أو خلفية أو جانبية ، كما في فطر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prolegnia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</a:t>
            </a:r>
            <a:br>
              <a:rPr sz="2400"/>
            </a:br>
            <a:br>
              <a:rPr sz="1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ب- الجراثيم الحافظية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porangiospores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]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: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هي جراثيم داخلية أي تتكون داخل حوافظ أو أكياس جرثومية تعرف بــــ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ang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هي جراثيم غير متحركة "ساكنة" ، تنطلق من الحافظة الجرثومية بعد تمزقها أو تحللها ، وتعتمد على التيارات الهوائية في انتشارها ، وذلك مثل جراثيم فطري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uc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hizopus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.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600"/>
            </a:br>
            <a:br>
              <a:rPr sz="3600"/>
            </a:br>
            <a:br>
              <a:rPr sz="1600"/>
            </a:br>
            <a:br>
              <a:rPr sz="18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86880" cy="614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ar-SA" sz="2800" spc="-1" strike="noStrike">
                <a:solidFill>
                  <a:srgbClr val="ffcc66"/>
                </a:solidFill>
                <a:latin typeface="Arial"/>
              </a:rPr>
              <a:t>الجراثيم الداخلية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ndospores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]</a:t>
            </a: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ب- الجراثيم الحافظية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orangiospor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]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:</a:t>
            </a:r>
            <a:br>
              <a:rPr sz="2000"/>
            </a:b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مثل جراثيم فطري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ucor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Rhizopus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.</a:t>
            </a:r>
            <a:br>
              <a:rPr sz="2000"/>
            </a:b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600"/>
            </a:br>
            <a:br>
              <a:rPr sz="3600"/>
            </a:b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Picture 2" descr="http://www.diark.org/img/species_pict/large/Saprolegnia_parasitica_CBS_223_65/"/>
          <p:cNvPicPr/>
          <p:nvPr/>
        </p:nvPicPr>
        <p:blipFill>
          <a:blip r:embed="rId1"/>
          <a:stretch/>
        </p:blipFill>
        <p:spPr>
          <a:xfrm>
            <a:off x="4643280" y="1285920"/>
            <a:ext cx="4286520" cy="4071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4552560" y="5500800"/>
            <a:ext cx="45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</a:rPr>
              <a:t>الجراثيم السابحة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aprolegni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11" descr="https://encrypted-tbn0.gstatic.com/images?q=tbn:ANd9GcQ12AFEq_whpFEkptnK4ysuatfCxTatYPkTMee4EpZi5gL70Phr"/>
          <p:cNvPicPr/>
          <p:nvPr/>
        </p:nvPicPr>
        <p:blipFill>
          <a:blip r:embed="rId2"/>
          <a:stretch/>
        </p:blipFill>
        <p:spPr>
          <a:xfrm>
            <a:off x="357120" y="1285920"/>
            <a:ext cx="4214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85840" y="357120"/>
            <a:ext cx="85010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الجراثيم الخارجي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ospor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الجراثيم التي لا تتكون داخل حوافظ أو أكياس جرثومية وهي تشمل ثلاثة أنواع من الجراثيم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أ- الجراثيم الكونيدية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idiospor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تعرف بالجراثيم الكونيدية أو الكونيدات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id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، وهي جراثيم غير متحركة تنتظم خارجياً على التراكيب المولدة لها والتي تعرف بالحوامل الكونيد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idioph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كم في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nicilliu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pergillus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</a:rPr>
              <a:t>ب- وقد تتكون هذه الجراثيم الكونيدية على تركيبات خاصة تختلف في الشكل فيطلق عليها أسماء أخرى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- الجراثيم البكنية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ycnidiospor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هي جراثيم كونيدية تتكون داخل وعاء يشبه الدورق يعرف باس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ycnidiu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، يكون مدفوناً في الوسط الذي ينمو عليه الفطر وبه فتحة تخرج عن طريقها هذه الجراثيم البكنية المرتبة على شكل خيوط رفيعة أو لولب طويل ، كما في فطر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uccinia graminis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14200" y="357120"/>
            <a:ext cx="8786880" cy="63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الجراثيم الخارجية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ospor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1" name="Picture 2" descr="C:\vack-up\unfiled\minew\backup\book_program_pictures\pic2\c1\1-14.jpg"/>
          <p:cNvPicPr/>
          <p:nvPr/>
        </p:nvPicPr>
        <p:blipFill>
          <a:blip r:embed="rId1"/>
          <a:stretch/>
        </p:blipFill>
        <p:spPr>
          <a:xfrm>
            <a:off x="3214800" y="2143080"/>
            <a:ext cx="278604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WINDOWS\Desktop\1-15.jpg"/>
          <p:cNvPicPr/>
          <p:nvPr/>
        </p:nvPicPr>
        <p:blipFill>
          <a:blip r:embed="rId2"/>
          <a:stretch/>
        </p:blipFill>
        <p:spPr>
          <a:xfrm>
            <a:off x="285840" y="2143080"/>
            <a:ext cx="285732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www.mikrohamburg.de/MonatsBild/Bild2.jpg"/>
          <p:cNvPicPr/>
          <p:nvPr/>
        </p:nvPicPr>
        <p:blipFill>
          <a:blip r:embed="rId3"/>
          <a:stretch/>
        </p:blipFill>
        <p:spPr>
          <a:xfrm>
            <a:off x="6072120" y="2143080"/>
            <a:ext cx="2786040" cy="3429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6215040" y="564372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ycnidiospore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uccina gramin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654120" y="5500800"/>
            <a:ext cx="235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idiospore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nicillium sp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440160" y="1071720"/>
            <a:ext cx="235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idiospore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pergillus sp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4-09-21T11:05:28Z</dcterms:modified>
  <cp:revision>95</cp:revision>
  <dc:subject/>
  <dc:title>Fungi and the Mycoses</dc:title>
</cp:coreProperties>
</file>