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82A-5F29-43FA-B100-64B60464FC1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A050-3D19-4BED-BB1A-934B72350B1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F91-7EC7-4C5B-A695-982ADC35D82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20B-0794-4DE8-9A88-FB8570A642C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4889-F6A2-40EF-9B36-D0C6EF2C5E5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EDEB-A527-4478-9C19-7BC1281C9DD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863-CAB2-4A79-A899-4814AD9597B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C0F-EA04-4171-BB22-081EA7BF412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FE60-FAFA-4047-8840-F04DDF1602F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727-B3C3-487A-88BC-6FF17C21515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5C6-F990-406F-B056-3EB0E003ACA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02B1-F8B4-49B0-A483-B367DD7567B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87F6-10F8-4CA6-B6BC-FAFE9F6F1F8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1A4-D80B-45AF-8810-5FC25CB5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9BF-048A-4574-80D8-39CE27B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402-2172-4695-A65D-0C508BAA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464-F9ED-4F65-BBB4-5ACAA41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9DF4-FB6D-4624-A98A-D2922B59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C01-77FD-4798-A68C-ECFB4CDE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205-5A88-4B3E-9EBB-796773B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D5D1-12E4-4652-AA0F-5BBFA857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0AEF-6AA2-4F09-A54A-BC57628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73B8-5212-40A8-BEB8-2E54A53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7AA0-0AEB-4EB4-9DAD-9F8B138A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10B-2398-4FB9-8253-BC4B0196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367-EE46-4CD0-9F8C-CC6F9F2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4A1-2324-467F-8254-CFB5A45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BBDF-BF5F-4B94-A4C4-95EFCE61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473-2536-4BAB-B006-AABB4EE4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5C3-F68F-4A66-A5B9-D7EEA5E3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8D6-4E4E-4D36-9DCD-A20BEBEA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31A-C09B-4A58-B9D8-0EFEF726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CCD-F823-456D-95EA-FA1020DF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875-0635-4272-9694-3E4FDE6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129-24CA-4D89-B2F7-938F60E2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B8F-FAC1-465C-8A02-76DD813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225-92FF-425D-9DBE-3150A5B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A18D-AB2A-40DA-975C-A3B12EA67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082-F0B6-483D-BB23-0982520CC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في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ungal Reproduction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 </a:t>
            </a:r>
            <a:r>
              <a:rPr b="0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ستطيع الفطريات أن تتكاثر بطريقتين :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تكاثر جنسي    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تكاثر لا جنس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أولاً : التكاثر اللاجنسي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عرف التكاثر اللاجنسي بالتكاثر الجسد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atic R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تكاثر الخض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getative R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تكاثر الفطريات لاجنسياً بواسطة خلايا مختلفة الأشكال والأحجام تنتج أفراداً جديدة دون اتحاد أنوية أو خلايا أو أعضاء ذكرية وأخرى أنثوية .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كاثر اللاجنسي أكثر شيوعاً من التكاثر الجنسي ، حيث تتكرر دورة حياة الفطر اللاجنسية أكثر من مرة خلال فترة نموه ، بينما يظهر الطور الجنسي في كثير من الفطريات مرة واحدة فقط في نهاية دورة حياته "وأحياناً لا يظهر على الإطلاق مثل الفطريات الناقصة" .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28760" y="1428840"/>
            <a:ext cx="8143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أسيد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ec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راثيم كونيدية تتكون داخل وعاء كأسي الشكل 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c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تترتب هذه الجراثيم في سلاسل كم في فطر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ia gramini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اسيرفيوله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ervu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وهو تركيب طبقي الشكل يتكون من وسادة هيفية تحمل حوامل كونيدية قصيرة تتكون عليها الجراثيم الكونيدية ، والتي تخرج وتنتشر بعد تمزق بشرة النبات العائل ، وذلك مثل فطر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lletotrichum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28760" y="785880"/>
            <a:ext cx="8143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2" descr="http://www.biologie.uni-hamburg.de/b-online/fo33/uredo5.jpg"/>
          <p:cNvPicPr/>
          <p:nvPr/>
        </p:nvPicPr>
        <p:blipFill>
          <a:blip r:embed="rId1"/>
          <a:stretch/>
        </p:blipFill>
        <p:spPr>
          <a:xfrm>
            <a:off x="6286680" y="2000160"/>
            <a:ext cx="257148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s://encrypted-tbn3.gstatic.com/images?q=tbn:ANd9GcSGtKx31zqn6iV-9uSWziHmu0pReL0Agwo5pV-an93AccVVet3Z"/>
          <p:cNvPicPr/>
          <p:nvPr/>
        </p:nvPicPr>
        <p:blipFill>
          <a:blip r:embed="rId2"/>
          <a:stretch/>
        </p:blipFill>
        <p:spPr>
          <a:xfrm>
            <a:off x="3286080" y="2000160"/>
            <a:ext cx="2824200" cy="3000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cals.ncsu.edu/course/pp318/profiles_mirror/deuteromycetes/072717.jpg"/>
          <p:cNvPicPr/>
          <p:nvPr/>
        </p:nvPicPr>
        <p:blipFill>
          <a:blip r:embed="rId3"/>
          <a:stretch/>
        </p:blipFill>
        <p:spPr>
          <a:xfrm>
            <a:off x="285840" y="1928880"/>
            <a:ext cx="2857320" cy="3000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286680" y="571680"/>
            <a:ext cx="257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جراثيم الأسيدي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ecidiospores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880" y="542916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اسيرفيوله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cervule]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-197280"/>
            <a:ext cx="8858160" cy="704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اللاجنسي </a:t>
            </a:r>
            <a:br>
              <a:rPr sz="2800"/>
            </a:br>
            <a:br>
              <a:rPr sz="16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تجزئة الميسيليوم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Mycelium Fragmentat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وهو يحدث في الفطريات التي تُكَوّن غزل فطري وفيه يتفتت الغزل الفط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c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وحدات صغيرة ، كل وحدة تحتوي على خلية واحدة أو أكثر ، تستطيع هذه الخلية أن تنمو مكونة غزلاً فطرياً جديداً إذا هُيئت لها الظروف البيئية المناسبة للنمو.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الانشطار المستعرض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ransfers Fiss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و يحدث في الفطريات وحيدة الخلية ، مثل فطريات الخميرة . بحيث تأخذ كل خلية بالإستطالة حتى تنقسم نواتها إلى نواتين ، ثم يتخصر وسط الخلية إلى أن تنفصل إلى خليتين ، كل خلية تحتوي على نواة واحدة .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التبرعم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Budding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Blastospor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و يحدث في الفطريات وحيدة الخلية "الخميرة" ، بحيث يبدأ بظهور بروز خارجي من الخلية الأم يسمى البرع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ثم تنقسم نواة الخلية الأم إلى نواتين أثناء تكوين البرعم ، وتنتقل إحدى النواتين إلى البرعم ، ويأخذ حجم البرعم في الازدياد مع تخصره عند مكان إتصاله بالخلية الأم ، إلى أن ينفصل عنها مكوناً فرداً جديداً ، ويعرف البرعم باسم 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stospor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" .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4793760"/>
            <a:ext cx="3500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Arial"/>
              </a:rPr>
              <a:t>التبرعم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udding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] </a:t>
            </a:r>
            <a:r>
              <a:rPr b="0" lang="ar-SA" sz="1800" spc="-1" strike="noStrike">
                <a:solidFill>
                  <a:srgbClr val="ffc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lastospores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2" descr="C:\vack-up\unfiled\minew\backup\book_program_pictures\pic2\c1\1-17.jpg"/>
          <p:cNvPicPr/>
          <p:nvPr/>
        </p:nvPicPr>
        <p:blipFill>
          <a:blip r:embed="rId1"/>
          <a:stretch/>
        </p:blipFill>
        <p:spPr>
          <a:xfrm>
            <a:off x="4572000" y="714240"/>
            <a:ext cx="4429080" cy="400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vack-up\unfiled\minew\backup\book_program_pictures\pic2\c1\1-21.jpg"/>
          <p:cNvPicPr/>
          <p:nvPr/>
        </p:nvPicPr>
        <p:blipFill>
          <a:blip r:embed="rId2"/>
          <a:stretch/>
        </p:blipFill>
        <p:spPr>
          <a:xfrm>
            <a:off x="214200" y="714240"/>
            <a:ext cx="4286520" cy="3929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215040" y="4857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تجزئة الميسيليوم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00040" y="5357880"/>
            <a:ext cx="378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000"/>
                </a:solidFill>
                <a:latin typeface="Times New Roman"/>
              </a:rPr>
              <a:t>الانشطار 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المستعرض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[Transfers Fission]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تكوين الأويدات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Oidium Format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Arthrospor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حيث يحدث تخصر جزئي في خلايا الغزل الفطري مكونة وحدات لا جنسية تعرف بالاويدي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d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جراثيم المفص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sp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حتفظ كل وحدة فيها بخواص الفطر الأصلي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تكوين الأجسام الحجر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clerotial Formation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حيث تجتمع الهيفات الفطرية لتكوين جسم صلب محكم يسمى بالجسم الحج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t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تلئ خلاياه بالمواد الغذائية وعندما تتحسن الظروف البيئية فإن تلك الأجسام تنبت معطية وساد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كمل نموها لتعطي فطراً جديداً مثل فطر الكلافيسبس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تكوين الجراثيم الكلاميد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hlamydospore Formation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بعض الفطريات تغلف احدى خلايا الغزل الفطري بجدار سميك وتختزن بداخلها المواد الغذائية قبل أن تنفصل عن الغزل الفطري ، ويطلق  عليها جراثيم كلاميدية ، وهي إما أن تكون طرفية أو بينية ، وتستطيع هذه الجراثيم تحمل الظروف البيئية الصعبة ، وتنمو عندما تتحسن هذه الظروف معطية فطراً جديداً . 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2" descr="http://2.bp.blogspot.com/--FekbnAYHE0/USmQ9nNaV9I/AAAAAAAAIfU/_S0WglLB-ck/s400/07-+Arthrographis+sp+%28400+10X%29.jpg"/>
          <p:cNvPicPr/>
          <p:nvPr/>
        </p:nvPicPr>
        <p:blipFill>
          <a:blip r:embed="rId1"/>
          <a:stretch/>
        </p:blipFill>
        <p:spPr>
          <a:xfrm>
            <a:off x="428760" y="571680"/>
            <a:ext cx="421452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cals.ncsu.edu/course/pp728/S_minor/S_%20minor_pod_sclerotia.jpg"/>
          <p:cNvPicPr/>
          <p:nvPr/>
        </p:nvPicPr>
        <p:blipFill>
          <a:blip r:embed="rId2"/>
          <a:stretch/>
        </p:blipFill>
        <p:spPr>
          <a:xfrm>
            <a:off x="285840" y="378612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s://encrypted-tbn3.gstatic.com/images?q=tbn:ANd9GcRAUd_c4h4fgUL2bR5x-jBb3mfUtvYRoOI7_qwMonIb54wp5Lhd"/>
          <p:cNvPicPr/>
          <p:nvPr/>
        </p:nvPicPr>
        <p:blipFill>
          <a:blip r:embed="rId3"/>
          <a:stretch/>
        </p:blipFill>
        <p:spPr>
          <a:xfrm>
            <a:off x="6143760" y="3786120"/>
            <a:ext cx="257148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http://www.aspergillus.org.uk/secure/image_library/flavus/Aspergillus%20041%5b1%5d.jpg"/>
          <p:cNvPicPr/>
          <p:nvPr/>
        </p:nvPicPr>
        <p:blipFill>
          <a:blip r:embed="rId4"/>
          <a:stretch/>
        </p:blipFill>
        <p:spPr>
          <a:xfrm>
            <a:off x="3429000" y="3786120"/>
            <a:ext cx="25718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5"/>
          <p:cNvSpPr/>
          <p:nvPr/>
        </p:nvSpPr>
        <p:spPr>
          <a:xfrm>
            <a:off x="1714680" y="1429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hrospo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943360" y="328608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clerotial Form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8" descr=""/>
          <p:cNvPicPr/>
          <p:nvPr/>
        </p:nvPicPr>
        <p:blipFill>
          <a:blip r:embed="rId5"/>
          <a:stretch/>
        </p:blipFill>
        <p:spPr>
          <a:xfrm>
            <a:off x="4929120" y="571680"/>
            <a:ext cx="3857760" cy="2643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5143680" y="19288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hlamydos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وتقسم هذه الجراثيم طبقاً للكيفية التي تتكون وتحمل بها إلى :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الجراثيم الداخل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ndospor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الجراثيم التي تتكون داخل حوافظ أو أكياس جرثومية ، وتقسم إلى نوعين طبقاً لقدرتها على الحركة إلى :جراثيم متحركة ، وجراثيم ساكنة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الجراثيم السابحة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جراثيم داخلية متحركة تتكون داخل حافظة جرثومية تسمى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osporangiu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تتحرك هذه الجراثيم بمساعدة الأسواط والتي إما أن تكون أمامية أو خلفية أو جانبية ، كما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prolegnia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الجراثيم الحافظية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porangiospor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جراثيم داخلية أي تتكون داخل حوافظ أو أكياس جرثومية تعرف بــــ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جراثيم غير متحركة "ساكنة" ، تنطلق من الحافظة الجرثومية بعد تمزقها أو تحللها ، وتعتمد على التيارات الهوائية في انتشارها ، وذلك مثل جراثيم فطري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uc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hizopus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ar-SA" sz="2800" spc="-1" strike="noStrike">
                <a:solidFill>
                  <a:srgbClr val="ffcc66"/>
                </a:solidFill>
                <a:latin typeface="Arial"/>
              </a:rPr>
              <a:t>الجراثيم الداخلية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ospore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ب- الجراثيم الحافظية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rangiospor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:</a:t>
            </a: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ثل جراثيم فطري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uc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hizopus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.</a:t>
            </a: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Picture 2" descr="http://www.diark.org/img/species_pict/large/Saprolegnia_parasitica_CBS_223_65/"/>
          <p:cNvPicPr/>
          <p:nvPr/>
        </p:nvPicPr>
        <p:blipFill>
          <a:blip r:embed="rId1"/>
          <a:stretch/>
        </p:blipFill>
        <p:spPr>
          <a:xfrm>
            <a:off x="4643280" y="1285920"/>
            <a:ext cx="4286520" cy="4071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552560" y="550080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الجراثيم السابحة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aprolegn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11" descr="https://encrypted-tbn0.gstatic.com/images?q=tbn:ANd9GcQ12AFEq_whpFEkptnK4ysuatfCxTatYPkTMee4EpZi5gL70Phr"/>
          <p:cNvPicPr/>
          <p:nvPr/>
        </p:nvPicPr>
        <p:blipFill>
          <a:blip r:embed="rId2"/>
          <a:stretch/>
        </p:blipFill>
        <p:spPr>
          <a:xfrm>
            <a:off x="357120" y="128592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85840" y="357120"/>
            <a:ext cx="85010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خارج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جراثيم التي لا تتكون داخل حوافظ أو أكياس جرثومية وهي تشمل ثلاثة أنواع من الجراثيم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أ- الجراثيم الكونيدية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تعرف بالجراثيم الكونيدية أو الكونيد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id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وهي جراثيم غير متحركة تنتظم خارجياً على التراكيب المولدة لها والتي تعرف بالحوامل الكونيد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idioph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كم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ب- وقد تتكون هذه الجراثيم الكونيدية على تركيبات خاصة تختلف في الشكل فيطلق عليها أسماء أخرى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بكنية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راثيم كونيدية تتكون داخل وعاء يشبه الدورق 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cni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يكون مدفوناً في الوسط الذي ينمو عليه الفطر وبه فتحة تخرج عن طريقها هذه الجراثيم البكنية المرتبة على شكل خيوط رفيعة أو لولب طويل ، كما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ia gramini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4200" y="357120"/>
            <a:ext cx="878688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راثيم الخارج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Picture 2" descr="C:\vack-up\unfiled\minew\backup\book_program_pictures\pic2\c1\1-14.jpg"/>
          <p:cNvPicPr/>
          <p:nvPr/>
        </p:nvPicPr>
        <p:blipFill>
          <a:blip r:embed="rId1"/>
          <a:stretch/>
        </p:blipFill>
        <p:spPr>
          <a:xfrm>
            <a:off x="3214800" y="214308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WINDOWS\Desktop\1-15.jpg"/>
          <p:cNvPicPr/>
          <p:nvPr/>
        </p:nvPicPr>
        <p:blipFill>
          <a:blip r:embed="rId2"/>
          <a:stretch/>
        </p:blipFill>
        <p:spPr>
          <a:xfrm>
            <a:off x="285840" y="214308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mikrohamburg.de/MonatsBild/Bild2.jpg"/>
          <p:cNvPicPr/>
          <p:nvPr/>
        </p:nvPicPr>
        <p:blipFill>
          <a:blip r:embed="rId3"/>
          <a:stretch/>
        </p:blipFill>
        <p:spPr>
          <a:xfrm>
            <a:off x="6072120" y="214308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215040" y="56437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4120" y="550080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440160" y="107172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09-21T11:05:28Z</dcterms:modified>
  <cp:revision>95</cp:revision>
  <dc:subject/>
  <dc:title>Fungi and the Mycoses</dc:title>
</cp:coreProperties>
</file>