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89D6-DE5F-4F2A-B2CA-2972971A299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918-5673-4104-AAE4-A244BAEDA3E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DE7-A798-4EA9-9579-0939E6F6FB4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C7FF-E9A0-40EA-BCF4-BD3BFFAB323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2DBF-9E42-4956-9936-FDFA60F9A07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4AC-BFD4-425F-856F-7DE898FF2A3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A12B-60AD-401B-9610-05562478D57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9641-5F83-41B6-8274-9B79E9EF696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7B3A-53DC-4BE2-89CD-9905819698F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60BE-BAC3-4CC3-8EF2-B5ABD6C2658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14EE-DDF7-4E8F-A8C0-21D86A4AAA7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A702-D796-4EFF-9700-82C89331C31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65B-242F-4011-B31F-DB47CD0D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887-2037-419D-93AA-E1C7BD78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BAC-83E3-400E-BAEF-22712E5C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AE3-B0EA-46C9-9D83-F1EA94B0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939B-172D-4984-8F06-BAC777CE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4C42-8B66-47CA-83D0-B6E660FC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4BB2-F801-499B-948B-88F844D8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B6F2-A779-4F62-AE7B-35AFBC5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EC90-5476-4BEF-812D-058A820F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0C81-4D6F-4EB7-936C-949B6356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9F3A-0461-4901-822B-6E39F97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C56-9A86-4164-8BEC-6C73FBCF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3B36-EE24-4A71-9F02-F5CD759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3242-BC94-43FD-A637-EAC2912A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05BC-7CC7-4F19-9D1F-A821476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BFF5-57FC-4C5F-9747-CBEA2A3D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703B-58AC-43D7-B25D-3F193CB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8EB-0C9C-48C7-8090-B7ADF5DB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5F4-5F18-4705-80D1-F9BAA295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B68-9BF6-4FB3-A406-C75B3F20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6CF-1403-40D7-8DEB-752CFD75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CE8-C7EC-4488-9734-2E2E7B74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670-42FE-4F3C-B581-52162FB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319-D154-46CB-83C7-470C167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CC58-331E-427E-9C89-4504FA71A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B00-0A6C-439E-89F5-D36AF9247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طرق التكاثر في الفطريات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Fungal Reproduction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] </a:t>
            </a:r>
            <a:r>
              <a:rPr b="0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: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ستطيع الفطريات أن تتكاثر بطريقتين :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أ- تكاثر جنسي     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ب- تكاثر لا جنس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ثانيــا : التكاثر الجنسي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*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كاثر معظم الفطريات الحقيقية جنسياً من خلال اندماج نواتين من مشيجين ، أحدهما أو كلاهما متحرك ، أو من خلال اندماج خليتين لنفس الثالوث "الغزل الفطري" .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حدث مرة واحدة خلال دورة حياة الفطر ، وأحياناً لا يظهر على الإطلاق في بعض أنواع الفطريات والتي تعرف باسم "الفطريات الناقصة"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uteromycete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28760" y="785880"/>
            <a:ext cx="8143920" cy="55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عمل بعض الخمائر "الفطريات" في انتاج الكحول الإيثيلي ، وحمض الخليك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تبر بعض الفطريات مثل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ccharomyces cerevisia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مصدراً مهماً للفيتامينات مثل فيتام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المركب ، بينما تستخدم الخمائر أيضاً كمصدر للبروتين وانتاج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الذي يستخدم كعلائق للحيوان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عمل الأجسام الحجر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lerot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rpur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vicep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في الصناعات الدوائية كتحضير عقاقير خاصة بالولادة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got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، والكرتوزونات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ezo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وغيره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-305280"/>
            <a:ext cx="8858160" cy="704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مراحل التكاثر الجنسي </a:t>
            </a:r>
            <a:br>
              <a:rPr sz="2800"/>
            </a:br>
            <a:br>
              <a:rPr sz="1600"/>
            </a:b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يتم التكاثر الجنسي في الفطريات الحقيقية على ثلاث مراحل :</a:t>
            </a:r>
            <a:br>
              <a:rPr sz="2400"/>
            </a:br>
            <a:br>
              <a:rPr sz="1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</a:t>
            </a:r>
            <a:r>
              <a:rPr b="0" lang="ar-SA" sz="1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الاقتران البلازم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lasmogamy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يعرف بالاتحاد الخلوي ، وفيه يحدث اندماج بين بروتوبلاست خليتين "مشيجين" مما يعمل على اقتراب الأنوية داخل نفس الخلية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الاقتران النوو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Karyogamy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الخطوة الثانية في التكاثر الجنسي ، وفيه تندمج نواتي المشيجين ، أحدهما أو كلاهما متحرك ، وكلاهما أحادي المجموعة الصبغ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lo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ليكون نواة اللاقح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got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هي ثنائية المجموعة الصبغ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lo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الانقسام الاختزال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Meiosi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ى المرحلة الثالثة من مراحل التكاثر الجنسي ، وهو يتبع الاقتران النووي مباشرة ، حيث تبدأ نواة اللاقحة ثنائية المجموعة الصبغية بالانقسام الاختزالي "الذي يَنتُج عنه اختزال عدد الصبغات مرة أخرى" إلى عدد من الأنوية إحادية المجموعة الصبغية ، لتدخل في تكوين الجراثيم الجنسية "الأمشاج" مرة أخرى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14960" y="2935800"/>
            <a:ext cx="71424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امشـاج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28600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خطوات التكاثر الجنســـي في الفطريات الحقيقي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071880" y="30002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لاقحـة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Diagram 7" descr=""/>
          <p:cNvPicPr/>
          <p:nvPr/>
        </p:nvPicPr>
        <p:blipFill>
          <a:blip r:embed="rId1"/>
          <a:srcRect l="-25678" t="0" r="-22127" b="-15890"/>
          <a:stretch/>
        </p:blipFill>
        <p:spPr>
          <a:xfrm>
            <a:off x="1285920" y="1071720"/>
            <a:ext cx="645804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143680" y="1747800"/>
            <a:ext cx="171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قتران بلازمي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121840" y="17859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إقتران نووي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3069360" y="400068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إنقســام إختــزالي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                                              </a:t>
            </a:r>
            <a:br>
              <a:rPr sz="1800"/>
            </a:b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                                                    </a:t>
            </a:r>
            <a:r>
              <a:rPr b="0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أشكال (انماط) التكاثر الجنسي </a:t>
            </a:r>
            <a:br>
              <a:rPr sz="2400"/>
            </a:br>
            <a:br>
              <a:rPr sz="1400"/>
            </a:b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التزاوج الجنسي في الفطريات يتم بطرق مختلفة وفقاً لخمسة أنماط ، وهي :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متشابه الأمشاج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sogamy Sexual Reproduction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: حيث يحدث تزاوج بين أمشاج متشابهة في الشكل والحجم .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متباين الأمشاج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Heterogamy (anisogamy) Sexual Rep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: حيث يحدث التزاوج بين أمشاج  متشابهة في الشكل ومتباينة في الحجم ، أحدهما صغير الحجم "مشيج مذكر" والآخر كبير الحجم "مشيج مؤنث“.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c000"/>
                </a:solidFill>
                <a:latin typeface="Arial"/>
              </a:rPr>
              <a:t>- تكاثر جنسي بيضي متباين (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Oogamy</a:t>
            </a:r>
            <a:r>
              <a:rPr b="0" lang="ar-SA" sz="2000" spc="-1" strike="noStrike">
                <a:solidFill>
                  <a:srgbClr val="ffc000"/>
                </a:solidFill>
                <a:latin typeface="Arial"/>
              </a:rPr>
              <a:t>)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يث يحدث التزاوج بين أمشاج  متباينه في الشكل والحجم ، أحدهما صغير الحجم  متحرك "مشيج مذكر" والآخر كبير الحجم غير متحرك "مشيج مؤنث“. </a:t>
            </a:r>
            <a:br>
              <a:rPr sz="2000"/>
            </a:br>
            <a:br>
              <a:rPr sz="14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بعضيات مميزة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exual Reproduction with Specialized Organs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: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"تكوين الجراثيم البيضية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ospore formation</a:t>
            </a:r>
            <a:r>
              <a:rPr b="0" lang="ar-SA" sz="2000" spc="-1" strike="noStrike" u="sng">
                <a:solidFill>
                  <a:srgbClr val="ffcc66"/>
                </a:solidFill>
                <a:uFillTx/>
                <a:latin typeface="Arial"/>
              </a:rPr>
              <a:t>)” </a:t>
            </a:r>
            <a:br>
              <a:rPr sz="2000"/>
            </a:br>
            <a:br>
              <a:rPr sz="2000"/>
            </a:b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فيه تفقد الأمشاج أهدابها وتبقى داخل الحوافظ المشيجية المكونة لها ، وفي هذه الحالة يطلق على المشيج الصغير "المشيج المذكر" ويطلق على حافظته بالأنثريد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herid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، بينما يعرف المشيج كبير الحجم بــ "المشيج المؤنث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sphere , Eg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كما يطلق على حافظتها بالأوجون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gon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، وتعرف الجراثيم الناشئة عن اندماج المشيج المذكر مع المشيج المؤنث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'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باسم الجراثيم البيضي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spo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.</a:t>
            </a:r>
            <a:br>
              <a:rPr sz="20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843480" y="600084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تكاثر</a:t>
            </a:r>
            <a:r>
              <a:rPr b="0" lang="ar-SA" sz="2800" spc="-1" strike="noStrike" u="sng">
                <a:solidFill>
                  <a:srgbClr val="ffff21"/>
                </a:solidFill>
                <a:uFillTx/>
                <a:latin typeface="Times New Roman"/>
              </a:rPr>
              <a:t> بالامشاج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5572080" y="5643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ospore form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Picture 19" descr="http://doctortee.com/dsu/tiftickjian/cse-img/botany/algae/green/syngamy-types.jpg"/>
          <p:cNvPicPr/>
          <p:nvPr/>
        </p:nvPicPr>
        <p:blipFill>
          <a:blip r:embed="rId1"/>
          <a:stretch/>
        </p:blipFill>
        <p:spPr>
          <a:xfrm>
            <a:off x="1000080" y="714240"/>
            <a:ext cx="2104920" cy="3238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http://www.biologie.uni-hamburg.de/b-online/ge42/19.jpg"/>
          <p:cNvPicPr/>
          <p:nvPr/>
        </p:nvPicPr>
        <p:blipFill>
          <a:blip r:embed="rId2"/>
          <a:stretch/>
        </p:blipFill>
        <p:spPr>
          <a:xfrm>
            <a:off x="571680" y="4000680"/>
            <a:ext cx="3214440" cy="1618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http://www.apsnet.org/edcenter/illglossary/Article%20Images/antheridium.jpg"/>
          <p:cNvPicPr/>
          <p:nvPr/>
        </p:nvPicPr>
        <p:blipFill>
          <a:blip r:embed="rId3"/>
          <a:stretch/>
        </p:blipFill>
        <p:spPr>
          <a:xfrm>
            <a:off x="4214880" y="2714760"/>
            <a:ext cx="4286160" cy="29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" descr="https://encrypted-tbn0.gstatic.com/images?q=tbn:ANd9GcTS0k30jNZfYyrsuGAlCR-nnOX7zP28cYpCdPAxNNMjoYEu0uLN"/>
          <p:cNvPicPr/>
          <p:nvPr/>
        </p:nvPicPr>
        <p:blipFill>
          <a:blip r:embed="rId4"/>
          <a:stretch/>
        </p:blipFill>
        <p:spPr>
          <a:xfrm>
            <a:off x="6072120" y="571680"/>
            <a:ext cx="2600280" cy="197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http://images.tutorvista.com/contentimages/biology_11/content/us/class11biology/chapter08/images/img48.jpeg"/>
          <p:cNvPicPr/>
          <p:nvPr/>
        </p:nvPicPr>
        <p:blipFill>
          <a:blip r:embed="rId5"/>
          <a:stretch/>
        </p:blipFill>
        <p:spPr>
          <a:xfrm>
            <a:off x="3286080" y="571680"/>
            <a:ext cx="27147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86880" cy="58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- تكاثر جنسي بعضيات غير مميزة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exual Rep. with Non-specialized Organs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: </a:t>
            </a:r>
            <a:br>
              <a:rPr sz="1600"/>
            </a:b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"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تكوين الجراثيم التزاوجية</a:t>
            </a:r>
            <a:r>
              <a:rPr b="0" lang="ar-SA" sz="2800" spc="-1" strike="noStrike">
                <a:solidFill>
                  <a:srgbClr val="ffcc66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br>
              <a:rPr sz="1600"/>
            </a:b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فيه يتم الاتحاد بين أجزاء خضرية من الغزل الفطري ، وتبدأ عملية التزاوج عندما تتهيأ الفرصة لخيطين متجاورين ليخرج منهما نتوءاً ينمو متجهاً نحو الآخر حتى تتلامس أطرافهما ، ويعرف كل نتوء بالحافظة المشيجية الأو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ametang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يتكثف السيتوبلازم وتتجمع الأنوية في طرف كل حافظة مشيجية أولية ، ثم تنفصل بجدار مستعرض إلى خلية طرفية ، إحدى هاتين الخليتين تنتفخ وتعمل كحافظة مشيجية مؤنثة ،يطلق عليها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etang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الخلية الأخرى تعمل كحافظة مشيجية مذكرة ، وتعرف بـــ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ns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ثم تأخذ الجدر الفاصلة بين المشيجين بالتلاشي وتندمج المحتويات السيتوبلازمية والنووية لهما في الخلية الكبيرة المؤنثة ، فيزداد حجمها ويظهر على جدارها بعض التجعيدات ، ويطلق على الجراثيم الناشئة بهذه الطريقة باسم "الجراثيم التزاوجية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gospo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ذلك يحدث في فطري 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ucor  &amp;  Rhizopu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1600"/>
            </a:b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                   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الجراثيم الحافظية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orangiospor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:</a:t>
            </a: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ثل جراثيم فطري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uc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hizopus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.</a:t>
            </a: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442400" y="5857920"/>
            <a:ext cx="39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جراثيم التزواجية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Zygospor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Picture 11" descr="https://encrypted-tbn0.gstatic.com/images?q=tbn:ANd9GcQ12AFEq_whpFEkptnK4ysuatfCxTatYPkTMee4EpZi5gL70Phr"/>
          <p:cNvPicPr/>
          <p:nvPr/>
        </p:nvPicPr>
        <p:blipFill>
          <a:blip r:embed="rId1"/>
          <a:stretch/>
        </p:blipFill>
        <p:spPr>
          <a:xfrm>
            <a:off x="285840" y="500040"/>
            <a:ext cx="4214880" cy="507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http://leavingbio.net/fungus/Fungi2_files/image040.jpg"/>
          <p:cNvPicPr/>
          <p:nvPr/>
        </p:nvPicPr>
        <p:blipFill>
          <a:blip r:embed="rId2"/>
          <a:stretch/>
        </p:blipFill>
        <p:spPr>
          <a:xfrm>
            <a:off x="4572000" y="3000240"/>
            <a:ext cx="4357800" cy="2571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http://3.bp.blogspot.com/-upt1A9Lcw88/Urccq3lMnYI/AAAAAAAABSo/01PdZ-3syLU/s1600/xdrtf.JPG"/>
          <p:cNvPicPr/>
          <p:nvPr/>
        </p:nvPicPr>
        <p:blipFill>
          <a:blip r:embed="rId3"/>
          <a:stretch/>
        </p:blipFill>
        <p:spPr>
          <a:xfrm>
            <a:off x="4572000" y="500040"/>
            <a:ext cx="4362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85840" y="357120"/>
            <a:ext cx="850104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أهمية الاقتصادية للفطريات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أضرارها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العديد من الأمراض التي تصيب النباتات ذات القيمة الاقتصادية كالحبوب والخضروات وأشجار الفاكهة هو ما يدرس تحت علم امراض النبات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أمراض للحيوان مما يؤثر على الثروة الحيوان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أمراض مختلفة للإنسان كالأمراض الجلدية والجهازية ، وهو ما يدرس تحت علم الفطريات الطبية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تسبب الفطريات تلفاً للأغذية ، خصوصاً الخمائر منها ، كما تسببت بعض الفطريات الأخرى مثل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flavu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بتلوث الأغذية بالسموم الفطرية المسرط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8760" y="285840"/>
            <a:ext cx="814392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فوائدها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مل العديد من الفطريات خاصة المترممة منها على تحليل المواد العضوية إلى مركبات بسيطة تزيد من خصوبة الترب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خدم بعض الفطريات في الصناعات الغذائية كتحضير بعض أنواع الجبن ، كجبن روكفورت ، وذلك باستخدام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roquefort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، كما تستخدم الخمائر في صناعة المخبوزات والحلوي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خدم بعض الفطريات كغذاء للإنسان ، حيث تأكل طازجة أو مطبوخة ، مثل فطريات عيش الغراب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garicus bisporu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، وفطريات الفقع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rfezia s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عتبر  الفطريات مصدراً للعديد من المواد الكيميائية الهامة ، كالأنزيمات والمضادات الحيوية ، حيث يستخدم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notat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إنتاج البنسلين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تستخدم بعض الفطريات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nig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ي إنتاج حمض الستريك المستخدم كمادة حافظة في الصناعات الغذائ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3-04T09:13:11Z</dcterms:modified>
  <cp:revision>122</cp:revision>
  <dc:subject/>
  <dc:title>Fungi and the Mycoses</dc:title>
</cp:coreProperties>
</file>