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AACA-575C-4C63-B847-707095D7FE4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60DF-14DB-442A-A970-55C1F754517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CD7-3C94-4174-B324-BC83AB54E4E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E5B7-4326-4C49-8BED-DB4F413F365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399-D8DA-4570-A1D7-9BA656ED671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F52-1D5E-47DA-A4B6-2A4F278DBF3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A4F-456D-4A51-9E25-6109BECE5DC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125-02C0-4D46-9AFF-AEB0D383DDD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5F3-F9D1-4F63-82BB-537D434BA75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49A3-058C-4EA3-8522-2369F004E7B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954-AA82-4CB2-A4FF-26ACC741289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7B8-239F-49F9-A6A4-A5D1D54CB27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2D0-6C19-4ED7-914F-E5B8BFDA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D34-4B60-40D7-9407-978ABFEB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764-5647-493D-A9F8-5B5E8222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65B-2638-45FE-8E7A-4BB69478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A7C5-581C-4A78-AE70-6E842021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5D08-8468-4D27-8116-255EE41E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944F-BD47-45A5-966F-475F9953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4828-682E-48B8-8DDC-A53196BD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B2A4-23FE-4909-8ECC-02165475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E943-5A9F-4EB2-A9BA-4A50A581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C82C-9A8F-486F-A560-F86D688E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22E-3C5F-4BF8-A2D7-804BFA8E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A19-CBDD-4D64-9E3D-997E74FF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B26D-4164-457A-BF4B-16684DF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50A4-EACA-4C4B-9710-484857D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8E85-6CAB-480A-A5B5-62427218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AAB4-6616-4187-9DD5-7254655C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FE5-779F-4AB8-B11B-F963329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01D-43FC-49E1-B0C2-F271243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89C-D5D8-4847-A3EB-6DBEC50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3C5-8883-4868-9E47-EDD8EE20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834-274C-468B-9647-A3408D5B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6A9-D36B-4B34-B539-EEC236B4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FEF-C618-4872-B161-9815AB0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402-276F-400E-AD3E-3327F843B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4B5-4271-4BDE-B85B-D8134D180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طرق التكاثر في الفطريات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Fungal Reproduction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] </a:t>
            </a:r>
            <a:r>
              <a:rPr b="0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: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ستطيع الفطريات أن تتكاثر بطريقتين :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أ- تكاثر جنسي     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ب- تكاثر لا جنس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ثانيــا : التكاثر الجنسي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*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كاثر معظم الفطريات الحقيقية جنسياً من خلال اندماج نواتين من مشيجين ، أحدهما أو كلاهما متحرك ، أو من خلال اندماج خليتين لنفس الثالوث "الغزل الفطري" .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حدث مرة واحدة خلال دورة حياة الفطر ، وأحياناً لا يظهر على الإطلاق في بعض أنواع الفطريات والتي تعرف باسم "الفطريات الناقصة"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uteromycete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28760" y="785880"/>
            <a:ext cx="814392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عمل بعض الخمائر "الفطريات" في انتاج الكحول الإيثيلي ، وحمض الخليك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تبر بعض الفطريات مثل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ccharomyces cerevisia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مصدراً مهماً للفيتامينات مثل فيتام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المركب ، بينما تستخدم الخمائر أيضاً كمصدر للبروتين وانتاج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الذي يستخدم كعلائق للحيوان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عمل الأجسام الحجر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lerot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rpur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vicep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في الصناعات الدوائية كتحضير عقاقير خاصة بالولاد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، والكرتوزونات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ezo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وغيره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-305280"/>
            <a:ext cx="8858160" cy="704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مراحل التكاثر الجنسي </a:t>
            </a:r>
            <a:br>
              <a:rPr sz="2800"/>
            </a:br>
            <a:br>
              <a:rPr sz="1600"/>
            </a:b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يتم التكاثر الجنسي في الفطريات الحقيقية على ثلاث مراحل :</a:t>
            </a:r>
            <a:br>
              <a:rPr sz="2400"/>
            </a:br>
            <a:br>
              <a:rPr sz="1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ar-SA" sz="1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الاقتران البلازم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lasmogamy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يعرف بالاتحاد الخلوي ، وفيه يحدث اندماج بين بروتوبلاست خليتين "مشيجين" مما يعمل على اقتراب الأنوية داخل نفس الخلية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الاقتران النوو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Karyogamy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الخطوة الثانية في التكاثر الجنسي ، وفيه تندمج نواتي المشيجين ، أحدهما أو كلاهما متحرك ، وكلاهما أحادي المجموعة الصبغ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lo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ليكون نواة اللاقح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got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هي ثنائية المجموعة الصبغ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الانقسام الاختزال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Meiosi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ى المرحلة الثالثة من مراحل التكاثر الجنسي ، وهو يتبع الاقتران النووي مباشرة ، حيث تبدأ نواة اللاقحة ثنائية المجموعة الصبغية بالانقسام الاختزالي "الذي يَنتُج عنه اختزال عدد الصبغات مرة أخرى" إلى عدد من الأنوية إحادية المجموعة الصبغية ، لتدخل في تكوين الجراثيم الجنسية "الأمشاج" مرة أخرى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14960" y="2935800"/>
            <a:ext cx="71424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مشـاج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28600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خطوات التكاثر الجنســـي في الفطريات الحقيقي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071880" y="30002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اقحـة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Diagram 7" descr=""/>
          <p:cNvPicPr/>
          <p:nvPr/>
        </p:nvPicPr>
        <p:blipFill>
          <a:blip r:embed="rId1"/>
          <a:srcRect l="-25678" t="0" r="-22127" b="-15890"/>
          <a:stretch/>
        </p:blipFill>
        <p:spPr>
          <a:xfrm>
            <a:off x="1285920" y="1071720"/>
            <a:ext cx="645804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143680" y="1747800"/>
            <a:ext cx="171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قتران بلازمي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121840" y="17859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إقتران نووي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069360" y="400068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إنقســام إختــزالي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                                              </a:t>
            </a:r>
            <a:br>
              <a:rPr sz="1800"/>
            </a:b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</a:t>
            </a:r>
            <a:r>
              <a:rPr b="0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أشكال (انماط) التكاثر الجنسي </a:t>
            </a:r>
            <a:br>
              <a:rPr sz="2400"/>
            </a:br>
            <a:br>
              <a:rPr sz="1400"/>
            </a:b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التزاوج الجنسي في الفطريات يتم بطرق مختلفة وفقاً لخمسة أنماط ، وهي :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متشابه الأمشاج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sogamy Sexual Reproduction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 حيث يحدث تزاوج بين أمشاج متشابهة في الشكل والحجم .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متباين الأمشاج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Heterogamy (anisogamy) Sexual Rep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 حيث يحدث التزاوج بين أمشاج  متشابهة في الشكل ومتباينة في الحجم ، أحدهما صغير الحجم "مشيج مذكر" والآخر كبير الحجم "مشيج مؤنث“.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c000"/>
                </a:solidFill>
                <a:latin typeface="Arial"/>
              </a:rPr>
              <a:t>- تكاثر جنسي بيضي متباين (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Oogamy</a:t>
            </a:r>
            <a:r>
              <a:rPr b="0" lang="ar-SA" sz="2000" spc="-1" strike="noStrike">
                <a:solidFill>
                  <a:srgbClr val="ffc000"/>
                </a:solidFill>
                <a:latin typeface="Arial"/>
              </a:rPr>
              <a:t>)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يث يحدث التزاوج بين أمشاج  متباينه في الشكل والحجم ، أحدهما صغير الحجم  متحرك "مشيج مذكر" والآخر كبير الحجم غير متحرك "مشيج مؤنث“. 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بعضيات مميزة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exual Reproduction with Specialized Organs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"تكوين الجراثيم البيضية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ospore formation</a:t>
            </a:r>
            <a:r>
              <a:rPr b="0" lang="ar-SA" sz="2000" spc="-1" strike="noStrike" u="sng">
                <a:solidFill>
                  <a:srgbClr val="ffcc66"/>
                </a:solidFill>
                <a:uFillTx/>
                <a:latin typeface="Arial"/>
              </a:rPr>
              <a:t>)” </a:t>
            </a:r>
            <a:br>
              <a:rPr sz="2000"/>
            </a:br>
            <a:br>
              <a:rPr sz="2000"/>
            </a:b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فيه تفقد الأمشاج أهدابها وتبقى داخل الحوافظ المشيجية المكونة لها ، وفي هذه الحالة يطلق على المشيج الصغير "المشيج المذكر" ويطلق على حافظته بالأنثريد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herid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، بينما يعرف المشيج كبير الحجم بــ "المشيج المؤنث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sphere , Eg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كما يطلق على حافظتها بالأوجون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gon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، وتعرف الجراثيم الناشئة عن اندماج المشيج المذكر مع المشيج المؤنث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'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باسم الجراثيم البيض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spo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20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843480" y="600084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تكاثر</a:t>
            </a:r>
            <a:r>
              <a:rPr b="0" lang="ar-SA" sz="2800" spc="-1" strike="noStrike" u="sng">
                <a:solidFill>
                  <a:srgbClr val="ffff21"/>
                </a:solidFill>
                <a:uFillTx/>
                <a:latin typeface="Times New Roman"/>
              </a:rPr>
              <a:t> بالامشاج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572080" y="5643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ospore form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19" descr="http://doctortee.com/dsu/tiftickjian/cse-img/botany/algae/green/syngamy-types.jpg"/>
          <p:cNvPicPr/>
          <p:nvPr/>
        </p:nvPicPr>
        <p:blipFill>
          <a:blip r:embed="rId1"/>
          <a:stretch/>
        </p:blipFill>
        <p:spPr>
          <a:xfrm>
            <a:off x="1000080" y="714240"/>
            <a:ext cx="2104920" cy="323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http://www.biologie.uni-hamburg.de/b-online/ge42/19.jpg"/>
          <p:cNvPicPr/>
          <p:nvPr/>
        </p:nvPicPr>
        <p:blipFill>
          <a:blip r:embed="rId2"/>
          <a:stretch/>
        </p:blipFill>
        <p:spPr>
          <a:xfrm>
            <a:off x="571680" y="4000680"/>
            <a:ext cx="3214440" cy="161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http://www.apsnet.org/edcenter/illglossary/Article%20Images/antheridium.jpg"/>
          <p:cNvPicPr/>
          <p:nvPr/>
        </p:nvPicPr>
        <p:blipFill>
          <a:blip r:embed="rId3"/>
          <a:stretch/>
        </p:blipFill>
        <p:spPr>
          <a:xfrm>
            <a:off x="4214880" y="271476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" descr="https://encrypted-tbn0.gstatic.com/images?q=tbn:ANd9GcTS0k30jNZfYyrsuGAlCR-nnOX7zP28cYpCdPAxNNMjoYEu0uLN"/>
          <p:cNvPicPr/>
          <p:nvPr/>
        </p:nvPicPr>
        <p:blipFill>
          <a:blip r:embed="rId4"/>
          <a:stretch/>
        </p:blipFill>
        <p:spPr>
          <a:xfrm>
            <a:off x="6072120" y="571680"/>
            <a:ext cx="2600280" cy="197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http://images.tutorvista.com/contentimages/biology_11/content/us/class11biology/chapter08/images/img48.jpeg"/>
          <p:cNvPicPr/>
          <p:nvPr/>
        </p:nvPicPr>
        <p:blipFill>
          <a:blip r:embed="rId5"/>
          <a:stretch/>
        </p:blipFill>
        <p:spPr>
          <a:xfrm>
            <a:off x="3286080" y="571680"/>
            <a:ext cx="2714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86880" cy="58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بعضيات غير مميزة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exual Rep. with Non-specialized Organs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: </a:t>
            </a:r>
            <a:br>
              <a:rPr sz="1600"/>
            </a:b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"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تكوين الجراثيم التزاوجية</a:t>
            </a:r>
            <a:r>
              <a:rPr b="0" lang="ar-SA" sz="2800" spc="-1" strike="noStrike">
                <a:solidFill>
                  <a:srgbClr val="ffcc66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br>
              <a:rPr sz="1600"/>
            </a:b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فيه يتم الاتحاد بين أجزاء خضرية من الغزل الفطري ، وتبدأ عملية التزاوج عندما تتهيأ الفرصة لخيطين متجاورين ليخرج منهما نتوءاً ينمو متجهاً نحو الآخر حتى تتلامس أطرافهما ، ويعرف كل نتوء بالحافظة المشيجية الأو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ametang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يتكثف السيتوبلازم وتتجمع الأنوية في طرف كل حافظة مشيجية أولية ، ثم تنفصل بجدار مستعرض إلى خلية طرفية ، إحدى هاتين الخليتين تنتفخ وتعمل كحافظة مشيجية مؤنثة ،يطلق عليها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tang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الخلية الأخرى تعمل كحافظة مشيجية مذكرة ، وتعرف بـــ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s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ثم تأخذ الجدر الفاصلة بين المشيجين بالتلاشي وتندمج المحتويات السيتوبلازمية والنووية لهما في الخلية الكبيرة المؤنثة ، فيزداد حجمها ويظهر على جدارها بعض التجعيدات ، ويطلق على الجراثيم الناشئة بهذه الطريقة باسم "الجراثيم التزاوجية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gospo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ذلك يحدث في فطري 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ucor  &amp;  Rhizopu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600"/>
            </a:b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                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الجراثيم الحافظية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orangiospor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:</a:t>
            </a: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ثل جراثيم فطري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uc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hizopus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.</a:t>
            </a: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442400" y="5857920"/>
            <a:ext cx="39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جراثيم التزواجية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Zygospo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Picture 11" descr="https://encrypted-tbn0.gstatic.com/images?q=tbn:ANd9GcQ12AFEq_whpFEkptnK4ysuatfCxTatYPkTMee4EpZi5gL70Phr"/>
          <p:cNvPicPr/>
          <p:nvPr/>
        </p:nvPicPr>
        <p:blipFill>
          <a:blip r:embed="rId1"/>
          <a:stretch/>
        </p:blipFill>
        <p:spPr>
          <a:xfrm>
            <a:off x="285840" y="500040"/>
            <a:ext cx="4214880" cy="507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ttp://leavingbio.net/fungus/Fungi2_files/image040.jpg"/>
          <p:cNvPicPr/>
          <p:nvPr/>
        </p:nvPicPr>
        <p:blipFill>
          <a:blip r:embed="rId2"/>
          <a:stretch/>
        </p:blipFill>
        <p:spPr>
          <a:xfrm>
            <a:off x="4572000" y="3000240"/>
            <a:ext cx="4357800" cy="2571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http://3.bp.blogspot.com/-upt1A9Lcw88/Urccq3lMnYI/AAAAAAAABSo/01PdZ-3syLU/s1600/xdrtf.JPG"/>
          <p:cNvPicPr/>
          <p:nvPr/>
        </p:nvPicPr>
        <p:blipFill>
          <a:blip r:embed="rId3"/>
          <a:stretch/>
        </p:blipFill>
        <p:spPr>
          <a:xfrm>
            <a:off x="4572000" y="500040"/>
            <a:ext cx="4362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5840" y="357120"/>
            <a:ext cx="850104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أهمية الاقتصادية للفطريات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أضرارها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العديد من الأمراض التي تصيب النباتات ذات القيمة الاقتصادية كالحبوب والخضروات وأشجار الفاكهة هو ما يدرس تحت علم امراض النبات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أمراض للحيوان مما يؤثر على الثروة الحيوان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أمراض مختلفة للإنسان كالأمراض الجلدية والجهازية ، وهو ما يدرس تحت علم الفطريات الطبي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الفطريات تلفاً للأغذية ، خصوصاً الخمائر منها ، كما تسببت بعض الفطريات الأخرى مثل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flavu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بتلوث الأغذية بالسموم الفطرية المسرط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8760" y="285840"/>
            <a:ext cx="814392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فوائدها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مل العديد من الفطريات خاصة المترممة منها على تحليل المواد العضوية إلى مركبات بسيطة تزيد من خصوبة الترب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خدم بعض الفطريات في الصناعات الغذائية كتحضير بعض أنواع الجبن ، كجبن روكفورت ، وذلك باستخدام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roquefort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، كما تستخدم الخمائر في صناعة المخبوزات والحلوي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خدم بعض الفطريات كغذاء للإنسان ، حيث تأكل طازجة أو مطبوخة ، مثل فطريات عيش الغراب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garicus bisporu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، وفطريات الفقع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 s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تبر  الفطريات مصدراً للعديد من المواد الكيميائية الهامة ، كالأنزيمات والمضادات الحيوية ، حيث يستخدم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notat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إنتاج البنسلين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تستخدم بعض الفطريات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nig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ي إنتاج حمض الستريك المستخدم كمادة حافظة في الصناعات الغذائ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3-04T09:13:11Z</dcterms:modified>
  <cp:revision>122</cp:revision>
  <dc:subject/>
  <dc:title>Fungi and the Mycoses</dc:title>
</cp:coreProperties>
</file>