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7439-0AA1-47C3-998A-9E3F5F99844E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61BB-C78E-4FB0-8765-CC2C63D74913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98EA-70DA-499A-B0D1-87550C4D5636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7E5A-FC1C-486D-8E6A-EF07922D6233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06FB-6031-45AB-82F8-D9A68409AB85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E1C9-FEBE-4A0A-9FD7-7F7FB3D3BFD2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831A-DFCB-45E1-9E7E-75C07E9E39A9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6D4D-C636-4FD0-B898-319DDEC1EABF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06A3-776F-476C-881F-612D80AAFC2F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F80-1134-4A92-8B20-7053073A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544-9121-4852-A258-25660D18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5A11-FC4B-4ACD-A0FC-13A856B0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BB5-F5C7-4604-AC46-C79DA6C3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B7DE-2A6E-43FE-86AF-F3D2EE25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85C5-4588-4255-AC4E-FC6D4542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01A7-132B-4C3F-A212-996C89CA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2A9E-703F-488E-9E7E-8E179DAB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4D56-35E8-4523-BE85-A0F5D099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DC03-048F-466D-878D-4FD001A9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DF1E-DDB9-4E21-9339-02AF2B70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AECE-4611-4D5D-B959-8A71791E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0E1A-4BEE-407A-BBC4-3F59BDC3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1C4F-9E39-4064-9A35-87408ED1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CC63-B2A5-4749-A911-CAE87500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EE97-90DB-436A-8023-30D573C5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B2AA-073F-4AC2-9C8E-58DF6169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6459-1238-437B-8EFC-8A3937B8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173-5D7D-47E5-BE99-4C083726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00F-B0F4-453D-84EC-DDBEE5ED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AB43-E06C-4A99-8A28-B3BE0CF1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AE9A-7875-4C36-B299-AB7D297C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D924-5D44-41DE-8D33-03637DB3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207-AB0A-43A9-8564-52539C16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C3C0-B721-45CD-9344-26B8C96A1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3170-8AB3-4C8B-8203-233996820D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609480"/>
            <a:ext cx="8643960" cy="603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1400"/>
            </a:br>
            <a:br>
              <a:rPr sz="1400"/>
            </a:br>
            <a:r>
              <a:rPr b="0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تصنيف الفطريات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[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Classification of Fungi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]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*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ضع العديد من العلماء تصنيفات كثيرة للفطريات مثل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ccardo"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93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 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"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96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 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wker"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1967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 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،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"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exopoulous &amp; Mi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1979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 </a:t>
            </a:r>
            <a:br>
              <a:rPr sz="2400"/>
            </a:br>
            <a:br>
              <a:rPr sz="2400"/>
            </a:br>
            <a:r>
              <a:rPr b="0" lang="ar-SA" sz="2400" spc="-1" strike="noStrike" u="sng">
                <a:solidFill>
                  <a:srgbClr val="ffcc66"/>
                </a:solidFill>
                <a:uFillTx/>
                <a:latin typeface="Arial"/>
              </a:rPr>
              <a:t>ولعل أهم هذه التصنيفات وأكثرها انتشاراً هو تصنيف : </a:t>
            </a:r>
            <a:r>
              <a:rPr b="0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اليكسوبولوس وممزعام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1979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م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ffcc66"/>
                </a:solidFill>
                <a:uFillTx/>
                <a:latin typeface="Arial"/>
              </a:rPr>
              <a:t>والذي وضعه على أساس وجود الصفات التالية 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:</a:t>
            </a:r>
            <a:br>
              <a:rPr sz="2400"/>
            </a:br>
            <a:br>
              <a:rPr sz="2400"/>
            </a:br>
            <a:br>
              <a:rPr sz="1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جود أو عدم وجود الأطوار المتحركة "البلازموديوم" في دورة حياة الفطر .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 وجود او عدم وجود الأبواغ "الجراثيم" السابحة 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شكل الأبواغ "الجراثيم" السابحة .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تكوين ونوع الأبواغ الجنسية (أي اذا ما كانت زيجوية او بيضية او زقية او بازيدية). </a:t>
            </a:r>
            <a:br>
              <a:rPr sz="2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8763120" y="228600"/>
            <a:ext cx="23796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+mn-cs"/>
              </a:rPr>
              <a:t> 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+mn-cs"/>
              <a:ea typeface="+mn-c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78200"/>
            <a:ext cx="8858160" cy="84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تصنيف الفطريات </a:t>
            </a:r>
            <a:br>
              <a:rPr sz="2800"/>
            </a:br>
            <a:br>
              <a:rPr sz="1200"/>
            </a:b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وعلي ذلك قسمت الفطريات الي ثلاثة اقسام فيكون التصنيف كالتالي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42920" y="1428840"/>
          <a:ext cx="8858160" cy="5311800"/>
        </p:xfrm>
        <a:graphic>
          <a:graphicData uri="http://schemas.openxmlformats.org/drawingml/2006/table">
            <a:tbl>
              <a:tblPr/>
              <a:tblGrid>
                <a:gridCol w="3043080"/>
                <a:gridCol w="2908440"/>
                <a:gridCol w="2906640"/>
              </a:tblGrid>
              <a:tr h="422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ukaryota (Mycetae- Fungi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إذا احتوت علي اطوار متحركة (بلازموديوم) اثناء دورة حياتها  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لم تحتوي علي اطوار متحركة (بلازموديوم) ولكنها احتوت علي جراثيم سابحة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e0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لم تحتوي علي اطوار متحركة (بلازموديوم) ولم تحتوي علي جراثيم سابحة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fff"/>
                    </a:solidFill>
                  </a:tcPr>
                </a:tc>
              </a:tr>
              <a:tr h="384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طريات العارية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Gymnomycota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وتقسم طبقا لتكوينها لبلازموديوم حقيقي اوكاذب الي :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 الفطريات اللزجية الخلوية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crasiogymnomycotina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 الفطريات اللزجة الحقيقيه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lasmodiogymnomycotina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طريات السوطية 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Mastigomycota</a:t>
                      </a:r>
                      <a:r>
                        <a:rPr b="1" lang="ar-SA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وتقسم طبقا لعدد الاسواط الموجودة بالجراثيم الي :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 فطريات ثنائية السوط 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iplomastigomycotina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lass, Oomycete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 فطريات احادية السوط 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aplomastigomycotina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lass, Plasmodiophoromycetes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طريات اللاسوطية 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Amastigomycota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وتقسم طبقا لتكوين ونوع الابواغ الجنسية الي :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فطريات بازيدية 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asidiomycetes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)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فطريات اسكية 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scomycetes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فطريات زيجوية 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Zygomycetes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فطريات ناقصة 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utromycetes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)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840" y="571680"/>
            <a:ext cx="8643960" cy="175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لذلك يرجى ملاحظة ان :</a:t>
            </a:r>
            <a:br>
              <a:rPr sz="2800"/>
            </a:br>
            <a:r>
              <a:rPr b="0" lang="ar-SA" sz="1600" spc="-1" strike="noStrike" u="sng">
                <a:solidFill>
                  <a:srgbClr val="ffff00"/>
                </a:solidFill>
                <a:uFillTx/>
                <a:latin typeface="Arial"/>
              </a:rPr>
              <a:t>ان هناك صفة اخري استخدمت في التصنيف هي :  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نقسام أو عدم انقسام الغزل الفطري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غزل فطري غير مقسم مثل (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ygomycetes &amp; Chytridiomycetes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) و غزل فطري مقسم مثل (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scomycetes &amp; Basidiomycetes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ar-SA" sz="1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00080" y="2786040"/>
          <a:ext cx="7072200" cy="3214800"/>
        </p:xfrm>
        <a:graphic>
          <a:graphicData uri="http://schemas.openxmlformats.org/drawingml/2006/table">
            <a:tbl>
              <a:tblPr/>
              <a:tblGrid>
                <a:gridCol w="3537000"/>
                <a:gridCol w="3535200"/>
              </a:tblGrid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اسم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ينتهي بـــــــ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ycot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69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b Division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ycotin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ycete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b Clas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ycetida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rder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e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dada"/>
                    </a:solidFill>
                  </a:tcPr>
                </a:tc>
              </a:tr>
              <a:tr h="4669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amily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cea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ffff"/>
                    </a:solidFill>
                  </a:tcPr>
                </a:tc>
              </a:tr>
            </a:tbl>
          </a:graphicData>
        </a:graphic>
      </p:graphicFrame>
      <p:sp>
        <p:nvSpPr>
          <p:cNvPr id="10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72320" cy="59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قسم الفطريات العارية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ivision Gymnomycota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عرف هذه الفطريات باسم الفطريات اللزجة أو الفطريات الهلام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ime Mo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خواصها: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تظهر هذه الفطريات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طوراً حيوانياً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"كتلة بروتوبلازمية هلامية مليئة بالأنوية وتتغذى بطريقة حيوانية –بالتبلعم-"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وطوراً آخر فطرياً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تعاقبان في دورة حياة الفطر . </a:t>
            </a:r>
            <a:br>
              <a:rPr sz="2800"/>
            </a:b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**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طور الفطري فيها هو الطور التناسلي ، حيث يُكون أجسام ثمرية وأبواغ "جراثيم" تتطور إلى كائنات هدبية ، تشبه الأجسام الثمرية وجراثيم الفطريات الحقيقية .</a:t>
            </a:r>
            <a:br>
              <a:rPr sz="2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285840" y="500040"/>
            <a:ext cx="857232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Diagram 301" descr=""/>
          <p:cNvPicPr/>
          <p:nvPr/>
        </p:nvPicPr>
        <p:blipFill>
          <a:blip r:embed="rId1"/>
          <a:srcRect l="-2415" t="0" r="-1436" b="0"/>
          <a:stretch/>
        </p:blipFill>
        <p:spPr>
          <a:xfrm>
            <a:off x="571680" y="142920"/>
            <a:ext cx="7929360" cy="1401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"/>
          <p:cNvSpPr/>
          <p:nvPr/>
        </p:nvSpPr>
        <p:spPr>
          <a:xfrm>
            <a:off x="285840" y="1571760"/>
            <a:ext cx="428616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0000"/>
                </a:solidFill>
                <a:uFillTx/>
                <a:latin typeface="Calibri"/>
                <a:cs typeface="Traditional Arabic"/>
              </a:rPr>
              <a:t>الطور الخضري 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عبارة عن كتلة أميبية هلامية مكونة من خلية واحدة وحيدة النواة ، تنمو لتكون طوراً جسدياً عديد الأنوية يسمى البلازموديو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True Plasmodi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والذي يعطي أجسام ثمرية لا تجتمع خلاياه معاً ، وتعرف هذه الفطريات بفطريات اللزجة الحقيقية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True Slime Mol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0000"/>
                </a:solidFill>
                <a:uFillTx/>
                <a:latin typeface="Calibri"/>
                <a:cs typeface="Traditional Arabic"/>
              </a:rPr>
              <a:t>الخصائص العامة 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1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تكون جسم خضري عبارة عن كتلة بروتوبلازمية قادرة على الحركة الأميبية يسمى بلازموديوم ، بينما يكون الطور الخضري في الفطريات الحقيقية مُكَوناً من غزل فطري 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يكون أجسام ثمرية وأبواغ حافظية أحادية المجموعة الصبغية وذات جدر خلوية محتوية على السيليلوز مشابهة في ذلك الفطريات الحقيقية 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أغلبها مترمم في الأماكن الرطبة ، ويُعد وجود الخصلة الشعيرية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Capillitium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ولونها وشكلها أهم الصفات المستخدمة في تصنيف هذه الطائفة ، فمثلا 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Stemonitis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تكون الخصلة ريشية الشكل ، بينما فطر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Physarium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تكون الخصلة بيضية الشكل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5286240" y="1500120"/>
            <a:ext cx="350064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0000"/>
                </a:solidFill>
                <a:uFillTx/>
                <a:latin typeface="Calibri"/>
                <a:cs typeface="Traditional Arabic"/>
              </a:rPr>
              <a:t>الطور الخضري :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00"/>
                </a:solidFill>
                <a:latin typeface="Calibri"/>
                <a:cs typeface="Traditional Arabic"/>
              </a:rPr>
              <a:t>عبارة عن كتلة أميبية هلامية مكونة من خلايا وحيدة النواة ، أحادية المجموعة الصبغية .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00"/>
                </a:solidFill>
                <a:latin typeface="Calibri"/>
                <a:cs typeface="Traditional Arabic"/>
              </a:rPr>
              <a:t>تتجمع هذه الخلايا معاً لتكون بلازموديوم كاذب ولا تندمج  ، وإن كانت تتعاون فيما </a:t>
            </a:r>
            <a:r>
              <a:rPr b="0" lang="ar-SA" sz="1400" spc="-1" strike="noStrike">
                <a:solidFill>
                  <a:srgbClr val="ffff00"/>
                </a:solidFill>
                <a:latin typeface="Calibri"/>
                <a:cs typeface="Traditional Arabic"/>
              </a:rPr>
              <a:t>بينها كأفراد مكونه ما يعرف باسم  </a:t>
            </a:r>
            <a:r>
              <a:rPr b="0" lang="en-US" sz="1400" spc="-1" strike="noStrike">
                <a:solidFill>
                  <a:srgbClr val="c00000"/>
                </a:solidFill>
                <a:latin typeface="Arial"/>
                <a:ea typeface="Traditional Arabic"/>
              </a:rPr>
              <a:t>[</a:t>
            </a:r>
            <a:r>
              <a:rPr b="0" lang="en-US" sz="1400" spc="-1" strike="noStrike">
                <a:solidFill>
                  <a:srgbClr val="c00000"/>
                </a:solidFill>
                <a:latin typeface="Arial"/>
                <a:ea typeface="Traditional Arabic"/>
              </a:rPr>
              <a:t>Pseudo plasmodium</a:t>
            </a:r>
            <a:r>
              <a:rPr b="0" lang="en-US" sz="1400" spc="-1" strike="noStrike">
                <a:solidFill>
                  <a:srgbClr val="c00000"/>
                </a:solidFill>
                <a:latin typeface="Arial"/>
                <a:ea typeface="Traditional Arabic"/>
              </a:rPr>
              <a:t>]</a:t>
            </a:r>
            <a:r>
              <a:rPr b="0" lang="en-US" sz="1400" spc="-1" strike="noStrike">
                <a:solidFill>
                  <a:srgbClr val="c00000"/>
                </a:solidFill>
                <a:latin typeface="Calibri"/>
                <a:ea typeface="Traditional Arabic"/>
              </a:rPr>
              <a:t> 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0000"/>
                </a:solidFill>
                <a:uFillTx/>
                <a:latin typeface="Calibri"/>
                <a:cs typeface="Traditional Arabic"/>
              </a:rPr>
              <a:t>الخصائص العامة 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Aft>
                <a:spcPts val="1001"/>
              </a:spcAft>
              <a:buClr>
                <a:srgbClr val="ffff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00"/>
                </a:solidFill>
                <a:latin typeface="Calibri"/>
                <a:ea typeface="Traditional Arabic"/>
              </a:rPr>
              <a:t>- لا تكون أجسام ثمرية 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00"/>
                </a:solidFill>
                <a:latin typeface="Calibri"/>
                <a:ea typeface="Traditional Arabic"/>
              </a:rPr>
              <a:t>2</a:t>
            </a:r>
            <a:r>
              <a:rPr b="0" lang="ar-SA" sz="1600" spc="-1" strike="noStrike">
                <a:solidFill>
                  <a:srgbClr val="ffff00"/>
                </a:solidFill>
                <a:latin typeface="Calibri"/>
                <a:ea typeface="Traditional Arabic"/>
              </a:rPr>
              <a:t>- تُعرف بالفطريات اللزجة الخلوية </a:t>
            </a:r>
            <a:r>
              <a:rPr b="0" lang="en-US" sz="1400" spc="-1" strike="noStrike">
                <a:solidFill>
                  <a:srgbClr val="c00000"/>
                </a:solidFill>
                <a:latin typeface="Arial"/>
                <a:ea typeface="Traditional Arabic"/>
              </a:rPr>
              <a:t>[</a:t>
            </a:r>
            <a:r>
              <a:rPr b="0" lang="en-US" sz="1400" spc="-1" strike="noStrike">
                <a:solidFill>
                  <a:srgbClr val="c00000"/>
                </a:solidFill>
                <a:latin typeface="Arial"/>
                <a:ea typeface="Traditional Arabic"/>
              </a:rPr>
              <a:t>Cellular Slime Molds</a:t>
            </a:r>
            <a:r>
              <a:rPr b="0" lang="en-US" sz="1400" spc="-1" strike="noStrike">
                <a:solidFill>
                  <a:srgbClr val="c00000"/>
                </a:solidFill>
                <a:latin typeface="Arial"/>
                <a:ea typeface="Traditional Arabic"/>
              </a:rPr>
              <a:t>]</a:t>
            </a:r>
            <a:r>
              <a:rPr b="0" lang="ar-SA" sz="1400" spc="-1" strike="noStrike">
                <a:solidFill>
                  <a:srgbClr val="c00000"/>
                </a:solidFill>
                <a:latin typeface="Calibri"/>
                <a:ea typeface="Traditional Arabic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Calibri"/>
                <a:ea typeface="Traditional Arabic"/>
              </a:rPr>
              <a:t> ، مثل أفراد طائفة </a:t>
            </a:r>
            <a:r>
              <a:rPr b="0" i="1" lang="en-US" sz="1400" spc="-1" strike="noStrike">
                <a:solidFill>
                  <a:srgbClr val="ffff00"/>
                </a:solidFill>
                <a:latin typeface="Arial"/>
                <a:ea typeface="Traditional Arabic"/>
              </a:rPr>
              <a:t>Ascrasiomycetes</a:t>
            </a:r>
            <a:r>
              <a:rPr b="0" i="1" lang="en-US" sz="1400" spc="-1" strike="noStrike">
                <a:solidFill>
                  <a:srgbClr val="ffff00"/>
                </a:solidFill>
                <a:latin typeface="Calibri"/>
                <a:ea typeface="Traditional Arabic"/>
              </a:rPr>
              <a:t> 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86880" cy="614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1600"/>
            </a:br>
            <a:br>
              <a:rPr sz="16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1600"/>
            </a:br>
            <a:br>
              <a:rPr sz="3600"/>
            </a:b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2920" y="857160"/>
            <a:ext cx="4333680" cy="3000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4714920" y="857160"/>
            <a:ext cx="4071960" cy="2928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0" y="4000680"/>
            <a:ext cx="4429080" cy="28573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310680" y="142920"/>
            <a:ext cx="19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temoniti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p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214880" cy="321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714920" y="1500120"/>
            <a:ext cx="4214880" cy="32148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1144440" y="78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hysar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57200" y="1600200"/>
            <a:ext cx="579132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" name="Picture 3" descr="A:\Thanks.GIF"/>
          <p:cNvPicPr/>
          <p:nvPr/>
        </p:nvPicPr>
        <p:blipFill>
          <a:blip r:embed="rId1"/>
          <a:stretch/>
        </p:blipFill>
        <p:spPr>
          <a:xfrm>
            <a:off x="5183280" y="3890880"/>
            <a:ext cx="34272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5-02-17T10:12:52Z</dcterms:modified>
  <cp:revision>127</cp:revision>
  <dc:subject/>
  <dc:title>Fungi and the Mycoses</dc:title>
</cp:coreProperties>
</file>