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6A18-511A-4C81-BBEE-1486E0168EE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6F74-8563-4FB0-A324-AE8C6A7FE10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8EE0-1501-4F68-9FC7-F7043EC3E55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5F51-7DE5-45BB-B37D-0E5F0A3DB06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0F7F-FC62-46A1-9738-38FD5C8AB53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1B8F-E4D9-4582-8E76-B97D20B0D9D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75E0-4EE8-46A3-BD6F-E005173A4D4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4CC3-5963-400F-B177-412F4385B9F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9BA0-88C6-49C0-95B3-FC579CF5CE5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068-2EAD-4E13-90FB-9E57133A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A1D-B295-443E-A642-4B2F8157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F23-2447-441B-BC0E-5A4C5744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1F3-F6CE-4EAD-B7BB-F964B143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658-018C-4392-91E4-C8BF0F8F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3A7B-BDFD-4169-81CC-66398E46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072B-CCD3-4057-A012-2320F0F6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75DB-3A41-42D0-AD97-A919F1A7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A35B-3B76-4317-A8AE-002654A8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3839-D31C-45DC-A92A-38C72AB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BF03-815E-4C0B-A3DE-8ADADC6A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172-E849-439E-A397-63D198BF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1E0F-95C8-416E-ABFC-2AD2DDD5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034C-9C97-4628-A96E-BCD88F0C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AB7B-F462-43B0-A203-5EF9C013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9221-EB82-48C8-B361-14335420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21FC-A272-4184-8DCD-475A66E4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1AA-9B66-4529-A58B-C2C4E47C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09A-6734-4441-A277-6251DD6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24A-9053-4767-8DC8-F0BE6E3E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983-F7AE-464C-8FE3-890AFB78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3AE-B8E0-492E-8952-8A5439C9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456-1ADD-40CA-9DF2-1B5EBB4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597-0625-4A37-8564-615A59CF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B948-A290-4B80-B6A8-7466E928A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1FD6-9F6A-4106-B8AE-7C4E29527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864396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1400"/>
            </a:br>
            <a:br>
              <a:rPr sz="1400"/>
            </a:b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صنيف الفطريات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lassification of Fungi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]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عديد من العلماء تصنيفات كثيرة للفطريات مثل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ccardo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93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 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96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 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wker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1967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،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exopoulous &amp; Mi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197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 </a:t>
            </a:r>
            <a:br>
              <a:rPr sz="2400"/>
            </a:br>
            <a:br>
              <a:rPr sz="2400"/>
            </a:br>
            <a:r>
              <a:rPr b="0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ولعل أهم هذه التصنيفات وأكثرها انتشاراً هو تصنيف :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اليكسوبولوس وممزعام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1979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م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والذي وضعه على أساس وجود الصفات التالية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جود أو عدم وجود الأطوار المتحركة "البلازموديوم" في دورة حياة الفطر 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 وجود او عدم وجود الأبواغ "الجراثيم" السابحة 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شكل الأبواغ "الجراثيم" السابحة 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كوين ونوع الأبواغ الجنسية (أي اذا ما كانت زيجوية او بيضية او زقية او بازيدية). </a:t>
            </a: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78200"/>
            <a:ext cx="8858160" cy="84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تصنيف الفطريات </a:t>
            </a:r>
            <a:br>
              <a:rPr sz="2800"/>
            </a:br>
            <a:br>
              <a:rPr sz="12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وعلي ذلك قسمت الفطريات الي ثلاثة اقسام فيكون التصنيف كالتالي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2920" y="1428840"/>
          <a:ext cx="8858160" cy="5311800"/>
        </p:xfrm>
        <a:graphic>
          <a:graphicData uri="http://schemas.openxmlformats.org/drawingml/2006/table">
            <a:tbl>
              <a:tblPr/>
              <a:tblGrid>
                <a:gridCol w="3043080"/>
                <a:gridCol w="2908440"/>
                <a:gridCol w="2906640"/>
              </a:tblGrid>
              <a:tr h="422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ukaryota (Mycetae- Fungi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ذا احتوت علي اطوار متحركة (بلازموديوم) اثناء دورة حياتها  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م تحتوي علي اطوار متحركة (بلازموديوم) ولكنها احتوت علي جراثيم سابحة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e0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م تحتوي علي اطوار متحركة (بلازموديوم) ولم تحتوي علي جراثيم سابحة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fff"/>
                    </a:solidFill>
                  </a:tcPr>
                </a:tc>
              </a:tr>
              <a:tr h="38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طريات العارية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Gymnomycot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وتقسم طبقا لتكوينها لبلازموديوم حقيقي اوكاذب الي :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الفطريات اللزجية الخلوية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crasiogymnomycotina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الفطريات اللزجة الحقيقيه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lasmodiogymnomycotina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طريات السوط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Mastigomycota</a:t>
                      </a:r>
                      <a:r>
                        <a:rPr b="1" lang="ar-SA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وتقسم طبقا لعدد الاسواط الموجودة بالجراثيم الي :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فطريات ثنائية السوط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iplomastigomycotina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lass, Oomycet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 فطريات احادية السوط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aplomastigomycotina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lass, Plasmodiophor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طريات اللاسوط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Amastigomycot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وتقسم طبقا لتكوين ونوع الابواغ الجنسية الي :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فطريات بازيد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sidi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فطريات اسك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sc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فطريات زيجوي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Zyg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فطريات ناقصة 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utromycetes</a:t>
                      </a:r>
                      <a:r>
                        <a:rPr b="0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)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840" y="571680"/>
            <a:ext cx="8643960" cy="17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لذلك يرجى ملاحظة ان :</a:t>
            </a:r>
            <a:br>
              <a:rPr sz="2800"/>
            </a:br>
            <a:r>
              <a:rPr b="0" lang="ar-SA" sz="1600" spc="-1" strike="noStrike" u="sng">
                <a:solidFill>
                  <a:srgbClr val="ffff00"/>
                </a:solidFill>
                <a:uFillTx/>
                <a:latin typeface="Arial"/>
              </a:rPr>
              <a:t>ان هناك صفة اخري استخدمت في التصنيف هي :  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نقسام أو عدم انقسام الغزل الفطري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غزل فطري غير مقسم مثل (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ygomycetes &amp; Chytridiomycetes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) و غزل فطري مقسم مثل (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scomycetes &amp; Basidiomycetes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ar-SA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00080" y="2786040"/>
          <a:ext cx="7072200" cy="3214800"/>
        </p:xfrm>
        <a:graphic>
          <a:graphicData uri="http://schemas.openxmlformats.org/drawingml/2006/table">
            <a:tbl>
              <a:tblPr/>
              <a:tblGrid>
                <a:gridCol w="3537000"/>
                <a:gridCol w="3535200"/>
              </a:tblGrid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اسم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ينتهي بـــــــ</a:t>
                      </a:r>
                      <a:endParaRPr b="0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ycot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 Divis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ycotin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ycet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b Clas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ycetida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rde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dada"/>
                    </a:solidFill>
                  </a:tcPr>
                </a:tc>
              </a:tr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amil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ea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ffff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قسم الفطريات العارية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ivision Gymnomycota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رف هذه الفطريات باسم الفطريات اللزجة أو الفطريات الهلا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me M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خواصها: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تظهر هذه الفطريات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طوراً حيوانياً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"كتلة بروتوبلازمية هلامية مليئة بالأنوية وتتغذى بطريقة حيوانية –بالتبلعم-"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وطوراً آخر فطرياً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عاقبان في دورة حياة الفطر . </a:t>
            </a:r>
            <a:br>
              <a:rPr sz="2800"/>
            </a:b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**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طور الفطري فيها هو الطور التناسلي ، حيث يُكون أجسام ثمرية وأبواغ "جراثيم" تتطور إلى كائنات هدبية ، تشبه الأجسام الثمرية وجراثيم الفطريات الحقيقية .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85840" y="500040"/>
            <a:ext cx="85723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Diagram 301" descr=""/>
          <p:cNvPicPr/>
          <p:nvPr/>
        </p:nvPicPr>
        <p:blipFill>
          <a:blip r:embed="rId1"/>
          <a:srcRect l="-2415" t="0" r="-1436" b="0"/>
          <a:stretch/>
        </p:blipFill>
        <p:spPr>
          <a:xfrm>
            <a:off x="571680" y="142920"/>
            <a:ext cx="7929360" cy="1401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285840" y="1571760"/>
            <a:ext cx="42861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Calibri"/>
                <a:cs typeface="Traditional Arabic"/>
              </a:rPr>
              <a:t>الطور الخضري 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عبارة عن كتلة أميبية هلامية مكونة من خلية واحدة وحيدة النواة ، تنمو لتكون طوراً جسدياً عديد الأنوية يسمى البلازموديو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True Plasmod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والذي يعطي أجسام ثمرية لا تجتمع خلاياه معاً ، وتعرف هذه الفطريات بفطريات اللزجة الحقيقي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True Slime Mol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Calibri"/>
                <a:cs typeface="Traditional Arabic"/>
              </a:rPr>
              <a:t>الخصائص العامة 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1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تكون جسم خضري عبارة عن كتلة بروتوبلازمية قادرة على الحركة الأميبية يسمى بلازموديوم ، بينما يكون الطور الخضري في الفطريات الحقيقية مُكَوناً من غزل فطري 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يكون أجسام ثمرية وأبواغ حافظية أحادية المجموعة الصبغية وذات جدر خلوية محتوية على السيليلوز مشابهة في ذلك الفطريات الحقيقية 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 أغلبها مترمم في الأماكن الرطبة ، ويُعد وجود الخصلة الشعيري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Capillitium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ولونها وشكلها أهم الصفات المستخدمة في تصنيف هذه الطائفة ، فمثلا 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Stemonitis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تكون الخصلة ريشية الشكل ، بينما فطر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Physarium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تكون الخصلة بيضية الشكل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5286240" y="1500120"/>
            <a:ext cx="350064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Calibri"/>
                <a:cs typeface="Traditional Arabic"/>
              </a:rPr>
              <a:t>الطور الخضري :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Calibri"/>
                <a:cs typeface="Traditional Arabic"/>
              </a:rPr>
              <a:t>عبارة عن كتلة أميبية هلامية مكونة من خلايا وحيدة النواة ، أحادية المجموعة الصبغية .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Calibri"/>
                <a:cs typeface="Traditional Arabic"/>
              </a:rPr>
              <a:t>تتجمع هذه الخلايا معاً لتكون بلازموديوم كاذب ولا تندمج  ، وإن كانت تتعاون فيما </a:t>
            </a:r>
            <a:r>
              <a:rPr b="0" lang="ar-SA" sz="1400" spc="-1" strike="noStrike">
                <a:solidFill>
                  <a:srgbClr val="ffff00"/>
                </a:solidFill>
                <a:latin typeface="Calibri"/>
                <a:cs typeface="Traditional Arabic"/>
              </a:rPr>
              <a:t>بينها كأفراد مكونه ما يعرف باسم  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[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Pseudo plasmodium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]</a:t>
            </a:r>
            <a:r>
              <a:rPr b="0" lang="en-US" sz="1400" spc="-1" strike="noStrike">
                <a:solidFill>
                  <a:srgbClr val="c00000"/>
                </a:solidFill>
                <a:latin typeface="Calibri"/>
                <a:ea typeface="Traditional Arabic"/>
              </a:rPr>
              <a:t> 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Calibri"/>
                <a:cs typeface="Traditional Arabic"/>
              </a:rPr>
              <a:t>الخصائص العامة 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buClr>
                <a:srgbClr val="ffff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Calibri"/>
                <a:ea typeface="Traditional Arabic"/>
              </a:rPr>
              <a:t>- لا تكون أجسام ثمرية 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Calibri"/>
                <a:ea typeface="Traditional Arabic"/>
              </a:rPr>
              <a:t>2</a:t>
            </a:r>
            <a:r>
              <a:rPr b="0" lang="ar-SA" sz="1600" spc="-1" strike="noStrike">
                <a:solidFill>
                  <a:srgbClr val="ffff00"/>
                </a:solidFill>
                <a:latin typeface="Calibri"/>
                <a:ea typeface="Traditional Arabic"/>
              </a:rPr>
              <a:t>- تُعرف بالفطريات اللزجة الخلوية 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[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Cellular Slime Molds</a:t>
            </a: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Traditional Arabic"/>
              </a:rPr>
              <a:t>]</a:t>
            </a:r>
            <a:r>
              <a:rPr b="0" lang="ar-SA" sz="1400" spc="-1" strike="noStrike">
                <a:solidFill>
                  <a:srgbClr val="c00000"/>
                </a:solidFill>
                <a:latin typeface="Calibri"/>
                <a:ea typeface="Traditional Arabic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Calibri"/>
                <a:ea typeface="Traditional Arabic"/>
              </a:rPr>
              <a:t> ، مثل أفراد طائفة </a:t>
            </a:r>
            <a:r>
              <a:rPr b="0" i="1" lang="en-US" sz="1400" spc="-1" strike="noStrike">
                <a:solidFill>
                  <a:srgbClr val="ffff00"/>
                </a:solidFill>
                <a:latin typeface="Arial"/>
                <a:ea typeface="Traditional Arabic"/>
              </a:rPr>
              <a:t>Ascrasiomycetes</a:t>
            </a:r>
            <a:r>
              <a:rPr b="0" i="1" lang="en-US" sz="1400" spc="-1" strike="noStrike">
                <a:solidFill>
                  <a:srgbClr val="ffff00"/>
                </a:solidFill>
                <a:latin typeface="Calibri"/>
                <a:ea typeface="Traditional Arabic"/>
              </a:rPr>
              <a:t> 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4333680" cy="300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4714920" y="85716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0" y="4000680"/>
            <a:ext cx="4429080" cy="2857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310680" y="142920"/>
            <a:ext cx="19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temoniti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4214880" cy="3214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144440" y="78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hysar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2-17T10:12:52Z</dcterms:modified>
  <cp:revision>127</cp:revision>
  <dc:subject/>
  <dc:title>Fungi and the Mycoses</dc:title>
</cp:coreProperties>
</file>