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E853-994A-4615-8049-1DE9A45F2BEE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7B1E-EC7C-4D63-9F00-D910C26E49D3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1D8E-6C16-424C-9314-76CBEB45E23F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B68B-EA2A-40AF-BAF5-4B296A3E32FF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A9ED-AA38-4447-B767-7B615932DB4F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8F87-CC2D-42A7-BF8C-C6AED72FE17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509A-075E-48D4-A96E-3E823AA729C3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16CF-DA0D-4D66-A653-D4C47C815F8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33DF-8E8C-4486-A645-15BACCD2BC69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F4FF-C5D2-4A56-8EF2-3491CCA14226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E1C0-F7C8-4B9A-83BC-D6C784268D2C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DF55-76D7-4218-B305-77A1B857DFCE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1A82-9028-466A-A389-A8C934461634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516C-027D-4EF5-80E7-AA8D08B21BAB}" type="slidenum"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63B-F91C-445F-8E4A-F52D9468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FDF-C505-45D5-9496-EC6B8F55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550-5A2F-4D89-88F0-1D0DD8B8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91E-C8F4-4A23-A271-808EB8F8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70D8-F094-4BDA-8142-625BA06D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4DDF-09C7-4789-9762-FD8EE7D6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42BD-A750-4120-BD89-BC6F7269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4B7E-FF04-402C-A68C-EB564C0A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76FF-8527-457B-8757-5E58455D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1C7A-59F4-4B4F-B7BF-B5DF63A0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CBD0-AEFB-4364-AF54-736DAC77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EDD-A4CB-4D31-83E7-7542B3D2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AF53-D17F-4F97-B38A-A3738B31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0D13-90E7-4FC0-9CA0-E68E2E50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82D2-540C-4BC0-BFCC-1D9A8AC6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1C3A-5E79-43D0-A1D5-6FF65BF9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FF45-CCAE-449A-9C66-11832C8D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A45A-6D29-4BC6-B9DA-B003C59A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A87-2EC8-4E94-84BA-402B643B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BDB-6633-4D13-AB49-DB55C75F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E3B-5C18-4DB7-B884-0053896B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B92-CFE4-4BA0-8164-F853796F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8C8D-ED34-4C5C-B0A6-41AD7855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A46-D91B-4A41-9306-6D832D60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848C-978B-4AD9-BFF1-948B4D588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F716-1A55-4E5E-A88B-6E6183492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609480"/>
            <a:ext cx="8643960" cy="603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1400"/>
            </a:br>
            <a:br>
              <a:rPr sz="1400"/>
            </a:br>
            <a:r>
              <a:rPr b="1" lang="ar-SA" sz="14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قسم الفطريات السوطية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Division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astigomycota</a:t>
            </a:r>
            <a:br>
              <a:rPr sz="2400"/>
            </a:br>
            <a:br>
              <a:rPr sz="2400"/>
            </a:br>
            <a:r>
              <a:rPr b="0" lang="ar-SA" sz="2000" spc="-1" strike="noStrike" u="sng">
                <a:solidFill>
                  <a:srgbClr val="ff0000"/>
                </a:solidFill>
                <a:uFillTx/>
                <a:latin typeface="Arial"/>
              </a:rPr>
              <a:t>تتميز بقدرتها على إنتاج الأبواغ المتحركة أثناء دورة حياتها وتنقسم طبقاً لعدد الأسواط المتكونة إلى :</a:t>
            </a:r>
            <a:br>
              <a:rPr sz="2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 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قسيم الفطريات أحادية السوط  (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ub div; (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aplomastigomycotina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بوغ الناتج أحادي السوط وعديم الشعيرات في الجهة الأمام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iplas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**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كاثر الجنسي من خلال حوافظ مشيجية "ذكرية وأنثوية" غير متميزة .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يضم هذا القسيم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ثلاثة طوائف :</a:t>
            </a:r>
            <a:br>
              <a:rPr sz="2400"/>
            </a:br>
            <a:br>
              <a:rPr sz="2400"/>
            </a:br>
            <a:r>
              <a:rPr b="0" lang="ar-SA" sz="2400" spc="-1" strike="noStrike">
                <a:solidFill>
                  <a:srgbClr val="ffcc66"/>
                </a:solidFill>
                <a:latin typeface="Arial"/>
              </a:rPr>
              <a:t>  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lass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-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hytridiomycetes</a:t>
            </a:r>
            <a:br>
              <a:rPr sz="2400"/>
            </a:b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أغلبها مترمم والبعض متطفل تطفلا اجباريا مثل فطر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Synchtrium endobioticum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الذي يسبب مرض التثألل الأسود للبطاطس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lack wart disease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lass</a:t>
            </a:r>
            <a:r>
              <a:rPr b="0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-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yphochytridiomycetes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    (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ْ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X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lass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-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lasmodiophoromycetes</a:t>
            </a:r>
            <a:br>
              <a:rPr sz="2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8763120" y="228600"/>
            <a:ext cx="23796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cs"/>
              </a:rPr>
              <a:t>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cs"/>
              <a:ea typeface="+mn-c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873720" y="1429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yth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2" descr="http://bugwoodcloud.org/images/768x512/1402006.jpg"/>
          <p:cNvPicPr/>
          <p:nvPr/>
        </p:nvPicPr>
        <p:blipFill>
          <a:blip r:embed="rId1"/>
          <a:stretch/>
        </p:blipFill>
        <p:spPr>
          <a:xfrm>
            <a:off x="571680" y="857160"/>
            <a:ext cx="3857400" cy="2500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://www.plantmanagementnetwork.org/pub/php/research/2004/pythium/image/metalaxyl1d.jpg"/>
          <p:cNvPicPr/>
          <p:nvPr/>
        </p:nvPicPr>
        <p:blipFill>
          <a:blip r:embed="rId2"/>
          <a:stretch/>
        </p:blipFill>
        <p:spPr>
          <a:xfrm>
            <a:off x="4643280" y="3714840"/>
            <a:ext cx="3857760" cy="2714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www.plantmanagementnetwork.org/pub/php/research/2004/pythium/image/metalaxyl1f.jpg"/>
          <p:cNvPicPr/>
          <p:nvPr/>
        </p:nvPicPr>
        <p:blipFill>
          <a:blip r:embed="rId3"/>
          <a:stretch/>
        </p:blipFill>
        <p:spPr>
          <a:xfrm>
            <a:off x="428760" y="3714840"/>
            <a:ext cx="4000320" cy="2786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http://4.bp.blogspot.com/-mQNjQ-0gp7k/Txb2TThg8WI/AAAAAAAAAAo/UXkQobQvhaI/s1600/damping-off2.jpg"/>
          <p:cNvPicPr/>
          <p:nvPr/>
        </p:nvPicPr>
        <p:blipFill>
          <a:blip r:embed="rId4"/>
          <a:stretch/>
        </p:blipFill>
        <p:spPr>
          <a:xfrm>
            <a:off x="4643280" y="785880"/>
            <a:ext cx="3915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1136880" y="78588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hytophtho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Picture 2" descr="http://www.forestryimages.org/images/768x512/5368703.jpg"/>
          <p:cNvPicPr/>
          <p:nvPr/>
        </p:nvPicPr>
        <p:blipFill>
          <a:blip r:embed="rId1"/>
          <a:stretch/>
        </p:blipFill>
        <p:spPr>
          <a:xfrm>
            <a:off x="285840" y="2214720"/>
            <a:ext cx="4143240" cy="3000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ttp://www.sarvari-trust.org/assets/images/Potato01.jpg"/>
          <p:cNvPicPr/>
          <p:nvPr/>
        </p:nvPicPr>
        <p:blipFill>
          <a:blip r:embed="rId2"/>
          <a:stretch/>
        </p:blipFill>
        <p:spPr>
          <a:xfrm>
            <a:off x="4643280" y="2214720"/>
            <a:ext cx="4000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428760" y="-246240"/>
            <a:ext cx="835812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amily : Peronosporacea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متاز هذه الفصيلة بأنها اجبارية التطفل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ا يمكن زراعتها على بيئات صناعية بالمعمل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سبب أمراض تعرف بالبياض الزغبي للعنب والخس والفجل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y Mildew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كون كونيدات هوائية ، تَخرج حوامل هذه الكونيدات من المسام الموجودة على السطح السفلي للورقة ، وتتكون الجراثيم الكونيدية لهذه الفصيلة بصورة فردية وليست في سلاسل كما هو الحال في الفصيلة الألبوجيني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عيش الفطر بين خلايا النبات المصاب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cellular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رسل الفطر ممصات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ustor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خيطية الشكل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 أمثلته 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طر بلازموبارا  الذي يسبب مرض البياض الزغبي للعنب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smopara viticola</a:t>
            </a:r>
            <a:r>
              <a:rPr b="0" i="1" lang="ar-SA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طر بيرونوسبورا الذي يسبب مرض البياض الزغبي للفجل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ronospora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طر بريميا الذي يسبب مرض البياض الزغبي لنبات "الخس"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emia</a:t>
            </a:r>
            <a:r>
              <a:rPr b="0" i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7" descr="http://www.ilpistillo.it/upload/thumb500/1294657828.jpg"/>
          <p:cNvPicPr/>
          <p:nvPr/>
        </p:nvPicPr>
        <p:blipFill>
          <a:blip r:embed="rId1"/>
          <a:stretch/>
        </p:blipFill>
        <p:spPr>
          <a:xfrm>
            <a:off x="500040" y="928800"/>
            <a:ext cx="4071960" cy="3000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http://147.100.108.242/vigne/vigne_utilisateur/images/Mildiou_conidies5.jpg"/>
          <p:cNvPicPr/>
          <p:nvPr/>
        </p:nvPicPr>
        <p:blipFill>
          <a:blip r:embed="rId2"/>
          <a:stretch/>
        </p:blipFill>
        <p:spPr>
          <a:xfrm>
            <a:off x="4786200" y="4143240"/>
            <a:ext cx="3929040" cy="2500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http://bugwoodcloud.org/images/768x512/5485030.jpg"/>
          <p:cNvPicPr/>
          <p:nvPr/>
        </p:nvPicPr>
        <p:blipFill>
          <a:blip r:embed="rId3"/>
          <a:stretch/>
        </p:blipFill>
        <p:spPr>
          <a:xfrm>
            <a:off x="428760" y="4071960"/>
            <a:ext cx="4143240" cy="25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https://encrypted-tbn3.gstatic.com/images?q=tbn:ANd9GcTVOFr5PrczTFmonvEM4AHajuQEF7rpueKJKj0TsbdH9bnjipLDbA"/>
          <p:cNvPicPr/>
          <p:nvPr/>
        </p:nvPicPr>
        <p:blipFill>
          <a:blip r:embed="rId4"/>
          <a:stretch/>
        </p:blipFill>
        <p:spPr>
          <a:xfrm>
            <a:off x="5143680" y="1000080"/>
            <a:ext cx="3000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57200" y="1600200"/>
            <a:ext cx="579132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78200"/>
            <a:ext cx="8858160" cy="841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تثألل الاسود في البطاطس</a:t>
            </a:r>
            <a:br>
              <a:rPr sz="2800"/>
            </a:br>
            <a:br>
              <a:rPr sz="1200"/>
            </a:br>
            <a:br>
              <a:rPr sz="2400"/>
            </a:b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ynchytrium endobioticum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Picture 19" descr=""/>
          <p:cNvPicPr/>
          <p:nvPr/>
        </p:nvPicPr>
        <p:blipFill>
          <a:blip r:embed="rId1"/>
          <a:stretch/>
        </p:blipFill>
        <p:spPr>
          <a:xfrm>
            <a:off x="214200" y="1071720"/>
            <a:ext cx="3000600" cy="2143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https://encrypted-tbn0.gstatic.com/images?q=tbn:ANd9GcQNeJH0f8hx_B2uTuxshEjrA1yInyViCeFHLAR0U2skM9XHEG6E"/>
          <p:cNvPicPr/>
          <p:nvPr/>
        </p:nvPicPr>
        <p:blipFill>
          <a:blip r:embed="rId2"/>
          <a:stretch/>
        </p:blipFill>
        <p:spPr>
          <a:xfrm>
            <a:off x="3357720" y="1071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3" descr="https://encrypted-tbn0.gstatic.com/images?q=tbn:ANd9GcQxBQZxRmBt26T6nOhV3qDTkB3uQoWgLCJtrPljfnVvaRX7SW0d"/>
          <p:cNvPicPr/>
          <p:nvPr/>
        </p:nvPicPr>
        <p:blipFill>
          <a:blip r:embed="rId3"/>
          <a:stretch/>
        </p:blipFill>
        <p:spPr>
          <a:xfrm>
            <a:off x="6286680" y="1071720"/>
            <a:ext cx="2619360" cy="2143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5" descr="https://uqu.edu.sa/files2/tiny_mce/plugins/filemanager/files/3930100/2)%20Synchytrium%20endobioticum.jpg"/>
          <p:cNvPicPr/>
          <p:nvPr/>
        </p:nvPicPr>
        <p:blipFill>
          <a:blip r:embed="rId4"/>
          <a:stretch/>
        </p:blipFill>
        <p:spPr>
          <a:xfrm>
            <a:off x="214200" y="3857760"/>
            <a:ext cx="4143600" cy="2786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9" descr="http://metalbit.com.pl/produkty/mid/13333785331.jpg"/>
          <p:cNvPicPr/>
          <p:nvPr/>
        </p:nvPicPr>
        <p:blipFill>
          <a:blip r:embed="rId5"/>
          <a:stretch/>
        </p:blipFill>
        <p:spPr>
          <a:xfrm>
            <a:off x="4572000" y="3857760"/>
            <a:ext cx="4143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285840" y="162360"/>
            <a:ext cx="8501040" cy="64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lass: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lasmodiophoromyce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هي فطريات إجبارية التطفل داخل خلايا النبات ، وتسبب تضخماً في حجم خلايا النبات المصاب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ertrophy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، نتيجة للانقسام السريع في خلايا الأجزاء المصابة من النبات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0000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Times New Roman"/>
              </a:rPr>
              <a:t>تشبه الفطريات الهلامية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'‘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lasmodiogymnomycotina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'' 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 حيث تكوينها لأجسام هلامية يطلق عليها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smodiu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وهو يمثل الطور الخضري وينمو داخل خلايا العائل ، وعند التكاثر ينتج أبواغ سابحة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0000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Times New Roman"/>
              </a:rPr>
              <a:t>وتختلف عن الفطريات الهلامية من حيث </a:t>
            </a: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ها تكون جراثيم سابحة ، بينما تكون الفطريات الهلامية أجسام سابح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ها لا تكون أجسام ثمرية مثل الفطريات الهلامي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جدر الأبواغ خالية من السيليلوز، بينما يوجد السيليلوز في جدر أبواغ الفطريات الهلامية 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72320" cy="59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مثال : فطر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lasmodiophora brassica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 الذي يسبب مرض الجذر الصولجاني للكرنب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lb root disea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800"/>
            </a:br>
            <a:br>
              <a:rPr sz="2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071960" cy="242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4429080" y="1428840"/>
            <a:ext cx="4071960" cy="250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4429080" y="3976560"/>
            <a:ext cx="4143600" cy="275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4"/>
          <a:stretch/>
        </p:blipFill>
        <p:spPr>
          <a:xfrm>
            <a:off x="285840" y="4000680"/>
            <a:ext cx="40719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86880" cy="614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1600"/>
            </a:br>
            <a:br>
              <a:rPr sz="16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1600"/>
            </a:br>
            <a:br>
              <a:rPr sz="3600"/>
            </a:b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85840" y="142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14200" y="-235080"/>
            <a:ext cx="8715600" cy="6982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قسيم الفطريات ثنائية السوط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ub div;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iplomastigomycotin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بوغ الناتج ثنائي السوط أمامي "ذات سوطين أحدهما أملس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plash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، والثاني ريشي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se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تكاثر الجنسي من خلال تكوين الانثريدات والاوجونات "أعضاء تناسلية مميزة"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يضم هذا القسيم طائفة واحدة هي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omycetes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تضم هذه الطائفة ستة رتب أهمه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aprolegni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أغلبها فطريات مائية مترممة ، والبعض منها متطفل يسبب أمراض للأسماك مثل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aprolegnia</a:t>
            </a:r>
            <a:r>
              <a:rPr b="0" i="1" lang="ar-SA" sz="1800" spc="-1" strike="noStrike">
                <a:solidFill>
                  <a:srgbClr val="ffffff"/>
                </a:solidFill>
                <a:latin typeface="Times New Roman"/>
              </a:rPr>
              <a:t> ،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وتوجد في هذه الرتبة نوعين من الظواهر الغير عادية 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ظاهرة ثنائية التشكيل البوغي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[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Diplantism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]</a:t>
            </a:r>
            <a:r>
              <a:rPr b="0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: وهي وجود طرازين من الأبواغ السابحة ، حيث يظهر في دورة حياة الفطر نوعين من الجراثيم اللاجنسية السابحة ، نوع كمثري الشكل أمامي الأسواط ، والذي يتحوصل وعند إنباته يعطي نوع كلوي الشكل جانبي الأسواط 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ظاهرة التعاقب الحافظي أو التوالد المتداخل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[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Internal proliferation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]</a:t>
            </a:r>
            <a:r>
              <a:rPr b="0" lang="ar-SA" sz="2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:حيث تفرغ الحافظة الجرثومية الأولى محتوياتها من الجراثيم السابحة ، ثم يبدأ الجدار الفاصل عند قاعدتها في النمو علوياً مكوناً حافظة جرثومية ثانوية ، والتي تفرغ محتوياتها من الجراثيم السابحة عند نضوجها ، ثم يبدأ الجدار الفاصل في النمو لأعلى ليكون حافظة جرثومية جديدة .... وهكذا 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1064160" y="21420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aprolegn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8" descr="http://www.diark.org/img/species_pict/large/Saprolegnia_parasitica_CBS_223_65/"/>
          <p:cNvPicPr/>
          <p:nvPr/>
        </p:nvPicPr>
        <p:blipFill>
          <a:blip r:embed="rId1"/>
          <a:stretch/>
        </p:blipFill>
        <p:spPr>
          <a:xfrm>
            <a:off x="4572000" y="3214800"/>
            <a:ext cx="4186080" cy="3143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http://website.nbm-mnb.ca/mycologywebpages/NaturalHistoryOfFungi/Illustrations/OogoniumAndAntheridium.jpg"/>
          <p:cNvPicPr/>
          <p:nvPr/>
        </p:nvPicPr>
        <p:blipFill>
          <a:blip r:embed="rId2"/>
          <a:stretch/>
        </p:blipFill>
        <p:spPr>
          <a:xfrm>
            <a:off x="285840" y="321480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/>
          <p:cNvPicPr/>
          <p:nvPr/>
        </p:nvPicPr>
        <p:blipFill>
          <a:blip r:embed="rId3"/>
          <a:stretch/>
        </p:blipFill>
        <p:spPr>
          <a:xfrm>
            <a:off x="428760" y="785880"/>
            <a:ext cx="2786040" cy="221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"/>
          <p:cNvPicPr/>
          <p:nvPr/>
        </p:nvPicPr>
        <p:blipFill>
          <a:blip r:embed="rId4"/>
          <a:stretch/>
        </p:blipFill>
        <p:spPr>
          <a:xfrm>
            <a:off x="3286080" y="785880"/>
            <a:ext cx="2571840" cy="221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"/>
          <p:cNvPicPr/>
          <p:nvPr/>
        </p:nvPicPr>
        <p:blipFill>
          <a:blip r:embed="rId5"/>
          <a:stretch/>
        </p:blipFill>
        <p:spPr>
          <a:xfrm>
            <a:off x="6072120" y="785880"/>
            <a:ext cx="26193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http://website.nbm-mnb.ca/mycologywebpages/NaturalHistoryOfFungi/Illustrations/AchlyaSporangia.jpg"/>
          <p:cNvPicPr/>
          <p:nvPr/>
        </p:nvPicPr>
        <p:blipFill>
          <a:blip r:embed="rId1"/>
          <a:stretch/>
        </p:blipFill>
        <p:spPr>
          <a:xfrm>
            <a:off x="2857680" y="3571920"/>
            <a:ext cx="4214520" cy="3143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s://encrypted-tbn1.gstatic.com/images?q=tbn:ANd9GcRGt32LOWB_cz4iJs3bzPbwuSX7YwEqv1F6rvzn8wrqk6cN9fLi"/>
          <p:cNvPicPr/>
          <p:nvPr/>
        </p:nvPicPr>
        <p:blipFill>
          <a:blip r:embed="rId2"/>
          <a:stretch/>
        </p:blipFill>
        <p:spPr>
          <a:xfrm>
            <a:off x="571680" y="714240"/>
            <a:ext cx="383832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website.nbm-mnb.ca/mycologywebpages/Moulds/Illustrations/Oomycota_drawing.jpg"/>
          <p:cNvPicPr/>
          <p:nvPr/>
        </p:nvPicPr>
        <p:blipFill>
          <a:blip r:embed="rId3"/>
          <a:stretch/>
        </p:blipFill>
        <p:spPr>
          <a:xfrm>
            <a:off x="4572000" y="714240"/>
            <a:ext cx="3924360" cy="2590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603000" y="142920"/>
            <a:ext cx="58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[Diplantism and Internal proliferation ]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285840" y="285840"/>
            <a:ext cx="8715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357120" y="58320"/>
            <a:ext cx="82868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Order2-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eronospora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هي أرقى رتب الفطريات البيضية ، منها أنواع مائية وأخرى أرضية ، وأغلبها اجباري التطفل على النبات مسبباً كثيراً من الأمراض ، وغزلها الفطري أثناء التطفل إما أن يكون خارج الخلايا ويرسل ممصات ويعرف باس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cellular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و يكون داخل الخلايا ويعرف بـــــ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cellular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وتضم هذه الرتبة ثلاث عائلات مهمة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وهي 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ronosporaceae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buginace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thiace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72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214200" y="343800"/>
            <a:ext cx="87170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Family : Pythiacea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mily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ythiaceae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متاز هذه الفصيلة بأن معظمها مترمم أو اختياري التطفل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مكن زراعتها على بيئات صناعية بالمعمل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تطفل منها يسبب أمراض خطيرة للنباتات الزهرية مثل مرض موت الباذرات "الخناق"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ping off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ُكون أكياس جرثومية هوائية ، ولا تتميز الحوامل الجرثومية عن الغزل الفطري في الشكل ، ويكون تفرعها ثنائي المحور تنتهي بحافظة جرثومية هوائية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عيش الفطر داخل خلايا النبات العائل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cellular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، ونادراً ما يكون بين خلايا النبات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cellular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 أمثلته 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طر بيثيوم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thium s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، والذي يسبب مرض الخناق للطماطم والخيا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ping off of seedling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r" rtl="1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طر فيتوفيثورا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tophthora s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، الذي يسبب تعفن درنات البطاطس ويطلق عليه مرض "اللفحة المتأخرة"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ato late blight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5:15:45Z</dcterms:created>
  <dc:creator>joice</dc:creator>
  <dc:description/>
  <dc:language>en-US</dc:language>
  <cp:lastModifiedBy>user</cp:lastModifiedBy>
  <dcterms:modified xsi:type="dcterms:W3CDTF">2015-02-22T12:04:11Z</dcterms:modified>
  <cp:revision>157</cp:revision>
  <dc:subject/>
  <dc:title>Fungi and the Mycoses</dc:title>
</cp:coreProperties>
</file>