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97A3-2E2D-4CE2-B0D0-803A83C42A56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6D8E-A3E4-4291-907A-24B76CF2DE7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F442-9EB4-4AAA-A83A-F4C0765FAF4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9232-CDD4-4F55-84DE-0341EC31E6E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7157-6503-44FE-86D4-332774D8E85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8651-9347-4E44-88D6-7FE4388ADFB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3F9C-FBE3-4A06-B966-5C188E0FC108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BF3C-7D36-4FE1-9336-0999806649C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9A6-4833-4FB2-8851-48C231CE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8A7-1109-4735-85F7-67EE1CCF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25B-1557-4C22-AF12-3060D143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C99E-42CF-4B4E-A48B-4ED0A07A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A729-3BD4-4D81-A54C-250E0329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8F90-097A-4528-9509-15D23D34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B33B-80FE-4E46-8C20-6685ECDA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790C-E0C6-4C70-B868-52CC1DE1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D2DB-A835-44B8-9F89-506D1A1D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516C-7ECB-4F5F-8D59-8DE99056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5703-6EC8-4DC9-BC4D-67EC8C14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81C-FD0E-4F24-819B-58383DF4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B8A7-766E-4A6D-9B2C-B6315AF2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197D-C1BE-4A1D-8B82-132E54FE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E412-149E-4524-B909-D9EF9B92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A4B7-88FB-4ACC-844D-157D1500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35A8-C62A-4C8B-915B-06A49168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BFA-8F48-410A-8AC2-1A4070C2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E8B-0D21-4418-B7A8-E7613000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41C-6B14-4405-8C8E-10F1168A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2FB-71AD-4CC5-9FD6-1F502266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C17-7183-419E-986E-189B36AA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1FF-BE1D-4F62-9F83-761B03F6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90A-D05A-434A-B452-84815E2E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FE72-8A82-4A28-81CB-540FA247CD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D2A5-CB68-45C8-A91C-AE28AE9447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ar-SA" sz="14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قسم الفطريات السوطية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Division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astigomycota</a:t>
            </a:r>
            <a:br>
              <a:rPr sz="2400"/>
            </a:br>
            <a:r>
              <a:rPr b="0" lang="ar-SA" sz="2000" spc="-1" strike="noStrike" u="sng">
                <a:solidFill>
                  <a:srgbClr val="ff0000"/>
                </a:solidFill>
                <a:uFillTx/>
                <a:latin typeface="Arial"/>
              </a:rPr>
              <a:t>تتميز بقدرتها على إنتاج الأبواغ المتحركة أثناء دورة حياتها وتنقسم طبقاً لعدد الأسواط المتكونة إلى :</a:t>
            </a:r>
            <a:br>
              <a:rPr sz="2400"/>
            </a:br>
            <a:r>
              <a:rPr b="0" lang="ar-SA" sz="1400" spc="-1" strike="noStrike">
                <a:solidFill>
                  <a:srgbClr val="ffcc66"/>
                </a:solidFill>
                <a:latin typeface="Arial"/>
              </a:rPr>
              <a:t> 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قسيم الفطريات أحادية السوط  (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ub div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; (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aplomastigomycotina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2400"/>
            </a:br>
            <a:br>
              <a:rPr sz="1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 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lass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-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hytridiomycetes</a:t>
            </a:r>
            <a:br>
              <a:rPr sz="2400"/>
            </a:b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Synchtrium endobioticum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الذي يسبب التثألل الأسود للبطاطس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lack wart dis.</a:t>
            </a:r>
            <a:br>
              <a:rPr sz="2400"/>
            </a:b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lass</a:t>
            </a:r>
            <a:r>
              <a:rPr b="0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-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yphochytridiomycetes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    (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ْ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X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br>
              <a:rPr sz="2400"/>
            </a:b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lass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-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lasmodiophoromycetes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lasmodiophora brassica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الذي يسبب مرض الجذر الصولجاني للكرن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lb root dis </a:t>
            </a:r>
            <a:br>
              <a:rPr sz="2000"/>
            </a:br>
            <a:br>
              <a:rPr sz="1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-2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  <a:cs typeface="Times New Roman"/>
              </a:rPr>
              <a:t>قسيم الفطريات ثنائية السوط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ub div;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plomastigomycotina</a:t>
            </a:r>
            <a:br>
              <a:rPr sz="20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ويضم هذا القسيم طائفة واحدة هي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omycete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imes New Roman"/>
              </a:rPr>
              <a:t>وتضم هذه الطائفة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رتب أهمها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br>
              <a:rPr sz="2000"/>
            </a:b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prolegnia s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)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rder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-  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aprolegniales</a:t>
            </a:r>
            <a:br>
              <a:rPr sz="2000"/>
            </a:br>
            <a:r>
              <a:rPr b="1" i="1" lang="ar-SA" sz="2000" spc="-1" strike="noStrike">
                <a:solidFill>
                  <a:srgbClr val="ffcc66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rder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eronosporales</a:t>
            </a:r>
            <a:br>
              <a:rPr sz="2400"/>
            </a:b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وتضم هذه الرتبة ثلاث عائلات مهمة هي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amily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eronosporaceae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lasmopara viticola, Peronospora, Bremia)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amily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ythiaceae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ythium sp. Phytophthora sp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.)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amily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8064a2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lbuginaceae 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bugo candida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400"/>
            </a:br>
            <a:br>
              <a:rPr sz="2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8763120" y="228600"/>
            <a:ext cx="2379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cs"/>
              </a:rPr>
              <a:t>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cs"/>
              <a:ea typeface="+mn-c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285840" y="163800"/>
            <a:ext cx="850104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buginaceae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مثال: فطر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bugo candida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i="1" lang="ar-S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الذي يسبب مرض (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te rust dis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1" i="1" lang="ar-S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لنبات الرجله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إجبارية التطفل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لا يمكن زراعتها على بيئات صناعي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تسبب أمراض تعرف بـــ "الصدأ الأبيض"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te Rust Diseas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، حيث يكون الفطر مساحات بيضاء لامعة على أوراق النبات المصاب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تتميز أفراد هذه الفصيلة بأنها تكون كونيدات لا هوائية حيث تتشكل الحوامل الجرثومية تحت بشرة النبات المصاب ، ويحمل كل حامل جرثومي سلسلة من الكونيدات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ينمو الفطر في المسافات البينية لخلايا العائل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cellular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يرسل الفطر ممصات مستديرة أو بيضية الشكل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ustor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و تضم جنس واحد وهو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lbugo candi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الذي يسبب مرض الصدأ الأبيض لنبات اللفت والرجلة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72320" cy="65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مثال : فطر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lbugo candida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الذي يسبب مرض الصدأ الابيض للرجلة واللفت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ite rust dise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br>
              <a:rPr sz="1400"/>
            </a:br>
            <a:br>
              <a:rPr sz="2400"/>
            </a:br>
            <a:br>
              <a:rPr sz="2800"/>
            </a:b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Picture 8" descr="http://floreduquebec.ca/medias/cardamine_diphylla/cardamine_diphylla_6.jpg"/>
          <p:cNvPicPr/>
          <p:nvPr/>
        </p:nvPicPr>
        <p:blipFill>
          <a:blip r:embed="rId1"/>
          <a:stretch/>
        </p:blipFill>
        <p:spPr>
          <a:xfrm>
            <a:off x="428760" y="1428840"/>
            <a:ext cx="4000320" cy="257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ttps://encrypted-tbn2.gstatic.com/images?q=tbn:ANd9GcQIg54yymTuMKMeu8bwTOR172EixSo9LRRP7nZUunF6y_46Gu0x"/>
          <p:cNvPicPr/>
          <p:nvPr/>
        </p:nvPicPr>
        <p:blipFill>
          <a:blip r:embed="rId2"/>
          <a:stretch/>
        </p:blipFill>
        <p:spPr>
          <a:xfrm>
            <a:off x="4500720" y="1428840"/>
            <a:ext cx="4000320" cy="2528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http://biodidac.bio.uottawa.ca/ftp/biodidac/fungii/deuterom/photo/deut001p.gif"/>
          <p:cNvPicPr/>
          <p:nvPr/>
        </p:nvPicPr>
        <p:blipFill>
          <a:blip r:embed="rId3"/>
          <a:stretch/>
        </p:blipFill>
        <p:spPr>
          <a:xfrm>
            <a:off x="500040" y="407196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http://media.padil.gov.au/Species/142959/50817-large.jpg"/>
          <p:cNvPicPr/>
          <p:nvPr/>
        </p:nvPicPr>
        <p:blipFill>
          <a:blip r:embed="rId4"/>
          <a:stretch/>
        </p:blipFill>
        <p:spPr>
          <a:xfrm>
            <a:off x="4500720" y="4000680"/>
            <a:ext cx="40003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Rectangle 25"/>
          <p:cNvSpPr/>
          <p:nvPr/>
        </p:nvSpPr>
        <p:spPr>
          <a:xfrm>
            <a:off x="285840" y="-415800"/>
            <a:ext cx="8501040" cy="77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vision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stigomycota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لاسوط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تتباين هذة الفطريات في معيشتها فالبعض اجباري التطفل والاخر اختياري التطفل مسببا امراض للنبات والكثير منها مترمم بالتربة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تضم مجموعة ضخمة من الفطريات التي تتباين في اشكالها واحجامها فالبعض منها مجهري وحيد الخلية كالخمائر والاخر فطريات عديدة الخلايا كبيرة الحجم تري بالعين المجردة كفطريات المشروم والعرجون والفجع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التكاثر اللاجنسي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من خلال : (تجزأ الميسليوم – التبرعم- تكوين الابواغ 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التكاثر الجنسي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تلجأ الفطريات للتكاثر الجنسي عند تغيير الظروف البيئية الغير مواتية للنمو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**يتم التكاثر الجنسي من خلال تكوين ابواغ جنسية مختلفة الشكل والتركيب وتقسم الفطريات اللاسوطية من خلال ذلك الي اربعة قسيمات: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, Zygomycetes (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تكون ابواغ زيجوية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: Ascomycetes (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تكون ابواغ زقيـة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(تكون ابواغ بازيدية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; Basidiomycet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; Deuteromyces (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لاتكون جراثيم جنســية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285840" y="-402120"/>
            <a:ext cx="8501040" cy="74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Zygomycetes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زيجو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عدم احتوائها علي ابواغ سابحة في دورة حياتها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خلو غزلها الفطري من الجدر المستعرضة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enocytic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التكاثر اللاجنسي 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من خلال : (تجزأ الميسليوم –  تكوين الابواغ كالجراثيم الحافظية )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التكاثر الجنسي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**يتم التكاثر الجنسي من خلال تكوين التزواج بين حوافظ جرثومية متشابهة في الشكل والحجم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*** تضم هذة الطائفة من الفطريات ثلاث رتب هي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: Mucorale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تعرف افرادها باسم 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lack mold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-  ومن امثلتها فطري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uc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p &amp;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hizop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p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الت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كاثر الجنسي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من خلال الجراثيم التزواجية وافرادها اما ان تكون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mothallic or Heterothallic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omophthorales (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أغلبها مترمم والبعض منها متطفل علي الحشرات مسببة لها الامرض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xxx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opagale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1097640" y="21420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ucor  sp. and Rhizopus 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10" descr="http://www.inspq.qc.ca/moisissures/photos/Absidia_corymbifera-1.jpg"/>
          <p:cNvPicPr/>
          <p:nvPr/>
        </p:nvPicPr>
        <p:blipFill>
          <a:blip r:embed="rId1"/>
          <a:stretch/>
        </p:blipFill>
        <p:spPr>
          <a:xfrm>
            <a:off x="357120" y="78588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http://openi.nlm.nih.gov/imgs/512/166/3507312/3507312_IJM-4-210-g004.png"/>
          <p:cNvPicPr/>
          <p:nvPr/>
        </p:nvPicPr>
        <p:blipFill>
          <a:blip r:embed="rId2"/>
          <a:stretch/>
        </p:blipFill>
        <p:spPr>
          <a:xfrm>
            <a:off x="4500720" y="857160"/>
            <a:ext cx="4000320" cy="2786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http://www.mycology.adelaide.edu.au/gallery/zygomycetes/rhizopus2.gif"/>
          <p:cNvPicPr/>
          <p:nvPr/>
        </p:nvPicPr>
        <p:blipFill>
          <a:blip r:embed="rId3"/>
          <a:stretch/>
        </p:blipFill>
        <p:spPr>
          <a:xfrm>
            <a:off x="357120" y="3857760"/>
            <a:ext cx="4071960" cy="2633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http://fc06.deviantart.net/fs50/i/2009/315/a/9/Mucor_mucedo_by_VerdeVerano7.jpg"/>
          <p:cNvPicPr/>
          <p:nvPr/>
        </p:nvPicPr>
        <p:blipFill>
          <a:blip r:embed="rId4"/>
          <a:stretch/>
        </p:blipFill>
        <p:spPr>
          <a:xfrm>
            <a:off x="4543560" y="3786120"/>
            <a:ext cx="3913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A:\Thanks.GIF"/>
          <p:cNvPicPr/>
          <p:nvPr/>
        </p:nvPicPr>
        <p:blipFill>
          <a:blip r:embed="rId1"/>
          <a:stretch/>
        </p:blipFill>
        <p:spPr>
          <a:xfrm>
            <a:off x="5183280" y="3890880"/>
            <a:ext cx="34272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4-10-27T09:36:25Z</dcterms:modified>
  <cp:revision>176</cp:revision>
  <dc:subject/>
  <dc:title>Fungi and the Mycoses</dc:title>
</cp:coreProperties>
</file>