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CA8-DB6C-44F7-A956-6849B757FE3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960C-6A63-4157-A93F-26C90365C5A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0F9-E347-4451-B118-82E9E4E503F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7E1A-925D-4039-B128-EF7E53EBE2E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3EE-231D-46D5-9535-2573C079B34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995-45D3-400C-A9C1-D29ADA3D324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77B-D78E-40C0-B55F-8FA52AA8473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F733-537D-4BA2-8426-6458ECB7E49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D44-5BC4-4133-955D-1C93E29E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FE1-BB3E-460E-980E-C13F834F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26C-8464-4ABC-AB13-57B65EB5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B17-7822-4335-B03F-F1F89E02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9DAE-C0A9-424F-81DD-20BF980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D4B2-6B9E-4D78-9AE1-3B346A6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0FA6-9C90-4F2F-9F58-82C3A38D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C2E1-20AF-467D-AA11-0DDA848F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12D-9414-4923-A37D-C1352113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7F56-81ED-416E-89A2-5F6465C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A170-7B6B-4EDC-B65E-D967CA2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568-992E-4057-9EA4-629DCEA3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D57-C27F-4179-A87F-7543E3BB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91B-6C4D-458F-A5D6-31FF736F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34DB-6AF2-4FC9-8127-64C9069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6A59-4116-4C82-ADA1-6BFB8C5F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A9DF-19EE-4466-8F78-1CFA7CA3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EAE-701B-4DD7-8597-23C63F5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723-084B-4E40-877C-362D81E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DD2-FFF9-414D-89E8-BF9B762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D36-C799-4428-9A9F-ED04B73B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607-F914-4867-A36F-76705AC3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B69-4875-45A5-83B2-95DED1F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5F2-5877-406F-A425-9248899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1AE5-F5F1-4AFB-BF4F-B2A1A919C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E654-FC3E-4C2A-BE2D-3A3640D48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قسم الفطريات السوطية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vision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stigomycota</a:t>
            </a:r>
            <a:br>
              <a:rPr sz="2400"/>
            </a:b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تتميز بقدرتها على إنتاج الأبواغ المتحركة أثناء دورة حياتها وتنقسم طبقاً لعدد الأسواط المتكونة إلى :</a:t>
            </a:r>
            <a:br>
              <a:rPr sz="2400"/>
            </a:br>
            <a:r>
              <a:rPr b="0" lang="ar-SA" sz="1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قسيم الفطريات أحادية السوط 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b div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; (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aplomastigomycotina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hytridiomycetes</a:t>
            </a:r>
            <a:br>
              <a:rPr sz="24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ynchtrium endobioticum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لذي يسبب التثألل الأسود للبطاطس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lack wart dis.</a:t>
            </a: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yphochytridiomycetes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   (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ْ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X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lasmodiophoromycetes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smodiophora brassica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الذي يسبب مرض الجذر الصولجاني للكرن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lb root dis </a:t>
            </a:r>
            <a:br>
              <a:rPr sz="2000"/>
            </a:br>
            <a:br>
              <a:rPr sz="1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-2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قسيم الفطريات ثنائية السوط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ub div;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plomastigomycotina</a:t>
            </a:r>
            <a:br>
              <a:rPr sz="20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ويضم هذا القسيم طائفة واحدة هي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omycet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وتضم هذه الطائفة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رتب أهمه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br>
              <a:rPr sz="2000"/>
            </a:b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prolegnia s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)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-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aprolegniales</a:t>
            </a:r>
            <a:br>
              <a:rPr sz="2000"/>
            </a:br>
            <a:r>
              <a:rPr b="1" i="1" lang="ar-SA" sz="2000" spc="-1" strike="noStrike">
                <a:solidFill>
                  <a:srgbClr val="ffcc66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ronosporales</a:t>
            </a:r>
            <a:br>
              <a:rPr sz="2400"/>
            </a:b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وتضم هذه الرتبة ثلاث عائلات مهمة هي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ronosporaceae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smopara viticola, Peronospora, Bremia)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ythiacea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ythium sp. Phytophthora sp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)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8064a2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lbuginaceae 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bugo candida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85840" y="163800"/>
            <a:ext cx="850104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buginacea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ثال: فطر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bugo candida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الذي يسبب مرض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te rust dis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1" i="1" lang="ar-S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لنبات الرجله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إجبارية التطفل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لا يمكن زراعتها على بيئات صناع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تسبب أمراض تعرف بـــ "الصدأ الأبيض"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te Rust Diseas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حيث يكون الفطر مساحات بيضاء لامعة على أوراق النبات المصاب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تتميز أفراد هذه الفصيلة بأنها تكون كونيدات لا هوائية حيث تتشكل الحوامل الجرثومية تحت بشرة النبات المصاب ، ويحمل كل حامل جرثومي سلسلة من الكونيدات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ينمو الفطر في المسافات البينية لخلايا العائ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يرسل الفطر ممصات مستديرة أو بيضية الشك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usto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و تضم جنس واحد وه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bugo candi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الذي يسبب مرض الصدأ الأبيض لنبات اللفت والرجل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مثال : فطر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lbugo candida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الذي يسبب مرض الصدأ الابيض للرجلة واللفت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te rust dise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1400"/>
            </a:br>
            <a:br>
              <a:rPr sz="2400"/>
            </a:br>
            <a:br>
              <a:rPr sz="2800"/>
            </a:b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Picture 8" descr="http://floreduquebec.ca/medias/cardamine_diphylla/cardamine_diphylla_6.jpg"/>
          <p:cNvPicPr/>
          <p:nvPr/>
        </p:nvPicPr>
        <p:blipFill>
          <a:blip r:embed="rId1"/>
          <a:stretch/>
        </p:blipFill>
        <p:spPr>
          <a:xfrm>
            <a:off x="428760" y="1428840"/>
            <a:ext cx="400032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s://encrypted-tbn2.gstatic.com/images?q=tbn:ANd9GcQIg54yymTuMKMeu8bwTOR172EixSo9LRRP7nZUunF6y_46Gu0x"/>
          <p:cNvPicPr/>
          <p:nvPr/>
        </p:nvPicPr>
        <p:blipFill>
          <a:blip r:embed="rId2"/>
          <a:stretch/>
        </p:blipFill>
        <p:spPr>
          <a:xfrm>
            <a:off x="4500720" y="1428840"/>
            <a:ext cx="4000320" cy="252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biodidac.bio.uottawa.ca/ftp/biodidac/fungii/deuterom/photo/deut001p.gif"/>
          <p:cNvPicPr/>
          <p:nvPr/>
        </p:nvPicPr>
        <p:blipFill>
          <a:blip r:embed="rId3"/>
          <a:stretch/>
        </p:blipFill>
        <p:spPr>
          <a:xfrm>
            <a:off x="500040" y="407196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http://media.padil.gov.au/Species/142959/50817-large.jpg"/>
          <p:cNvPicPr/>
          <p:nvPr/>
        </p:nvPicPr>
        <p:blipFill>
          <a:blip r:embed="rId4"/>
          <a:stretch/>
        </p:blipFill>
        <p:spPr>
          <a:xfrm>
            <a:off x="4500720" y="4000680"/>
            <a:ext cx="4000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285840" y="-415800"/>
            <a:ext cx="8501040" cy="77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تتباين هذة الفطريات في معيشتها فالبعض اجباري التطفل والاخر اختياري التطفل مسببا امراض للنبات والكثير منها مترمم بالترب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تضم مجموعة ضخمة من الفطريات التي تتباين في اشكالها واحجامها فالبعض منها مجهري وحيد الخلية كالخمائر والاخر فطريات عديدة الخلايا كبيرة الحجم تري بالعين المجردة كفطريات المشروم والعرجون والفجع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تكاثر اللاجنسي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خلال : (تجزأ الميسليوم – التبرعم- تكوين الابواغ 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لجأ الفطريات للتكاثر الجنسي عند تغيير الظروف البيئية الغير مواتية للنمو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**يتم التكاثر الجنسي من خلال تكوين ابواغ جنسية مختلفة الشكل والتركيب وتقسم الفطريات اللاسوطية من خلال ذلك الي اربعة قسيمات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 Zygomycetes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كون ابواغ زيجوي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: Ascomycetes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(تكون ابواغ بازيدية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; Basidiomyce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; Deuteromyces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لاتكون جراثيم جنســي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285840" y="-402120"/>
            <a:ext cx="8501040" cy="74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ygomycetes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يجو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عدم احتوائها علي ابواغ سابحة في دورة حياتها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خلو غزلها الفطري من الجدر المستعرض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enocytic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تكاثر اللاجنسي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 خلال : (تجزأ الميسليوم –  تكوين الابواغ كالجراثيم الحافظية 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**يتم التكاثر الجنسي من خلال تكوين التزواج بين حوافظ جرثومية متشابهة في الشكل والحجم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*** تضم هذة الطائفة من الفطريات ثلاث رتب هي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Mucorale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عرف افرادها باسم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lack mold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-  ومن امثلتها فطري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uc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 &amp;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hizop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ت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كاثر الجنسي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 خلال الجراثيم التزواجية وافرادها اما ان تكو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mothallic or Heterothallic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omophthorales (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غلبها مترمم والبعض منها متطفل علي الحشرات مسببة لها الامرض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opagal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1097640" y="21420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cor  sp. and Rhizopus 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10" descr="http://www.inspq.qc.ca/moisissures/photos/Absidia_corymbifera-1.jpg"/>
          <p:cNvPicPr/>
          <p:nvPr/>
        </p:nvPicPr>
        <p:blipFill>
          <a:blip r:embed="rId1"/>
          <a:stretch/>
        </p:blipFill>
        <p:spPr>
          <a:xfrm>
            <a:off x="357120" y="7858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openi.nlm.nih.gov/imgs/512/166/3507312/3507312_IJM-4-210-g004.png"/>
          <p:cNvPicPr/>
          <p:nvPr/>
        </p:nvPicPr>
        <p:blipFill>
          <a:blip r:embed="rId2"/>
          <a:stretch/>
        </p:blipFill>
        <p:spPr>
          <a:xfrm>
            <a:off x="4500720" y="857160"/>
            <a:ext cx="4000320" cy="278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www.mycology.adelaide.edu.au/gallery/zygomycetes/rhizopus2.gif"/>
          <p:cNvPicPr/>
          <p:nvPr/>
        </p:nvPicPr>
        <p:blipFill>
          <a:blip r:embed="rId3"/>
          <a:stretch/>
        </p:blipFill>
        <p:spPr>
          <a:xfrm>
            <a:off x="357120" y="3857760"/>
            <a:ext cx="4071960" cy="263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fc06.deviantart.net/fs50/i/2009/315/a/9/Mucor_mucedo_by_VerdeVerano7.jpg"/>
          <p:cNvPicPr/>
          <p:nvPr/>
        </p:nvPicPr>
        <p:blipFill>
          <a:blip r:embed="rId4"/>
          <a:stretch/>
        </p:blipFill>
        <p:spPr>
          <a:xfrm>
            <a:off x="4543560" y="3786120"/>
            <a:ext cx="3913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0-27T09:36:25Z</dcterms:modified>
  <cp:revision>176</cp:revision>
  <dc:subject/>
  <dc:title>Fungi and the Mycoses</dc:title>
</cp:coreProperties>
</file>