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BE64-6463-4801-9D1E-64674F6583C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8ECC-0022-410F-BD41-677DD0F1039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8AC5-10F0-43C7-AA38-9C1225E282A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92F6-A782-437C-A8C9-301BEF59B90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53B-339B-4E55-B2C2-0DC3E635BDA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D86-8A67-4899-8189-AAFDD0A0F0C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7E8E-BA05-43DB-BC2B-A4540F1645E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2CC3-7296-41B2-8930-AFEC8163EAF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C539-6A2D-472B-A14F-D4CE3A492CB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116-B30F-4E47-858F-7A54BE21E94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6C79-BE9F-4F5F-B914-003BB511FC0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E93-3534-42A6-A522-58E93F006D4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A428-9D1C-434F-9BD0-EA85ED7867F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1FB-4BE3-42E9-B6D0-F331AE0E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E44-A33D-4D04-96AF-2B83E264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F92-2C58-4FDE-951C-E4451AAF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CB5-6113-481D-B92A-B32760A7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0DDE-AF3C-4C9B-BBBD-8F79CA14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91F3-2933-4953-BC4E-2A83EE7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7EA1-6563-4D76-A32E-DC4C017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211-A576-4301-80F9-B600B616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2809-6397-4AF5-B44D-5064D39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C984-59D6-4A0C-9502-752C7A72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9F6-29B6-4650-AF03-728EC3DC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699-AF46-4E92-A01E-5A55AED0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D981-B3A9-44DD-BAE1-82B78C5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E461-DCE2-425A-A0D3-5D74C17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273B-BC57-43F0-9826-25B0F57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FFC-B429-4838-96FE-52C0C72E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D034-616F-45A9-A485-AF3A9D48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F5D-90BC-40C6-B9B7-04E1CDA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1BB-C669-491D-84F0-C4BB9DE7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6F8-BB41-4F7E-ACF1-E4AF8305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42B-07D3-4ED3-A09F-DEFFF620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3C0-DB76-44D3-A776-BC47354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6E2-1A1A-441F-84A1-2D492C8E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822-74A4-4E68-ABCF-D012342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F976-78A2-48EE-BB23-F5BCDFA08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5D4-40B7-4535-8EF7-74F91C24F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285840" y="-81720"/>
            <a:ext cx="85010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تتباين في قدرتها على إنتاج الأبواغ الجنسية حيث يكون اغلبها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بواغ جنسية مختلفة الشكل والتركيب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أثناء دورة حياتها وتنقسم طبقاً لنوع وشكل هذة الابواغ المتكونة إلى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ربعة قسيمات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Zygomycet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يجوي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Ascomycet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(تكون ابواغ بازيدية)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Basidi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 Deuteromyc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لاتكون جراثيم جنســي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85840" y="21816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285840" y="656640"/>
            <a:ext cx="835812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raditional Arabic"/>
                <a:cs typeface="Arial"/>
              </a:rPr>
              <a:t>تصنيف الفطريات الزقية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تصنف الفطريات الزقية طبقاً لعدد من الصفات هي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1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إذا كانت الأكياس الزقية </a:t>
            </a:r>
            <a:r>
              <a:rPr b="0" lang="en-US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Asci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 عارية أو تنتظم داخل ثمار زق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شكل وطبيعة الثمار الزقية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Ascocarp</a:t>
            </a:r>
            <a:r>
              <a:rPr b="0" lang="en-US" sz="2800" spc="-1" strike="noStrike">
                <a:solidFill>
                  <a:srgbClr val="ffffff"/>
                </a:solidFill>
                <a:latin typeface="Traditional Arabic"/>
                <a:ea typeface="Arial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: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Cleistothecia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Perithecia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Apot</a:t>
            </a:r>
            <a:r>
              <a:rPr b="0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hec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3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طبيعة الجدار في الثمرة الزقية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4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نوعية الأكياس الزقية من حيث التقسيم (مقسم أو غير مقسم) ، الجدار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Uni or Bi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والشكل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Cylinderical , Clavate , Ovate , Globose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5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وجود أو عدم وجود الشعيرات العقيمة (</a:t>
            </a:r>
            <a:r>
              <a:rPr b="0" lang="en-US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Paraphysis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)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6" name="Picture 2" descr="https://c2.staticflickr.com/8/7217/7343355860_079dd7f243_z.jpg"/>
          <p:cNvPicPr/>
          <p:nvPr/>
        </p:nvPicPr>
        <p:blipFill>
          <a:blip r:embed="rId1"/>
          <a:stretch/>
        </p:blipFill>
        <p:spPr>
          <a:xfrm>
            <a:off x="357120" y="157176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s://c2.staticflickr.com/6/5144/5630067890_804e515066_z.jpg"/>
          <p:cNvPicPr/>
          <p:nvPr/>
        </p:nvPicPr>
        <p:blipFill>
          <a:blip r:embed="rId2"/>
          <a:stretch/>
        </p:blipFill>
        <p:spPr>
          <a:xfrm>
            <a:off x="4857840" y="1571760"/>
            <a:ext cx="4071960" cy="3257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847440" y="57168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raditional Arabic"/>
                <a:ea typeface="Arial"/>
              </a:rPr>
              <a:t>Paraphysis and Ascu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85840" y="-294480"/>
            <a:ext cx="8501040" cy="75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lass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3200" spc="-1" strike="noStrike" u="sng">
                <a:solidFill>
                  <a:srgbClr val="8064a2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comycetes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رف أفراد هذه الطائفة بالفطريات الكيس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c Fung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أن عدد كبير منها يكون جراثيمه الجنسية داخل جراب زِقّي "كيس"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لا تكون ابواغ سابحة اثناء دورة حياتها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 غزلها الفطري  مقسم بجدر مستعرض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ated mycel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*الكثير منها يعيش مترمم والبعض متطفل مسبباً أمراض خطيرة للنبات مثل فط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viceps Purpur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الآرجوت 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نبات القمح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**التكاثر اللاجنسي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ويتم إما من خلال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تكوين الكونيدات "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وليس حوافظ جرثومية كمافي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Zygomycetes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” أو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من خلال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تجزأ الميسيليوم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أو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بالتبرعم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كما في الخمائر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. ومن الممكن أن تنشأ الكونيدات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على حوامل كونيدية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nidiophores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 على أجزاء متفرقة من الميسيليوم كما في فطر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البنسيليوم 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00"/>
                </a:solidFill>
                <a:latin typeface="Times New Roman"/>
              </a:rPr>
              <a:t>Penicilliu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 sp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أو تنشأ داخل تراكيب خاصة تعرف بالوعاء البكنيدي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Pycnium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وهو دورقي الشكل وتعرف الجراثيم في هذه الحالة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بالأبواغ البكنيدية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Pycnidiospore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،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أو تنشأ في تركيب طبقي يحتوي على وسادة متماسكة من الغزل الفطري تعرف بـــ أسيرفيوله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ac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vula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(راجع المحاضرة (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انواع الجراثيم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2" descr="C:\vack-up\unfiled\minew\backup\book_program_pictures\pic2\c1\1-14.jpg"/>
          <p:cNvPicPr/>
          <p:nvPr/>
        </p:nvPicPr>
        <p:blipFill>
          <a:blip r:embed="rId1"/>
          <a:stretch/>
        </p:blipFill>
        <p:spPr>
          <a:xfrm>
            <a:off x="3214800" y="214308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WINDOWS\Desktop\1-15.jpg"/>
          <p:cNvPicPr/>
          <p:nvPr/>
        </p:nvPicPr>
        <p:blipFill>
          <a:blip r:embed="rId2"/>
          <a:stretch/>
        </p:blipFill>
        <p:spPr>
          <a:xfrm>
            <a:off x="285840" y="214308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mikrohamburg.de/MonatsBild/Bild2.jpg"/>
          <p:cNvPicPr/>
          <p:nvPr/>
        </p:nvPicPr>
        <p:blipFill>
          <a:blip r:embed="rId3"/>
          <a:stretch/>
        </p:blipFill>
        <p:spPr>
          <a:xfrm>
            <a:off x="6072120" y="214308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215040" y="56437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ycnidium and Pycnidiospor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4120" y="550080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40160" y="107172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28760" y="785880"/>
            <a:ext cx="814392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4" descr="https://encrypted-tbn3.gstatic.com/images?q=tbn:ANd9GcSGtKx31zqn6iV-9uSWziHmu0pReL0Agwo5pV-an93AccVVet3Z"/>
          <p:cNvPicPr/>
          <p:nvPr/>
        </p:nvPicPr>
        <p:blipFill>
          <a:blip r:embed="rId1"/>
          <a:stretch/>
        </p:blipFill>
        <p:spPr>
          <a:xfrm>
            <a:off x="4714920" y="1500120"/>
            <a:ext cx="357192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cals.ncsu.edu/course/pp318/profiles_mirror/deuteromycetes/072717.jpg"/>
          <p:cNvPicPr/>
          <p:nvPr/>
        </p:nvPicPr>
        <p:blipFill>
          <a:blip r:embed="rId2"/>
          <a:stretch/>
        </p:blipFill>
        <p:spPr>
          <a:xfrm>
            <a:off x="1214280" y="1500120"/>
            <a:ext cx="3286440" cy="3143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8880" y="542916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الاسيرفيوله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Acervule]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285840" y="-121680"/>
            <a:ext cx="850104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تكاثر الجنسي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تميز طائف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omycete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بوجود أعضاء تناسلية مميزة كالأسجون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ogon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الذي يمثل العضو المؤنث ، والانثريديم 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hrid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" الذي يمثل العضو المذكر ، حيث تنتقل أنوية الأنثريدة من خلال الشعيرة الأنثوية إلى داخل الأسكوجونة ، ثم تنقسم أنوية الأنثريدة وأنوية الأسكوجونة ثم يحدث اندماج "إخصاب" ، تنقسم بعده الأنوية مرة أخرى إلى عدد زوجي من الأنوية ، والتي تشكل الجراثيم الأسكية ، ثم تكون الأسكوجونة الخيوط المولدة للأكياس الزقي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i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 والتي تهاجر إلى داخلها الجراثيم الأسكي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osp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والأكياس الزقية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sci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تتباين في شكلها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قد تكون أسطوان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linderic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مغزل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ava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بيض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vo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كرو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obose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كما تحاط هذه الاكياس باغلفه وتقسم طبقا لذلك الي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أكياس زقية أحادية الغلاف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unicate asci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اكياس زقية ثنائية الغلاف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tunicate asci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والبعض منهم مقسم بجدر عرض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ptated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والآخر غير مقسم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nseptated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571680" y="100008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ife cycle and types of  (Ascu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6" descr="https://encrypted-tbn3.gstatic.com/images?q=tbn:ANd9GcSgmbzDQQhT875M5xXZr51saxIvNrhTWpwOfkXgJ8t3kl4nMoqh"/>
          <p:cNvPicPr/>
          <p:nvPr/>
        </p:nvPicPr>
        <p:blipFill>
          <a:blip r:embed="rId1"/>
          <a:stretch/>
        </p:blipFill>
        <p:spPr>
          <a:xfrm>
            <a:off x="857160" y="4429080"/>
            <a:ext cx="2643120" cy="21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s://encrypted-tbn3.gstatic.com/images?q=tbn:ANd9GcRkx1luKWuo5oRt54mLW22qawvp9aQdBbq6XFkfK4gC1RlaK7YI"/>
          <p:cNvPicPr/>
          <p:nvPr/>
        </p:nvPicPr>
        <p:blipFill>
          <a:blip r:embed="rId2"/>
          <a:stretch/>
        </p:blipFill>
        <p:spPr>
          <a:xfrm>
            <a:off x="6000840" y="442908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ww.toxinology.com/generic_static_files/images_generic/MD-fig1H-asci.gif"/>
          <p:cNvPicPr/>
          <p:nvPr/>
        </p:nvPicPr>
        <p:blipFill>
          <a:blip r:embed="rId3"/>
          <a:stretch/>
        </p:blipFill>
        <p:spPr>
          <a:xfrm>
            <a:off x="3714840" y="4429080"/>
            <a:ext cx="2071440" cy="20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9" descr="http://biology.clc.uc.edu/fankhauser/classes/Bio_102/Bio_102_lectures/ascomycetes.jpg"/>
          <p:cNvPicPr/>
          <p:nvPr/>
        </p:nvPicPr>
        <p:blipFill>
          <a:blip r:embed="rId4"/>
          <a:stretch/>
        </p:blipFill>
        <p:spPr>
          <a:xfrm>
            <a:off x="2286000" y="214200"/>
            <a:ext cx="4714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1073520" y="2142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ypes of  (Ascu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14" descr="http://website.nbm-mnb.ca/mycologywebpages/NaturalHistoryOfFungi/Illustrations/Zopfia_rhizophilaAsci.jpg"/>
          <p:cNvPicPr/>
          <p:nvPr/>
        </p:nvPicPr>
        <p:blipFill>
          <a:blip r:embed="rId1"/>
          <a:stretch/>
        </p:blipFill>
        <p:spPr>
          <a:xfrm>
            <a:off x="2357280" y="4071960"/>
            <a:ext cx="300060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http://www.thebls.org.uk/sites/default/files/images/Collema%20bachmanianum%20(PLS)%20red.jpg"/>
          <p:cNvPicPr/>
          <p:nvPr/>
        </p:nvPicPr>
        <p:blipFill>
          <a:blip r:embed="rId2"/>
          <a:stretch/>
        </p:blipFill>
        <p:spPr>
          <a:xfrm>
            <a:off x="2357280" y="857160"/>
            <a:ext cx="321480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http://naturalhistory.uga.edu/~GMNH/Mycoherb_Site/what/Sordaria.jpg"/>
          <p:cNvPicPr/>
          <p:nvPr/>
        </p:nvPicPr>
        <p:blipFill>
          <a:blip r:embed="rId3"/>
          <a:stretch/>
        </p:blipFill>
        <p:spPr>
          <a:xfrm>
            <a:off x="214200" y="857160"/>
            <a:ext cx="2086200" cy="578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www.cals.ncsu.edu/course/pp318/profiles_mirror/pm/podosph_c_asco_72.JPG"/>
          <p:cNvPicPr/>
          <p:nvPr/>
        </p:nvPicPr>
        <p:blipFill>
          <a:blip r:embed="rId4"/>
          <a:stretch/>
        </p:blipFill>
        <p:spPr>
          <a:xfrm>
            <a:off x="5643720" y="857160"/>
            <a:ext cx="3500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85840" y="234360"/>
            <a:ext cx="85010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وغالباً ما تحاط الأكياس الزقية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sci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بنسيج مغلف من الخيوط الفطرية مكوناً ما يسمى بالجسم الثمر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scocarp (Fruiting body)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أو الثمرة الزقية ، وهي ثلاثة أنواع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eistothec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رة زقية مغلفة كروية الشكل ليس لها فتحة للخارج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erithec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رة زقية قارورية وهي كمثرية الشكل تفتح بـــ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o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othec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رة زقية قرصية وهي قمعية الشكل معرا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084320" y="214200"/>
            <a:ext cx="50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ypes of  (Ascocarps) Fruiting bod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9" descr="https://encrypted-tbn0.gstatic.com/images?q=tbn:ANd9GcQnRjax9Ym0pFRTH8HIF8P08CXlKgotEa4w63tg855WovSpxRa1"/>
          <p:cNvPicPr/>
          <p:nvPr/>
        </p:nvPicPr>
        <p:blipFill>
          <a:blip r:embed="rId1"/>
          <a:stretch/>
        </p:blipFill>
        <p:spPr>
          <a:xfrm>
            <a:off x="428760" y="1285920"/>
            <a:ext cx="4214520" cy="464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ttp://secure.tutorsglobe.com/CMSImages/7_Ascomycotina.jpg"/>
          <p:cNvPicPr/>
          <p:nvPr/>
        </p:nvPicPr>
        <p:blipFill>
          <a:blip r:embed="rId2"/>
          <a:stretch/>
        </p:blipFill>
        <p:spPr>
          <a:xfrm>
            <a:off x="4786200" y="1285920"/>
            <a:ext cx="3843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06T08:59:37Z</dcterms:modified>
  <cp:revision>203</cp:revision>
  <dc:subject/>
  <dc:title>Fungi and the Mycoses</dc:title>
</cp:coreProperties>
</file>