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8944-74C6-4147-8BF7-ED06A3976E6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806C-5EC2-4044-B4B1-A94E4ABCAED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D3B7-CFA0-480E-A68A-25D5F279335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C8CF-E686-4370-836B-A9E81BEE191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FCBA-B359-4039-9FB6-0909EF8FF18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A9D3-DA51-45C8-9E47-FAAB3878503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4EA7-D7CF-408B-B32C-0815370199A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B291-BAC0-46CA-8221-3B6E8F49D59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45D8-BFE3-416C-807F-40C2097CE07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CDC4-6788-46AD-989E-225F9339A1C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C2A1-531B-40B5-AAF3-1CC4E3AFCD8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9126-BEB1-402A-94FF-676A1C69117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8E85-A196-4E9D-98D7-F45DB93183C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BBE-BB20-4B08-A55B-B7CA3EA0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EA3-9482-42D6-971F-3AF89A4E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D49-1CB1-49A9-8CEA-E59FB690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39E-6173-4EA4-9FB4-0C273AAE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68DB-7ADC-4715-8330-2B126FC2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1439-5776-4536-8A0C-A1E5D7BF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2948-CFAD-4C34-828C-71698379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0696-D147-463F-954D-7FE0FD3D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3A83-BAC3-404E-B9D8-65C93219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4604-F46B-4232-BA48-EB034D4B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2907-0D1A-4F84-90EE-1F1F8CA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C93-903C-4EDF-8EA5-A94DD190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D2EC-8584-4DDF-984C-EB5D497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DC95-DD07-479C-8273-BC185D4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35F8-0095-40F4-BA52-2BAA4399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CFEF-5664-491B-9A37-286698D2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1D4B-404B-4431-97FD-A96F9819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044-16A5-44F1-9608-EC802FE4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514-0234-413E-9B0F-BAE3C75B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368-DF81-4E10-B53D-523FE07C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D94-47F7-4CAF-B8D7-4952A877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4EA-4E0D-4AC3-ABF4-7E3C9811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C21-1385-421C-A566-BE182E16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1FC-DF06-4CAE-B385-DB7E9350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D572-553B-42E9-B539-557859E38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7E24-2303-4DEA-870D-FC2876055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285840" y="-81720"/>
            <a:ext cx="8501040" cy="68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vision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stigomycota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لاسوط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تتباين في قدرتها على إنتاج الأبواغ الجنسية حيث يكون اغلبها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بواغ جنسية مختلفة الشكل والتركيب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 أثناء دورة حياتها وتنقسم طبقاً لنوع وشكل هذة الابواغ المتكونة إلى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اربعة قسيمات: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Zygomycetes (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تكون ابواغ زيجوية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: Ascomycetes (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تكون ابواغ زقيـة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(تكون ابواغ بازيدية)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: Basidiomyce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:  Deuteromyces (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لاتكون جراثيم جنســية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285840" y="218160"/>
            <a:ext cx="8501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285840" y="656640"/>
            <a:ext cx="835812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raditional Arabic"/>
                <a:cs typeface="Arial"/>
              </a:rPr>
              <a:t>تصنيف الفطريات الزقية 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Arial"/>
              </a:rPr>
              <a:t>تصنف الفطريات الزقية طبقاً لعدد من الصفات هي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1</a:t>
            </a: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cs typeface="Arial"/>
              </a:rPr>
              <a:t>إذا كانت الأكياس الزقية </a:t>
            </a:r>
            <a:r>
              <a:rPr b="0" lang="en-US" sz="2400" spc="-1" strike="noStrike">
                <a:solidFill>
                  <a:srgbClr val="ffffff"/>
                </a:solidFill>
                <a:latin typeface="Traditional Arabic"/>
                <a:ea typeface="Arial"/>
              </a:rPr>
              <a:t>Asci</a:t>
            </a: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ea typeface="Arial"/>
              </a:rPr>
              <a:t> عارية أو تنتظم داخل ثمار زق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2</a:t>
            </a: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- 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شكل وطبيعة الثمار الزقية 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Ascocarp</a:t>
            </a:r>
            <a:r>
              <a:rPr b="0" lang="en-US" sz="2800" spc="-1" strike="noStrike">
                <a:solidFill>
                  <a:srgbClr val="ffffff"/>
                </a:solidFill>
                <a:latin typeface="Traditional Arabic"/>
                <a:ea typeface="Arial"/>
              </a:rPr>
              <a:t>)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: 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Cleistothecia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، 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Perithecia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، 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Apot</a:t>
            </a:r>
            <a:r>
              <a:rPr b="0" lang="en-US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hec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3</a:t>
            </a: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cs typeface="Arial"/>
              </a:rPr>
              <a:t>طبيعة الجدار في الثمرة الزقية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4</a:t>
            </a: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نوعية الأكياس الزقية من حيث التقسيم (مقسم أو غير مقسم) ، الجدار (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Uni or Bi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والشكل (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Cylinderical , Clavate , Ovate , Globose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5</a:t>
            </a: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cs typeface="Arial"/>
              </a:rPr>
              <a:t>وجود أو عدم وجود الشعيرات العقيمة (</a:t>
            </a:r>
            <a:r>
              <a:rPr b="0" lang="en-US" sz="2400" spc="-1" strike="noStrike">
                <a:solidFill>
                  <a:srgbClr val="ffffff"/>
                </a:solidFill>
                <a:latin typeface="Traditional Arabic"/>
                <a:ea typeface="Arial"/>
              </a:rPr>
              <a:t>Paraphysis</a:t>
            </a: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ea typeface="Arial"/>
              </a:rPr>
              <a:t>)</a:t>
            </a:r>
            <a:r>
              <a:rPr b="0" lang="ar-SA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6" name="Picture 2" descr="https://c2.staticflickr.com/8/7217/7343355860_079dd7f243_z.jpg"/>
          <p:cNvPicPr/>
          <p:nvPr/>
        </p:nvPicPr>
        <p:blipFill>
          <a:blip r:embed="rId1"/>
          <a:stretch/>
        </p:blipFill>
        <p:spPr>
          <a:xfrm>
            <a:off x="357120" y="1571760"/>
            <a:ext cx="4214880" cy="3214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s://c2.staticflickr.com/6/5144/5630067890_804e515066_z.jpg"/>
          <p:cNvPicPr/>
          <p:nvPr/>
        </p:nvPicPr>
        <p:blipFill>
          <a:blip r:embed="rId2"/>
          <a:stretch/>
        </p:blipFill>
        <p:spPr>
          <a:xfrm>
            <a:off x="4857840" y="1571760"/>
            <a:ext cx="4071960" cy="32572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847440" y="571680"/>
            <a:ext cx="40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raditional Arabic"/>
                <a:ea typeface="Arial"/>
              </a:rPr>
              <a:t>Paraphysis and Ascu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3" descr="A:\Thanks.GIF"/>
          <p:cNvPicPr/>
          <p:nvPr/>
        </p:nvPicPr>
        <p:blipFill>
          <a:blip r:embed="rId1"/>
          <a:stretch/>
        </p:blipFill>
        <p:spPr>
          <a:xfrm>
            <a:off x="5183280" y="3890880"/>
            <a:ext cx="34272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285840" y="-294480"/>
            <a:ext cx="8501040" cy="75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lass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3200" spc="-1" strike="noStrike" u="sng">
                <a:solidFill>
                  <a:srgbClr val="8064a2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scomycetes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زق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عرف أفراد هذه الطائفة بالفطريات الكيس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c Fung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لأن عدد كبير منها يكون جراثيمه الجنسية داخل جراب زِقّي "كيس"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لا تكون ابواغ سابحة اثناء دورة حياتها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 غزلها الفطري  مقسم بجدر مستعرضة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ated myceliu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*الكثير منها يعيش مترمم والبعض متطفل مسبباً أمراض خطيرة للنبات مثل فط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aviceps Purpura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ذي يسبب مرض الآرجوت 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got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لنبات القمح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**التكاثر اللاجنسي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ويتم إما من خلال 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تكوين الكونيدات "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وليس حوافظ جرثومية كمافي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Zygomycetes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” أو 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من خلال 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تجزأ الميسيليوم 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أو 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بالتبرعم 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كما في الخمائر 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. ومن الممكن أن تنشأ الكونيدات 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على حوامل كونيدية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nidiophores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 على أجزاء متفرقة من الميسيليوم كما في فطر 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البنسيليوم 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ffff00"/>
                </a:solidFill>
                <a:latin typeface="Times New Roman"/>
              </a:rPr>
              <a:t>Penicillium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 sp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 أو تنشأ داخل تراكيب خاصة تعرف بالوعاء البكنيدي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Pycnium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وهو دورقي الشكل وتعرف الجراثيم في هذه الحالة 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بالأبواغ البكنيدية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Pycnidiospore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 ، </a:t>
            </a:r>
            <a:r>
              <a:rPr b="0" lang="ar-SA" sz="2300" spc="-1" strike="noStrike">
                <a:solidFill>
                  <a:srgbClr val="ffffff"/>
                </a:solidFill>
                <a:latin typeface="Times New Roman"/>
              </a:rPr>
              <a:t>أو تنشأ في تركيب طبقي يحتوي على وسادة متماسكة من الغزل الفطري تعرف بـــ أسيرفيوله</a:t>
            </a:r>
            <a:r>
              <a:rPr b="0" lang="ar-SA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"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ac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vula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(راجع المحاضرة (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انواع الجراثيم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14200" y="35712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2" descr="C:\vack-up\unfiled\minew\backup\book_program_pictures\pic2\c1\1-14.jpg"/>
          <p:cNvPicPr/>
          <p:nvPr/>
        </p:nvPicPr>
        <p:blipFill>
          <a:blip r:embed="rId1"/>
          <a:stretch/>
        </p:blipFill>
        <p:spPr>
          <a:xfrm>
            <a:off x="3214800" y="2143080"/>
            <a:ext cx="278604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WINDOWS\Desktop\1-15.jpg"/>
          <p:cNvPicPr/>
          <p:nvPr/>
        </p:nvPicPr>
        <p:blipFill>
          <a:blip r:embed="rId2"/>
          <a:stretch/>
        </p:blipFill>
        <p:spPr>
          <a:xfrm>
            <a:off x="285840" y="2143080"/>
            <a:ext cx="285732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www.mikrohamburg.de/MonatsBild/Bild2.jpg"/>
          <p:cNvPicPr/>
          <p:nvPr/>
        </p:nvPicPr>
        <p:blipFill>
          <a:blip r:embed="rId3"/>
          <a:stretch/>
        </p:blipFill>
        <p:spPr>
          <a:xfrm>
            <a:off x="6072120" y="214308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215040" y="564372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ycnidium and Pycnidiospor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54120" y="5500800"/>
            <a:ext cx="235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idiospore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nicillium s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40160" y="1071720"/>
            <a:ext cx="235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idiospore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pergillus s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28760" y="785880"/>
            <a:ext cx="814392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4" descr="https://encrypted-tbn3.gstatic.com/images?q=tbn:ANd9GcSGtKx31zqn6iV-9uSWziHmu0pReL0Agwo5pV-an93AccVVet3Z"/>
          <p:cNvPicPr/>
          <p:nvPr/>
        </p:nvPicPr>
        <p:blipFill>
          <a:blip r:embed="rId1"/>
          <a:stretch/>
        </p:blipFill>
        <p:spPr>
          <a:xfrm>
            <a:off x="4714920" y="1500120"/>
            <a:ext cx="3571920" cy="32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www.cals.ncsu.edu/course/pp318/profiles_mirror/deuteromycetes/072717.jpg"/>
          <p:cNvPicPr/>
          <p:nvPr/>
        </p:nvPicPr>
        <p:blipFill>
          <a:blip r:embed="rId2"/>
          <a:stretch/>
        </p:blipFill>
        <p:spPr>
          <a:xfrm>
            <a:off x="1214280" y="1500120"/>
            <a:ext cx="3286440" cy="3143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38880" y="5429160"/>
            <a:ext cx="35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الاسيرفيوله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Acervule]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Rectangle 25"/>
          <p:cNvSpPr/>
          <p:nvPr/>
        </p:nvSpPr>
        <p:spPr>
          <a:xfrm>
            <a:off x="285840" y="-121680"/>
            <a:ext cx="8501040" cy="69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التكاثر الجنسي 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تميز طائف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comycete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بوجود أعضاء تناسلية مميزة كالأسجون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cogon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الذي يمثل العضو المؤنث ، والانثريديم 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hridiu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" الذي يمثل العضو المذكر ، حيث تنتقل أنوية الأنثريدة من خلال الشعيرة الأنثوية إلى داخل الأسكوجونة ، ثم تنقسم أنوية الأنثريدة وأنوية الأسكوجونة ثم يحدث اندماج "إخصاب" ، تنقسم بعده الأنوية مرة أخرى إلى عدد زوجي من الأنوية ، والتي تشكل الجراثيم الأسكية ، ثم تكون الأسكوجونة الخيوط المولدة للأكياس الزقية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ci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 والتي تهاجر إلى داخلها الجراثيم الأسكية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cosp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والأكياس الزقية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sci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تتباين في شكلها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فقد تكون أسطواني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ylinderica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أو مغزلي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avat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أو بيضي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vot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أو كروي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lobose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كما تحاط هذه الاكياس باغلفه وتقسم طبقا لذلك الي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 أكياس زقية أحادية الغلاف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unicate asci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 اكياس زقية ثنائية الغلاف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itunicate asci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والبعض منهم مقسم بجدر عرضية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ptated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والآخر غير مقسم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nseptated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571680" y="100008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ife cycle and types of  (Ascu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6" descr="https://encrypted-tbn3.gstatic.com/images?q=tbn:ANd9GcSgmbzDQQhT875M5xXZr51saxIvNrhTWpwOfkXgJ8t3kl4nMoqh"/>
          <p:cNvPicPr/>
          <p:nvPr/>
        </p:nvPicPr>
        <p:blipFill>
          <a:blip r:embed="rId1"/>
          <a:stretch/>
        </p:blipFill>
        <p:spPr>
          <a:xfrm>
            <a:off x="857160" y="4429080"/>
            <a:ext cx="2643120" cy="212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ttps://encrypted-tbn3.gstatic.com/images?q=tbn:ANd9GcRkx1luKWuo5oRt54mLW22qawvp9aQdBbq6XFkfK4gC1RlaK7YI"/>
          <p:cNvPicPr/>
          <p:nvPr/>
        </p:nvPicPr>
        <p:blipFill>
          <a:blip r:embed="rId2"/>
          <a:stretch/>
        </p:blipFill>
        <p:spPr>
          <a:xfrm>
            <a:off x="6000840" y="4429080"/>
            <a:ext cx="2571840" cy="207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www.toxinology.com/generic_static_files/images_generic/MD-fig1H-asci.gif"/>
          <p:cNvPicPr/>
          <p:nvPr/>
        </p:nvPicPr>
        <p:blipFill>
          <a:blip r:embed="rId3"/>
          <a:stretch/>
        </p:blipFill>
        <p:spPr>
          <a:xfrm>
            <a:off x="3714840" y="4429080"/>
            <a:ext cx="2071440" cy="20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9" descr="http://biology.clc.uc.edu/fankhauser/classes/Bio_102/Bio_102_lectures/ascomycetes.jpg"/>
          <p:cNvPicPr/>
          <p:nvPr/>
        </p:nvPicPr>
        <p:blipFill>
          <a:blip r:embed="rId4"/>
          <a:stretch/>
        </p:blipFill>
        <p:spPr>
          <a:xfrm>
            <a:off x="2286000" y="214200"/>
            <a:ext cx="47149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1073520" y="21420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ypes of  (Ascu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14" descr="http://website.nbm-mnb.ca/mycologywebpages/NaturalHistoryOfFungi/Illustrations/Zopfia_rhizophilaAsci.jpg"/>
          <p:cNvPicPr/>
          <p:nvPr/>
        </p:nvPicPr>
        <p:blipFill>
          <a:blip r:embed="rId1"/>
          <a:stretch/>
        </p:blipFill>
        <p:spPr>
          <a:xfrm>
            <a:off x="2357280" y="4071960"/>
            <a:ext cx="3000600" cy="2786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http://www.thebls.org.uk/sites/default/files/images/Collema%20bachmanianum%20(PLS)%20red.jpg"/>
          <p:cNvPicPr/>
          <p:nvPr/>
        </p:nvPicPr>
        <p:blipFill>
          <a:blip r:embed="rId2"/>
          <a:stretch/>
        </p:blipFill>
        <p:spPr>
          <a:xfrm>
            <a:off x="2357280" y="857160"/>
            <a:ext cx="3214800" cy="3071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http://naturalhistory.uga.edu/~GMNH/Mycoherb_Site/what/Sordaria.jpg"/>
          <p:cNvPicPr/>
          <p:nvPr/>
        </p:nvPicPr>
        <p:blipFill>
          <a:blip r:embed="rId3"/>
          <a:stretch/>
        </p:blipFill>
        <p:spPr>
          <a:xfrm>
            <a:off x="214200" y="857160"/>
            <a:ext cx="2086200" cy="578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http://www.cals.ncsu.edu/course/pp318/profiles_mirror/pm/podosph_c_asco_72.JPG"/>
          <p:cNvPicPr/>
          <p:nvPr/>
        </p:nvPicPr>
        <p:blipFill>
          <a:blip r:embed="rId4"/>
          <a:stretch/>
        </p:blipFill>
        <p:spPr>
          <a:xfrm>
            <a:off x="5643720" y="857160"/>
            <a:ext cx="3500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285840" y="234360"/>
            <a:ext cx="850104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وغالباً ما تحاط الأكياس الزقية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sci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 بنسيج مغلف من الخيوط الفطرية مكوناً ما يسمى بالجسم الثمري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scocarp (Fruiting body)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 أو الثمرة الزقية ، وهي ثلاثة أنواع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eistothecia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ثمرة زقية مغلفة كروية الشكل ليس لها فتحة للخارج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erithecia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ثمرة زقية قارورية وهي كمثرية الشكل تفتح بـــ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o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othecia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ثمرة زقية قرصية وهي قمعية الشكل معراة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1084320" y="214200"/>
            <a:ext cx="50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ypes of  (Ascocarps) Fruiting bodi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9" descr="https://encrypted-tbn0.gstatic.com/images?q=tbn:ANd9GcQnRjax9Ym0pFRTH8HIF8P08CXlKgotEa4w63tg855WovSpxRa1"/>
          <p:cNvPicPr/>
          <p:nvPr/>
        </p:nvPicPr>
        <p:blipFill>
          <a:blip r:embed="rId1"/>
          <a:stretch/>
        </p:blipFill>
        <p:spPr>
          <a:xfrm>
            <a:off x="428760" y="1285920"/>
            <a:ext cx="4214520" cy="4643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ttp://secure.tutorsglobe.com/CMSImages/7_Ascomycotina.jpg"/>
          <p:cNvPicPr/>
          <p:nvPr/>
        </p:nvPicPr>
        <p:blipFill>
          <a:blip r:embed="rId2"/>
          <a:stretch/>
        </p:blipFill>
        <p:spPr>
          <a:xfrm>
            <a:off x="4786200" y="1285920"/>
            <a:ext cx="38433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4-11-06T08:59:37Z</dcterms:modified>
  <cp:revision>203</cp:revision>
  <dc:subject/>
  <dc:title>Fungi and the Mycoses</dc:title>
</cp:coreProperties>
</file>