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80C-4414-4405-8AA1-1813B788898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EB8-700C-4D8D-9BD6-22A088DA861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FCB-EF8A-4F01-B6C3-B6B2CA88BB5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E0D-DCAD-4D52-95FA-D20C79AA39A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2F92-F91B-4DCD-845D-093A45C8C21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F705-6028-44BD-AE3D-089BCE0F5DD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165-0E36-480B-9DE3-7C232275986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8817-B681-4BF5-86FB-82C72ADF5F4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532-F283-4011-A810-6E43BBB3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A89-B23D-4595-AA1F-BB66D985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476-1F5B-4085-BBA2-975084D3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E32-D1A8-419C-82EA-F2FF39ED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9B55-E2AA-47E6-91E8-09F7164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C556-EAF1-4BD3-96F6-9918A0F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37D7-3999-4724-A42F-B2A576A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793-C571-4550-A6BD-1F93D669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ACBA-57C9-40A3-80D2-71A3B0F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C235-1142-4ECB-845E-4B68341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2CCC-2C90-4A2E-8720-4A365AD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0BC-00DA-477E-B5F1-DE43FFDC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3E0-8F60-4480-A759-570B375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35F1-3E60-431F-AB67-0AB0DAC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2AAD-2215-442A-B2F0-761218A7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609D-8C0F-43D8-AF1E-BF3976A5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01E-9E60-4D2F-855B-9EC31D1F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4BA-B29B-4DCC-9E66-AEDAB99A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809-BE3B-4DC5-AE16-43E7DCE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4BB-1B71-4C79-AE14-82C54EB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560-1285-45BF-8A1B-1FA012D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A32-0947-46DE-8B6D-AC012D6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4C-A6C3-423C-A35B-A789222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A7D-BA0D-486D-8412-37DC156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2788-AE3E-418C-A3EA-22E623C47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F245-9076-4EDB-9667-C33E16AFE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285840" y="85320"/>
            <a:ext cx="85010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Diagram 9" descr=""/>
          <p:cNvPicPr/>
          <p:nvPr/>
        </p:nvPicPr>
        <p:blipFill>
          <a:blip r:embed="rId1"/>
          <a:stretch/>
        </p:blipFill>
        <p:spPr>
          <a:xfrm>
            <a:off x="60480" y="1852560"/>
            <a:ext cx="9090000" cy="5011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5072040" y="4572000"/>
            <a:ext cx="3929040" cy="1928880"/>
          </a:xfrm>
          <a:prstGeom prst="rect">
            <a:avLst/>
          </a:prstGeom>
          <a:solidFill>
            <a:srgbClr val="2d5ce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ميكروسكوبية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)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تمتاز أنها فطريات مجهر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الأكياس ال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i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عارية تنشأ مباشرة من الأسكوجون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لا يوجد بها ثمار زقية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scocarp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وهي تشمل ثلاث رتب (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Prot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;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phrin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rd: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domycetal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285840" y="47160"/>
            <a:ext cx="8501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miascomycetid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phrinales   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أغلب أفراد هذه الرتبة متطفل علي النبات مسببا امراض خطيرة مثل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deforma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تجعد ارواق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ط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 mino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الذي يســبب تجعد اوراق الكرز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وفطر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phrina prun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  الذي يسبب تخوخ ثمار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5" descr="http://msue.anr.msu.edu/uploads/images/3-13PeachLeafCurlMARK.jpg"/>
          <p:cNvPicPr/>
          <p:nvPr/>
        </p:nvPicPr>
        <p:blipFill>
          <a:blip r:embed="rId1"/>
          <a:stretch/>
        </p:blipFill>
        <p:spPr>
          <a:xfrm>
            <a:off x="428760" y="3714840"/>
            <a:ext cx="385740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uqu.edu.sa/files2/tiny_mce/plugins/filemanager/files/3930100/1c)%20Taphrina.gif"/>
          <p:cNvPicPr/>
          <p:nvPr/>
        </p:nvPicPr>
        <p:blipFill>
          <a:blip r:embed="rId2"/>
          <a:stretch/>
        </p:blipFill>
        <p:spPr>
          <a:xfrm>
            <a:off x="4357800" y="371484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2837520" y="6143760"/>
            <a:ext cx="30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aphrina deform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357720" y="150012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تخوخ ثمار الخوخ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426840" y="10717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phrina pru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10" descr="http://hyg.ipm.illinois.edu/photos/distorted_plums.jpg"/>
          <p:cNvPicPr/>
          <p:nvPr/>
        </p:nvPicPr>
        <p:blipFill>
          <a:blip r:embed="rId1"/>
          <a:stretch/>
        </p:blipFill>
        <p:spPr>
          <a:xfrm>
            <a:off x="357120" y="21430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s://lh3.googleusercontent.com/-7pl--NwHwa4/UA2-0yEaqvI/AAAAAAAAB5Q/LUeNOVDXZdw/s320/20120717_Garden_birds_005.jpg"/>
          <p:cNvPicPr/>
          <p:nvPr/>
        </p:nvPicPr>
        <p:blipFill>
          <a:blip r:embed="rId2"/>
          <a:stretch/>
        </p:blipFill>
        <p:spPr>
          <a:xfrm>
            <a:off x="4714920" y="2286000"/>
            <a:ext cx="3762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0" y="-395640"/>
            <a:ext cx="9001080" cy="74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miascomycetid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ndomycetales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</a:rPr>
              <a:t>تضم عدداً من الفصائل أهمها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omycetacea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 تمثل أفراد هذه الفصيلة الخمائر الحقيقي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ue Yeast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* أفرادها مجهرية وتكون كيس زقي واحد ولا تكون ثمار زقية وهي إما أن تكو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cellular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أو في سلاسل مكونة غزل فطري كاذب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eudomycelium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احيانا تكون غزل فطري حقيقي 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*** تتميز بقدرتها على تخمير الكربوهيدرات حيث تنتج مجموعة من الأنزيمات تعرف باس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ymas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لها القدرة على تكسير الكربوهيدرات كالنشا ، وتحويله إلى سكر أحادي ثم إلى كحول إيثيلي ، والذي يحضر منه العديد من المنتجات كالخل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** تقسم الخمائر تبعاً لشكلها إلى خمائر وحيدة الخلية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Unicellular yeast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وخمائر خيطية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ilamentous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ثل : خمير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ccharomyc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حيدة الخلية التي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تتكاثر لا جنسياً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التبرعم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d scar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انقسام المستعرض او تكوين أبواغ داخلية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spore formation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.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</a:rPr>
              <a:t>وجنسياً من خلال الاقتران الجنسي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xual Conjugation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هو يحدث بين خليتين أحاديتي المجموعة الصبغية وهو نوعا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ogamic conj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terogamic conj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214200" y="42876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كما تصنف تبعاً لقدرتها على تكوين جراثيم جنسية إلى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أ -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خمائر مولدة للأبواغ الجنسية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rue yeas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(ٍ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porogenous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لذلك تصنف تحت الفطريات الأسكية والبازيدية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scomycetes &amp; Basidiomycet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. والخمائر الحقيقية إما أن تكون وحيدة الخلية أو خيطية مكونة غزل فطري حقيقي أو كاذب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مثل (ٍ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ccharomy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ب- خمائر غير مولدة للأبواغ الجنسية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alse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sporogenous yeast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لذلك تصنف تحت الفطريات الناقصة 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eutromycet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وهي كذلك إما أن تكون وحيدة الخلية أو خيطية مكونة غزل فطري حقيقي أو كاذب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مثل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andida albican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http://cronodon.com/images/yeast_bud_3b.jpg"/>
          <p:cNvPicPr/>
          <p:nvPr/>
        </p:nvPicPr>
        <p:blipFill>
          <a:blip r:embed="rId1"/>
          <a:stretch/>
        </p:blipFill>
        <p:spPr>
          <a:xfrm>
            <a:off x="4643280" y="407196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117440" y="214200"/>
            <a:ext cx="53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ccharomy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. (Sporogenous yeast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10" descr="https://encrypted-tbn2.gstatic.com/images?q=tbn:ANd9GcSR9wslMVRkxwK3_Fe-MLv70JBaVyzso11vthnyNUCp88Xn4Qjk"/>
          <p:cNvPicPr/>
          <p:nvPr/>
        </p:nvPicPr>
        <p:blipFill>
          <a:blip r:embed="rId2"/>
          <a:stretch/>
        </p:blipFill>
        <p:spPr>
          <a:xfrm>
            <a:off x="500040" y="1285920"/>
            <a:ext cx="40006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http://studydroid.com/imageCards/0t/ng/card-31179120-front.jpg"/>
          <p:cNvPicPr/>
          <p:nvPr/>
        </p:nvPicPr>
        <p:blipFill>
          <a:blip r:embed="rId3"/>
          <a:stretch/>
        </p:blipFill>
        <p:spPr>
          <a:xfrm>
            <a:off x="500040" y="4071960"/>
            <a:ext cx="407196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http://www.utm.utoronto.ca/~anders38/tet.jpg"/>
          <p:cNvPicPr/>
          <p:nvPr/>
        </p:nvPicPr>
        <p:blipFill>
          <a:blip r:embed="rId4"/>
          <a:stretch/>
        </p:blipFill>
        <p:spPr>
          <a:xfrm>
            <a:off x="4643280" y="1285920"/>
            <a:ext cx="4000680" cy="2643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5862960" y="4214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Bud sc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857840" y="1285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scus form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12" descr="https://encrypted-tbn0.gstatic.com/images?q=tbn:ANd9GcSNgfR13-VDJvkchMPzUbBHk4wxAMAusW1yBzAQtM248V2N_-IGug"/>
          <p:cNvPicPr/>
          <p:nvPr/>
        </p:nvPicPr>
        <p:blipFill>
          <a:blip r:embed="rId1"/>
          <a:stretch/>
        </p:blipFill>
        <p:spPr>
          <a:xfrm>
            <a:off x="4429080" y="17859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17" descr="http://www.bioidea.net/static/media/uploads/Candida_albicans.jpg"/>
          <p:cNvPicPr/>
          <p:nvPr/>
        </p:nvPicPr>
        <p:blipFill>
          <a:blip r:embed="rId2"/>
          <a:stretch/>
        </p:blipFill>
        <p:spPr>
          <a:xfrm>
            <a:off x="285840" y="17859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1600" y="785880"/>
            <a:ext cx="61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ndida albicans (Asporogenous yeast)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06T08:58:49Z</dcterms:modified>
  <cp:revision>236</cp:revision>
  <dc:subject/>
  <dc:title>Fungi and the Mycoses</dc:title>
</cp:coreProperties>
</file>