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EDB7-EF98-4D5D-B6A8-F0596D38739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D1FF-612B-42EB-95E1-E2904776D90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D7B1-14B3-49DF-B1BD-EAC45D0EC05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0771-582A-4AE7-8205-F0A9FEFB3E6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C47-411E-4A92-BAB6-6F96300C0CC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4DB3-AD07-4C35-AB23-5FF912DFB0F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080C-F492-4292-8B8D-A1EE5340575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383E-0CF8-4664-9373-A32DDBAFA70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5ED-20A4-4AB7-844D-2047CF98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DCF-05C5-4E63-92E8-DF0725C5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877-518D-437D-A1FD-13C95B1E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7F7-6DDE-482F-B10A-A3CAA262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D2F5-FEE5-4882-B5D5-F91CA6E9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06B8-4CD8-426D-AB62-7F4FE729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9A4F-0097-407A-BD51-0B4F90F7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AA2E-E7C3-48C8-B6EC-4110900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7934-E3A8-4867-A6CA-D61180A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4183-52B4-4098-BD9F-FC0EDA09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6D69-84B6-403E-B969-C3088DF6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29C-C093-450E-8888-B2029A5E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ACA4-00A2-45B9-BD2D-C6F98D36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C565-12C4-44BF-A88E-B12F02BE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2F71-4A2A-4A6F-81BA-0328AD18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DEC6-E51F-4DBD-AC4A-18951A71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9BF3-1027-4319-8457-F4533ED3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ABA-A3BA-48BF-9067-71996A33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5DD-3CAA-4BAC-BB68-EF29F7C5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F85-9FBA-4F11-B837-F7BA3F9C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51C-AC2A-4B0F-972C-C1FE87E5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BC4-5BD6-45AB-9A53-10A19848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BAD-7249-41FE-9330-2A8FB053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91C-F550-4439-9B01-6A4DBFB5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8333-1B2D-40E9-B25B-D4F633879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9107-5991-4270-A3C4-28C9D61B3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285840" y="85320"/>
            <a:ext cx="85010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تكون ابواغ زقيـ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Diagram 9" descr=""/>
          <p:cNvPicPr/>
          <p:nvPr/>
        </p:nvPicPr>
        <p:blipFill>
          <a:blip r:embed="rId1"/>
          <a:stretch/>
        </p:blipFill>
        <p:spPr>
          <a:xfrm>
            <a:off x="60480" y="1852560"/>
            <a:ext cx="9090000" cy="5011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5072040" y="4572000"/>
            <a:ext cx="3929040" cy="1928880"/>
          </a:xfrm>
          <a:prstGeom prst="rect">
            <a:avLst/>
          </a:prstGeom>
          <a:solidFill>
            <a:srgbClr val="2d5ce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ميكروسكوبية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)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تمتاز أنها فطريات مجهري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الأكياس الزقية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sci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عارية تنشأ مباشرة من الأسكوجون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لا يوجد بها ثمار زقية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scocarp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وهي تشمل ثلاث رتب (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rder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Protomycet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;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phrin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: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domycet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285840" y="47160"/>
            <a:ext cx="85010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emiascomycetida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phrinales   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أغلب أفراد هذه الرتبة متطفل علي النبات مسببا امراض خطيرة مثل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ط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phrina deforma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ذي يسبب مرض تجعد ارواق الخوخ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ط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phrina  mino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الذي يســبب تجعد اوراق الكرز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وفطر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phrina prun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  الذي يسبب تخوخ ثمار الخوخ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5" descr="http://msue.anr.msu.edu/uploads/images/3-13PeachLeafCurlMARK.jpg"/>
          <p:cNvPicPr/>
          <p:nvPr/>
        </p:nvPicPr>
        <p:blipFill>
          <a:blip r:embed="rId1"/>
          <a:stretch/>
        </p:blipFill>
        <p:spPr>
          <a:xfrm>
            <a:off x="428760" y="3714840"/>
            <a:ext cx="3857400" cy="235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uqu.edu.sa/files2/tiny_mce/plugins/filemanager/files/3930100/1c)%20Taphrina.gif"/>
          <p:cNvPicPr/>
          <p:nvPr/>
        </p:nvPicPr>
        <p:blipFill>
          <a:blip r:embed="rId2"/>
          <a:stretch/>
        </p:blipFill>
        <p:spPr>
          <a:xfrm>
            <a:off x="4357800" y="371484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2837520" y="6143760"/>
            <a:ext cx="30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aphrina deform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357720" y="150012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تخوخ ثمار الخوخ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426840" y="10717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phrina pru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10" descr="http://hyg.ipm.illinois.edu/photos/distorted_plums.jpg"/>
          <p:cNvPicPr/>
          <p:nvPr/>
        </p:nvPicPr>
        <p:blipFill>
          <a:blip r:embed="rId1"/>
          <a:stretch/>
        </p:blipFill>
        <p:spPr>
          <a:xfrm>
            <a:off x="357120" y="214308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s://lh3.googleusercontent.com/-7pl--NwHwa4/UA2-0yEaqvI/AAAAAAAAB5Q/LUeNOVDXZdw/s320/20120717_Garden_birds_005.jpg"/>
          <p:cNvPicPr/>
          <p:nvPr/>
        </p:nvPicPr>
        <p:blipFill>
          <a:blip r:embed="rId2"/>
          <a:stretch/>
        </p:blipFill>
        <p:spPr>
          <a:xfrm>
            <a:off x="4714920" y="2286000"/>
            <a:ext cx="3762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0" y="-395640"/>
            <a:ext cx="9001080" cy="74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emiascomycetida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ndomycetales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</a:rPr>
              <a:t>تضم عدداً من الفصائل أهمها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domycetacea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* تمثل أفراد هذه الفصيلة الخمائر الحقيقي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ue Yeast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** أفرادها مجهرية وتكون كيس زقي واحد ولا تكون ثمار زقية وهي إما أن تكون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cellular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أو في سلاسل مكونة غزل فطري كاذب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seudomycelium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احيانا تكون غزل فطري حقيقي 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*** تتميز بقدرتها على تخمير الكربوهيدرات حيث تنتج مجموعة من الأنزيمات تعرف باس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ymase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لها القدرة على تكسير الكربوهيدرات كالنشا ، وتحويله إلى سكر أحادي ثم إلى كحول إيثيلي ، والذي يحضر منه العديد من المنتجات كالخل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** تقسم الخمائر تبعاً لشكلها إلى خمائر وحيدة الخلية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Unicellular yeast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 وخمائر خيطية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ilamentous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ثل : خمير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ccharomyc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حيدة الخلية التي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تتكاثر لا جنسياً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 خلال التبرعم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d scar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والانقسام المستعرض او تكوين أبواغ داخلية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spore formation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.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وجنسياً من خلال الاقتران الجنسي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xual Conjugation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هو يحدث بين خليتين أحاديتي المجموعة الصبغية وهو نوعان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ogamic conj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terogamic conj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214200" y="428760"/>
            <a:ext cx="8715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كما تصنف تبعاً لقدرتها على تكوين جراثيم جنسية إلى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أ -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خمائر مولدة للأبواغ الجنسية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rue yeast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(ٍ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porogenous yeast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)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لذلك تصنف تحت الفطريات الأسكية والبازيدية 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scomycetes &amp; Basidiomycet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. والخمائر الحقيقية إما أن تكون وحيدة الخلية أو خيطية مكونة غزل فطري حقيقي أو كاذب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مثل (ٍ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accharomyces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sp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ب- خمائر غير مولدة للأبواغ الجنسية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alse yeast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sporogenous yeast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لذلك تصنف تحت الفطريات الناقصة 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eutromycet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وهي كذلك إما أن تكون وحيدة الخلية أو خيطية مكونة غزل فطري حقيقي أو كاذب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مثل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andida albican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6" descr="http://cronodon.com/images/yeast_bud_3b.jpg"/>
          <p:cNvPicPr/>
          <p:nvPr/>
        </p:nvPicPr>
        <p:blipFill>
          <a:blip r:embed="rId1"/>
          <a:stretch/>
        </p:blipFill>
        <p:spPr>
          <a:xfrm>
            <a:off x="4643280" y="407196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117440" y="214200"/>
            <a:ext cx="53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accharomyces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sp. (Sporogenous yeast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10" descr="https://encrypted-tbn2.gstatic.com/images?q=tbn:ANd9GcSR9wslMVRkxwK3_Fe-MLv70JBaVyzso11vthnyNUCp88Xn4Qjk"/>
          <p:cNvPicPr/>
          <p:nvPr/>
        </p:nvPicPr>
        <p:blipFill>
          <a:blip r:embed="rId2"/>
          <a:stretch/>
        </p:blipFill>
        <p:spPr>
          <a:xfrm>
            <a:off x="500040" y="1285920"/>
            <a:ext cx="400068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http://studydroid.com/imageCards/0t/ng/card-31179120-front.jpg"/>
          <p:cNvPicPr/>
          <p:nvPr/>
        </p:nvPicPr>
        <p:blipFill>
          <a:blip r:embed="rId3"/>
          <a:stretch/>
        </p:blipFill>
        <p:spPr>
          <a:xfrm>
            <a:off x="500040" y="4071960"/>
            <a:ext cx="407196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http://www.utm.utoronto.ca/~anders38/tet.jpg"/>
          <p:cNvPicPr/>
          <p:nvPr/>
        </p:nvPicPr>
        <p:blipFill>
          <a:blip r:embed="rId4"/>
          <a:stretch/>
        </p:blipFill>
        <p:spPr>
          <a:xfrm>
            <a:off x="4643280" y="1285920"/>
            <a:ext cx="4000680" cy="2643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5"/>
          <p:cNvSpPr/>
          <p:nvPr/>
        </p:nvSpPr>
        <p:spPr>
          <a:xfrm>
            <a:off x="5862960" y="4214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Bud sc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857840" y="1285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scus forma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12" descr="https://encrypted-tbn0.gstatic.com/images?q=tbn:ANd9GcSNgfR13-VDJvkchMPzUbBHk4wxAMAusW1yBzAQtM248V2N_-IGug"/>
          <p:cNvPicPr/>
          <p:nvPr/>
        </p:nvPicPr>
        <p:blipFill>
          <a:blip r:embed="rId1"/>
          <a:stretch/>
        </p:blipFill>
        <p:spPr>
          <a:xfrm>
            <a:off x="4429080" y="17859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17" descr="http://www.bioidea.net/static/media/uploads/Candida_albicans.jpg"/>
          <p:cNvPicPr/>
          <p:nvPr/>
        </p:nvPicPr>
        <p:blipFill>
          <a:blip r:embed="rId2"/>
          <a:stretch/>
        </p:blipFill>
        <p:spPr>
          <a:xfrm>
            <a:off x="285840" y="17859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831600" y="785880"/>
            <a:ext cx="61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ndida albicans (Asporogenous yeast)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1-06T08:58:49Z</dcterms:modified>
  <cp:revision>236</cp:revision>
  <dc:subject/>
  <dc:title>Fungi and the Mycoses</dc:title>
</cp:coreProperties>
</file>