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E75-0054-4830-B1D6-6547825E97B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1BB-A2DB-46E1-94EE-B346B355127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91E1-ECEA-48E1-B2C8-A9155B997B4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1A4-B24E-492C-8E56-7C6D346D5AA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5C2A-DACE-4128-8FE4-91ED6B1047C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D7C-0B38-41EB-A076-269878ECBDA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5B3-E853-4CD6-8FE2-9A2B6415D2C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857-0366-4461-9ECE-CDC37D963CE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0774-7D68-4A06-A526-B034EAC3D81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204-0BF0-4526-9F4A-B6FA4A66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5F4-392A-4C2C-89AF-9813F0BB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B47-F540-416F-886E-57D7740B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B98-437B-4983-921D-2B6360D4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C779-5FA3-47CE-9FBA-02B90998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BA53-6387-4A25-B0E4-B43534C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2360-C589-416D-85B7-C16E50F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1DB4-DC6B-4682-94F5-381F9A20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9D93-E77B-4446-9CD9-AFA1D565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D748-CD7C-4D0A-95E4-D3FE525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72D-CD37-48BA-A128-3F2302C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C3F-F854-4781-8202-10A769B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C14D-8BC4-403E-907C-F3DD6D9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581-A2D6-4E72-A011-0B2E9E6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C3B-6EA9-4183-A383-693D60B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E92-40C8-48FD-ACE8-9AB41828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10A2-F4CA-4433-8712-F0F0127F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974-5A79-4559-849F-5A2C2CF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419-794E-4B5C-89A6-D853882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ADB-28BD-4506-A5FF-E807D22B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422-7022-4BCE-A14D-DD53C95A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677-A024-45C3-89C9-E948A97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018-7AE7-4F17-9FDB-A214340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34B-2DC5-4120-8A94-E44F278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73C7-E413-4DA5-948E-B7D45296F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7BF-8EE4-4F43-A0E0-A978648EB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853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Diagram 3" descr=""/>
          <p:cNvPicPr/>
          <p:nvPr/>
        </p:nvPicPr>
        <p:blipFill>
          <a:blip r:embed="rId1"/>
          <a:stretch/>
        </p:blipFill>
        <p:spPr>
          <a:xfrm>
            <a:off x="60480" y="1852560"/>
            <a:ext cx="9090000" cy="5011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72040" y="4572000"/>
            <a:ext cx="3929040" cy="2071800"/>
          </a:xfrm>
          <a:prstGeom prst="rect">
            <a:avLst/>
          </a:prstGeom>
          <a:solidFill>
            <a:srgbClr val="2d5ce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ميكروسكوبية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تمتاز أنها فطريات مجهر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الأكياس ال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عارية تنشأ مباشرة من الأسكوجون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ا يوجد بها ثمار 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ocar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هي تشمل ثلاث رتب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Prot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;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phrin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d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85840" y="-787680"/>
            <a:ext cx="8643960" cy="84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Plectoascomycetida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    (الأكياس الزقية تنتظم داخل ثمار زقية - شكل الثمار الزقية كروية مغلفة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eistothecia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رتبة اليوروشيات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pergillal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او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lectascal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al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 تعرف أفرادها بفطريات العفن الأزرق أو الأخض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or Green mol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لا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تكوين الكونيدات والتي ترتب علي الغزل الفطري مباشر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اعضاء تناسلية مميزة (الانثريدة والاوجونه)وتكوين ابواغ اسكية وثمار زقية مغلف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أوسع الفطريات الزقية انتشاراً على الإطلاق ، وتضم عدداً هائلاً من الأجناس أهمها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جنس أورسيشم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urotium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تكاثر جنسياً مكوناً ثمار زقية مغلفة ويتكاثر لا جنسيا من خلال تكوين الكونيدات ولذلك يعرف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امل للفطر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عرف طوره الغير قادر على التكاثر الجنسي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ونيدي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طلق عليه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pergillus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جنس تالاروميسيس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Talaromyces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يتكاثر جنسياً مكوناً ثمار زقية مغلفة  ويتكاثر لا جنسيا من خلال تكوين الكويندات ولذلك يعرف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امل للفطر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عرف طوره الغير قادر على التكاثر الجنسي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الكونيدي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يطلق عليه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enicillium s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94120" y="3429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u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02760" y="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spergillu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4" descr="http://ecx.images-amazon.com/images/I/51626sysFCL.jpg"/>
          <p:cNvPicPr/>
          <p:nvPr/>
        </p:nvPicPr>
        <p:blipFill>
          <a:blip r:embed="rId1"/>
          <a:stretch/>
        </p:blipFill>
        <p:spPr>
          <a:xfrm>
            <a:off x="4429080" y="392904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s://encrypted-tbn2.gstatic.com/images?q=tbn:ANd9GcR3oHyYuB02HP49AsZaTr9-CnYMAYjpFGPA6Azhz4QgujJMa7QKxQ"/>
          <p:cNvPicPr/>
          <p:nvPr/>
        </p:nvPicPr>
        <p:blipFill>
          <a:blip r:embed="rId2"/>
          <a:stretch/>
        </p:blipFill>
        <p:spPr>
          <a:xfrm>
            <a:off x="357120" y="392904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25.media.tumblr.com/tumblr_ljpccsTA9S1qhyly2o1_400.jpg"/>
          <p:cNvPicPr/>
          <p:nvPr/>
        </p:nvPicPr>
        <p:blipFill>
          <a:blip r:embed="rId3"/>
          <a:stretch/>
        </p:blipFill>
        <p:spPr>
          <a:xfrm>
            <a:off x="4500720" y="642960"/>
            <a:ext cx="421452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under-microscope.com/images/aspergillus550.jpg"/>
          <p:cNvPicPr/>
          <p:nvPr/>
        </p:nvPicPr>
        <p:blipFill>
          <a:blip r:embed="rId4"/>
          <a:stretch/>
        </p:blipFill>
        <p:spPr>
          <a:xfrm>
            <a:off x="285840" y="64296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4760" y="32148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alaromy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8" descr="http://www.scielo.org.ar/img/revistas/darwin/v44n1/a05f1.jpg"/>
          <p:cNvPicPr/>
          <p:nvPr/>
        </p:nvPicPr>
        <p:blipFill>
          <a:blip r:embed="rId1"/>
          <a:stretch/>
        </p:blipFill>
        <p:spPr>
          <a:xfrm>
            <a:off x="785880" y="3643200"/>
            <a:ext cx="7500960" cy="32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classconnection.s3.amazonaws.com/846/flashcards/195846/jpg/cardimage_2723952_01334774937747.jpg"/>
          <p:cNvPicPr/>
          <p:nvPr/>
        </p:nvPicPr>
        <p:blipFill>
          <a:blip r:embed="rId2"/>
          <a:stretch/>
        </p:blipFill>
        <p:spPr>
          <a:xfrm>
            <a:off x="285840" y="500040"/>
            <a:ext cx="4071960" cy="2714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296640" y="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14" descr="https://c1.staticflickr.com/9/8469/8390974097_fc4a848bf0.jpg"/>
          <p:cNvPicPr/>
          <p:nvPr/>
        </p:nvPicPr>
        <p:blipFill>
          <a:blip r:embed="rId3"/>
          <a:stretch/>
        </p:blipFill>
        <p:spPr>
          <a:xfrm>
            <a:off x="4500720" y="500040"/>
            <a:ext cx="4214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0" y="3744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5840" y="746640"/>
            <a:ext cx="864396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Arial"/>
              </a:rPr>
              <a:t>وقد وضعت فطريات </a:t>
            </a:r>
            <a:r>
              <a:rPr b="0" i="1" lang="en-US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Aspergillus,Penicillium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Arial"/>
              </a:rPr>
              <a:t>ضمن الفطريات الناقصة  </a:t>
            </a:r>
            <a:r>
              <a:rPr b="0" i="1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Deutromycetes</a:t>
            </a:r>
            <a:r>
              <a:rPr b="0" i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) لسببين </a:t>
            </a:r>
            <a:r>
              <a:rPr b="0" i="1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اختفاء أطوارها الجنسية بالرغم من قدرة بعضها على انتاج هذه الأطوار "االابواغ الأسكية"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جودها في الطبيعة على هيئة أطوار كونيدية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142920"/>
            <a:ext cx="9001080" cy="81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جنس  (</a:t>
            </a: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Eurotium sp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Aspergill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الطور الكونيدي 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يعرف بـ  </a:t>
            </a:r>
            <a:r>
              <a:rPr b="0" i="1" lang="ar-SA" sz="2200" spc="-1" strike="noStrike">
                <a:solidFill>
                  <a:srgbClr val="ffff00"/>
                </a:solidFill>
                <a:latin typeface="Times New Roman"/>
              </a:rPr>
              <a:t>Aspergillus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sp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ar-SA" sz="2200" spc="-1" strike="noStrike">
                <a:solidFill>
                  <a:srgbClr val="ffff00"/>
                </a:solidFill>
                <a:latin typeface="Times New Roman"/>
              </a:rPr>
              <a:t> بينما يعرف </a:t>
            </a:r>
            <a:r>
              <a:rPr b="0" i="1" lang="ar-SA" sz="2200" spc="-1" strike="noStrike">
                <a:solidFill>
                  <a:srgbClr val="ff0000"/>
                </a:solidFill>
                <a:latin typeface="Times New Roman"/>
              </a:rPr>
              <a:t>الطور الجنسي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بـ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um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لاجنس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شائع من خلال تكوين الكونيد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نادر ، فأعداد قليلة منه تستطيع أن تتكاثر جنسياً مكونة أجسام ثمرية مثل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r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epen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&amp;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H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erbariorum  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ويتم ذلك تحت ظروف بيئية معينة كدرجة الحرارة والبيئة المستخدمة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همية الاقتصاد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الأضرار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سبب تلف اللحوم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والفاكهة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يسبب أمراض للإنسان والحيوان بما يسمى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Aspergillosi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بعض أنواعه تنتج سموم فطرية تعرف بـ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latoxin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) 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spergillus flavu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الفوائد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بعض الأنواع تعتبر مصدر للمضادات الحيوية مثل :   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Aspegillin, Flavicin, Ust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 awamori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الذي ينتج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spergill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و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davatum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الذي ينتج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lavic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ستعمل بعض أنواعه في إنتاج فيتامين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مثل فطر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g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ossupi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ستغل بعض أنواعه في إنتاج الأحماض العضوية كحمض :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Oxalic, Citric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. ni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14200" y="5760"/>
            <a:ext cx="871560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جنس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sp.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alaromyces sp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or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 Penicilliu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طور الكونيد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عرف بـ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i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 بينما يعرف الطور الجنسي بـ(</a:t>
            </a:r>
            <a:r>
              <a:rPr b="1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Talaromyces</a:t>
            </a:r>
            <a:r>
              <a:rPr b="0" lang="ar-SA" sz="2200" spc="-1" strike="noStrike">
                <a:solidFill>
                  <a:srgbClr val="ffff00"/>
                </a:solidFill>
                <a:latin typeface="Traditional Arabic"/>
                <a:ea typeface="Arial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تكاثر اللاجنس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شائع من خلال تكوين الكونيدات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Arial"/>
              </a:rPr>
              <a:t>التكاثر الجنس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نادراً ماعدا أعداد قليلة منه تستطيع أن تتكاثر جنسياً مكونة أجسام ثمرية مثل فطري: 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glaucum &amp; P. lute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ويتم ذلك تحت ظروف معينة كدرجة الحرارة والبيئة المستخدمة </a:t>
            </a:r>
            <a:r>
              <a:rPr b="0" lang="ar-SA" sz="1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أهمية الاقتصاد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أضرار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تعفناً لثمار الحمضيات مثل فطر:     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Italic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تعفناً لأوراق الطباعة والكتب (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funiculos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أمراض رئوية للإنسان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osis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فوائد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تستعمل بعض أنواعه في انتاج جبن الروكفورت، مثل فطر :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Roqueforti</a:t>
            </a:r>
            <a:r>
              <a:rPr b="0" i="1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تستعمل بعض أنواعه في إنتاج المضادات الحيوية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in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مثل فطر (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notatum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&amp;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chrysogen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تعمل بعض أنواعه في إنتاج فيتامين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D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griseorose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714240" y="1428840"/>
            <a:ext cx="59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12T07:14:00Z</dcterms:modified>
  <cp:revision>269</cp:revision>
  <dc:subject/>
  <dc:title>Fungi and the Mycoses</dc:title>
</cp:coreProperties>
</file>