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42413-E4FB-4326-9AB4-608B1D5AD9F4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E93A1-E322-4BD0-BB32-7662DE55D0A1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8DE36-B84F-43D6-AF38-74872D9E677A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5CFF7-D55A-4DFF-B29A-CC00DCA4298B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F917E-D0A3-4AE8-8CD7-6BE87D2A1C32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D421F-244D-45AE-BC1C-7CE5ABA9A2E6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729D2-CFBD-46E8-9077-2438FD75AD0E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899C0-0819-45CE-AA1A-462190BC0153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A0137-7BBC-454C-AD86-9D6296D5211D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C08F-BE1F-4826-B421-E3D4B59FD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9D83-BF59-4A40-B6A5-22705ABF5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8860-CF2C-46CD-98A3-C4E1FDF2D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FE41-389E-4957-9CD1-EBA04557D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7B5B1-95E0-484B-B16D-E2A56E833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872EC-89B1-4FB2-BC1F-97F685E0A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F6060-1251-4E6E-8D98-D035E71AF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52489-0ED3-4745-B9B0-713A64650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77B36-B81C-4811-9C6A-75BBFA04D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E23AB-789A-451D-B181-8FC84040F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12A47-0EDA-4ACD-A8EB-E8BBD2EE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9214-BC4D-4F57-970E-C49876832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D363C-FB3F-4833-BD8C-DFD6F35D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632FB-7BEA-4D64-863D-AD452370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9AC69-88AA-4F0A-BDB0-37690ED2E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B90F2-F2C1-49BB-BF59-7CFB6BF2C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A3BA1-FE15-4187-AA1D-74A5AE41C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7A3B-6A29-4904-BE20-2332C51CD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72AF-E773-4EC1-81D4-AF7F9B974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F191-E5EF-436B-9867-C6816D6BE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0B1D-6B17-4AD3-9B83-B2E81D3F4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9FB6-16A5-498C-B6C8-D131EDFC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81EE-9603-46CD-B073-AE5141A1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79D5-69CE-403F-A3AC-5BE2A773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1027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" name="Arc 1028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4F8AB-7BD9-4590-872A-79BFACE30B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3707-B624-4813-BE92-8F3FDCD492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Rectangle 25"/>
          <p:cNvSpPr/>
          <p:nvPr/>
        </p:nvSpPr>
        <p:spPr>
          <a:xfrm>
            <a:off x="285840" y="85320"/>
            <a:ext cx="8501040" cy="31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vision:</a:t>
            </a:r>
            <a:r>
              <a:rPr b="0" lang="en-US" sz="3200" spc="-1" strike="noStrike">
                <a:solidFill>
                  <a:srgbClr val="8064a2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mastigomycota (</a:t>
            </a:r>
            <a:r>
              <a:rPr b="1" i="1" lang="ar-SA" sz="3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الفطريات اللاسوطية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lass</a:t>
            </a: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: Ascomycetes (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تكون ابواغ زقيـة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7" name="Diagram 3" descr=""/>
          <p:cNvPicPr/>
          <p:nvPr/>
        </p:nvPicPr>
        <p:blipFill>
          <a:blip r:embed="rId1"/>
          <a:stretch/>
        </p:blipFill>
        <p:spPr>
          <a:xfrm>
            <a:off x="60480" y="1852560"/>
            <a:ext cx="9090000" cy="50119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6"/>
          <p:cNvSpPr/>
          <p:nvPr/>
        </p:nvSpPr>
        <p:spPr>
          <a:xfrm>
            <a:off x="5072040" y="4572000"/>
            <a:ext cx="3929040" cy="2071800"/>
          </a:xfrm>
          <a:prstGeom prst="rect">
            <a:avLst/>
          </a:prstGeom>
          <a:solidFill>
            <a:srgbClr val="2d5ce7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</a:rPr>
              <a:t>ميكروسكوبية)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)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تمتاز أنها فطريات مجهرية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الأكياس الزقية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sci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عارية تنشأ مباشرة من الأسكوجونة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لا يوجد بها ثمار زقية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scocarp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وهي تشمل ثلاث رتب (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Order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Ord: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Protomycetales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Ord;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aphrinales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Ord: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Endomycetales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Rectangle 25"/>
          <p:cNvSpPr/>
          <p:nvPr/>
        </p:nvSpPr>
        <p:spPr>
          <a:xfrm>
            <a:off x="285840" y="-787680"/>
            <a:ext cx="8643960" cy="84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r>
              <a:rPr b="0" lang="en-US" sz="3200" spc="-1" strike="noStrike">
                <a:solidFill>
                  <a:srgbClr val="8064a2"/>
                </a:solidFill>
                <a:latin typeface="Times New Roman"/>
                <a:ea typeface="Times New Roman"/>
              </a:rPr>
              <a:t>   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scomycetes  (</a:t>
            </a:r>
            <a:r>
              <a:rPr b="1" i="1" lang="ar-SA" sz="3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الفطريات الزقية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ubclass:    </a:t>
            </a:r>
            <a:r>
              <a:rPr b="0" i="1" lang="en-US" sz="3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Plectoascomycetida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00"/>
                </a:solidFill>
                <a:latin typeface="Times New Roman"/>
              </a:rPr>
              <a:t>      (الأكياس الزقية تنتظم داخل ثمار زقية - شكل الثمار الزقية كروية مغلفة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leistothecia</a:t>
            </a:r>
            <a:r>
              <a:rPr b="0" lang="ar-SA" sz="20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رتبة اليوروشيات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Aspergillale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 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 او (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Plectascales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r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Eurotiales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* تعرف أفرادها بفطريات العفن الأزرق أو الأخضر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lue or Green mold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ff0000"/>
                </a:solidFill>
                <a:uFillTx/>
                <a:latin typeface="Times New Roman"/>
              </a:rPr>
              <a:t>التكاثر اللاجنسي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من خلال تكوين الكونيدات والتي ترتب علي الغزل الفطري مباشرة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ff0000"/>
                </a:solidFill>
                <a:uFillTx/>
                <a:latin typeface="Times New Roman"/>
              </a:rPr>
              <a:t>التكاثر الجنسي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من خلال اعضاء تناسلية مميزة (الانثريدة والاوجونه)وتكوين ابواغ اسكية وثمار زقية مغلفة 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ffff00"/>
                </a:solidFill>
                <a:uFillTx/>
                <a:latin typeface="Times New Roman"/>
              </a:rPr>
              <a:t>أوسع الفطريات الزقية انتشاراً على الإطلاق ، وتضم عدداً هائلاً من الأجناس أهمها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ar-SA" sz="24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0000"/>
                </a:solidFill>
                <a:latin typeface="Times New Roman"/>
              </a:rPr>
              <a:t>جنس أورسيشم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Eurotium sp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ar-SA" sz="2400" spc="-1" strike="noStrike">
                <a:solidFill>
                  <a:srgbClr val="ffffff"/>
                </a:solidFill>
                <a:latin typeface="Times New Roman"/>
              </a:rPr>
              <a:t>  -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يتكاثر جنسياً مكوناً ثمار زقية مغلفة ويتكاثر لا جنسيا من خلال تكوين الكونيدات ولذلك يعرف </a:t>
            </a:r>
            <a:r>
              <a:rPr b="0" lang="ar-SA" sz="2000" spc="-1" strike="noStrike" u="sng">
                <a:solidFill>
                  <a:srgbClr val="ff0000"/>
                </a:solidFill>
                <a:uFillTx/>
                <a:latin typeface="Times New Roman"/>
              </a:rPr>
              <a:t>بالطور الكامل للفطر</a:t>
            </a:r>
            <a:r>
              <a:rPr b="0" lang="ar-SA" sz="2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ويعرف طوره الغير قادر على التكاثر الجنسي </a:t>
            </a:r>
            <a:r>
              <a:rPr b="0" lang="ar-SA" sz="2000" spc="-1" strike="noStrike" u="sng">
                <a:solidFill>
                  <a:srgbClr val="ff0000"/>
                </a:solidFill>
                <a:uFillTx/>
                <a:latin typeface="Times New Roman"/>
              </a:rPr>
              <a:t>بالطور الكونيدي 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ويطلق عليه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Aspergillus sp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ar-SA" sz="20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Times New Roman"/>
              </a:rPr>
              <a:t>جنس تالاروميسيس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Talaromyces</a:t>
            </a:r>
            <a:r>
              <a:rPr b="0" i="1" lang="ar-SA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 يتكاثر جنسياً مكوناً ثمار زقية مغلفة  ويتكاثر لا جنسيا من خلال تكوين الكويندات ولذلك يعرف </a:t>
            </a:r>
            <a:r>
              <a:rPr b="0" lang="ar-SA" sz="2000" spc="-1" strike="noStrike" u="sng">
                <a:solidFill>
                  <a:srgbClr val="ff0000"/>
                </a:solidFill>
                <a:uFillTx/>
                <a:latin typeface="Times New Roman"/>
              </a:rPr>
              <a:t>بالطور الكامل للفطر 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ويعرف طوره الغير قادر على التكاثر الجنسي </a:t>
            </a:r>
            <a:r>
              <a:rPr b="0" lang="ar-SA" sz="2000" spc="-1" strike="noStrike" u="sng">
                <a:solidFill>
                  <a:srgbClr val="ff0000"/>
                </a:solidFill>
                <a:uFillTx/>
                <a:latin typeface="Times New Roman"/>
              </a:rPr>
              <a:t>بالطور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000" spc="-1" strike="noStrike" u="sng">
                <a:solidFill>
                  <a:srgbClr val="ff0000"/>
                </a:solidFill>
                <a:uFillTx/>
                <a:latin typeface="Times New Roman"/>
              </a:rPr>
              <a:t>الكونيدي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 ويطلق عليه 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Penicillium sp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214200" y="642960"/>
            <a:ext cx="8786880" cy="55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294120" y="342900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Eurotium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sp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302760" y="0"/>
            <a:ext cx="220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spergillus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sp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4" name="Picture 4" descr="http://ecx.images-amazon.com/images/I/51626sysFCL.jpg"/>
          <p:cNvPicPr/>
          <p:nvPr/>
        </p:nvPicPr>
        <p:blipFill>
          <a:blip r:embed="rId1"/>
          <a:stretch/>
        </p:blipFill>
        <p:spPr>
          <a:xfrm>
            <a:off x="4429080" y="3929040"/>
            <a:ext cx="4286160" cy="27147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https://encrypted-tbn2.gstatic.com/images?q=tbn:ANd9GcR3oHyYuB02HP49AsZaTr9-CnYMAYjpFGPA6Azhz4QgujJMa7QKxQ"/>
          <p:cNvPicPr/>
          <p:nvPr/>
        </p:nvPicPr>
        <p:blipFill>
          <a:blip r:embed="rId2"/>
          <a:stretch/>
        </p:blipFill>
        <p:spPr>
          <a:xfrm>
            <a:off x="357120" y="3929040"/>
            <a:ext cx="4000680" cy="2714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http://25.media.tumblr.com/tumblr_ljpccsTA9S1qhyly2o1_400.jpg"/>
          <p:cNvPicPr/>
          <p:nvPr/>
        </p:nvPicPr>
        <p:blipFill>
          <a:blip r:embed="rId3"/>
          <a:stretch/>
        </p:blipFill>
        <p:spPr>
          <a:xfrm>
            <a:off x="4500720" y="642960"/>
            <a:ext cx="4214520" cy="2714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http://www.under-microscope.com/images/aspergillus550.jpg"/>
          <p:cNvPicPr/>
          <p:nvPr/>
        </p:nvPicPr>
        <p:blipFill>
          <a:blip r:embed="rId4"/>
          <a:stretch/>
        </p:blipFill>
        <p:spPr>
          <a:xfrm>
            <a:off x="285840" y="642960"/>
            <a:ext cx="407196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214200" y="642960"/>
            <a:ext cx="8786880" cy="55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84760" y="3214800"/>
            <a:ext cx="21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Talaromyce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sp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0" name="Picture 8" descr="http://www.scielo.org.ar/img/revistas/darwin/v44n1/a05f1.jpg"/>
          <p:cNvPicPr/>
          <p:nvPr/>
        </p:nvPicPr>
        <p:blipFill>
          <a:blip r:embed="rId1"/>
          <a:stretch/>
        </p:blipFill>
        <p:spPr>
          <a:xfrm>
            <a:off x="785880" y="3643200"/>
            <a:ext cx="7500960" cy="3214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http://classconnection.s3.amazonaws.com/846/flashcards/195846/jpg/cardimage_2723952_01334774937747.jpg"/>
          <p:cNvPicPr/>
          <p:nvPr/>
        </p:nvPicPr>
        <p:blipFill>
          <a:blip r:embed="rId2"/>
          <a:stretch/>
        </p:blipFill>
        <p:spPr>
          <a:xfrm>
            <a:off x="285840" y="500040"/>
            <a:ext cx="4071960" cy="271476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9"/>
          <p:cNvSpPr/>
          <p:nvPr/>
        </p:nvSpPr>
        <p:spPr>
          <a:xfrm>
            <a:off x="296640" y="0"/>
            <a:ext cx="22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Penicillium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sp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3" name="Picture 14" descr="https://c1.staticflickr.com/9/8469/8390974097_fc4a848bf0.jpg"/>
          <p:cNvPicPr/>
          <p:nvPr/>
        </p:nvPicPr>
        <p:blipFill>
          <a:blip r:embed="rId3"/>
          <a:stretch/>
        </p:blipFill>
        <p:spPr>
          <a:xfrm>
            <a:off x="4500720" y="500040"/>
            <a:ext cx="421452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Rectangle 25"/>
          <p:cNvSpPr/>
          <p:nvPr/>
        </p:nvSpPr>
        <p:spPr>
          <a:xfrm>
            <a:off x="0" y="374400"/>
            <a:ext cx="892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285840" y="746640"/>
            <a:ext cx="8643960" cy="22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buClr>
                <a:srgbClr val="ffff00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raditional Arabic"/>
                <a:cs typeface="Arial"/>
              </a:rPr>
              <a:t>وقد وضعت فطريات </a:t>
            </a:r>
            <a:r>
              <a:rPr b="0" i="1" lang="en-US" sz="2400" spc="-1" strike="noStrike">
                <a:solidFill>
                  <a:srgbClr val="ffff00"/>
                </a:solidFill>
                <a:latin typeface="Traditional Arabic"/>
                <a:ea typeface="Arial"/>
              </a:rPr>
              <a:t>Aspergillus,Penicillium</a:t>
            </a:r>
            <a:r>
              <a:rPr b="0" lang="ar-SA" sz="2400" spc="-1" strike="noStrike">
                <a:solidFill>
                  <a:srgbClr val="ffff00"/>
                </a:solidFill>
                <a:latin typeface="Traditional Arabic"/>
                <a:cs typeface="Arial"/>
              </a:rPr>
              <a:t>ضمن الفطريات الناقصة  </a:t>
            </a:r>
            <a:r>
              <a:rPr b="0" i="1" lang="ar-SA" sz="2400" spc="-1" strike="noStrike">
                <a:solidFill>
                  <a:srgbClr val="ff0000"/>
                </a:solidFill>
                <a:latin typeface="Traditional Arabic"/>
                <a:ea typeface="Arial"/>
              </a:rPr>
              <a:t>(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Traditional Arabic"/>
                <a:ea typeface="Arial"/>
              </a:rPr>
              <a:t>Deutromycetes</a:t>
            </a:r>
            <a:r>
              <a:rPr b="0" i="1" lang="ar-SA" sz="2400" spc="-1" strike="noStrike" u="sng">
                <a:solidFill>
                  <a:srgbClr val="ff0000"/>
                </a:solidFill>
                <a:uFillTx/>
                <a:latin typeface="Traditional Arabic"/>
                <a:ea typeface="Arial"/>
              </a:rPr>
              <a:t>) لسببين </a:t>
            </a:r>
            <a:r>
              <a:rPr b="0" i="1" lang="ar-SA" sz="2400" spc="-1" strike="noStrike">
                <a:solidFill>
                  <a:srgbClr val="ffff00"/>
                </a:solidFill>
                <a:latin typeface="Traditional Arabic"/>
                <a:ea typeface="Arial"/>
              </a:rPr>
              <a:t>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cs typeface="Arial"/>
              </a:rPr>
              <a:t>اختفاء أطوارها الجنسية بالرغم من قدرة بعضها على انتاج هذه الأطوار "االابواغ الأسكية"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raditional Arabic"/>
                <a:cs typeface="Arial"/>
              </a:rPr>
              <a:t>وجودها في الطبيعة على هيئة أطوار كونيدية </a:t>
            </a:r>
            <a:r>
              <a:rPr b="0" lang="ar-SA" sz="2400" spc="-1" strike="noStrike">
                <a:solidFill>
                  <a:srgbClr val="ffff00"/>
                </a:solidFill>
                <a:latin typeface="Traditional Arabic"/>
                <a:ea typeface="Arial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6"/>
          <p:cNvSpPr/>
          <p:nvPr/>
        </p:nvSpPr>
        <p:spPr>
          <a:xfrm>
            <a:off x="0" y="142920"/>
            <a:ext cx="9001080" cy="81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ffff00"/>
                </a:solidFill>
                <a:uFillTx/>
                <a:latin typeface="Times New Roman"/>
              </a:rPr>
              <a:t>جنس  (</a:t>
            </a:r>
            <a:r>
              <a:rPr b="0" i="1" lang="ar-SA" sz="2400" spc="-1" strike="noStrike" u="sng">
                <a:solidFill>
                  <a:srgbClr val="ffff00"/>
                </a:solidFill>
                <a:uFillTx/>
                <a:latin typeface="Times New Roman"/>
              </a:rPr>
              <a:t>Eurotium sp </a:t>
            </a:r>
            <a:r>
              <a:rPr b="0" lang="ar-SA" sz="2400" spc="-1" strike="noStrike" u="sng">
                <a:solidFill>
                  <a:srgbClr val="ffff00"/>
                </a:solidFill>
                <a:uFillTx/>
                <a:latin typeface="Times New Roman"/>
              </a:rPr>
              <a:t>(</a:t>
            </a:r>
            <a:r>
              <a:rPr b="0" i="1" lang="ar-SA" sz="2400" spc="-1" strike="noStrike" u="sng">
                <a:solidFill>
                  <a:srgbClr val="ffff00"/>
                </a:solidFill>
                <a:uFillTx/>
                <a:latin typeface="Times New Roman"/>
              </a:rPr>
              <a:t>Aspergillu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0000"/>
                </a:solidFill>
                <a:latin typeface="Times New Roman"/>
              </a:rPr>
              <a:t>الطور الكونيدي  </a:t>
            </a:r>
            <a:r>
              <a:rPr b="0" lang="ar-SA" sz="2200" spc="-1" strike="noStrike">
                <a:solidFill>
                  <a:srgbClr val="ffff00"/>
                </a:solidFill>
                <a:latin typeface="Times New Roman"/>
              </a:rPr>
              <a:t>يعرف بـ  </a:t>
            </a:r>
            <a:r>
              <a:rPr b="0" i="1" lang="ar-SA" sz="2200" spc="-1" strike="noStrike">
                <a:solidFill>
                  <a:srgbClr val="ffff00"/>
                </a:solidFill>
                <a:latin typeface="Times New Roman"/>
              </a:rPr>
              <a:t>Aspergillus</a:t>
            </a:r>
            <a:r>
              <a:rPr b="0" i="1" lang="en-US" sz="2200" spc="-1" strike="noStrike">
                <a:solidFill>
                  <a:srgbClr val="ffff00"/>
                </a:solidFill>
                <a:latin typeface="Times New Roman"/>
              </a:rPr>
              <a:t> sp</a:t>
            </a:r>
            <a:r>
              <a:rPr b="0" i="1" lang="en-US" sz="22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0" i="1" lang="ar-SA" sz="2200" spc="-1" strike="noStrike">
                <a:solidFill>
                  <a:srgbClr val="ffff00"/>
                </a:solidFill>
                <a:latin typeface="Times New Roman"/>
              </a:rPr>
              <a:t> بينما يعرف </a:t>
            </a:r>
            <a:r>
              <a:rPr b="0" i="1" lang="ar-SA" sz="2200" spc="-1" strike="noStrike">
                <a:solidFill>
                  <a:srgbClr val="ff0000"/>
                </a:solidFill>
                <a:latin typeface="Times New Roman"/>
              </a:rPr>
              <a:t>الطور الجنسي </a:t>
            </a:r>
            <a:r>
              <a:rPr b="0" i="1" lang="ar-SA" sz="2400" spc="-1" strike="noStrike">
                <a:solidFill>
                  <a:srgbClr val="ffff00"/>
                </a:solidFill>
                <a:latin typeface="Times New Roman"/>
              </a:rPr>
              <a:t>بـ(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Eurotium</a:t>
            </a:r>
            <a:r>
              <a:rPr b="0" i="1" lang="ar-SA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ff0000"/>
                </a:solidFill>
                <a:uFillTx/>
                <a:latin typeface="Times New Roman"/>
              </a:rPr>
              <a:t>التكاثر اللاجنسي 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شائع من خلال تكوين الكونيدات 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ff0000"/>
                </a:solidFill>
                <a:uFillTx/>
                <a:latin typeface="Times New Roman"/>
              </a:rPr>
              <a:t>التكاثر الجنسي 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نادر ، فأعداد قليلة منه تستطيع أن تتكاثر جنسياً مكونة أجسام ثمرية مثل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400" spc="-1" strike="noStrike">
                <a:solidFill>
                  <a:srgbClr val="ffff00"/>
                </a:solidFill>
                <a:latin typeface="Times New Roman"/>
              </a:rPr>
              <a:t>A.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 r</a:t>
            </a:r>
            <a:r>
              <a:rPr b="0" i="1" lang="ar-SA" sz="2400" spc="-1" strike="noStrike">
                <a:solidFill>
                  <a:srgbClr val="ffff00"/>
                </a:solidFill>
                <a:latin typeface="Times New Roman"/>
              </a:rPr>
              <a:t>epens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ar-SA" sz="2400" spc="-1" strike="noStrike">
                <a:solidFill>
                  <a:srgbClr val="ffff00"/>
                </a:solidFill>
                <a:latin typeface="Times New Roman"/>
              </a:rPr>
              <a:t>&amp; 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i="1" lang="ar-SA" sz="2400" spc="-1" strike="noStrike">
                <a:solidFill>
                  <a:srgbClr val="ffff00"/>
                </a:solidFill>
                <a:latin typeface="Times New Roman"/>
              </a:rPr>
              <a:t>A.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 H</a:t>
            </a:r>
            <a:r>
              <a:rPr b="0" i="1" lang="ar-SA" sz="2400" spc="-1" strike="noStrike">
                <a:solidFill>
                  <a:srgbClr val="ffff00"/>
                </a:solidFill>
                <a:latin typeface="Times New Roman"/>
              </a:rPr>
              <a:t>erbariorum                     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ويتم ذلك تحت ظروف بيئية معينة كدرجة الحرارة والبيئة المستخدمة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 u="sng">
                <a:solidFill>
                  <a:srgbClr val="ff0000"/>
                </a:solidFill>
                <a:uFillTx/>
                <a:latin typeface="Times New Roman"/>
              </a:rPr>
              <a:t>الأهمية الاقتصادية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Times New Roman"/>
              </a:rPr>
              <a:t>الأضرار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يسبب تلف اللحوم </a:t>
            </a:r>
            <a:r>
              <a:rPr b="0" lang="ar-SA" sz="2200" spc="-1" strike="noStrike">
                <a:solidFill>
                  <a:srgbClr val="ffffff"/>
                </a:solidFill>
                <a:latin typeface="Times New Roman"/>
              </a:rPr>
              <a:t>والفاكهة .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Times New Roman"/>
              </a:rPr>
              <a:t>يسبب أمراض للإنسان والحيوان بما يسمى </a:t>
            </a:r>
            <a:r>
              <a:rPr b="0" lang="ar-SA" sz="2200" spc="-1" strike="noStrike">
                <a:solidFill>
                  <a:srgbClr val="ffffff"/>
                </a:solidFill>
                <a:latin typeface="Times New Roman"/>
              </a:rPr>
              <a:t>Aspergillosis</a:t>
            </a:r>
            <a:r>
              <a:rPr b="0" lang="ar-SA" sz="22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Times New Roman"/>
              </a:rPr>
              <a:t>بعض أنواعه تنتج سموم فطرية تعرف بـ(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Aflatoxins</a:t>
            </a:r>
            <a:r>
              <a:rPr b="0" lang="ar-SA" sz="2200" spc="-1" strike="noStrike">
                <a:solidFill>
                  <a:srgbClr val="ffffff"/>
                </a:solidFill>
                <a:latin typeface="Times New Roman"/>
              </a:rPr>
              <a:t>) مثل فطر (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Aspergillus flavus</a:t>
            </a:r>
            <a:r>
              <a:rPr b="0" lang="ar-SA" sz="22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 u="sng">
                <a:solidFill>
                  <a:srgbClr val="ffff00"/>
                </a:solidFill>
                <a:uFillTx/>
                <a:latin typeface="Times New Roman"/>
              </a:rPr>
              <a:t>الفوائد: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Times New Roman"/>
              </a:rPr>
              <a:t>بعض الأنواع تعتبر مصدر للمضادات الحيوية مثل :   </a:t>
            </a:r>
            <a:r>
              <a:rPr b="0" i="1" lang="ar-SA" sz="2200" spc="-1" strike="noStrike">
                <a:solidFill>
                  <a:srgbClr val="ffffff"/>
                </a:solidFill>
                <a:latin typeface="Times New Roman"/>
              </a:rPr>
              <a:t>Aspegillin, Flavicin, Ustin</a:t>
            </a:r>
            <a:r>
              <a:rPr b="0" i="1" lang="ar-SA" sz="2200" spc="-1" strike="noStrike">
                <a:solidFill>
                  <a:srgbClr val="ffffff"/>
                </a:solidFill>
                <a:latin typeface="Times New Roman"/>
              </a:rPr>
              <a:t>مثل فطر (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A.  awamori</a:t>
            </a:r>
            <a:r>
              <a:rPr b="0" i="1" lang="ar-SA" sz="2200" spc="-1" strike="noStrike">
                <a:solidFill>
                  <a:srgbClr val="ffffff"/>
                </a:solidFill>
                <a:latin typeface="Times New Roman"/>
              </a:rPr>
              <a:t>) الذي ينتج (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Aspergillin</a:t>
            </a:r>
            <a:r>
              <a:rPr b="0" i="1" lang="ar-SA" sz="2200" spc="-1" strike="noStrike">
                <a:solidFill>
                  <a:srgbClr val="ffffff"/>
                </a:solidFill>
                <a:latin typeface="Times New Roman"/>
              </a:rPr>
              <a:t>) وفطر (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A. davatum</a:t>
            </a:r>
            <a:r>
              <a:rPr b="0" i="1" lang="ar-SA" sz="2200" spc="-1" strike="noStrike">
                <a:solidFill>
                  <a:srgbClr val="ffffff"/>
                </a:solidFill>
                <a:latin typeface="Times New Roman"/>
              </a:rPr>
              <a:t>) الذي ينتج (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flavicin</a:t>
            </a:r>
            <a:r>
              <a:rPr b="0" i="1" lang="ar-SA" sz="2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Times New Roman"/>
              </a:rPr>
              <a:t>تستعمل بعض أنواعه في إنتاج فيتامين </a:t>
            </a:r>
            <a:r>
              <a:rPr b="0" lang="ar-SA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ar-SA" sz="2200" spc="-1" strike="noStrike">
                <a:solidFill>
                  <a:srgbClr val="ffffff"/>
                </a:solidFill>
                <a:latin typeface="Times New Roman"/>
              </a:rPr>
              <a:t>  مثل فطر</a:t>
            </a:r>
            <a:r>
              <a:rPr b="0" i="1" lang="ar-SA" sz="2200" spc="-1" strike="noStrike">
                <a:solidFill>
                  <a:srgbClr val="ffffff"/>
                </a:solidFill>
                <a:latin typeface="Times New Roman"/>
              </a:rPr>
              <a:t>.  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A. g</a:t>
            </a:r>
            <a:r>
              <a:rPr b="0" i="1" lang="ar-SA" sz="2200" spc="-1" strike="noStrike">
                <a:solidFill>
                  <a:srgbClr val="ffffff"/>
                </a:solidFill>
                <a:latin typeface="Times New Roman"/>
              </a:rPr>
              <a:t>ossupi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Times New Roman"/>
              </a:rPr>
              <a:t>تستغل بعض أنواعه في إنتاج الأحماض العضوية كحمض : </a:t>
            </a:r>
            <a:r>
              <a:rPr b="0" lang="ar-SA" sz="2200" spc="-1" strike="noStrike">
                <a:solidFill>
                  <a:srgbClr val="ffffff"/>
                </a:solidFill>
                <a:latin typeface="Times New Roman"/>
              </a:rPr>
              <a:t>Oxalic, Citric</a:t>
            </a:r>
            <a:r>
              <a:rPr b="0" lang="ar-SA" sz="2200" spc="-1" strike="noStrike">
                <a:solidFill>
                  <a:srgbClr val="ffffff"/>
                </a:solidFill>
                <a:latin typeface="Times New Roman"/>
              </a:rPr>
              <a:t> مثل فطر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. nige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AutoShape 12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6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AutoShape 12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214200" y="5760"/>
            <a:ext cx="8715600" cy="66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ff0000"/>
                </a:solidFill>
                <a:uFillTx/>
                <a:latin typeface="Traditional Arabic"/>
                <a:cs typeface="Arial"/>
              </a:rPr>
              <a:t>جنس  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raditional Arabic"/>
                <a:ea typeface="Arial"/>
              </a:rPr>
              <a:t>sp.</a:t>
            </a:r>
            <a:r>
              <a:rPr b="0" lang="ar-SA" sz="2400" spc="-1" strike="noStrike" u="sng">
                <a:solidFill>
                  <a:srgbClr val="ff0000"/>
                </a:solidFill>
                <a:uFillTx/>
                <a:latin typeface="Traditional Arabic"/>
                <a:ea typeface="Arial"/>
              </a:rPr>
              <a:t> 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raditional Arabic"/>
                <a:ea typeface="Arial"/>
              </a:rPr>
              <a:t>(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Traditional Arabic"/>
                <a:ea typeface="Arial"/>
              </a:rPr>
              <a:t>Talaromyces sp.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raditional Arabic"/>
                <a:ea typeface="Arial"/>
              </a:rPr>
              <a:t>)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Traditional Arabic"/>
                <a:ea typeface="Arial"/>
              </a:rPr>
              <a:t> </a:t>
            </a:r>
            <a:r>
              <a:rPr b="0" i="1" lang="en-US" sz="2400" spc="-1" strike="noStrike" u="sng">
                <a:solidFill>
                  <a:srgbClr val="ffff00"/>
                </a:solidFill>
                <a:uFillTx/>
                <a:latin typeface="Traditional Arabic"/>
                <a:ea typeface="Arial"/>
              </a:rPr>
              <a:t>or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Traditional Arabic"/>
                <a:ea typeface="Arial"/>
              </a:rPr>
              <a:t>  Penicillium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ff0000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0000"/>
                </a:solidFill>
                <a:uFillTx/>
                <a:latin typeface="Traditional Arabic"/>
                <a:cs typeface="Arial"/>
              </a:rPr>
              <a:t>الطور الكونيدي </a:t>
            </a: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cs typeface="Arial"/>
              </a:rPr>
              <a:t>يعرف بـ </a:t>
            </a:r>
            <a:r>
              <a:rPr b="0" lang="en-US" sz="2200" spc="-1" strike="noStrike">
                <a:solidFill>
                  <a:srgbClr val="ffffff"/>
                </a:solidFill>
                <a:latin typeface="Traditional Arabic"/>
                <a:ea typeface="Arial"/>
              </a:rPr>
              <a:t>Penicillium</a:t>
            </a: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ea typeface="Arial"/>
              </a:rPr>
              <a:t>  بينما يعرف الطور الجنسي بـ(</a:t>
            </a:r>
            <a:r>
              <a:rPr b="1" i="1" lang="en-US" sz="2200" spc="-1" strike="noStrike">
                <a:solidFill>
                  <a:srgbClr val="ffffff"/>
                </a:solidFill>
                <a:latin typeface="Traditional Arabic"/>
                <a:ea typeface="Arial"/>
              </a:rPr>
              <a:t>Talaromyces</a:t>
            </a:r>
            <a:r>
              <a:rPr b="0" lang="ar-SA" sz="2200" spc="-1" strike="noStrike">
                <a:solidFill>
                  <a:srgbClr val="ffff00"/>
                </a:solidFill>
                <a:latin typeface="Traditional Arabic"/>
                <a:ea typeface="Arial"/>
              </a:rPr>
              <a:t>).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ff0000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0000"/>
                </a:solidFill>
                <a:uFillTx/>
                <a:latin typeface="Traditional Arabic"/>
                <a:cs typeface="Arial"/>
              </a:rPr>
              <a:t>التكاثر اللاجنسي </a:t>
            </a: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cs typeface="Arial"/>
              </a:rPr>
              <a:t>شائع من خلال تكوين الكونيدات </a:t>
            </a:r>
            <a:r>
              <a:rPr b="0" lang="ar-SA" sz="2400" spc="-1" strike="noStrike">
                <a:solidFill>
                  <a:srgbClr val="ffff00"/>
                </a:solidFill>
                <a:latin typeface="Traditional Arabic"/>
                <a:ea typeface="Arial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ff0000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raditional Arabic"/>
                <a:cs typeface="Arial"/>
              </a:rPr>
              <a:t>التكاثر الجنسي </a:t>
            </a: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cs typeface="Arial"/>
              </a:rPr>
              <a:t>نادراً ماعدا أعداد قليلة منه تستطيع أن تتكاثر جنسياً مكونة أجسام ثمرية مثل فطري:  </a:t>
            </a:r>
            <a:r>
              <a:rPr b="0" i="1" lang="en-US" sz="2200" spc="-1" strike="noStrike">
                <a:solidFill>
                  <a:srgbClr val="ffffff"/>
                </a:solidFill>
                <a:latin typeface="Traditional Arabic"/>
                <a:ea typeface="Arial"/>
              </a:rPr>
              <a:t>P. glaucum &amp; P. luteum</a:t>
            </a: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ea typeface="Arial"/>
              </a:rPr>
              <a:t> ويتم ذلك تحت ظروف معينة كدرجة الحرارة والبيئة المستخدمة </a:t>
            </a:r>
            <a:r>
              <a:rPr b="0" lang="ar-SA" sz="1400" spc="-1" strike="noStrike">
                <a:solidFill>
                  <a:srgbClr val="ffff00"/>
                </a:solidFill>
                <a:latin typeface="Traditional Arabic"/>
                <a:ea typeface="Arial"/>
              </a:rPr>
              <a:t>.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 u="sng">
                <a:solidFill>
                  <a:srgbClr val="ff0000"/>
                </a:solidFill>
                <a:uFillTx/>
                <a:latin typeface="Traditional Arabic"/>
                <a:cs typeface="Arial"/>
              </a:rPr>
              <a:t>الأهمية الاقتصادية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ff0000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0000"/>
                </a:solidFill>
                <a:uFillTx/>
                <a:latin typeface="Traditional Arabic"/>
                <a:cs typeface="Arial"/>
              </a:rPr>
              <a:t>الأضرار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cs typeface="Arial"/>
              </a:rPr>
              <a:t>يسبب تعفناً لثمار الحمضيات مثل فطر:      </a:t>
            </a:r>
            <a:r>
              <a:rPr b="0" i="1" lang="en-US" sz="2200" spc="-1" strike="noStrike">
                <a:solidFill>
                  <a:srgbClr val="ffffff"/>
                </a:solidFill>
                <a:latin typeface="Traditional Arabic"/>
                <a:ea typeface="Arial"/>
              </a:rPr>
              <a:t>P. Italicum</a:t>
            </a: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ea typeface="Arial"/>
              </a:rPr>
              <a:t> .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cs typeface="Arial"/>
              </a:rPr>
              <a:t>يسبب تعفناً لأوراق الطباعة والكتب (</a:t>
            </a:r>
            <a:r>
              <a:rPr b="0" i="1" lang="en-US" sz="2200" spc="-1" strike="noStrike">
                <a:solidFill>
                  <a:srgbClr val="ffffff"/>
                </a:solidFill>
                <a:latin typeface="Traditional Arabic"/>
                <a:ea typeface="Arial"/>
              </a:rPr>
              <a:t>P. funiculosum</a:t>
            </a: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ea typeface="Arial"/>
              </a:rPr>
              <a:t>) .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cs typeface="Arial"/>
              </a:rPr>
              <a:t>يسبب أمراض رئوية للإنسان </a:t>
            </a:r>
            <a:r>
              <a:rPr b="0" lang="en-US" sz="2200" spc="-1" strike="noStrike">
                <a:solidFill>
                  <a:srgbClr val="ffffff"/>
                </a:solidFill>
                <a:latin typeface="Traditional Arabic"/>
                <a:ea typeface="Arial"/>
              </a:rPr>
              <a:t>Penicillosis</a:t>
            </a: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ea typeface="Arial"/>
              </a:rPr>
              <a:t> </a:t>
            </a:r>
            <a:r>
              <a:rPr b="0" lang="ar-SA" sz="2200" spc="-1" strike="noStrike">
                <a:solidFill>
                  <a:srgbClr val="ffff00"/>
                </a:solidFill>
                <a:latin typeface="Traditional Arabic"/>
                <a:ea typeface="Arial"/>
              </a:rPr>
              <a:t>.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ff0000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0000"/>
                </a:solidFill>
                <a:uFillTx/>
                <a:latin typeface="Traditional Arabic"/>
                <a:cs typeface="Arial"/>
              </a:rPr>
              <a:t>الفوائد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cs typeface="Arial"/>
              </a:rPr>
              <a:t>تستعمل بعض أنواعه في انتاج جبن الروكفورت، مثل فطر :</a:t>
            </a:r>
            <a:r>
              <a:rPr b="0" i="1" lang="en-US" sz="2200" spc="-1" strike="noStrike">
                <a:solidFill>
                  <a:srgbClr val="ffffff"/>
                </a:solidFill>
                <a:latin typeface="Traditional Arabic"/>
                <a:ea typeface="Arial"/>
              </a:rPr>
              <a:t>P. Roqueforti</a:t>
            </a:r>
            <a:r>
              <a:rPr b="0" i="1" lang="ar-SA" sz="2200" spc="-1" strike="noStrike">
                <a:solidFill>
                  <a:srgbClr val="ffffff"/>
                </a:solidFill>
                <a:latin typeface="Traditional Arabic"/>
                <a:ea typeface="Arial"/>
              </a:rPr>
              <a:t> .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cs typeface="Arial"/>
              </a:rPr>
              <a:t>تستعمل بعض أنواعه في إنتاج المضادات الحيوية </a:t>
            </a:r>
            <a:r>
              <a:rPr b="0" lang="en-US" sz="2200" spc="-1" strike="noStrike">
                <a:solidFill>
                  <a:srgbClr val="ffffff"/>
                </a:solidFill>
                <a:latin typeface="Traditional Arabic"/>
                <a:ea typeface="Arial"/>
              </a:rPr>
              <a:t>Penicillin</a:t>
            </a: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ea typeface="Arial"/>
              </a:rPr>
              <a:t> مثل فطر (</a:t>
            </a:r>
            <a:r>
              <a:rPr b="0" lang="en-US" sz="2200" spc="-1" strike="noStrike">
                <a:solidFill>
                  <a:srgbClr val="ffffff"/>
                </a:solidFill>
                <a:latin typeface="Traditional Arabic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ffffff"/>
                </a:solidFill>
                <a:latin typeface="Traditional Arabic"/>
                <a:ea typeface="Arial"/>
              </a:rPr>
              <a:t>P. notatum </a:t>
            </a: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ea typeface="Arial"/>
              </a:rPr>
              <a:t>&amp; </a:t>
            </a:r>
            <a:r>
              <a:rPr b="0" i="1" lang="en-US" sz="2200" spc="-1" strike="noStrike">
                <a:solidFill>
                  <a:srgbClr val="ffffff"/>
                </a:solidFill>
                <a:latin typeface="Traditional Arabic"/>
                <a:ea typeface="Arial"/>
              </a:rPr>
              <a:t>P.chrysogenum</a:t>
            </a: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ea typeface="Arial"/>
              </a:rPr>
              <a:t>).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cs typeface="Arial"/>
              </a:rPr>
              <a:t>يستعمل بعض أنواعه في إنتاج فيتامين </a:t>
            </a:r>
            <a:r>
              <a:rPr b="0" lang="en-US" sz="2200" spc="-1" strike="noStrike">
                <a:solidFill>
                  <a:srgbClr val="ffffff"/>
                </a:solidFill>
                <a:latin typeface="Traditional Arabic"/>
                <a:ea typeface="Arial"/>
              </a:rPr>
              <a:t>D</a:t>
            </a: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ea typeface="Arial"/>
              </a:rPr>
              <a:t> مثل فطر (</a:t>
            </a:r>
            <a:r>
              <a:rPr b="0" i="1" lang="en-US" sz="2200" spc="-1" strike="noStrike">
                <a:solidFill>
                  <a:srgbClr val="ffffff"/>
                </a:solidFill>
                <a:latin typeface="Traditional Arabic"/>
                <a:ea typeface="Arial"/>
              </a:rPr>
              <a:t>P. griseoroseum</a:t>
            </a:r>
            <a:r>
              <a:rPr b="0" lang="ar-SA" sz="2200" spc="-1" strike="noStrike">
                <a:solidFill>
                  <a:srgbClr val="ffffff"/>
                </a:solidFill>
                <a:latin typeface="Traditional Arabic"/>
                <a:ea typeface="Arial"/>
              </a:rPr>
              <a:t>) .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142920" y="1600200"/>
            <a:ext cx="8786880" cy="347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AutoShape 7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AutoShape 9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AutoShape 11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AutoShape 13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AutoShape 15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714240" y="1428840"/>
            <a:ext cx="5929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66"/>
                </a:solidFill>
                <a:latin typeface="Times New Roman"/>
              </a:rPr>
              <a:t>Thank You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4T05:15:45Z</dcterms:created>
  <dc:creator>joice</dc:creator>
  <dc:description/>
  <dc:language>en-US</dc:language>
  <cp:lastModifiedBy>user</cp:lastModifiedBy>
  <dcterms:modified xsi:type="dcterms:W3CDTF">2014-11-12T07:14:00Z</dcterms:modified>
  <cp:revision>269</cp:revision>
  <dc:subject/>
  <dc:title>Fungi and the Mycoses</dc:title>
</cp:coreProperties>
</file>