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F47C-46F9-4594-AF40-4E54CF1B5EC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B555-8E1C-4835-8E14-B8003D16CE01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6BFA-8E46-4DBC-988F-7659B8A17156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5162-C001-441B-997F-2B4F10E7DA17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38FE-120D-4543-9F03-CC188B01C95B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4498-C4E5-4E9E-A818-19C3D6E9BCD4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F3BA-D8CC-47BE-8750-D4253C0907C3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EAA3-05C4-460E-AD5D-58B3D40D2F36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4E0-1611-47D5-BA2D-BB5A2B73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E16-70AE-43C3-AACB-6DF9D11D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F61-B3CA-4B0C-9467-56B1CC0C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1A3-84D8-447C-8B75-834C13C0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0205-D1F9-44F5-A4AF-9EEB0169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6C52-E79C-4787-AD86-3108370D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4F10-F034-4712-B0A7-8A43B61A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C8F3-7487-400B-8308-B01F94EA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4E7F-098B-48FE-8EA1-EBC7E9DA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66D7-E2AC-4596-8BCC-5AA5B829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0D6E-6244-4B3E-A7AB-FD742D6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37E-0A9C-4E26-A299-F4C82270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D72A-3523-40F0-BB28-949C5874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FBAB-A810-4D0C-A1A8-D4790C5F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DF25-7531-4250-A4BA-5B28A565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164E-A1D3-4C12-99A0-CC1AB6EC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7302-173A-49CC-B2B6-AD010F02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199-E79C-483C-BD87-BC67A70C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FE7-1E24-46B6-BDB4-5CC3EED1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CA8-A165-453B-93D1-D2174DFF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C51-819F-4443-936A-B00F381E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52A-C5A0-46DC-9D26-52F599AA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4FA-282F-4860-823B-31A4814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DD4-6126-442A-A10A-AE7D8660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4E9-9586-4DFB-A928-D123264C3B5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44EF-557B-4A2B-B3A1-70464C169CE4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athmicro.med.sc.edu/mayer/bactphage-bw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Verdana"/>
              </a:rPr>
              <a:t>فيروسات البكتيريا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تعتبر فيروسات البكتيريا من المتطفلات إجباريا على خلايا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البكتيريا وأكثرها تخصص وذلك لوجود تركيبات خاصة تساعدها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على الادمصاص واختراق الجدار الخلو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6633"/>
                </a:solidFill>
                <a:latin typeface="Verdana"/>
                <a:ea typeface="Akhbar MT"/>
              </a:rPr>
              <a:t> </a:t>
            </a:r>
            <a:r>
              <a:rPr b="1" lang="ar-SA" sz="2800" spc="-1" strike="noStrike">
                <a:solidFill>
                  <a:srgbClr val="ffff9e"/>
                </a:solidFill>
                <a:latin typeface="Verdana"/>
                <a:cs typeface="Akhbar MT"/>
              </a:rPr>
              <a:t>تركيبها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Verdana"/>
                <a:cs typeface="Akhbar MT"/>
              </a:rPr>
              <a:t>رأس سداسيه الاضلاع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Verdana"/>
                <a:cs typeface="Akhbar MT"/>
              </a:rPr>
              <a:t>ذيل يلتصق به على خليه البكتيريا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Verdana"/>
                <a:cs typeface="Akhbar MT"/>
              </a:rPr>
              <a:t>جدار بروتيني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Verdana"/>
                <a:cs typeface="Akhbar MT"/>
              </a:rPr>
              <a:t>حمض نووي 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Akhbar MT"/>
              </a:rPr>
              <a:t>D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8" descr="bactphage-bw.jpg (77888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2000160"/>
            <a:ext cx="32860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14320" y="277920"/>
            <a:ext cx="6972120" cy="36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609480"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ndalus"/>
                <a:cs typeface="Andalus"/>
              </a:rPr>
              <a:t>دوره حياة البكتريوفاج</a:t>
            </a:r>
            <a:r>
              <a:rPr b="0" lang="ar-SA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3214800"/>
            <a:ext cx="4278600" cy="3071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virus 2 viruses"/>
          <p:cNvPicPr/>
          <p:nvPr/>
        </p:nvPicPr>
        <p:blipFill>
          <a:blip r:embed="rId2"/>
          <a:stretch/>
        </p:blipFill>
        <p:spPr>
          <a:xfrm>
            <a:off x="357120" y="571680"/>
            <a:ext cx="2643120" cy="2519280"/>
          </a:xfrm>
          <a:prstGeom prst="rect">
            <a:avLst/>
          </a:prstGeom>
          <a:ln w="0">
            <a:noFill/>
          </a:ln>
        </p:spPr>
      </p:pic>
      <p:sp>
        <p:nvSpPr>
          <p:cNvPr id="126" name="مستطيل 6"/>
          <p:cNvSpPr/>
          <p:nvPr/>
        </p:nvSpPr>
        <p:spPr>
          <a:xfrm>
            <a:off x="4357800" y="857160"/>
            <a:ext cx="457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cc"/>
                </a:solidFill>
                <a:latin typeface="Verdana"/>
                <a:ea typeface="Akhbar MT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تحدث الاصابه بـ اطوار ومراحل مختلفة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r" rtl="1">
              <a:lnSpc>
                <a:spcPct val="80000"/>
              </a:lnSpc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طور الادمصا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r" rtl="1">
              <a:lnSpc>
                <a:spcPct val="80000"/>
              </a:lnSpc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مرحله الاخترا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r" rtl="1">
              <a:lnSpc>
                <a:spcPct val="80000"/>
              </a:lnSpc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طور الخسوف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r" rtl="1">
              <a:lnSpc>
                <a:spcPct val="80000"/>
              </a:lnSpc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طور التضاعف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r" rtl="1">
              <a:lnSpc>
                <a:spcPct val="80000"/>
              </a:lnSpc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طور خروج الفيروسات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مستطيل 7"/>
          <p:cNvSpPr/>
          <p:nvPr/>
        </p:nvSpPr>
        <p:spPr>
          <a:xfrm>
            <a:off x="4786200" y="2500200"/>
            <a:ext cx="421488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khbar MT"/>
              </a:rPr>
              <a:t>1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khbar MT"/>
              </a:rPr>
              <a:t>) طور الادمصاص 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khbar MT"/>
              </a:rPr>
              <a:t>التصاق البكتريوفاج على الخليه البكتيريه بواسطة الذيل 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khbar MT"/>
              </a:rPr>
              <a:t>2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khbar MT"/>
              </a:rPr>
              <a:t>)مرحله الاختراق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khbar MT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khbar MT"/>
              </a:rPr>
              <a:t>يفرغ الحامض النووي من خلال الذيل الى الخليه البكتيريه تاركا الغلاف البروتيني ملتصق بسطح الخليه من الخارج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(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3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) 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khbar MT"/>
              </a:rPr>
              <a:t>طور الخسوف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khbar MT"/>
              </a:rPr>
              <a:t>التضاعف السريع للحمض النووي داخل الخليه البكتيري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khbar MT"/>
              </a:rPr>
              <a:t>على حساب محتوياتها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(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4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)طور التضاعف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cs typeface="Akhbar MT"/>
              </a:rPr>
              <a:t>تضاعف الفيروس عدة مرات في وقت قصير جدا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5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)طور خروج الفيروسات: تغليف الفاجات نفسها بغلاف بروتيني وبعدها إطلاق الفيروسات الجديدة (الفاجات) بعد تدمير الخلية العائل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طريقة العمل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يتم تحضير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25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مل من بيئة مناسبة لإكثار البكتيريا(مرق مغذي)في دورق حجمه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500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ل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تلقح البيئة بالعينة المطلوبة للدراسة, فمثلا عينة التربة بوزن منها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جم,اما مياه المجاري واللبن الزبادي فننقل منها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ل باستخدام الماصة المعقمة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بعد عملية التلقيح يحضن الدورق عند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37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 لمدة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24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ساعة على جهاز هزا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بعد التحضين يترك الدورق في درجة حرارة الغرفة لمدة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5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دقيقة حتى تترسب حبيبات التربة والشوائب وجدر البكتيريا المتحللة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ينقل الرائق باستخدام ماصة معقمة الى انبوبة الطرد المركزي ثم تتم عملية الطرد عند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7000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لفة في الدقيقة لمدة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30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دقيقة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6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 بعد عملية الطرد الراسب يتم نقل الراشح باستخدام ماصة معقمة الى انبوبة ويضاف لها كلورفورم بنسبة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0:1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وترج جيدا لمدة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دقائ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7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يتم عمل طرد مركزي للأنبوبة السابقة عند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3000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لفة في الدقيقة لمدة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دقائ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8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بعد عملية الطرد ينقل المعلق(الفاج) باستخدام ماصة معقمة الى انبوبة معقمة ويحفظ عند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الكشف عن وجود الفاج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ec85e"/>
                </a:solidFill>
                <a:latin typeface="Verdana"/>
              </a:rPr>
              <a:t>اولاً: تحضير بيئة 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Base lay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الغرض من تحضير البيئة هو امداد الميكروبات بكمية كافية من المادة الغذائ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حضير بيئة اجار مغدي(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جم –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50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ل ماء مقطر)تعقم وتبرد عند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45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 ثم تصب في اطباق بتري بحوالي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3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4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ل في كل طبق تحت ظروف التعقي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ترك الاطباق في درجة حرارة المعمل حتى تتصلب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ec85e"/>
                </a:solidFill>
                <a:latin typeface="Verdana"/>
              </a:rPr>
              <a:t>ثانياً: تحضير بيئة 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over lay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هي عبارة عن بيئة نصف صلب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يوزن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7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جم من الاجار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00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ل من المرق المغذي المحضر.ويعقم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وزع هذه البيئة في انابيب معقمة فى كل انبوبة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6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ل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بعد تبريد البيئة تلقح كل انبوبة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ل من المعلق البكتيري ثم ترج بين راحتي اليد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بعد ذلك تصب في الاطباق السابقة التحضير(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ase layer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) ويتم تحريك الطبق لتوزيع ال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ver laye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بتجانس ثم تترك فترة حتى تتجمد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ثالثا:الكشف عن وجود الفاج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وضع قطرة من معلق الفاج المراد الكشف عنه على الاطباق السابقة وتترك لمدة ربع ساعة في درجة حرارة المعمل حتى يحدث ادمصاص للقطر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حضن الاطباق عند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37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 لمدة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48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ساع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حضن اطباق بدون تلقيح من معلق الفاج(كنترول)للمقارنة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يكشف عن الفاج بتكون مناطق رائ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28584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cc"/>
                </a:solidFill>
                <a:latin typeface="Verdana"/>
              </a:rPr>
              <a:t>الكشف عن الفاجات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بيئة الصلبة: نلاحظ تكون مناطق خالية من النمو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بيئة السائلة: نلاحظ ازالة التعكير من البيئ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( تعمل على ترويق المزرعة السائلة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4" descr="Phage plates"/>
          <p:cNvPicPr/>
          <p:nvPr/>
        </p:nvPicPr>
        <p:blipFill>
          <a:blip r:embed="rId1"/>
          <a:srcRect l="49887" t="0" r="0" b="49973"/>
          <a:stretch/>
        </p:blipFill>
        <p:spPr>
          <a:xfrm>
            <a:off x="4788000" y="3068640"/>
            <a:ext cx="3600360" cy="3581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hage plates"/>
          <p:cNvPicPr/>
          <p:nvPr/>
        </p:nvPicPr>
        <p:blipFill>
          <a:blip r:embed="rId2"/>
          <a:srcRect l="26270" t="50575" r="23873" b="0"/>
          <a:stretch/>
        </p:blipFill>
        <p:spPr>
          <a:xfrm>
            <a:off x="826920" y="2997360"/>
            <a:ext cx="35197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5:59:46Z</dcterms:created>
  <dc:creator>Customer</dc:creator>
  <dc:description/>
  <dc:language>en-US</dc:language>
  <cp:lastModifiedBy>yaser</cp:lastModifiedBy>
  <dcterms:modified xsi:type="dcterms:W3CDTF">2014-11-26T17:40:44Z</dcterms:modified>
  <cp:revision>23</cp:revision>
  <dc:subject/>
  <dc:title>الشريحة 1</dc:title>
</cp:coreProperties>
</file>