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7DA-9150-4BE5-850F-3229E70E427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E6CB-1AFF-4AB5-B55C-8C1903470C4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F7A7-348E-480E-A96E-C8ED5E9B77D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3E9-62E0-4DD1-A19A-EBBEFC8A776D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00D-71A6-4476-8F3C-DBE5FBA9490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6EA-4ECD-4465-95CA-084C691430E8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A5E-3C4F-4399-B68D-3C89A1BE9F4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FA8A-EA81-4B2F-B77F-A76D3C7A91E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FCE-A8A3-4B73-8D36-86EF904B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E83-5760-4FD9-A80C-F6E89050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A0D-3DF6-46E1-A875-CACE6C6A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031-A589-4FDA-9E71-D25D65DC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DFB6-70E4-450C-BBC2-5D69810E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A79A-4986-4C54-A140-D69AD2A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701-AD0F-4DF6-B0CE-4C5CA640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F2E-EDAC-47DF-95A5-E4969FB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7D7E-D181-45DD-9553-F61909A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C05-F1E0-4060-BC68-835F2F12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DA7-9BD7-47F1-9BC8-F275F0F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492-2117-4D85-95CB-7146EB5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F955-9D9E-4B71-BAE9-FD6E06D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6012-7DCB-45E4-AA2B-6D95A168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7CD-7E9F-4E0D-B365-3389940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6DC9-9B21-4DBE-9139-E76446C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ECBD-76E5-4178-B6C4-B5E06F91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E0F-7BBA-4873-AA9A-221A209A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AE4-824A-4AE2-9D27-820876E0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4A3-6A6C-4AA7-91B8-8EB7056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370-0A3C-4227-8C5D-C293ED3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FF2-299F-497E-BCDF-49FAA71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A99-BED0-48B8-8296-4C20EB0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F8E-B6AB-41EF-9466-BB0CA8E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3E4-9F4B-469E-8E31-E7E9C7A357A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754-7AB8-4C38-B841-B6CC3C686BE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thmicro.med.sc.edu/mayer/bactphage-bw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Verdana"/>
              </a:rPr>
              <a:t>فيروسات البكتيريا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تعتبر فيروسات البكتيريا من المتطفلات إجباريا على خلايا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البكتيريا وأكثرها تخصص وذلك لوجود تركيبات خاصة تساعدها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على الادمصاص واختراق الجدار الخلو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6633"/>
                </a:solidFill>
                <a:latin typeface="Verdana"/>
                <a:ea typeface="Akhbar MT"/>
              </a:rPr>
              <a:t> </a:t>
            </a:r>
            <a:r>
              <a:rPr b="1" lang="ar-SA" sz="2800" spc="-1" strike="noStrike">
                <a:solidFill>
                  <a:srgbClr val="ffff9e"/>
                </a:solidFill>
                <a:latin typeface="Verdana"/>
                <a:cs typeface="Akhbar MT"/>
              </a:rPr>
              <a:t>تركيبها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رأس سداسيه الاضلاع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ذيل يلتصق به على خليه البكتيريا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جدار بروتين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  <a:cs typeface="Akhbar MT"/>
              </a:rPr>
              <a:t>حمض نووي 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Akhbar MT"/>
              </a:rPr>
              <a:t>D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8" descr="bactphage-bw.jpg (7788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000160"/>
            <a:ext cx="3286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4320" y="277920"/>
            <a:ext cx="6972120" cy="36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60948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ndalus"/>
                <a:cs typeface="Andalus"/>
              </a:rPr>
              <a:t>دوره حياة البكتريوفاج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3214800"/>
            <a:ext cx="4278600" cy="307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virus 2 viruses"/>
          <p:cNvPicPr/>
          <p:nvPr/>
        </p:nvPicPr>
        <p:blipFill>
          <a:blip r:embed="rId2"/>
          <a:stretch/>
        </p:blipFill>
        <p:spPr>
          <a:xfrm>
            <a:off x="357120" y="571680"/>
            <a:ext cx="2643120" cy="2519280"/>
          </a:xfrm>
          <a:prstGeom prst="rect">
            <a:avLst/>
          </a:prstGeom>
          <a:ln w="0">
            <a:noFill/>
          </a:ln>
        </p:spPr>
      </p:pic>
      <p:sp>
        <p:nvSpPr>
          <p:cNvPr id="126" name="مستطيل 6"/>
          <p:cNvSpPr/>
          <p:nvPr/>
        </p:nvSpPr>
        <p:spPr>
          <a:xfrm>
            <a:off x="4357800" y="857160"/>
            <a:ext cx="457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cc"/>
                </a:solidFill>
                <a:latin typeface="Verdana"/>
                <a:ea typeface="Akhbar MT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تحدث الاصابه بـ اطوار ومراحل مختلفة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ادمصا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مرحله الاخترا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خسو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التضاع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80000"/>
              </a:lnSpc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Verdana"/>
                <a:cs typeface="Akhbar MT"/>
              </a:rPr>
              <a:t>طور خروج الفيروس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مستطيل 7"/>
          <p:cNvSpPr/>
          <p:nvPr/>
        </p:nvSpPr>
        <p:spPr>
          <a:xfrm>
            <a:off x="4786200" y="2500200"/>
            <a:ext cx="42148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1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) طور الادمصاص 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التصاق البكتريوفاج على الخليه البكتيريه بواسطة الذيل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2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)مرحله الاختراق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khbar MT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يفرغ الحامض النووي من خلال الذيل الى الخليه البكتيريه تاركا الغلاف البروتيني ملتصق بسطح الخليه من الخارج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(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3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طور الخسوف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التضاعف السريع للحمض النووي داخل الخليه البكتيري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khbar MT"/>
              </a:rPr>
              <a:t>على حساب محتوياتها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(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4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طور التضاعف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khbar MT"/>
              </a:rPr>
              <a:t>تضاعف الفيروس عدة مرات في وقت قصير جدا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5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khbar MT"/>
              </a:rPr>
              <a:t>)طور خروج الفيروسات: تغليف الفاجات نفسها بغلاف بروتيني وبعدها إطلاق الفيروسات الجديدة (الفاجات) بعد تدمير الخلية العائل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يتم تحضير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مل من بيئة مناسبة لإكثار البكتيريا(مرق مغذي)في دورق حجمه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ل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تلقح البيئة بالعينة المطلوبة للدراسة, فمثلا عينة التربة بوزن منها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جم,اما مياه المجاري واللبن الزبادي فننقل منها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ل باستخدام الماصة المعقم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عملية التلقيح يحضن الدورق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7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2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ساعة على جهاز هزا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التحضين يترك الدورق في درجة حرارة الغرف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يقة حتى تترسب حبيبات التربة والشوائب وجدر البكتيريا المتحلل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ينقل الرائق باستخدام ماصة معقمة الى انبوبة الطرد المركزي ثم تتم عملية الطرد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70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لفة في الدقيق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يقة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 بعد عملية الطرد الراسب يتم نقل الراشح باستخدام ماصة معقمة الى انبوبة ويضاف لها كلورفورم بنسب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0:1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وترج جيدا لمدة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دقائ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7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يتم عمل طرد مركزي للأنبوبة السابقة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300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لفة في الدقيقة لمدة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دقائ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8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- بعد عملية الطرد ينقل المعلق(الفاج) باستخدام ماصة معقمة الى انبوبة معقمة ويحفظ عند 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كشف عن وجود الفاج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ec85e"/>
                </a:solidFill>
                <a:latin typeface="Verdana"/>
              </a:rPr>
              <a:t>اولاً: تحضير بيئة 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Base lay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الغرض من تحضير البيئة هو امداد الميكروبات بكمية كافية من المادة الغذ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ير بيئة اجار مغدي(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جم –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اء مقطر)تعقم وتبرد عند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5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 ثم تصب في اطباق بتري بحوالي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في كل طبق تحت ظروف التعقي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ترك الاطباق في درجة حرارة المعمل حتى تتصلب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ec85e"/>
                </a:solidFill>
                <a:latin typeface="Verdana"/>
              </a:rPr>
              <a:t>ثانياً: تحضير بيئة 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over lay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هي عبارة عن بيئة نصف صلب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يوزن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7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جم من الاجار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ن المرق المغذي المحضر.ويعق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وزع هذه البيئة في انابيب معقمة فى كل انبوبة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بعد تبريد البيئة تلقح كل انبوبة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ل من المعلق البكتيري ثم ترج بين راحتي اليد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بعد ذلك تصب في الاطباق السابقة التحضير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se layer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) ويتم تحريك الطبق لتوزيع ال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ver laye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بتجانس ثم تترك فترة حتى تتجمد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ثالثا:الكشف عن وجود الفاج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وضع قطرة من معلق الفاج المراد الكشف عنه على الاطباق السابقة وتترك لمدة ربع ساعة في درجة حرارة المعمل حتى يحدث ادمصاص للقطر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ن الاطباق عند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7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م لمدة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8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ساع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تحضن اطباق بدون تلقيح من معلق الفاج(كنترول)للمقارنة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يكشف عن الفاج بتكون مناطق رائ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Verdana"/>
              </a:rPr>
              <a:t>الكشف عن الفاجات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بيئة الصلبة: نلاحظ تكون مناطق خالية من النمو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بيئة السائلة: نلاحظ ازالة التعكير من البيئ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( تعمل على ترويق المزرعة السائلة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Phage plates"/>
          <p:cNvPicPr/>
          <p:nvPr/>
        </p:nvPicPr>
        <p:blipFill>
          <a:blip r:embed="rId1"/>
          <a:srcRect l="49887" t="0" r="0" b="49973"/>
          <a:stretch/>
        </p:blipFill>
        <p:spPr>
          <a:xfrm>
            <a:off x="4788000" y="3068640"/>
            <a:ext cx="3600360" cy="358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hage plates"/>
          <p:cNvPicPr/>
          <p:nvPr/>
        </p:nvPicPr>
        <p:blipFill>
          <a:blip r:embed="rId2"/>
          <a:srcRect l="26270" t="50575" r="23873" b="0"/>
          <a:stretch/>
        </p:blipFill>
        <p:spPr>
          <a:xfrm>
            <a:off x="826920" y="2997360"/>
            <a:ext cx="35197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5:59:46Z</dcterms:created>
  <dc:creator>Customer</dc:creator>
  <dc:description/>
  <dc:language>en-US</dc:language>
  <cp:lastModifiedBy>yaser</cp:lastModifiedBy>
  <dcterms:modified xsi:type="dcterms:W3CDTF">2014-11-26T17:40:44Z</dcterms:modified>
  <cp:revision>23</cp:revision>
  <dc:subject/>
  <dc:title>الشريحة 1</dc:title>
</cp:coreProperties>
</file>