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3933A-DCD5-4D4E-9894-0EDC72CC3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5BD2C-AEFD-4C64-A22A-44D10C97C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30412-57AE-4217-8A1F-32C652E88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213C7-3825-4C4C-8827-535B6D0DC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561EC0-364A-4928-A7CA-8A7882587A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62227-6CD7-40BB-BE1C-3EC9C695A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721D0-7B99-413E-988A-8398FAC8D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E6F3A-7CFD-4B30-B9EA-BD0AEE894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DE2CC-FAEB-4204-998E-F00897549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F95C7-5D13-449B-8E77-4BE5CA6BD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31A28-A020-42D9-AE11-C8D3225D0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CEEEE-1A29-4705-B64F-894E9BD35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A6B63-C310-4C23-AD33-AF1BE7F2C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6ABE0-5921-4E73-81DB-627F2F892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EE9C3-8D84-4770-AFCB-B7294166D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A3456-4AA2-4702-A1BC-0B30F84DE4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3F315-935B-493C-AC56-D702BE4F3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B1701-9FD5-46AC-B393-8BF4C9E75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875FF-226C-40F1-9F12-756EB2473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24247-E01E-4A12-8CFE-28CB0910B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542B6-B2F4-484C-97AE-D22471561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4EAB3-986D-42BD-94E6-C7F6AE6E8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77463-EE06-4963-A458-5C432FDF7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1541E-BCB1-4CBA-8B23-10B6A751A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4BEA1-E42E-4987-9175-73B1259C7E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9552-3B87-4C31-990E-C58A369FC7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rtl="1">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rtl="1">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rtl="1">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eec94"/>
                </a:solidFill>
                <a:latin typeface="Times New Roman"/>
              </a:rPr>
              <a:t>فيصل عبدالله القفيدي</a:t>
            </a:r>
            <a:br>
              <a:rPr sz="3200"/>
            </a:br>
            <a:br>
              <a:rPr sz="3200"/>
            </a:br>
            <a:r>
              <a:rPr b="1" lang="ar-SA" sz="3200" spc="-1" strike="noStrike">
                <a:solidFill>
                  <a:srgbClr val="feec94"/>
                </a:solidFill>
                <a:latin typeface="Times New Roman"/>
              </a:rPr>
              <a:t>430111113</a:t>
            </a:r>
            <a:br>
              <a:rPr sz="3200"/>
            </a:br>
            <a:r>
              <a:rPr b="1" lang="ar-SA" sz="3200" spc="-1" strike="noStrike">
                <a:solidFill>
                  <a:srgbClr val="feec94"/>
                </a:solidFill>
                <a:latin typeface="Times New Roman"/>
              </a:rPr>
              <a:t>إشراف </a:t>
            </a:r>
            <a:br>
              <a:rPr sz="3200"/>
            </a:br>
            <a:r>
              <a:rPr b="1" lang="ar-SA" sz="3200" spc="-1" strike="noStrike">
                <a:solidFill>
                  <a:srgbClr val="feec94"/>
                </a:solidFill>
                <a:latin typeface="Times New Roman"/>
              </a:rPr>
              <a:t>د.سعيد الغامدي</a:t>
            </a:r>
            <a:br>
              <a:rPr sz="3200"/>
            </a:br>
            <a:r>
              <a:rPr b="1" lang="ar-SA" sz="3200" spc="-1" strike="noStrike">
                <a:solidFill>
                  <a:srgbClr val="feec94"/>
                </a:solidFill>
                <a:latin typeface="Times New Roman"/>
              </a:rPr>
              <a:t>تقرير</a:t>
            </a:r>
            <a:br>
              <a:rPr sz="3200"/>
            </a:br>
            <a:r>
              <a:rPr b="1" lang="ar-SA" sz="3200" spc="-1" strike="noStrike">
                <a:solidFill>
                  <a:srgbClr val="feec94"/>
                </a:solidFill>
                <a:latin typeface="Times New Roman"/>
              </a:rPr>
              <a:t> (أمانة منطقة الرياض)</a:t>
            </a:r>
            <a:endParaRPr b="1" lang="en-US" sz="3200" spc="-1" strike="noStrike">
              <a:solidFill>
                <a:srgbClr val="feec94"/>
              </a:solidFill>
              <a:latin typeface="Times New Roman"/>
            </a:endParaRPr>
          </a:p>
        </p:txBody>
      </p:sp>
      <p:pic>
        <p:nvPicPr>
          <p:cNvPr id="121" name="" descr=""/>
          <p:cNvPicPr/>
          <p:nvPr/>
        </p:nvPicPr>
        <p:blipFill>
          <a:blip r:embed="rId1"/>
          <a:stretch/>
        </p:blipFill>
        <p:spPr>
          <a:xfrm>
            <a:off x="3564000" y="4292640"/>
            <a:ext cx="2232000" cy="1584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eec94"/>
                </a:solidFill>
                <a:latin typeface="Times New Roman"/>
              </a:rPr>
              <a:t>تحرير الاخبار:</a:t>
            </a: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طلب مني المشرف صياغة اخبارعن الامانة ترسل الى الصحف بمعنى صياغة اخبار سوا كانت رد عن خبر نشرأو توضيح اوالمساعده في ارسال اعلان تريد الامانة نشره</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eec94"/>
                </a:solidFill>
                <a:latin typeface="Times New Roman"/>
              </a:rPr>
              <a:t>ارسال خطبات لتنسيق مع الجهات:</a:t>
            </a:r>
            <a:endParaRPr b="1" lang="en-US" sz="4400" spc="-1" strike="noStrike">
              <a:solidFill>
                <a:srgbClr val="feec94"/>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281160" algn="r" rtl="1">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بعد ماتم تدريبي على المراسم وكيفية استقبال المراجعين في مكتب الامين انتقلت الى مرحلة جديده وهي , كيفية صياغة الخطابات للجهت المعنية سواء داخل الامانة او خارجها وكيفية التنسيق مع الجهات المعنيه بحالة وصول وفد خارجي , وكيفية استقبالهم بطريقه رسميه وما قبل الاستقبال</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81160" indent="-281160" algn="r" rtl="1">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كان التركيز في هذه المرحله على ماقبل وصول الوفد او الضيوف والتنسيق بالخطابات للجهات المعنيه مثل</a:t>
            </a:r>
            <a:endParaRPr b="0" lang="en-US" sz="3200" spc="-1" strike="noStrike">
              <a:solidFill>
                <a:srgbClr val="ffffff"/>
              </a:solidFill>
              <a:latin typeface="Times New Roman"/>
            </a:endParaRPr>
          </a:p>
          <a:p>
            <a:pPr marL="281160" indent="-281160" algn="r" rtl="1">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طار / المرور / الفنادق / المستشفيات / القاعات/ الاماكن التي تحدد زيارتها </a:t>
            </a:r>
            <a:endParaRPr b="0" lang="en-US" sz="3200" spc="-1" strike="noStrike">
              <a:solidFill>
                <a:srgbClr val="ffffff"/>
              </a:solidFill>
              <a:latin typeface="Times New Roman"/>
            </a:endParaRPr>
          </a:p>
          <a:p>
            <a:pPr marL="281160" indent="-281160" algn="r" rtl="1">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وطباعة الخطابات بطريقه رسميه ووجود شعار الامانه عليه وتحديد التاريخ وانتظار الرد من الادارات التي ارسلت اليهم .</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eec94"/>
                </a:solidFill>
                <a:latin typeface="Times New Roman"/>
              </a:rPr>
              <a:t>مجمل ما استفدته من فترة التدريب:</a:t>
            </a:r>
            <a:br>
              <a:rPr sz="4000"/>
            </a:br>
            <a:endParaRPr b="1" lang="en-US" sz="40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عايشة بيئة العمل الواقعيه</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طالعة الصحف بشكل يومي ومعرفة الاخبار المهمه للمنشأه</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كيفية الرد على الشائعات عن طريق الصحف</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كيفية التعامل مع الصحف ( عزاء - تهنئه – مشروع – الابلاغ عن طرق- الاعلان عن برنامج العيد)</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تاصيل صفة الصبر من خلال العمل تحت ضغوطات المراجعين</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مشاركه في اختيار عنوان لـ اسبوع الشجرة</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تدريب على تنظيم الاجتماعات  </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كيفية التعامل(البرتوكول)  مع الوفد النسائي </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صياغة الخطابات</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صياغة اخبار وارسالها الى الصحف</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عداد دعوت</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eec94"/>
                </a:solidFill>
                <a:latin typeface="Times New Roman"/>
              </a:rPr>
              <a:t>عوائق فترة التدريب:</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قصر فترة التدريب حيث انها </a:t>
            </a:r>
            <a:r>
              <a:rPr b="0" lang="ar-SA" sz="3600" spc="-1" strike="noStrike">
                <a:solidFill>
                  <a:srgbClr val="ffffff"/>
                </a:solidFill>
                <a:latin typeface="Times New Roman"/>
              </a:rPr>
              <a:t>12</a:t>
            </a:r>
            <a:r>
              <a:rPr b="0" lang="ar-SA" sz="3600" spc="-1" strike="noStrike">
                <a:solidFill>
                  <a:srgbClr val="ffffff"/>
                </a:solidFill>
                <a:latin typeface="Times New Roman"/>
              </a:rPr>
              <a:t> ساعه في الاسبوع فقط.</a:t>
            </a:r>
            <a:endParaRPr b="0" lang="en-US" sz="3600" spc="-1" strike="noStrike">
              <a:solidFill>
                <a:srgbClr val="ffffff"/>
              </a:solidFill>
              <a:latin typeface="Times New Roman"/>
            </a:endParaRPr>
          </a:p>
          <a:p>
            <a:pPr marL="315360" indent="-31536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عدم وجود برنامج تدريب  تحت اشراف القسم.</a:t>
            </a:r>
            <a:endParaRPr b="0" lang="en-US" sz="3600" spc="-1" strike="noStrike">
              <a:solidFill>
                <a:srgbClr val="ffffff"/>
              </a:solidFill>
              <a:latin typeface="Times New Roman"/>
            </a:endParaRPr>
          </a:p>
          <a:p>
            <a:pPr marL="315360" indent="-31536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تعارض وقت التدريب مع الجدول الدراسي </a:t>
            </a:r>
            <a:endParaRPr b="0" lang="en-US" sz="3600" spc="-1" strike="noStrike">
              <a:solidFill>
                <a:srgbClr val="ffffff"/>
              </a:solidFill>
              <a:latin typeface="Times New Roman"/>
            </a:endParaRPr>
          </a:p>
          <a:p>
            <a:pPr marL="315360" indent="-31536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عدم وجود مقر خاص للمتدربين.</a:t>
            </a:r>
            <a:endParaRPr b="0" lang="en-US" sz="3600" spc="-1" strike="noStrike">
              <a:solidFill>
                <a:srgbClr val="ffffff"/>
              </a:solidFill>
              <a:latin typeface="Times New Roman"/>
            </a:endParaRPr>
          </a:p>
          <a:p>
            <a:pPr marL="315360" indent="-31536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عدم اعطاء المتدرب صلاحيات اكبر في العمل</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5280" y="1125360"/>
            <a:ext cx="8424720" cy="540072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كانت البداية في التدريب في تاريخ </a:t>
            </a:r>
            <a:r>
              <a:rPr b="0" lang="ar-SA" sz="2400" spc="-1" strike="noStrike">
                <a:solidFill>
                  <a:srgbClr val="ffffff"/>
                </a:solidFill>
                <a:latin typeface="Times New Roman"/>
              </a:rPr>
              <a:t>9/11/1433</a:t>
            </a:r>
            <a:r>
              <a:rPr b="0" lang="ar-SA" sz="2400" spc="-1" strike="noStrike">
                <a:solidFill>
                  <a:srgbClr val="ffffff"/>
                </a:solidFill>
                <a:latin typeface="Times New Roman"/>
              </a:rPr>
              <a:t> يوم الثلاثا وكان هناك اجتماع مع مدير العلاقات العامة في أمانة منطقة الرياض الاستاذ : ابراهيم حمدالدعيلج وكان الاجتماع تعريفي لـ دور العلاقات العامة في أمانة منطقة الرياض واستعراض ابراز الانشطات  في الأمانة واستعراض للتقرير السنوي للأمانة با الاضافة الى طبيعة العمل في العلاقات العامة في الأمانة , وايضا معرفة ماهو مطلوب مني القيام خلال فترة التدريب .</a:t>
            </a:r>
            <a:endParaRPr b="0" lang="en-US" sz="2400" spc="-1" strike="noStrike">
              <a:solidFill>
                <a:srgbClr val="ffffff"/>
              </a:solidFill>
              <a:latin typeface="Times New Roman"/>
            </a:endParaRPr>
          </a:p>
          <a:p>
            <a:pPr marL="329040" indent="-3290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يوم الثاني من التدريب الموافق </a:t>
            </a:r>
            <a:r>
              <a:rPr b="0" lang="ar-SA" sz="2400" spc="-1" strike="noStrike">
                <a:solidFill>
                  <a:srgbClr val="ffffff"/>
                </a:solidFill>
                <a:latin typeface="Times New Roman"/>
              </a:rPr>
              <a:t>14/11/1433</a:t>
            </a:r>
            <a:r>
              <a:rPr b="0" lang="ar-SA" sz="2400" spc="-1" strike="noStrike">
                <a:solidFill>
                  <a:srgbClr val="ffffff"/>
                </a:solidFill>
                <a:latin typeface="Times New Roman"/>
              </a:rPr>
              <a:t> قام الاستاذ ابراهيم الدعيج بتكليف احد الموظفين للاشراف ولتعريفي على عمل الاساسي واليومي لموظف العلاقات العامة وفي البداية الملف الصحفي وكيفية انشاء وتحرير خبر يصدر من العلاقات العامة وكيف ان العلاقات العامة هي حلقة وصل داخل اقسام الامانة والية العمل لايقتصر داخل الامانة بل ان دور الموظف في استقبال الضيف والمراسم وعن الية تجهيز الامانة للمناسبات الاعياد او كيفية الاعلانات والتنسيق مع الجهات الاخرى مثل المرور اعطاني لمحة عامة وشاملة عن العمل التي تقوم بة الادارة في الامانة قام.</a:t>
            </a:r>
            <a:endParaRPr b="0" lang="en-US" sz="2400" spc="-1" strike="noStrike">
              <a:solidFill>
                <a:srgbClr val="ffffff"/>
              </a:solidFill>
              <a:latin typeface="Times New Roman"/>
            </a:endParaRPr>
          </a:p>
        </p:txBody>
      </p:sp>
      <p:pic>
        <p:nvPicPr>
          <p:cNvPr id="123" name="" descr=""/>
          <p:cNvPicPr/>
          <p:nvPr/>
        </p:nvPicPr>
        <p:blipFill>
          <a:blip r:embed="rId1"/>
          <a:stretch/>
        </p:blipFill>
        <p:spPr>
          <a:xfrm>
            <a:off x="3995640" y="260280"/>
            <a:ext cx="1224000" cy="835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eec94"/>
                </a:solidFill>
                <a:latin typeface="Times New Roman"/>
              </a:rPr>
              <a:t>الجدول التدريبي للمهام المكلف بها:</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لف الصحفي </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مكتب الامين واستقبال المراجعين</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مراسم استقبال ضيوف الامانة </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تحرير الاخبار</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رسال خطبات لتنسيق مع الجهات</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eec94"/>
                </a:solidFill>
                <a:latin typeface="Times New Roman"/>
              </a:rPr>
              <a:t>الملف الصحفي</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تم تكليفي بمتابعة عمل الملف الصحفي وكيفية اختيار الاخبار والمعاير والاولويات للاختيار وكيفية قص الخبر مع رقم الصفحة واسم الكاتب واسم الجريدة ورقم العدد  وادخالة الى الجهاز عن طريق برنامج مخصص لحفظ الخبر والارشفة الالكترونية  وآلية عمل الامانة في حفظ الاخبار هي ان الخبر يحفظ بنسختة الاصلية لمدة سنة على شكل ورقي  وبعدها يتلف الخبر ويبقى مخزن في نظام الأرشفة الالكتروني</a:t>
            </a:r>
            <a:endParaRPr b="0" lang="en-US" sz="2800" spc="-1" strike="noStrike">
              <a:solidFill>
                <a:srgbClr val="ffffff"/>
              </a:solidFill>
              <a:latin typeface="Times New Roman"/>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تم تكليفي بعمل ملف صحفي بتعاون مع احد الموظفين وتجهيزة وادخالة على البرنامج في الجهاز وتسليمة الى مكتب الأمين .</a:t>
            </a:r>
            <a:endParaRPr b="0" lang="en-US" sz="2800" spc="-1" strike="noStrike">
              <a:solidFill>
                <a:srgbClr val="ffffff"/>
              </a:solidFill>
              <a:latin typeface="Times New Roman"/>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وتم تكليفي تحرير </a:t>
            </a:r>
            <a:r>
              <a:rPr b="0" lang="ar-SA" sz="2800" spc="-1" strike="noStrike">
                <a:solidFill>
                  <a:srgbClr val="ffffff"/>
                </a:solidFill>
                <a:latin typeface="Times New Roman"/>
              </a:rPr>
              <a:t>3</a:t>
            </a:r>
            <a:r>
              <a:rPr b="0" lang="ar-SA" sz="2800" spc="-1" strike="noStrike">
                <a:solidFill>
                  <a:srgbClr val="ffffff"/>
                </a:solidFill>
                <a:latin typeface="Times New Roman"/>
              </a:rPr>
              <a:t> اخبار عن الامانة  منها خبر فعالية ورد عن شائعة وخبر زيارة</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eec94"/>
                </a:solidFill>
                <a:latin typeface="Times New Roman"/>
              </a:rPr>
              <a:t>انواع الاخبار التي تدخل في الملف الصحفي :</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نواع الاخبار التي تدخل في الملف الصحفي :</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1</a:t>
            </a:r>
            <a:r>
              <a:rPr b="0" lang="ar-SA" sz="3200" spc="-1" strike="noStrike">
                <a:solidFill>
                  <a:srgbClr val="ffffff"/>
                </a:solidFill>
                <a:latin typeface="Times New Roman"/>
              </a:rPr>
              <a:t>.عن الأمانة  (يقص من جميع الصحف)</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2</a:t>
            </a:r>
            <a:r>
              <a:rPr b="0" lang="ar-SA" sz="3200" spc="-1" strike="noStrike">
                <a:solidFill>
                  <a:srgbClr val="ffffff"/>
                </a:solidFill>
                <a:latin typeface="Times New Roman"/>
              </a:rPr>
              <a:t>.غير الأمانة (تقص من صحيفة واحدة) </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3</a:t>
            </a:r>
            <a:r>
              <a:rPr b="0" lang="ar-SA" sz="3200" spc="-1" strike="noStrike">
                <a:solidFill>
                  <a:srgbClr val="ffffff"/>
                </a:solidFill>
                <a:latin typeface="Times New Roman"/>
              </a:rPr>
              <a:t>.خبر اجتماعي (عزاء – ترقية )</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4</a:t>
            </a:r>
            <a:r>
              <a:rPr b="0" lang="ar-SA" sz="3200" spc="-1" strike="noStrike">
                <a:solidFill>
                  <a:srgbClr val="ffffff"/>
                </a:solidFill>
                <a:latin typeface="Times New Roman"/>
              </a:rPr>
              <a:t>. احصيات </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eec94"/>
                </a:solidFill>
                <a:latin typeface="Times New Roman"/>
              </a:rPr>
              <a:t>وقت تسليم الملف الصحفي :</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بحيث أن الملف الصحفي يكون جاهز الساعة العاشرة صباحا على مكتب ويتم تسليم الملف غدا من مكتب الأمين الى ادارة العلاقات العامة ونحنو نقوم بدورنا بتحويلة الى الاقسام المخصصة.</a:t>
            </a:r>
            <a:endParaRPr b="0" lang="en-US" sz="3600" spc="-1" strike="noStrike">
              <a:solidFill>
                <a:srgbClr val="ffffff"/>
              </a:solidFill>
              <a:latin typeface="Times New Roman"/>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eec94"/>
                </a:solidFill>
                <a:latin typeface="Times New Roman"/>
              </a:rPr>
              <a:t>المراسم</a:t>
            </a:r>
            <a:endParaRPr b="1" lang="en-US" sz="44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اتم التدريب على الملف الصحفي خلال مايقارب ثلاثة اسابيع والعمل في مراسم امانة منطقة الرياض (مكتب الامين).</a:t>
            </a:r>
            <a:endParaRPr b="0" lang="en-US" sz="2400" spc="-1" strike="noStrike">
              <a:solidFill>
                <a:srgbClr val="ffffff"/>
              </a:solidFill>
              <a:latin typeface="Times New Roman"/>
            </a:endParaRPr>
          </a:p>
          <a:p>
            <a:pPr marL="315360" indent="-3153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ع العلم ان الايام المخصصة للمراجعين هي يوم (السبت _ الاثنين _ الاربعاء) حيث يكون فيها الامين متواجد في صالة الاستقبال للتوقيع على المعاملات ,من الساعة العاشرة الى الساعه  الثانية عشر  .</a:t>
            </a:r>
            <a:endParaRPr b="0" lang="en-US" sz="2400" spc="-1" strike="noStrike">
              <a:solidFill>
                <a:srgbClr val="ffffff"/>
              </a:solidFill>
              <a:latin typeface="Times New Roman"/>
            </a:endParaRPr>
          </a:p>
          <a:p>
            <a:pPr marL="315360" indent="-3153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تمثل دور موظف العلاقات العامة في تنظيم المراجعين والتنويه الى النقص في المعاملات لاكمالها من قبل المراجع .</a:t>
            </a:r>
            <a:endParaRPr b="0" lang="en-US" sz="2400" spc="-1" strike="noStrike">
              <a:solidFill>
                <a:srgbClr val="ffffff"/>
              </a:solidFill>
              <a:latin typeface="Times New Roman"/>
            </a:endParaRPr>
          </a:p>
          <a:p>
            <a:pPr marL="315360" indent="-3153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حين ان المعاملات تكون كامله وسليمة يتم الشرح من قبل معالي الامين ومن ثم  يقوم مؤظف العلاقات العامة بتحويلها الى القسم المناسب وبعدها يتم ارسال رساله الى جوال المراجع تتضمن (رقم المعامله _ القسم المحوله له).</a:t>
            </a:r>
            <a:endParaRPr b="0" lang="en-US" sz="2400" spc="-1" strike="noStrike">
              <a:solidFill>
                <a:srgbClr val="ffffff"/>
              </a:solidFill>
              <a:latin typeface="Times New Roman"/>
            </a:endParaRPr>
          </a:p>
          <a:p>
            <a:pPr marL="315360" indent="-3153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ما يوم الاحد والثلاثاء يكمن دور موظف العلاقات في استلام المعاملات من المراجعين وتوصيلها الى معالي الأمين </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eec94"/>
                </a:solidFill>
                <a:latin typeface="Times New Roman"/>
              </a:rPr>
              <a:t>الملاحظات السلبية</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عدم تفعيل دور التقنية في المواعيد للمراجعين </a:t>
            </a:r>
            <a:endParaRPr b="0" lang="en-US" sz="3200" spc="-1" strike="noStrike">
              <a:solidFill>
                <a:srgbClr val="ffffff"/>
              </a:solidFill>
              <a:latin typeface="Times New Roman"/>
            </a:endParaRPr>
          </a:p>
          <a:p>
            <a:pPr marL="339480" indent="-3394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عدد الساعات المسموح بها لاستقبال المراجعين</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عشوائية في ترتيب الأولوية للمراجعين </a:t>
            </a:r>
            <a:endParaRPr b="0" lang="en-US" sz="3200" spc="-1" strike="noStrike">
              <a:solidFill>
                <a:srgbClr val="ffffff"/>
              </a:solidFill>
              <a:latin typeface="Times New Roman"/>
            </a:endParaRPr>
          </a:p>
          <a:p>
            <a:pPr marL="339480" indent="-3394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قلة عدد موظفي العلاقات العامة </a:t>
            </a:r>
            <a:endParaRPr b="0" lang="en-US" sz="3200" spc="-1" strike="noStrike">
              <a:solidFill>
                <a:srgbClr val="ffffff"/>
              </a:solidFill>
              <a:latin typeface="Times New Roman"/>
            </a:endParaRPr>
          </a:p>
          <a:p>
            <a:pPr marL="339480" indent="-3394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عدم استخدام الجانب التقني في ارسال الملف الصحفي الى الامين</a:t>
            </a:r>
            <a:endParaRPr b="0" lang="en-US" sz="3200" spc="-1" strike="noStrike">
              <a:solidFill>
                <a:srgbClr val="ffffff"/>
              </a:solidFill>
              <a:latin typeface="Times New Roman"/>
            </a:endParaRPr>
          </a:p>
          <a:p>
            <a:pPr marL="339480" indent="-3394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عدم وجود أجهزت حاسب آلي كافيه للموظفين ادارة العلاقات العامه</a:t>
            </a:r>
            <a:endParaRPr b="0" lang="en-US" sz="3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eec94"/>
                </a:solidFill>
                <a:latin typeface="Times New Roman"/>
              </a:rPr>
              <a:t>الجوانب الايجابية</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الية اعلام المراجع برقم المعامله.</a:t>
            </a:r>
            <a:endParaRPr b="0" lang="en-US" sz="3600" spc="-1" strike="noStrike">
              <a:solidFill>
                <a:srgbClr val="ffffff"/>
              </a:solidFill>
              <a:latin typeface="Times New Roman"/>
            </a:endParaRPr>
          </a:p>
          <a:p>
            <a:pPr marL="609480" indent="-6094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شرح المراجع للمشكله لمعالي الامين شخصيا.</a:t>
            </a:r>
            <a:endParaRPr b="0" lang="en-US" sz="3600" spc="-1" strike="noStrike">
              <a:solidFill>
                <a:srgbClr val="ffffff"/>
              </a:solidFill>
              <a:latin typeface="Times New Roman"/>
            </a:endParaRPr>
          </a:p>
          <a:p>
            <a:pPr marL="609480" indent="-6094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أليه توزيع الايام التي يتم فيها استقبال المراجعين.</a:t>
            </a:r>
            <a:endParaRPr b="0" lang="en-US" sz="3600" spc="-1" strike="noStrike">
              <a:solidFill>
                <a:srgbClr val="ffffff"/>
              </a:solidFill>
              <a:latin typeface="Times New Roman"/>
            </a:endParaRPr>
          </a:p>
          <a:p>
            <a:pPr marL="609480" indent="-6094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التعاون الذي يتم من قبل الموظفين.</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5T15:14:55Z</dcterms:created>
  <dc:creator>3d</dc:creator>
  <dc:description/>
  <dc:language>en-US</dc:language>
  <cp:lastModifiedBy>3d</cp:lastModifiedBy>
  <dcterms:modified xsi:type="dcterms:W3CDTF">2012-12-31T21:59:20Z</dcterms:modified>
  <cp:revision>11</cp:revision>
  <dc:subject/>
  <dc:title>فيصل عبدالله القفيدي  430111113 إشراف  د.سعيد الغامدي تقرير  (أمانة منطقة الرياض)</dc:title>
</cp:coreProperties>
</file>