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8EC7-DC59-4068-A881-37B4E6D3A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6AF-5338-437F-BC7C-BD92B1442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AE1E-04FC-454C-95D8-1344268C2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9DC-2E18-4756-96EA-F05E8741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0D6-DD4C-4C30-A5B2-66D60AA0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EAF-CCA8-4F53-88F0-E3BB51BE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B55-F06D-45BC-B166-3332256F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E2AE-2CE7-44AC-BD07-8A0E5085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5719-F093-4868-B2E5-B44C7CF5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E169-5E32-4C4A-A816-08CCBB66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E0E1-1B20-418D-9F68-206B7FCB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3D76-9745-48DF-B56B-1CC23122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A4A9-EB1D-4DCD-BBE4-90966986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3A40-E791-494A-AF83-D62AF076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79B-16C2-48AD-93EB-D0F3E85B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63DE-0564-4C61-89DD-7C66F06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EBCC-6926-48F9-8D74-8CF00315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4DF9-0D60-495D-A0A4-EF9240B3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6D30-454B-4198-A225-6EC4AA45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4568-3480-4A1C-86CB-6F434FAD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9A3-2C7C-4B71-A6C5-E867A864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6E9-28C5-45E1-8B62-F5CD6F88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C2A-B603-41F8-BBDE-36E40B07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8CD-0A35-453D-884D-4604D48A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9CE-49A7-4D2B-B181-8B8B825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BA8-DBBA-4E81-AB4D-C15ABDF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8CB-DD10-46BE-9308-D8056CCA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0356-6320-418D-814D-8360569D7664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624E-1150-4B86-82B5-22BA0BCBBB0E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85800" y="3873960"/>
            <a:ext cx="7848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linical Chemistry Unit, Pathology De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ollege of Medicine, King Saud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-254880" y="1349280"/>
            <a:ext cx="972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Glucose-6-Phosphate Dehydrogenas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Impact"/>
                <a:ea typeface="Times New Roman"/>
              </a:rPr>
              <a:t>(G6P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Deficiency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2619000" y="533520"/>
            <a:ext cx="41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Oxidative St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35440" y="1981080"/>
            <a:ext cx="869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  <a:ea typeface="Arial"/>
              </a:rPr>
              <a:t>Oxidative damage to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te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Lipids (unsaturated fatty ac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  <a:ea typeface="Arial"/>
              </a:rPr>
              <a:t>Oxidative stress and dise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flammatory conditions e.g., Rheumatoid art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therosclerosis and coronary heart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n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G6PD deficiency hemolytic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66680" y="10666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mbalance between oxidant produ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d antioxidant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160200" y="82224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50800" y="1676520"/>
            <a:ext cx="856116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nherited X-linked recessiv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ost common enzyme-related 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ighest prevalence: Middle East, Tropical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sia and Mediterran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~400 different mutations affect G6PD gene, but only 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an cause clinical 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6PD deficient patients have increased resistance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nfestation by falciparum 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60200" y="82224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Biochemical Basis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13_010"/>
          <p:cNvPicPr/>
          <p:nvPr/>
        </p:nvPicPr>
        <p:blipFill>
          <a:blip r:embed="rId1"/>
          <a:srcRect l="5615" t="4249" r="3594" b="42160"/>
          <a:stretch/>
        </p:blipFill>
        <p:spPr>
          <a:xfrm>
            <a:off x="685800" y="2492280"/>
            <a:ext cx="8077320" cy="3679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4120" y="822240"/>
            <a:ext cx="9052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Arial"/>
              </a:rPr>
              <a:t>Biochemical Basis o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,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continued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76560" y="2133720"/>
            <a:ext cx="89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xidation of sulfhydryl (SH) groups of proteins inside RB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auses protein denaturation and formation of insolu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asses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(Heinz bodies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that attach to RBCs membr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13_011"/>
          <p:cNvPicPr/>
          <p:nvPr/>
        </p:nvPicPr>
        <p:blipFill>
          <a:blip r:embed="rId1"/>
          <a:srcRect l="3594" t="1637" r="2583" b="21244"/>
          <a:stretch/>
        </p:blipFill>
        <p:spPr>
          <a:xfrm>
            <a:off x="2209680" y="3500280"/>
            <a:ext cx="4572000" cy="2900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49760" y="2822400"/>
            <a:ext cx="880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lthough G6PD deficiency affects all cell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t is most severe in RBCs ……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ther cells have other sources for NADPH produ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., Malic enzyme that converts malate into pyru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41760" y="838080"/>
            <a:ext cx="9052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Arial"/>
              </a:rPr>
              <a:t>Biochemical Basis o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,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continued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160200" y="82224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Precipitating Factors f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41000" y="2577960"/>
            <a:ext cx="88110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G6PD deficient patients will develop hemolytic attack up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Intake of oxidant drugs (AA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ntibiotics e.g., sulfa prepa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ntimalarial: e.g., Primaqu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ntipyre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Exposure to inf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Ingestion of fava bean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(favism, Mediterranean varia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Chronic nonspherocytic anemia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Hemolytic attack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in absen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f precipitating factor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. Severe form due to class I m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160200" y="53352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Different Classes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6200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are 4 different class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(Very severe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 (Severe, e.g. Mediterranea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I: (Moderate: G6PD A-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V: (Normal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lassification is based on the residual enzyme activity (Least in class I, and Highest in class IV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160200" y="38088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Variant Enzymes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13_013"/>
          <p:cNvPicPr/>
          <p:nvPr/>
        </p:nvPicPr>
        <p:blipFill>
          <a:blip r:embed="rId1"/>
          <a:srcRect l="23898" t="4604" r="25205" b="17716"/>
          <a:stretch/>
        </p:blipFill>
        <p:spPr>
          <a:xfrm>
            <a:off x="4952880" y="1566720"/>
            <a:ext cx="3657600" cy="51879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857160" y="518148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G6PD Mediterranean (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nzyme with decreased stabil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nd activity (sever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ffect all RB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both young and 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069920" y="2362320"/>
            <a:ext cx="307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8684e"/>
                </a:solidFill>
                <a:uFillTx/>
                <a:latin typeface="Arial"/>
              </a:rPr>
              <a:t>G6PD A- (class III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84e"/>
                </a:solidFill>
                <a:latin typeface="Arial"/>
              </a:rPr>
              <a:t>Moderate, young RB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84e"/>
                </a:solidFill>
                <a:latin typeface="Arial"/>
              </a:rPr>
              <a:t>contain enzymatic activ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84e"/>
                </a:solidFill>
                <a:latin typeface="Arial"/>
              </a:rPr>
              <a:t>Unstable enzyme, b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84e"/>
                </a:solidFill>
                <a:latin typeface="Arial"/>
              </a:rPr>
              <a:t>kinetically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Straight Arrow Connector 6"/>
          <p:cNvCxnSpPr/>
          <p:nvPr/>
        </p:nvCxnSpPr>
        <p:spPr>
          <a:xfrm flipV="1">
            <a:off x="4572000" y="4494960"/>
            <a:ext cx="1296000" cy="839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Straight Arrow Connector 7"/>
          <p:cNvCxnSpPr/>
          <p:nvPr/>
        </p:nvCxnSpPr>
        <p:spPr>
          <a:xfrm>
            <a:off x="4190760" y="3124080"/>
            <a:ext cx="1524600" cy="457920"/>
          </a:xfrm>
          <a:prstGeom prst="straightConnector1">
            <a:avLst/>
          </a:prstGeom>
          <a:ln w="28440">
            <a:solidFill>
              <a:srgbClr val="08684e"/>
            </a:solidFill>
            <a:miter/>
            <a:tailEnd len="med" type="arrow" w="med"/>
          </a:ln>
        </p:spPr>
      </p:cxn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160200" y="51768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Diagnosis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2440" y="1981080"/>
            <a:ext cx="890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iagnosis of 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Complete Blood Count (CBC) &amp; reticulocytic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creenin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Qualitative assessment of G6PD enzymatic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(UV-based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nfirmatory tes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Quantitative measurement of G6PD enzymatic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olecular tes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Detection of G6PD gene m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Take Home Messag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6PD deficiency impairs the ability of cells to form NADP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BCs are particularly affected because they do not have other sources of NADPH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DPH is essential for the anti-oxidant activity of Glutathione peroxidase/reductase syst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-22320" y="2151000"/>
            <a:ext cx="899172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547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By the end of this lecture, the student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Explain the biochemical basis of G6PD deficiency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Recognize the precipitating factors for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G6PD deficiency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Classify various classes of G6PD deficiency anemia (variant enzym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Describe the diagnostic methods for G6PD deficiency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74480" y="1295280"/>
            <a:ext cx="29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Objectiv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Take Home Messag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6PD deficiency is an X-linked disease characterized by hemolytic anem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recipitating factors of hemolysis includes administration of oxidant drugs, ingestion of fava beans or severe infection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6PD deficiency is classified according to the residual activity of the G6P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 I variant (the most severe) class is associated with chronic nonspherocytic hemolytic anem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Referenc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Lippincott’s Illustrated Reviews in Biochemistry, 6</a:t>
            </a:r>
            <a:r>
              <a:rPr b="0" lang="en-US" sz="2600" spc="-1" strike="noStrike" baseline="30000">
                <a:solidFill>
                  <a:srgbClr val="0070c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edition, Chapter 13, pages 152-15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533520" y="1567800"/>
            <a:ext cx="830556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Hexose monophosphate pathway (HMP) or Pentose Phosphate Pathway (PPP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An alternative oxidative pathway for 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No ATP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Major pathway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NADPH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Produces ribose-5-phosphate for nucleotide 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37120" y="990720"/>
            <a:ext cx="327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Backgrou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247680" y="762120"/>
            <a:ext cx="859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Pentose Phosphate Pathway (PP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13_002"/>
          <p:cNvPicPr/>
          <p:nvPr/>
        </p:nvPicPr>
        <p:blipFill>
          <a:blip r:embed="rId1"/>
          <a:srcRect l="7631" t="2940" r="7631" b="18632"/>
          <a:stretch/>
        </p:blipFill>
        <p:spPr>
          <a:xfrm>
            <a:off x="990720" y="1512720"/>
            <a:ext cx="7162560" cy="5116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605240" y="59436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6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762200" y="5070600"/>
            <a:ext cx="479520" cy="850680"/>
          </a:xfrm>
          <a:prstGeom prst="upArrow">
            <a:avLst>
              <a:gd name="adj1" fmla="val 50000"/>
              <a:gd name="adj2" fmla="val 44351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838080" y="2286000"/>
            <a:ext cx="2971800" cy="4343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 rot="20467200">
            <a:off x="3867840" y="3816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For Illu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47680" y="762120"/>
            <a:ext cx="859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NAD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13_004"/>
          <p:cNvPicPr/>
          <p:nvPr/>
        </p:nvPicPr>
        <p:blipFill>
          <a:blip r:embed="rId1"/>
          <a:srcRect l="4322" t="567" r="5629" b="20747"/>
          <a:stretch/>
        </p:blipFill>
        <p:spPr>
          <a:xfrm>
            <a:off x="2362320" y="1371600"/>
            <a:ext cx="4448160" cy="5029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685800" y="200124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25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Reductive biosynthesis e.g., fatty acid bi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Antioxidant (part of glutathione syst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Oxygen-dependent phagocytosis by WB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Synthesis of nitric oxide (N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995400" y="990720"/>
            <a:ext cx="39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Uses of NAD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ounded Rectangle 3"/>
          <p:cNvSpPr/>
          <p:nvPr/>
        </p:nvSpPr>
        <p:spPr>
          <a:xfrm>
            <a:off x="838080" y="3352680"/>
            <a:ext cx="7848720" cy="838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616320" y="838080"/>
            <a:ext cx="79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Reactive Oxygen Species (RO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13_005"/>
          <p:cNvPicPr/>
          <p:nvPr/>
        </p:nvPicPr>
        <p:blipFill>
          <a:blip r:embed="rId1"/>
          <a:srcRect l="4604" t="4249" r="0" b="77453"/>
          <a:stretch/>
        </p:blipFill>
        <p:spPr>
          <a:xfrm>
            <a:off x="685800" y="2438280"/>
            <a:ext cx="7696080" cy="2210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756000" y="5141880"/>
            <a:ext cx="770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xygen-derived Free radicals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e.g., Superoxide and hydroxyl radic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on-free radical: Hydrogen pe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682640" y="838080"/>
            <a:ext cx="61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Antioxidant Mech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13_005"/>
          <p:cNvPicPr/>
          <p:nvPr/>
        </p:nvPicPr>
        <p:blipFill>
          <a:blip r:embed="rId1"/>
          <a:srcRect l="4604" t="22553" r="1578" b="47385"/>
          <a:stretch/>
        </p:blipFill>
        <p:spPr>
          <a:xfrm>
            <a:off x="228600" y="1981080"/>
            <a:ext cx="8839080" cy="3581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4"/>
          <p:cNvSpPr/>
          <p:nvPr/>
        </p:nvSpPr>
        <p:spPr>
          <a:xfrm flipH="1">
            <a:off x="5028840" y="56386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Straight Arrow Connector 6"/>
          <p:cNvCxnSpPr/>
          <p:nvPr/>
        </p:nvCxnSpPr>
        <p:spPr>
          <a:xfrm flipV="1">
            <a:off x="5028840" y="525852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8"/>
          <p:cNvCxnSpPr/>
          <p:nvPr/>
        </p:nvCxnSpPr>
        <p:spPr>
          <a:xfrm>
            <a:off x="5028840" y="563832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Straight Connector 10"/>
          <p:cNvSpPr/>
          <p:nvPr/>
        </p:nvSpPr>
        <p:spPr>
          <a:xfrm>
            <a:off x="8534520" y="5257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6172200" y="5334120"/>
            <a:ext cx="1371600" cy="916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Glutathione Reduct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4365720" y="59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NADP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onstantia"/>
              </a:rPr>
              <a:t>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74674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NADPH + H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716292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Selen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7620120" y="6488280"/>
            <a:ext cx="137160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HMP (PP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own Arrow 17"/>
          <p:cNvSpPr/>
          <p:nvPr/>
        </p:nvSpPr>
        <p:spPr>
          <a:xfrm rot="10800000">
            <a:off x="8206920" y="617184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289240" y="533520"/>
            <a:ext cx="49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Glutathio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13_006"/>
          <p:cNvPicPr/>
          <p:nvPr/>
        </p:nvPicPr>
        <p:blipFill>
          <a:blip r:embed="rId1"/>
          <a:srcRect l="25205" t="0" r="17375" b="26800"/>
          <a:stretch/>
        </p:blipFill>
        <p:spPr>
          <a:xfrm>
            <a:off x="1981080" y="1176480"/>
            <a:ext cx="5562720" cy="5529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249240" y="57513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Selin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52280" y="4975200"/>
            <a:ext cx="137160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HMP (PP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Down Arrow 5"/>
          <p:cNvSpPr/>
          <p:nvPr/>
        </p:nvSpPr>
        <p:spPr>
          <a:xfrm rot="16200000">
            <a:off x="1749240" y="4845960"/>
            <a:ext cx="158760" cy="6098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Khalid Akkour</cp:lastModifiedBy>
  <dcterms:modified xsi:type="dcterms:W3CDTF">2017-01-04T04:06:42Z</dcterms:modified>
  <cp:revision>114</cp:revision>
  <dc:subject/>
  <dc:title>Slide 1</dc:title>
</cp:coreProperties>
</file>