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  <p:sldId id="310" r:id="rId63"/>
    <p:sldId id="311" r:id="rId64"/>
    <p:sldId id="312" r:id="rId65"/>
    <p:sldId id="313" r:id="rId66"/>
    <p:sldId id="314" r:id="rId67"/>
    <p:sldId id="315" r:id="rId68"/>
    <p:sldId id="316" r:id="rId69"/>
    <p:sldId id="317" r:id="rId70"/>
    <p:sldId id="318" r:id="rId71"/>
    <p:sldId id="319" r:id="rId72"/>
    <p:sldId id="320" r:id="rId73"/>
    <p:sldId id="321" r:id="rId74"/>
    <p:sldId id="322" r:id="rId75"/>
    <p:sldId id="323" r:id="rId76"/>
    <p:sldId id="324" r:id="rId77"/>
    <p:sldId id="325" r:id="rId78"/>
    <p:sldId id="326" r:id="rId79"/>
    <p:sldId id="327" r:id="rId80"/>
    <p:sldId id="328" r:id="rId81"/>
    <p:sldId id="329" r:id="rId82"/>
    <p:sldId id="330" r:id="rId83"/>
    <p:sldId id="331" r:id="rId84"/>
    <p:sldId id="332" r:id="rId85"/>
    <p:sldId id="333" r:id="rId86"/>
    <p:sldId id="334" r:id="rId87"/>
    <p:sldId id="335" r:id="rId88"/>
    <p:sldId id="336" r:id="rId89"/>
    <p:sldId id="337" r:id="rId9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slide" Target="slides/slide55.xml"/><Relationship Id="rId64" Type="http://schemas.openxmlformats.org/officeDocument/2006/relationships/slide" Target="slides/slide56.xml"/><Relationship Id="rId65" Type="http://schemas.openxmlformats.org/officeDocument/2006/relationships/slide" Target="slides/slide57.xml"/><Relationship Id="rId66" Type="http://schemas.openxmlformats.org/officeDocument/2006/relationships/slide" Target="slides/slide58.xml"/><Relationship Id="rId67" Type="http://schemas.openxmlformats.org/officeDocument/2006/relationships/slide" Target="slides/slide59.xml"/><Relationship Id="rId68" Type="http://schemas.openxmlformats.org/officeDocument/2006/relationships/slide" Target="slides/slide60.xml"/><Relationship Id="rId69" Type="http://schemas.openxmlformats.org/officeDocument/2006/relationships/slide" Target="slides/slide61.xml"/><Relationship Id="rId70" Type="http://schemas.openxmlformats.org/officeDocument/2006/relationships/slide" Target="slides/slide62.xml"/><Relationship Id="rId71" Type="http://schemas.openxmlformats.org/officeDocument/2006/relationships/slide" Target="slides/slide63.xml"/><Relationship Id="rId72" Type="http://schemas.openxmlformats.org/officeDocument/2006/relationships/slide" Target="slides/slide64.xml"/><Relationship Id="rId73" Type="http://schemas.openxmlformats.org/officeDocument/2006/relationships/slide" Target="slides/slide65.xml"/><Relationship Id="rId74" Type="http://schemas.openxmlformats.org/officeDocument/2006/relationships/slide" Target="slides/slide66.xml"/><Relationship Id="rId75" Type="http://schemas.openxmlformats.org/officeDocument/2006/relationships/slide" Target="slides/slide67.xml"/><Relationship Id="rId76" Type="http://schemas.openxmlformats.org/officeDocument/2006/relationships/slide" Target="slides/slide68.xml"/><Relationship Id="rId77" Type="http://schemas.openxmlformats.org/officeDocument/2006/relationships/slide" Target="slides/slide69.xml"/><Relationship Id="rId78" Type="http://schemas.openxmlformats.org/officeDocument/2006/relationships/slide" Target="slides/slide70.xml"/><Relationship Id="rId79" Type="http://schemas.openxmlformats.org/officeDocument/2006/relationships/slide" Target="slides/slide71.xml"/><Relationship Id="rId80" Type="http://schemas.openxmlformats.org/officeDocument/2006/relationships/slide" Target="slides/slide72.xml"/><Relationship Id="rId81" Type="http://schemas.openxmlformats.org/officeDocument/2006/relationships/slide" Target="slides/slide73.xml"/><Relationship Id="rId82" Type="http://schemas.openxmlformats.org/officeDocument/2006/relationships/slide" Target="slides/slide74.xml"/><Relationship Id="rId83" Type="http://schemas.openxmlformats.org/officeDocument/2006/relationships/slide" Target="slides/slide75.xml"/><Relationship Id="rId84" Type="http://schemas.openxmlformats.org/officeDocument/2006/relationships/slide" Target="slides/slide76.xml"/><Relationship Id="rId85" Type="http://schemas.openxmlformats.org/officeDocument/2006/relationships/slide" Target="slides/slide77.xml"/><Relationship Id="rId86" Type="http://schemas.openxmlformats.org/officeDocument/2006/relationships/slide" Target="slides/slide78.xml"/><Relationship Id="rId87" Type="http://schemas.openxmlformats.org/officeDocument/2006/relationships/slide" Target="slides/slide79.xml"/><Relationship Id="rId88" Type="http://schemas.openxmlformats.org/officeDocument/2006/relationships/slide" Target="slides/slide80.xml"/><Relationship Id="rId89" Type="http://schemas.openxmlformats.org/officeDocument/2006/relationships/slide" Target="slides/slide81.xml"/><Relationship Id="rId90" Type="http://schemas.openxmlformats.org/officeDocument/2006/relationships/slide" Target="slides/slide82.xml"/><Relationship Id="rId9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6328-220C-4254-BB30-EAFBAD3E8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7EFD-40D7-4520-A176-EAC00CBCC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C0FC-8335-4050-B984-619DD2AE8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9427-7532-48B1-9809-CA3B82554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99E37-7B9A-4AB8-9101-6E98C5C22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39A6C-1670-443B-95C9-8E974153D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BE81F-77D9-403E-B98B-4B79D6508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FD62C-296A-4165-8E96-8C8B81F9C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0DBC9-8AFB-4699-BDA9-F6FB44DDE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3EC26-6BF5-405F-AB4F-265BFAF6D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220B3-0DB9-401A-A9F0-C2F453EF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A806-1DC7-4139-AF6A-98F83D43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4450C-F80A-41E7-956A-B436ECD5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3B65D-9543-4E7F-9D0C-D31A9627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5433C-1BB0-4821-93A5-FB7FEBBFA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B24EE-D106-4399-90A3-263C485F0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57AD5-7CB4-4E13-8E04-3C04B8FF6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0C70A-E501-4BB3-B44F-B7841B55F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59A64-8E26-4A38-B06A-0EFAE6DB1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2073F-1759-4378-8725-1A974AA39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B3404-0ACC-47DE-82D7-8467A2583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80642-42C8-4562-9CC7-D57FA70DA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9860-C3CF-4B30-B8FA-EC2865DD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96D8C-286A-40B2-9E22-CC42C69E6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0B31C-F421-43AF-84FC-9E987F41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E2590-00DB-43E5-9DD0-8DD0CC42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94224-3D0A-4052-AB34-C0FB9BE3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D99CB-83E3-4686-8110-F18366142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56644-340B-494A-9A6F-D704AB987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E4543-C4FF-40C5-992C-792EF4BB4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7820D-5B04-4057-8960-147C16268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7B25D-C5C2-4358-AE21-DDC362D07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AA8C8-535E-437F-808B-63155E566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C6FD-1EB8-4181-A87F-EFE723D45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9B84B-02FD-420D-BF06-61D5408FA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78FD1-E68C-4FEA-A99D-1DB08B681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86F93-557F-4ABF-9312-08357DA74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FB960-BA49-4053-AAF2-26E6156B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75051-92C9-4956-9F3D-44F61E58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E48B6-FE01-42F5-8053-712845B6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315C1-6D46-4034-9121-1933D084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7D471-A6AF-49BC-9843-679600603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D24FA-44B8-4EF4-81B2-D00D52E44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C8249-CE10-4841-958A-1E139986A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D06B-CFB5-4FB9-94D1-FB4C54D95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3DC92-F168-401F-BFF9-DFE74B921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A41A8-2AFA-4414-8ACC-FB9DB7D23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59516-AC60-4952-9336-8E4F6BAF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03D0B-5EB4-49F6-BA5F-4338777A9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22CEA-6E9C-46A4-A8B6-B4E501436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0410C-0356-4DDB-A383-312419CC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2C739-7CA1-470E-B64D-71A45DEE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4BC6B-1D87-4979-B043-9E4EB340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64291-EE60-4938-8F80-704BCF8C1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13D65-9F6F-48C3-8FC7-F7BAAB2E8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B59A-2F1A-4FEE-9255-049A04295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E701F-79A8-4F34-B5F0-1568B7627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98C8E-E885-418D-AC18-B32C89B6C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A30DD-BCAA-43A2-A9B5-4869D84F1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4A131-F90E-4DDA-A325-C22EB9E85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9C9E0-B0AF-4F9A-8A28-E3F3E39C0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44C7A-8A92-46A7-9DBE-DE4EC2125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DF571-5A4B-4EBB-B29F-B01FD4F15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0F7B0-E08D-499F-8BF7-9E092BE9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7C6DD-1929-4D90-A358-A8FE4337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4AEB2-5087-4A4A-A612-B6BCA7A0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2F64-8BE5-4C4C-92F6-5C09E9DD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9E1ED2-0412-4D7C-80CD-82411FB54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B3E68-BC5D-4F24-877D-7958F22EA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BE2F1-75FB-451D-B50F-4E80D9509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56215D-A14A-4990-891F-AB1E1F484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BBE8B1-AFB3-4996-84C8-4B95A5091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541E7-C75B-4680-BC6F-1ECC7539B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A9028C-160E-4517-BB5A-A23350F59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FCF28-3886-40E1-9B96-FED5E00D3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9EE1C-2A23-4CF7-9794-F16243AD9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F21D9C-C8B5-47EA-AE7F-9791E1C3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1D02-1E4A-4FCB-902C-7CDF7E9B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6A1B0-8F93-4B68-8B7D-0992775E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7F227-2D66-4A05-BC11-8BC77C7C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1FE7E-A85D-438D-9936-CE71EE961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D9F259-717A-4742-8D40-A99D0CD5C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435D1C-E27B-482B-8C57-43BDDB526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DF61-10E7-496D-8D2A-3E88EC71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eece1"/>
                </a:solidFill>
                <a:latin typeface="Arial"/>
                <a:ea typeface="Aharon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eece1"/>
                </a:solidFill>
                <a:latin typeface="Arial"/>
                <a:ea typeface="Aharon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eece1"/>
                </a:solidFill>
                <a:latin typeface="Arial"/>
                <a:ea typeface="Aharon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A2140-E37E-480F-935C-8F91110B2C15}" type="slidenum">
              <a:rPr b="0" lang="en-US" sz="1200" spc="-1" strike="noStrike">
                <a:solidFill>
                  <a:srgbClr val="eeece1"/>
                </a:solidFill>
                <a:latin typeface="Arial"/>
                <a:ea typeface="Aharon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eece1"/>
                </a:solidFill>
                <a:latin typeface="Arial"/>
                <a:ea typeface="Aharon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eece1"/>
                </a:solidFill>
                <a:latin typeface="Arial"/>
                <a:ea typeface="Aharon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eece1"/>
                </a:solidFill>
                <a:latin typeface="Arial"/>
                <a:ea typeface="Aharon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AAC73-0CC8-4296-9655-6A3C5408B25F}" type="slidenum">
              <a:rPr b="0" lang="en-US" sz="1200" spc="-1" strike="noStrike">
                <a:solidFill>
                  <a:srgbClr val="eeece1"/>
                </a:solidFill>
                <a:latin typeface="Arial"/>
                <a:ea typeface="Aharon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c0504d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c0504d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2d58a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2d58a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2d58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eece1"/>
                </a:solidFill>
                <a:latin typeface="Arial"/>
                <a:ea typeface="Aharon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eece1"/>
                </a:solidFill>
                <a:latin typeface="Arial"/>
                <a:ea typeface="Aharon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eece1"/>
                </a:solidFill>
                <a:latin typeface="Arial"/>
                <a:ea typeface="Aharon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EAC7B-748A-4BE7-952A-7898BA5B0AF2}" type="slidenum">
              <a:rPr b="0" lang="en-US" sz="1200" spc="-1" strike="noStrike">
                <a:solidFill>
                  <a:srgbClr val="eeece1"/>
                </a:solidFill>
                <a:latin typeface="Arial"/>
                <a:ea typeface="Aharon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eece1"/>
                </a:solidFill>
                <a:latin typeface="Arial"/>
                <a:ea typeface="Aharon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eece1"/>
                </a:solidFill>
                <a:latin typeface="Arial"/>
                <a:ea typeface="Aharon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eece1"/>
                </a:solidFill>
                <a:latin typeface="Arial"/>
                <a:ea typeface="Aharon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E7A77-3D8A-46C9-A0C8-77408738894D}" type="slidenum">
              <a:rPr b="0" lang="en-US" sz="1200" spc="-1" strike="noStrike">
                <a:solidFill>
                  <a:srgbClr val="eeece1"/>
                </a:solidFill>
                <a:latin typeface="Arial"/>
                <a:ea typeface="Aharon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2d58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eece1"/>
                </a:solidFill>
                <a:latin typeface="Arial"/>
                <a:ea typeface="Aharon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eece1"/>
                </a:solidFill>
                <a:latin typeface="Arial"/>
                <a:ea typeface="Aharon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eece1"/>
                </a:solidFill>
                <a:latin typeface="Arial"/>
                <a:ea typeface="Aharon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367B1-2B92-41A4-A466-A1DCD663CB69}" type="slidenum">
              <a:rPr b="0" lang="en-US" sz="1200" spc="-1" strike="noStrike">
                <a:solidFill>
                  <a:srgbClr val="eeece1"/>
                </a:solidFill>
                <a:latin typeface="Arial"/>
                <a:ea typeface="Aharon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eece1"/>
                </a:solidFill>
                <a:latin typeface="Arial"/>
                <a:ea typeface="Aharon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eece1"/>
                </a:solidFill>
                <a:latin typeface="Arial"/>
                <a:ea typeface="Aharon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eece1"/>
                </a:solidFill>
                <a:latin typeface="Arial"/>
                <a:ea typeface="Aharon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C9190-C6BE-4B3D-B5B8-C4B0D3384608}" type="slidenum">
              <a:rPr b="0" lang="en-US" sz="1200" spc="-1" strike="noStrike">
                <a:solidFill>
                  <a:srgbClr val="eeece1"/>
                </a:solidFill>
                <a:latin typeface="Arial"/>
                <a:ea typeface="Aharon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88880" y="1217520"/>
              <a:ext cx="561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7956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88880" y="1282320"/>
              <a:ext cx="561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41880" y="1370160"/>
              <a:ext cx="565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320"/>
              <a:ext cx="799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41880" y="1434960"/>
              <a:ext cx="565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93760" y="1473120"/>
              <a:ext cx="561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7956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93760" y="1537920"/>
              <a:ext cx="561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eece1"/>
                </a:solidFill>
                <a:latin typeface="Arial"/>
                <a:ea typeface="Aharon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eece1"/>
                </a:solidFill>
                <a:latin typeface="Arial"/>
                <a:ea typeface="Aharon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eece1"/>
                </a:solidFill>
                <a:latin typeface="Arial"/>
                <a:ea typeface="Aharon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CA5BE-2F40-4A1A-8C9A-FCF1EAEF8282}" type="slidenum">
              <a:rPr b="0" lang="en-US" sz="1200" spc="-1" strike="noStrike">
                <a:solidFill>
                  <a:srgbClr val="eeece1"/>
                </a:solidFill>
                <a:latin typeface="Arial"/>
                <a:ea typeface="Aharon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040" y="312408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br>
              <a:rPr sz="4800"/>
            </a:br>
            <a:br>
              <a:rPr sz="4800"/>
            </a:br>
            <a:endParaRPr b="0" lang="en-US" sz="2800" spc="-1" strike="noStrike">
              <a:solidFill>
                <a:srgbClr val="f4f1d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76212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AGNOSTIC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Consid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ptic ulcer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stric ero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r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Right Brace 3"/>
          <p:cNvSpPr/>
          <p:nvPr/>
        </p:nvSpPr>
        <p:spPr>
          <a:xfrm>
            <a:off x="5029200" y="2895480"/>
            <a:ext cx="533520" cy="2057400"/>
          </a:xfrm>
          <a:custGeom>
            <a:avLst/>
            <a:gdLst>
              <a:gd name="textAreaLeft" fmla="*/ 0 w 533520"/>
              <a:gd name="textAreaRight" fmla="*/ 192600 w 533520"/>
              <a:gd name="textAreaTop" fmla="*/ 13680 h 2057400"/>
              <a:gd name="textAreaBottom" fmla="*/ 204372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34"/>
                  <a:pt x="10800" y="467"/>
                </a:cubicBezTo>
                <a:lnTo>
                  <a:pt x="10800" y="10333"/>
                </a:lnTo>
                <a:cubicBezTo>
                  <a:pt x="10800" y="10567"/>
                  <a:pt x="16200" y="10800"/>
                  <a:pt x="21600" y="10800"/>
                </a:cubicBezTo>
                <a:cubicBezTo>
                  <a:pt x="16200" y="10800"/>
                  <a:pt x="10800" y="11034"/>
                  <a:pt x="10800" y="11267"/>
                </a:cubicBezTo>
                <a:lnTo>
                  <a:pt x="10800" y="21133"/>
                </a:lnTo>
                <a:cubicBezTo>
                  <a:pt x="10800" y="21367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5867280" y="3124080"/>
            <a:ext cx="297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fourths of adult patients with UGIB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Right Brace 5"/>
          <p:cNvSpPr/>
          <p:nvPr/>
        </p:nvSpPr>
        <p:spPr>
          <a:xfrm>
            <a:off x="4952880" y="5475240"/>
            <a:ext cx="685800" cy="1066680"/>
          </a:xfrm>
          <a:custGeom>
            <a:avLst/>
            <a:gdLst>
              <a:gd name="textAreaLeft" fmla="*/ 0 w 685800"/>
              <a:gd name="textAreaRight" fmla="*/ 247680 w 685800"/>
              <a:gd name="textAreaTop" fmla="*/ 17640 h 1066680"/>
              <a:gd name="textAreaBottom" fmla="*/ 1049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79"/>
                  <a:pt x="10800" y="1157"/>
                </a:cubicBezTo>
                <a:lnTo>
                  <a:pt x="10800" y="9643"/>
                </a:lnTo>
                <a:cubicBezTo>
                  <a:pt x="10800" y="10222"/>
                  <a:pt x="16200" y="10800"/>
                  <a:pt x="21600" y="10800"/>
                </a:cubicBezTo>
                <a:cubicBezTo>
                  <a:pt x="16200" y="10800"/>
                  <a:pt x="10800" y="11379"/>
                  <a:pt x="10800" y="11957"/>
                </a:cubicBezTo>
                <a:lnTo>
                  <a:pt x="10800" y="20443"/>
                </a:lnTo>
                <a:cubicBezTo>
                  <a:pt x="10800" y="21022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5715000" y="5475240"/>
            <a:ext cx="3276720" cy="10688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0% of adults with LGIB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Rectangle 7"/>
          <p:cNvSpPr/>
          <p:nvPr/>
        </p:nvSpPr>
        <p:spPr>
          <a:xfrm>
            <a:off x="990720" y="548640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verticul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giodys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ophag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str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ptic ulcer diseas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ectious col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lammatory bowel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Right Brace 5"/>
          <p:cNvSpPr/>
          <p:nvPr/>
        </p:nvSpPr>
        <p:spPr>
          <a:xfrm>
            <a:off x="4449600" y="1981080"/>
            <a:ext cx="685800" cy="1676520"/>
          </a:xfrm>
          <a:custGeom>
            <a:avLst/>
            <a:gdLst>
              <a:gd name="textAreaLeft" fmla="*/ 0 w 685800"/>
              <a:gd name="textAreaRight" fmla="*/ 247680 w 685800"/>
              <a:gd name="textAreaTop" fmla="*/ 17640 h 1676520"/>
              <a:gd name="textAreaBottom" fmla="*/ 1658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68"/>
                  <a:pt x="10800" y="736"/>
                </a:cubicBezTo>
                <a:lnTo>
                  <a:pt x="10800" y="10064"/>
                </a:lnTo>
                <a:cubicBezTo>
                  <a:pt x="10800" y="10432"/>
                  <a:pt x="16200" y="10800"/>
                  <a:pt x="21600" y="10800"/>
                </a:cubicBezTo>
                <a:cubicBezTo>
                  <a:pt x="16200" y="10800"/>
                  <a:pt x="10800" y="11168"/>
                  <a:pt x="10800" y="11536"/>
                </a:cubicBezTo>
                <a:lnTo>
                  <a:pt x="10800" y="20864"/>
                </a:lnTo>
                <a:cubicBezTo>
                  <a:pt x="10800" y="21232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5288040" y="1981080"/>
            <a:ext cx="3246480" cy="9471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common causes of UGI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Right Brace 8"/>
          <p:cNvSpPr/>
          <p:nvPr/>
        </p:nvSpPr>
        <p:spPr>
          <a:xfrm>
            <a:off x="5943600" y="4711680"/>
            <a:ext cx="685800" cy="1676520"/>
          </a:xfrm>
          <a:custGeom>
            <a:avLst/>
            <a:gdLst>
              <a:gd name="textAreaLeft" fmla="*/ 0 w 685800"/>
              <a:gd name="textAreaRight" fmla="*/ 247680 w 685800"/>
              <a:gd name="textAreaTop" fmla="*/ 17640 h 1676520"/>
              <a:gd name="textAreaBottom" fmla="*/ 1658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68"/>
                  <a:pt x="10800" y="736"/>
                </a:cubicBezTo>
                <a:lnTo>
                  <a:pt x="10800" y="10064"/>
                </a:lnTo>
                <a:cubicBezTo>
                  <a:pt x="10800" y="10432"/>
                  <a:pt x="16200" y="10800"/>
                  <a:pt x="21600" y="10800"/>
                </a:cubicBezTo>
                <a:cubicBezTo>
                  <a:pt x="16200" y="10800"/>
                  <a:pt x="10800" y="11168"/>
                  <a:pt x="10800" y="11536"/>
                </a:cubicBezTo>
                <a:lnTo>
                  <a:pt x="10800" y="20864"/>
                </a:lnTo>
                <a:cubicBezTo>
                  <a:pt x="10800" y="21232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9"/>
          <p:cNvSpPr/>
          <p:nvPr/>
        </p:nvSpPr>
        <p:spPr>
          <a:xfrm>
            <a:off x="6858000" y="4572000"/>
            <a:ext cx="2133720" cy="18003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common causes of LGIB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10"/>
          <p:cNvSpPr/>
          <p:nvPr/>
        </p:nvSpPr>
        <p:spPr>
          <a:xfrm>
            <a:off x="472320" y="1066680"/>
            <a:ext cx="280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children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ckel’s diverticul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amp; intussusce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all ages, anorectal abnormalities are the most common cause of minor LGIB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Rectangle 3"/>
          <p:cNvSpPr/>
          <p:nvPr/>
        </p:nvSpPr>
        <p:spPr>
          <a:xfrm>
            <a:off x="5562720" y="1676520"/>
            <a:ext cx="3581280" cy="18003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common cause of massive LGIB in children younger than 2 years of 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ight Brace 6"/>
          <p:cNvSpPr/>
          <p:nvPr/>
        </p:nvSpPr>
        <p:spPr>
          <a:xfrm>
            <a:off x="5029200" y="1981080"/>
            <a:ext cx="380880" cy="1295640"/>
          </a:xfrm>
          <a:custGeom>
            <a:avLst/>
            <a:gdLst>
              <a:gd name="textAreaLeft" fmla="*/ 0 w 380880"/>
              <a:gd name="textAreaRight" fmla="*/ 137520 w 380880"/>
              <a:gd name="textAreaTop" fmla="*/ 9720 h 1295640"/>
              <a:gd name="textAreaBottom" fmla="*/ 128592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5"/>
                  <a:pt x="10800" y="529"/>
                </a:cubicBezTo>
                <a:lnTo>
                  <a:pt x="10800" y="10271"/>
                </a:lnTo>
                <a:cubicBezTo>
                  <a:pt x="10800" y="10536"/>
                  <a:pt x="16200" y="10800"/>
                  <a:pt x="21600" y="10800"/>
                </a:cubicBezTo>
                <a:cubicBezTo>
                  <a:pt x="16200" y="10800"/>
                  <a:pt x="10800" y="11065"/>
                  <a:pt x="10800" y="11329"/>
                </a:cubicBezTo>
                <a:lnTo>
                  <a:pt x="10800" y="21071"/>
                </a:lnTo>
                <a:cubicBezTo>
                  <a:pt x="10800" y="21336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64008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"/>
          <p:cNvPicPr/>
          <p:nvPr/>
        </p:nvPicPr>
        <p:blipFill>
          <a:blip r:embed="rId1"/>
          <a:stretch/>
        </p:blipFill>
        <p:spPr>
          <a:xfrm>
            <a:off x="1447920" y="1066680"/>
            <a:ext cx="67816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source of bleeding is identified in approximately 10% of patients with GI bleeding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76212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In abdominal aortic grafts pt with with GI bleeding, the possibility of aortoenteric fistula should be consider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mpt surgical consultation in the ED should be obtained if this is suspected, because bleeding can be massive and fat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83808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apid Assessment and Stabiliz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840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840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st patients with GI bleeding are easy to diagnose by history +/- physical ex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840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83808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78000" indent="-31500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hemodynamically unstable should undergo rapid evaluation and resuscit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78000" indent="-31500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78000" indent="-31500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be undressed quickly with placement of cardiac and oxygen saturation monito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78000" indent="-31500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78000" indent="-31500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lemental oxygen should be given as need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76212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86280" indent="-32184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least two large-bore (minimum 18-gauge)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6280" indent="-32184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d samples fo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5160" indent="-268560" algn="just">
              <a:spcBef>
                <a:spcPts val="700"/>
              </a:spcBef>
              <a:buClr>
                <a:srgbClr val="ffff00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BC, for hg, plat, hemato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5160" indent="-268560" algn="just">
              <a:spcBef>
                <a:spcPts val="700"/>
              </a:spcBef>
              <a:buClr>
                <a:srgbClr val="ffff00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agulation pro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5160" indent="-268560" algn="just">
              <a:spcBef>
                <a:spcPts val="700"/>
              </a:spcBef>
              <a:buClr>
                <a:srgbClr val="ffff00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and screen or type and crossmat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6280" indent="-32184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6280" indent="-32184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ystalloid resuscitation should be initia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Arial"/>
              </a:rPr>
              <a:t>Case…</a:t>
            </a:r>
            <a:r>
              <a:rPr b="0" lang="en-US" sz="4000" spc="-1" strike="noStrike">
                <a:solidFill>
                  <a:srgbClr val="f4f1da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assan is 45 y/o saudi gentleman, presents to ED at KKUH early morning, C/O vomiting bloo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ow would you approach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ow would you manage?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76212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S 2-L bolus in adults or 20 mL/kg in children until the patient’s vital signs have stabilized or the patient has received 40 mL/kg of crystalloid in an adult or 60 mL/kg as a child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remain unstable give type O, type-specific, or cross matched blood, depending on availabilit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istently unstable patients should receive immediate consultation with a gastroenterologist for UGIB and with a surgeon for LGIB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is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84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50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840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ients typically complain of vomiting red blood or coffee grounds–like material, or passing black or bloody s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840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matemesis (vomiting blood) occurs with bleeding of the esophagus, stomach, or proximal small bowe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i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matemesis may be bright red or darker (i.e., coffee grounds–like) as a result of the conversion of hemoglobin to hematin or other pigments by hydrochloric acid in the stomach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lor of vomited or aspirated blood from the stomach does not differentiate between arterial and venous bleed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lena, or black tarry stool, will result from the presence of approximately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150 to 200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L of blood in the GI tract for a prolonged peri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Melen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is seen in approximatel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5840" algn="just">
              <a:spcBef>
                <a:spcPts val="601"/>
              </a:spcBef>
              <a:buClr>
                <a:srgbClr val="ffff00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0% of patients with UGIB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5840" algn="just">
              <a:spcBef>
                <a:spcPts val="601"/>
              </a:spcBef>
              <a:buClr>
                <a:srgbClr val="ffff00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third of patients with LGIB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ood from the duodenum or jejunum must remain in the GI tract for approximately 8 hours before turning blac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pic>
        <p:nvPicPr>
          <p:cNvPr id="429" name="عنصر نائب للمحتوى 3" descr="Black_Stools-1.jpg"/>
          <p:cNvPicPr/>
          <p:nvPr/>
        </p:nvPicPr>
        <p:blipFill>
          <a:blip r:embed="rId1"/>
          <a:stretch/>
        </p:blipFill>
        <p:spPr>
          <a:xfrm>
            <a:off x="2133720" y="1752480"/>
            <a:ext cx="5029200" cy="41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casionally, black stool may follow bleeding into the lower portion of the small bowel and ascending col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Stool may remain black and tarry for several days, even though bleeding has stopp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76212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86280" indent="-3218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Hematochezia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 bloody stool (bright red or maro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6280" indent="-32184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often signifies LGIB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6280" indent="-32184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6280" indent="-32184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ld be due to a brisk UGIB with rapid transit time through the bowel in 10 to 15% of pati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6280" indent="-32184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6280" indent="-32184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ore proximal source of significant bleeding must be excluded before assuming the bleeding is from the lower GI tra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roximately two thirds of patients with LGIB present with red blood from bleeding per rect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all amounts of red blood (5 mL) from rectal bleeding, such as bleeding due to hemorrhoids, may cause the water in the toilet bowl to appear bright re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76212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ERSPEC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atively common proble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ires early consultation and hospital admiss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D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ght red stools also can be seen after ingestion of a large quantity of be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moccult testing would be negative and the patient also will report pink colored water in the toilet bow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609480" y="9907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320400" indent="-2671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mportant q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0400" indent="-2671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ation and quantity of blee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0400" indent="-2671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ociated sympto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0400" indent="-2671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vious history of blee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0400" indent="-2671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rent medication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0400" indent="-2671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coh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0400" indent="-2671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SAID A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0400" indent="-2671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erg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0400" indent="-2671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ociated medical illn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0400" indent="-2671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vious surg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ymptoms of hypovolem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.dizziness, weakness, or loss of consciousness, most often after standing u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ther nonspecific complaint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de dyspnea, confusion, and abdominal p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rely an elderly patient may present with ischemic chest pain precipitated by significant anemia due to a GI blee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in five patients with GI bleeding may have only nonspecific complai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history is of limited help in predicting the site or quantity of bleeding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ients with a previously documented GI lesion bleed from the same site in only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60%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cas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ss estimates of blood loss based on the volume and color of the vomitus or stool are inaccur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hysical Exam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tal signs and postural changes in heart rate and blood pressure are insensitive and nonspecific, with the exception of significant, sustained heart rate increase and hypotens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patients hypotensive and tachycardic should be assumed to have a significant hemorrh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mal vital signs do not exclude a significant hemorrh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tural changes in heart rate and blood pressure may occur in individuals who are not blee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0240" indent="-32544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 appear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0240" indent="-32544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tal sig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0240" indent="-32544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tal status (including restlessn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0240" indent="-32544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kin signs (e.g., color, warmth, and moisture to assess for shock, or presence of lesions such as telangiectasia, bruises, or petechiae to assess for vascular diseases or hypocoagulable stat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0240" indent="-32544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lmonary and cardiac find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0240" indent="-32544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dominal exam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tality rate for GI bleeding is approximately 10%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gnostic modalities have improved much more than therapeutic techniqu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quent reassessment is important because a patient’s status may change quick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Rectal Examinatio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tal and stool examinations are often key to making or confirming the diagnosis of GI bleeding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inding of red, black, or melenic stool early in the assessment is helpful in prompting early recognition and management of patients with GI bleeding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bsence of black or bloody stool, however, does not exclude the diagnosis of GI bleed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ardless of the apparent character and color of the stool, occult blood testing is indica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ncillary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Tests for Occult Bloo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esence of hemoglobin in occult amounts in stool is confirmed by tests such as    ( Hemoccult, HemaPrompt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ool tests for occult blood may have positive results 14 days after a single, major episode of UGIB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False-positiv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ociated with the ingestion of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5840" algn="just">
              <a:spcBef>
                <a:spcPts val="601"/>
              </a:spcBef>
              <a:buClr>
                <a:srgbClr val="ffff00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rtain fruits (e.g., cantaloupe, grapefruit, figs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5840" algn="just">
              <a:spcBef>
                <a:spcPts val="601"/>
              </a:spcBef>
              <a:buClr>
                <a:srgbClr val="ffff00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cooked vegetables (e.g., radish, cauliflower, broccoli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5840" algn="just">
              <a:spcBef>
                <a:spcPts val="601"/>
              </a:spcBef>
              <a:buClr>
                <a:srgbClr val="ffff00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 m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ylene blue, chlorophyll, iodide, cupric sulfate, and bromide preparation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alse-negativ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common but can be caused by bile or ingestion of magnesium containing antacids or ascorbic aci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s to evaluate gastric contents for occult blood (e.g., Gastroccult) can be unreliable and should not be used for this purpos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linical Labora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nitial hematocrit may be misleading in patients with preexisting anemia or polycythem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es in the hematocrit may lag significantly behind actual blood los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pid infusion of crystalloid in nonbleeding patients also may cause a decrease in hematocrit by hemodilut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moglobin concentration of 8 g/dL or less (hematocrit &lt;25%) from acute blood loss usually require blood therap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transfusion and in the absence of ongoing blood loss, the hematocrit can be expected to increase approximately 3% for each unit of blood administered (hemoglobin level increases by 1 mg/dL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T should be used to determine whether a patient has a preexisting coagulopath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elevated PT may indic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tamin K de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r dys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rfarin 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umptive coagulopath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 bleed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often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asy to ident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……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here is clear evidence of vomiting blood or passing blood in the sto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y be subtl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……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signs and symptoms of hypovolemia, such as dizziness, weakness, or syncop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ients with anticoagulants or with an elevated PT and evidence of active bleeding should receive sufficient FFP to correct the P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ial platelet counts are used to determine the need for platelet transfusions (i.e., less than 50,000/mm3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06800" indent="-3391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Blood Bank Blood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800" indent="-3391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uld be sent for “type and hold” or type and crossmatch studies early in the patient’s car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800" indent="-3391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800" indent="-3391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mediate transfusion needs in unstable patients can be met with O-positive packed red blood cells (O-negative packed red blood cells in women of childbearing age whose Rh status is unknown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-specific blood is usually available within 10 to 15 minut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up O blood and type-specific blood are safe for patients and cause few transfusion reaction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lly crossmatched blood may take 60 minutes to prepar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Other Laboratory Tes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olytes usually norm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ea and creatin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tients with repeated vomiting, may develop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260360" indent="-228600" algn="just">
              <a:spcBef>
                <a:spcPts val="799"/>
              </a:spcBef>
              <a:buClr>
                <a:srgbClr val="ffff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pokalem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60360" indent="-228600" algn="just">
              <a:spcBef>
                <a:spcPts val="799"/>
              </a:spcBef>
              <a:buClr>
                <a:srgbClr val="ffff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ponatrem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60360" indent="-228600" algn="just">
              <a:spcBef>
                <a:spcPts val="799"/>
              </a:spcBef>
              <a:buClr>
                <a:srgbClr val="ffff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abolic alkalos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Right Brace 3"/>
          <p:cNvSpPr/>
          <p:nvPr/>
        </p:nvSpPr>
        <p:spPr>
          <a:xfrm rot="5400000">
            <a:off x="3314520" y="2857320"/>
            <a:ext cx="762120" cy="4495680"/>
          </a:xfrm>
          <a:custGeom>
            <a:avLst/>
            <a:gdLst>
              <a:gd name="textAreaLeft" fmla="*/ 0 w 762120"/>
              <a:gd name="textAreaRight" fmla="*/ 275040 w 76212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Rectangle 4"/>
          <p:cNvSpPr/>
          <p:nvPr/>
        </p:nvSpPr>
        <p:spPr>
          <a:xfrm>
            <a:off x="838080" y="5715000"/>
            <a:ext cx="5791320" cy="9471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haroni"/>
              </a:rPr>
              <a:t>correct with adequate hydration and the resolution of vomit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tients with shock often have metabolic acidosis from lactate accumulation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gh Urea as a result of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995400" indent="-228600" algn="just">
              <a:spcBef>
                <a:spcPts val="700"/>
              </a:spcBef>
              <a:buClr>
                <a:srgbClr val="ffff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sorption of blood from the GI trac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95400" indent="-228600" algn="just">
              <a:spcBef>
                <a:spcPts val="700"/>
              </a:spcBef>
              <a:buClr>
                <a:srgbClr val="ffff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ovolemia causing prerenal azotem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C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all patients with a GI bleed who 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lder than 50 year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existing ischemic cardiac diseas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ificant anem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st p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ness of bre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istent hypotens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Content Placeholder 2"/>
          <p:cNvSpPr/>
          <p:nvPr/>
        </p:nvSpPr>
        <p:spPr>
          <a:xfrm>
            <a:off x="914400" y="5334120"/>
            <a:ext cx="7772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  <a:ea typeface="Aharoni"/>
              </a:rPr>
              <a:t>Asymptomatic myocardial ischemia may develop in the setting of GI bleeding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ients with GI bleeding and myocardial ischemia should receive packed red blood cells as soon as 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Imag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need for plain abdominal radiography unless aspiration or with signs and symptoms of bowel perfor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r consistent with bowel perforation is a rare finding with UGI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immediate surgical consultation and operative repai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allowing blood during epistaxis or from the oral cavity may cause hematemesis or melen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 vomitus may be due to food products (e.g., Jell-O, tomato sauce, wine), and black stool may be due to iron therapy or bismuth (e.g., Pepto-Bismol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7621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agement approach depends on whether the hemorrhage is located in the proximal or the distal segment of the GI tract (i.e., upper or lower GI bleeding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segments are anatomically defined by the ligament of Treitz in the  duodenum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ANAGE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840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uick ident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840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ggressive resusci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840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mpt consul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initial resuscitation of the patient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important to identify whether the hemorrhage is proximal or distal to the ligament of Treitz (i.e., UGIB or LGIB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the patient’s vomitus demonstrates blood, then the diagnosis of UGIB is confirm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a patient reports bloody or “coffee grounds” emesis or if melenic stool is present, an upper GI bleed is more like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2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7086600" cy="4952880"/>
          </a:xfrm>
          <a:prstGeom prst="rect">
            <a:avLst/>
          </a:prstGeom>
          <a:ln w="0">
            <a:noFill/>
          </a:ln>
        </p:spPr>
      </p:pic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5943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Emergency management of patients with gastrointestinal bleeding. ED, emergency department; IV, intravenous; LGIB, lower gastrointestinal bleeding; UGIB, upper gastrointestinal bleeding.</a:t>
            </a:r>
            <a:endParaRPr b="0" lang="en-US" sz="1400" spc="-1" strike="noStrike">
              <a:solidFill>
                <a:srgbClr val="f4f1d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noscopy/Proctosigmoidosco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ients with mild rectal bleeding who do not have obviously bleeding hemorrhoids should undergo anoscopy or proctosigmoidoscop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bleeding internal hemorrhoids are discovered, and the patient does not have portal hypertension, the patient may be discharged with appropriate treatment and follow-up evaluation for hemorrhoi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hemorrhoids are not detected, it is important to determine if the stool above the rectum contains bloo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sence of blood above the rectum in a patient who is actively bleeding indicates that the source of bleeding is in the rectum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ce of blood above the anoscope or sigmoidoscope does not invariably indicate a proximal source of bleeding, because retrograde passage of blood into the more proximal colon commonly occur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ch patients need further evalu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ndosco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doscopy is the most accurate diagnostic tool available for the evaluation of UGIB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dentifies a lesion in 78% to 95% of patients with UGIB if it is performed within 12 to 24 hours of the hemorrhag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doscopy-for upper GI bleed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onoscopy is an effective tool for diagnosis and selected treatment of LGIB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ngiography and Tagged Red Bl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l Scan Angiography can detect the location of UGIB in two thirds of patients studie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ce the advent of endoscopy, however, the use of angiography has decreased significantly, and today angiography is used in only 1% of patients with UGIB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ower GI bleeding (LGIB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fects a smaller portion of pat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wer hospital admissions than UGIB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clear isotope–tagged red blood cell sc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some patients with more indolent or elusive bleeding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ually performed from the inpatient unit, may identify the bleeding si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astric Acid Secretion Inhib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patients with peptic ulcer disease documented by endoscopy should receive therapy with a proton-pump inhibitor (e.g., omeprazole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is no documented benefit to initiating this therapy or administering H2 antihistamines in the ED for patients with UGIB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ctreotide (Somatostatin Analogu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V infusion of octreotide at 25–50 μg/hour for a minimum of 24 hou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patients with documented esophageal varices and acute upper GI bleed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uld receive in monitored be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treotide is a useful addition to endoscopic sclerotherapy and decreases rebleeding occurren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treotide may also reduce the incidence of lower GI rebleeding secondary to angiodysplas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ngstaken-Blakemore Tu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rely used in tertiary care centr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uld not be used without endoscopic documentation of the source of bleeding because complications are common and significant (14% major, 3% fatal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trial of balloon tamponade should be considered in an exsanguinating patient with probable variceal bleeding in whom endoscopy is not immediately availabl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ultation with a surgeon or gastroenterologist is advis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urg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all hemodynamically unstable patients with active bleeding who do not respond to medical therap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tality rate for patients undergoing emergency procedures for GI bleeding is approximately 23%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ergency surgical consultation for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ood replacement exceeds 5 units within the first 4 to 6 hou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units of blood is needed every 4 hou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SPOS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isk Strat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 stratification involves combining historical, clinical, and laboratory data to determine the risk of death and rebleeding in patients presenting to an ED with GI bleeding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ients present to the ED with a vague complaint of vomiting blood or passing blood from the rectum in whom detailed history and examination allows a diagnosis of hemorrhoid, or anal fissure, or there may be little or no objective evidence of significant GI bleeding…..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scharge pt with 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0" y="5288040"/>
            <a:ext cx="9372600" cy="15562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atients should be educated about the signs and symptoms of significant GI bleeding and when to return to the 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7621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cur in persons of any 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commonly affects people in their 40s through 70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deaths in patients older than 60 year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GIB is more common in men than in women (in a 2 : 1 rati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GIB is more common in wome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ents should undergo specific follow-up evaluation within 24 to 36 hour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should be instructed to avoid aspirin, nonsteroidal anti-inflammatory drugs, and alcoh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2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6248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914040" y="312408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THANK YOU</a:t>
            </a:r>
            <a:endParaRPr b="0" lang="en-US" sz="4800" spc="-1" strike="noStrike">
              <a:solidFill>
                <a:srgbClr val="f4f1d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ificant UGIB requiring admission is more common in adul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GIB requiring admission is more common in childr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3T03:00:54Z</dcterms:created>
  <dc:creator>admin</dc:creator>
  <dc:description/>
  <dc:language>en-US</dc:language>
  <cp:lastModifiedBy>admin</cp:lastModifiedBy>
  <dcterms:modified xsi:type="dcterms:W3CDTF">2015-08-24T04:54:45Z</dcterms:modified>
  <cp:revision>124</cp:revision>
  <dc:subject/>
  <dc:title>Slide 1</dc:title>
</cp:coreProperties>
</file>