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  <p:sldId id="331" r:id="rId84"/>
    <p:sldId id="332" r:id="rId85"/>
    <p:sldId id="333" r:id="rId86"/>
    <p:sldId id="334" r:id="rId87"/>
    <p:sldId id="335" r:id="rId88"/>
    <p:sldId id="336" r:id="rId89"/>
    <p:sldId id="337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slide" Target="slides/slide76.xml"/><Relationship Id="rId85" Type="http://schemas.openxmlformats.org/officeDocument/2006/relationships/slide" Target="slides/slide77.xml"/><Relationship Id="rId86" Type="http://schemas.openxmlformats.org/officeDocument/2006/relationships/slide" Target="slides/slide78.xml"/><Relationship Id="rId87" Type="http://schemas.openxmlformats.org/officeDocument/2006/relationships/slide" Target="slides/slide79.xml"/><Relationship Id="rId88" Type="http://schemas.openxmlformats.org/officeDocument/2006/relationships/slide" Target="slides/slide80.xml"/><Relationship Id="rId89" Type="http://schemas.openxmlformats.org/officeDocument/2006/relationships/slide" Target="slides/slide81.xml"/><Relationship Id="rId90" Type="http://schemas.openxmlformats.org/officeDocument/2006/relationships/slide" Target="slides/slide82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B33-B481-47C1-90DB-558F7488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336-853C-4FB0-AF93-D920B5D9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1B0-9E03-47D9-B9DF-2FB1B672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BB4-956A-4E85-B500-1D2D8DA5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4A41-7E36-466C-BF63-FB2CF502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AA7D-572D-4310-8897-88F0055B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73EB-A6B3-46A0-B071-61ACB1E1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464B-D5FC-411A-9562-483A424E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0841-48F4-4D73-A634-995CD641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1C6E-C8B3-4197-AB9C-D642117A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83CB-3080-467C-BE7C-5C2BF8BB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926F-D621-4CE3-9323-5C682B3D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CC75-FAA9-4C66-AF2A-70CAB8A1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322C-B63C-4B10-A722-B02C1D71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A59D-4BA7-4A95-8903-29F8E92B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6698-1045-477C-891D-31938D7C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6070-30D6-41F6-ABA8-A2DA51C4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7DC1D-7A35-4A8E-ACD6-3811583E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36F7-A005-4729-8340-CB545546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645E-EDA7-45BB-AA52-E2E7122A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AEAA-7E1E-40FA-B648-1D203AF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B8EB-9489-4CCC-9142-14927BBD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838-C50C-4934-B556-8B5C477D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6B43-4935-499E-8A10-190CA1F3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2D7B6-8CF8-4B5A-B7D4-BF6C677B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675B-9A0E-4783-8F31-08ED053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4EE08-46DE-4E28-B07C-ACFC7180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81EED-232B-4E4C-80CC-9FB25F1E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B8BA-E389-4022-91EE-AC718634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1105F-04CF-4D49-95C6-41BFFE8B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19F84-6C46-44F5-ACC4-E4468FC2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805A4-6D51-4761-BAAC-07E41880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D1CEA-6BBC-412D-9712-826C77BC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8442-F007-4148-83B1-8EBF6C8E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C6CA-EC20-4FDF-AFFC-F93EECE4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ABC2-92EB-4D58-8662-74117D7C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D769-10B1-426B-B56B-33C9FB6D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E0C19-E8F6-45B1-9E5B-E7E845E0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B2871-E526-47DD-8015-3676C5E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6726-F635-4735-9295-2453D18D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717B-669D-4282-94FF-ADF40B6D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3152-88CB-4246-A166-35A961FD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E2E4-51E4-42FA-A773-C24508A0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CD6BA-6123-437D-9282-CA584C07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ED3-9E8B-49A7-818C-0EBB7392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83C8B-71CE-4F07-8020-6D82E9D9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B551D-0C59-4BA9-95AF-91476AD2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C26C-39C0-4517-93A3-FF3D9E52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A6B4-04C0-47A2-AE65-9B4A0A59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F23A-E686-4CC6-AF78-981CFA22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34881-535A-46CC-AE21-1CA2EB13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2BE8-492F-40AE-8670-ED20070A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97ED-FB38-4662-A2F2-7366F233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F3A2-D928-4E13-8946-4DAAB83C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9554D-0AE6-48BD-8A33-AA407731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F6C-F975-4861-93C9-3332A446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1F98E-0D3D-4C00-8A54-08004695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16EEF-4FA1-4F1F-982C-C63BD4682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07A33-84A4-4B84-85ED-1D4AFC6B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00090-7823-4A37-815C-D80A04FA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5CEBC-9802-488F-ACE2-2BD22825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BD244-6B31-4771-BA0B-FAA0D7CB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ED84C-993B-4975-A6D3-D4371A51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6D09C-1FFF-4AEF-A2C1-EF0F1632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AC863-7720-42C6-B3E8-C7D51232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1E1AC-5192-4FF2-9D1C-D82349E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1DD-5D9D-45D3-8A08-C0B1B2D8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B4FF6-BB40-47D4-AAAB-56974AFC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B15A2-682D-4284-A622-3CBEDE65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2E38D-C452-481A-A75C-FE6AE28B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50674-976A-4D7F-89DE-243A3FBA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7E24-B1F8-4029-AB4C-7CCE9A4F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38228-4652-423D-9AA1-1AD48335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0849-C17B-4529-969A-1A683853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A444-F1AC-420B-9E66-9AD4F9D1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C1B70-069C-436D-97C4-9A49D36A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099DD-2B5F-42A5-B9ED-AC46EF7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033-5B25-46C5-9378-286466F0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A7FE7-B157-4CD0-9552-6771159F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816CA-CECE-4B47-99A5-0A6FEC3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5D836-A850-410D-BA31-7BFE1E9B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B6166-FDA2-4126-941F-92368652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44EA3-C3D5-40D5-A254-8909D9B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412-CEDA-42B4-A79B-0E4BA92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E426-DF87-477E-8957-3BBFD60F14F0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B8A-091A-4052-A132-D34A1FFD9F2F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CC9-AA90-4E06-80FA-20D502F7B30E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302-46C5-4575-A834-58E8CA999B7E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D68-A6CA-43DE-94FA-6587C4CCDF8E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76A7-BDCD-4C63-A779-3662156032BC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88880" y="1217520"/>
              <a:ext cx="56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79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88880" y="1282320"/>
              <a:ext cx="56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41880" y="1370160"/>
              <a:ext cx="56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799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41880" y="1434960"/>
              <a:ext cx="56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93760" y="1473120"/>
              <a:ext cx="56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79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93760" y="1537920"/>
              <a:ext cx="56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eece1"/>
                </a:solidFill>
                <a:latin typeface="Arial"/>
                <a:ea typeface="Aharon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eece1"/>
                </a:solidFill>
                <a:latin typeface="Arial"/>
                <a:ea typeface="Aharon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2779-1010-48E2-993D-5F8D1EF0885F}" type="slidenum">
              <a:rPr b="0" lang="en-US" sz="1200" spc="-1" strike="noStrike">
                <a:solidFill>
                  <a:srgbClr val="eeece1"/>
                </a:solidFill>
                <a:latin typeface="Arial"/>
                <a:ea typeface="Aharon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040" y="31240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br>
              <a:rPr sz="4800"/>
            </a:br>
            <a:br>
              <a:rPr sz="4800"/>
            </a:br>
            <a:endParaRPr b="0" lang="en-US" sz="28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AGNOSTIC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ic ero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ight Brace 3"/>
          <p:cNvSpPr/>
          <p:nvPr/>
        </p:nvSpPr>
        <p:spPr>
          <a:xfrm>
            <a:off x="5029200" y="2895480"/>
            <a:ext cx="533520" cy="2057400"/>
          </a:xfrm>
          <a:custGeom>
            <a:avLst/>
            <a:gdLst>
              <a:gd name="textAreaLeft" fmla="*/ 0 w 533520"/>
              <a:gd name="textAreaRight" fmla="*/ 192600 w 533520"/>
              <a:gd name="textAreaTop" fmla="*/ 13680 h 2057400"/>
              <a:gd name="textAreaBottom" fmla="*/ 20437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4"/>
                  <a:pt x="10800" y="467"/>
                </a:cubicBezTo>
                <a:lnTo>
                  <a:pt x="10800" y="10333"/>
                </a:lnTo>
                <a:cubicBezTo>
                  <a:pt x="10800" y="10567"/>
                  <a:pt x="16200" y="10800"/>
                  <a:pt x="21600" y="10800"/>
                </a:cubicBezTo>
                <a:cubicBezTo>
                  <a:pt x="16200" y="10800"/>
                  <a:pt x="10800" y="11034"/>
                  <a:pt x="10800" y="11267"/>
                </a:cubicBezTo>
                <a:lnTo>
                  <a:pt x="10800" y="21133"/>
                </a:lnTo>
                <a:cubicBezTo>
                  <a:pt x="10800" y="21367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867280" y="312408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fourths of adult patients with U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ight Brace 5"/>
          <p:cNvSpPr/>
          <p:nvPr/>
        </p:nvSpPr>
        <p:spPr>
          <a:xfrm>
            <a:off x="4952880" y="5475240"/>
            <a:ext cx="685800" cy="106668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066680"/>
              <a:gd name="textAreaBottom" fmla="*/ 1049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9"/>
                  <a:pt x="10800" y="1157"/>
                </a:cubicBezTo>
                <a:lnTo>
                  <a:pt x="10800" y="9643"/>
                </a:lnTo>
                <a:cubicBezTo>
                  <a:pt x="10800" y="10222"/>
                  <a:pt x="16200" y="10800"/>
                  <a:pt x="21600" y="10800"/>
                </a:cubicBezTo>
                <a:cubicBezTo>
                  <a:pt x="16200" y="10800"/>
                  <a:pt x="10800" y="11379"/>
                  <a:pt x="10800" y="11957"/>
                </a:cubicBezTo>
                <a:lnTo>
                  <a:pt x="10800" y="20443"/>
                </a:lnTo>
                <a:cubicBezTo>
                  <a:pt x="10800" y="2102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715000" y="5475240"/>
            <a:ext cx="327672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% of adults with LGI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990720" y="5486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ti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giodys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ophag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t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ptic ulcer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ctious col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ammatory bowel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ight Brace 5"/>
          <p:cNvSpPr/>
          <p:nvPr/>
        </p:nvSpPr>
        <p:spPr>
          <a:xfrm>
            <a:off x="4449600" y="1981080"/>
            <a:ext cx="685800" cy="167652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676520"/>
              <a:gd name="textAreaBottom" fmla="*/ 1658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6"/>
                </a:cubicBezTo>
                <a:lnTo>
                  <a:pt x="10800" y="10064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6"/>
                </a:cubicBezTo>
                <a:lnTo>
                  <a:pt x="10800" y="20864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5288040" y="1981080"/>
            <a:ext cx="324648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s of UG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ight Brace 8"/>
          <p:cNvSpPr/>
          <p:nvPr/>
        </p:nvSpPr>
        <p:spPr>
          <a:xfrm>
            <a:off x="5943600" y="4711680"/>
            <a:ext cx="685800" cy="1676520"/>
          </a:xfrm>
          <a:custGeom>
            <a:avLst/>
            <a:gdLst>
              <a:gd name="textAreaLeft" fmla="*/ 0 w 685800"/>
              <a:gd name="textAreaRight" fmla="*/ 247680 w 685800"/>
              <a:gd name="textAreaTop" fmla="*/ 17640 h 1676520"/>
              <a:gd name="textAreaBottom" fmla="*/ 1658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8"/>
                  <a:pt x="10800" y="736"/>
                </a:cubicBezTo>
                <a:lnTo>
                  <a:pt x="10800" y="10064"/>
                </a:lnTo>
                <a:cubicBezTo>
                  <a:pt x="10800" y="10432"/>
                  <a:pt x="16200" y="10800"/>
                  <a:pt x="21600" y="10800"/>
                </a:cubicBezTo>
                <a:cubicBezTo>
                  <a:pt x="16200" y="10800"/>
                  <a:pt x="10800" y="11168"/>
                  <a:pt x="10800" y="11536"/>
                </a:cubicBezTo>
                <a:lnTo>
                  <a:pt x="10800" y="20864"/>
                </a:lnTo>
                <a:cubicBezTo>
                  <a:pt x="10800" y="21232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6858000" y="4572000"/>
            <a:ext cx="2133720" cy="180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s of LGIB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72320" y="1066680"/>
            <a:ext cx="280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ldren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kel’s diverticul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intussus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all ages, anorectal abnormalities are the most common cause of minor L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5562720" y="1676520"/>
            <a:ext cx="3581280" cy="1800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 cause of massive LGIB in children younger than 2 years of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ight Brace 6"/>
          <p:cNvSpPr/>
          <p:nvPr/>
        </p:nvSpPr>
        <p:spPr>
          <a:xfrm>
            <a:off x="5029200" y="1981080"/>
            <a:ext cx="380880" cy="12956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295640"/>
              <a:gd name="textAreaBottom" fmla="*/ 12859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5"/>
                  <a:pt x="10800" y="529"/>
                </a:cubicBezTo>
                <a:lnTo>
                  <a:pt x="10800" y="10271"/>
                </a:lnTo>
                <a:cubicBezTo>
                  <a:pt x="10800" y="10536"/>
                  <a:pt x="16200" y="10800"/>
                  <a:pt x="21600" y="10800"/>
                </a:cubicBezTo>
                <a:cubicBezTo>
                  <a:pt x="16200" y="10800"/>
                  <a:pt x="10800" y="11065"/>
                  <a:pt x="10800" y="11329"/>
                </a:cubicBezTo>
                <a:lnTo>
                  <a:pt x="10800" y="21071"/>
                </a:lnTo>
                <a:cubicBezTo>
                  <a:pt x="10800" y="21336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400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source of bleeding is identified in approximately 10% of patients with GI bleeding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7621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In abdominal aortic grafts pt with with GI bleeding, the possibility of aortoenteric fistula should be consi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pt surgical consultation in the ED should be obtained if this is suspected, because bleeding can be massive and fa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pid Assessment and Stabil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atients with GI bleeding are easy to diagnose by history +/- physical ex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hemodynamically unstable should undergo rapid evaluation and resusc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be undressed quickly with placement of cardiac and oxygen saturation monit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78000" indent="-3150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oxygen should be given as nee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least two large-bore (minimum 18-gauge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samples f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C, for hg, plat, hemato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gulation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5160" indent="-268560" algn="just">
              <a:spcBef>
                <a:spcPts val="700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and screen or type and cross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oid resuscitation should be initi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Case…</a:t>
            </a:r>
            <a:r>
              <a:rPr b="0" lang="en-US" sz="4000" spc="-1" strike="noStrike">
                <a:solidFill>
                  <a:srgbClr val="f4f1da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assan is 45 y/o saudi gentleman, presents to ED at KKUH early morning, C/O vomiting bloo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ould you approach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How would you manage?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212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S 2-L bolus in adults or 20 mL/kg in children until the patient’s vital signs have stabilized or the patient has received 40 mL/kg of crystalloid in an adult or 60 mL/kg as a child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remain unstable give type O, type-specific, or cross matched blood, depending on avail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ly unstable patients should receive immediate consultation with a gastroenterologist for UGIB and with a surgeon for L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s typically complain of vomiting red blood or coffee grounds–like material, or passing black or bloody s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matemesis (vomiting blood) occurs with bleeding of the esophagus, stomach, or proximal small bow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matemesis may be bright red or darker (i.e., coffee grounds–like) as a result of the conversion of hemoglobin to hematin or other pigments by hydrochloric acid in the stomach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lor of vomited or aspirated blood from the stomach does not differentiate between arterial and venous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ena, or black tarry stool, will result from the presence of approximatel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150 to 200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L of blood in the GI tract for a prolonged peri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elen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seen in approximate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 of patients with UGI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patients with LGI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from the duodenum or jejunum must remain in the GI tract for approximately 8 hours before turning bl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Arial"/>
            </a:endParaRPr>
          </a:p>
        </p:txBody>
      </p:sp>
      <p:pic>
        <p:nvPicPr>
          <p:cNvPr id="429" name="عنصر نائب للمحتوى 3" descr="Black_Stools-1.jpg"/>
          <p:cNvPicPr/>
          <p:nvPr/>
        </p:nvPicPr>
        <p:blipFill>
          <a:blip r:embed="rId1"/>
          <a:stretch/>
        </p:blipFill>
        <p:spPr>
          <a:xfrm>
            <a:off x="2133720" y="1752480"/>
            <a:ext cx="502920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asionally, black stool may follow bleeding into the lower portion of the small bowel and ascending col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Stool may remain black and tarry for several days, even though bleeding has stop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6212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Hematochezia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bloody stool (bright red or maro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ten signifies LGI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be due to a brisk UGIB with rapid transit time through the bowel in 10 to 15% of pat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6280" indent="-3218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ore proximal source of significant bleeding must be excluded before assuming the bleeding is from the lower GI tra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two thirds of patients with LGIB present with red blood from bleeding per rect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amounts of red blood (5 mL) from rectal bleeding, such as bleeding due to hemorrhoids, may cause the water in the toilet bowl to appear bright r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212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ly common probl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ires early consultation and hospital admi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D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 red stools also can be seen after ingestion of a large quantity of b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ccult testing would be negative and the patient also will report pink colored water in the toilet bow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0948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20400" indent="-267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ant q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ation and quantity of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history of ble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t medication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SAID 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ed medical ill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0400" indent="-267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 surg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ymptoms of hypovol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.dizziness, weakness, or loss of consciousness, most often after standing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nonspecific complaint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 dyspnea, confusion, and abdominal 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an elderly patient may present with ischemic chest pain precipitated by significant anemia due to a GI ble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n five patients with GI bleeding may have only nonspecific compl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story is of limited help in predicting the site or quantity of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a previously documented GI lesion bleed from the same site in only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60%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c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ss estimates of blood loss based on the volume and color of the vomitus or stool are inaccu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ys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 and postural changes in heart rate and blood pressure are insensitive and nonspecific, with the exception of significant, sustained heart rate increase and hypoten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hypotensive and tachycardic should be assumed to have a significant hemorrh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vital signs do not exclude a significant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ural changes in heart rate and blood pressure may occur in individuals who are not blee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l 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tal status (including restlessn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n signs (e.g., color, warmth, and moisture to assess for shock, or presence of lesions such as telangiectasia, bruises, or petechiae to assess for vascular diseases or hypocoagulable sta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lmonary and cardiac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0240" indent="-32544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omin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rate for GI bleeding is approximately 10%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agnostic modalities have improved much more than therapeutic techniqu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t reassessment is important because a patient’s status may change quick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ctal Examin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l and stool examinations are often key to making or confirming the diagnosis of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nding of red, black, or melenic stool early in the assessment is helpful in prompting early recognition and management of patients with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bsence of black or bloody stool, however, does not exclude the diagnosis of GI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ardless of the apparent character and color of the stool, occult blood testing is indic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cillary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ests for Occult Bloo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ence of hemoglobin in occult amounts in stool is confirmed by tests such as    ( Hemoccult, HemaPrompt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ol tests for occult blood may have positive results 14 days after a single, major episode of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alse-posit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ted with the ingestion o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tain fruits (e.g., cantaloupe, grapefruit, figs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ooked vegetables (e.g., radish, cauliflower, broccoli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 algn="just">
              <a:spcBef>
                <a:spcPts val="601"/>
              </a:spcBef>
              <a:buClr>
                <a:srgbClr val="ffff00"/>
              </a:buClr>
              <a:buSzPct val="9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 m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ylene blue, chlorophyll, iodide, cupric sulfate, and bromide prepara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alse-negativ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mon but can be caused by bile or ingestion of magnesium containing antacids or ascorbic aci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to evaluate gastric contents for occult blood (e.g., Gastroccult) can be unreliable and should not be used for this purp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linical Labora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itial hematocrit may be misleading in patients with preexisting anemia or polycythem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s in the hematocrit may lag significantly behind actual blood los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infusion of crystalloid in nonbleeding patients also may cause a decrease in hematocrit by hemodilu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oglobin concentration of 8 g/dL or less (hematocrit &lt;25%) from acute blood loss usually require blood 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ransfusion and in the absence of ongoing blood loss, the hematocrit can be expected to increase approximately 3% for each unit of blood administered (hemoglobin level increases by 1 mg/d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T should be used to determine whether a patient has a preexisting coagul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ed PT may indic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tamin K de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r dys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farin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ptive coagulopath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 blee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often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asy to ident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re is clear evidence of vomiting blood or passing blood in the st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be subtl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…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signs and symptoms of hypovolemia, such as dizziness, weakness, or syn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anticoagulants or with an elevated PT and evidence of active bleeding should receive sufficient FFP to correct the P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 platelet counts are used to determine the need for platelet transfusions (i.e., less than 50,000/mm3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lood Bank Bloo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be sent for “type and hold” or type and crossmatch studies early in the patient’s c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06800" indent="-3391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transfusion needs in unstable patients can be met with O-positive packed red blood cells (O-negative packed red blood cells in women of childbearing age whose Rh status is unknow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-specific blood is usually available within 10 to 15 minut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 blood and type-specific blood are safe for patients and cause few transfusion reaction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y crossmatched blood may take 60 minutes to prepa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ther Laboratory T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olytes usually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ea and creatin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ients with repeated vomiting, may develop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kal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natr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 algn="just">
              <a:spcBef>
                <a:spcPts val="799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abolic alkalo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ight Brace 3"/>
          <p:cNvSpPr/>
          <p:nvPr/>
        </p:nvSpPr>
        <p:spPr>
          <a:xfrm rot="5400000">
            <a:off x="3314520" y="2857320"/>
            <a:ext cx="762120" cy="4495680"/>
          </a:xfrm>
          <a:custGeom>
            <a:avLst/>
            <a:gdLst>
              <a:gd name="textAreaLeft" fmla="*/ 0 w 762120"/>
              <a:gd name="textAreaRight" fmla="*/ 275040 w 76212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838080" y="5715000"/>
            <a:ext cx="579132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haroni"/>
              </a:rPr>
              <a:t>correct with adequate hydration and the resolution of vom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tients with shock often have metabolic acidosis from lactate accumulation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igh Urea as a result o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 algn="just">
              <a:spcBef>
                <a:spcPts val="700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of blood from the GI tr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 algn="just">
              <a:spcBef>
                <a:spcPts val="700"/>
              </a:spcBef>
              <a:buClr>
                <a:srgbClr val="ffff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volemia causing prerenal azot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C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ll patients with a GI bleed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than 50 yea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existing ischemic cardiac diseas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an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st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hypotens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Content Placeholder 2"/>
          <p:cNvSpPr/>
          <p:nvPr/>
        </p:nvSpPr>
        <p:spPr>
          <a:xfrm>
            <a:off x="914400" y="53341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  <a:ea typeface="Aharoni"/>
              </a:rPr>
              <a:t>Asymptomatic myocardial ischemia may develop in the setting of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GI bleeding and myocardial ischemia should receive packed red blood cells as soon as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ma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eed for plain abdominal radiography unless aspiration or with signs and symptoms of bowel perfo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consistent with bowel perforation is a rare finding with UGI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immediate surgical consultation and operative repa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allowing blood during epistaxis or from the oral cavity may cause hematemesis or melen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vomitus may be due to food products (e.g., Jell-O, tomato sauce, wine), and black stool may be due to iron therapy or bismuth (e.g., Pepto-Bismo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gement approach depends on whether the hemorrhage is located in the proximal or the distal segment of the GI tract (i.e., upper or lower GI bleedi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segments are anatomically defined by the ligament of Treitz in the  duoden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ick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ggressive resusc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mpt consul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initial resuscitation of the patien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important to identify whether the hemorrhage is proximal or distal to the ligament of Treitz (i.e., UGIB or LGIB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atient’s vomitus demonstrates blood, then the diagnosis of UGIB is confirm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 patient reports bloody or “coffee grounds” emesis or if melenic stool is present, an upper GI bleed is more lik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Emergency management of patients with gastrointestinal bleeding. ED, emergency department; IV, intravenous; LGIB, lower gastrointestinal bleeding; UGIB, upper gastrointestinal bleeding.</a:t>
            </a:r>
            <a:endParaRPr b="0" lang="en-US" sz="14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oscopy/Proctosigmoid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with mild rectal bleeding who do not have obviously bleeding hemorrhoids should undergo anoscopy or proctosigmoidoscop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bleeding internal hemorrhoids are discovered, and the patient does not have portal hypertension, the patient may be discharged with appropriate treatment and follow-up evaluation for hemorrho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hemorrhoids are not detected, it is important to determine if the stool above the rectum contains bloo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ence of blood above the rectum in a patient who is actively bleeding indicates that the source of bleeding is in the rectu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ce of blood above the anoscope or sigmoidoscope does not invariably indicate a proximal source of bleeding, because retrograde passage of blood into the more proximal colon commonly occ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h patients need further evalu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d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scopy is the most accurate diagnostic tool available for the evaluation of UGI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dentifies a lesion in 78% to 95% of patients with UGIB if it is performed within 12 to 24 hours of the hemorrh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scopy-for upper GI blee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oscopy is an effective tool for diagnosis and selected treatment of L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ngiography and Tagged Red Bl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Scan Angiography can detect the location of UGIB in two thirds of patients studi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ce the advent of endoscopy, however, the use of angiography has decreased significantly, and today angiography is used in only 1% of patients with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ower GI bleeding (LGIB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a smaller portion of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hospital admissions than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isotope–tagged red blood cell s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patients with more indolent or elusive bleed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ally performed from the inpatient unit, may identify the bleeding s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ic Acid Secretion In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atients with peptic ulcer disease documented by endoscopy should receive therapy with a proton-pump inhibitor (e.g., omeprazol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no documented benefit to initiating this therapy or administering H2 antihistamines in the ED for patients with UGI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ctreotide (Somatostatin Analogu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infusion of octreotide at 25–50 μg/hour for a minimum of 24 hou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atients with documented esophageal varices and acute upper GI blee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receive in monitored b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reotide is a useful addition to endoscopic sclerotherapy and decreases rebleeding occurr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reotide may also reduce the incidence of lower GI rebleeding secondary to angiodyspla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ngstaken-Blakemore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rely used in tertiary care cent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 not be used without endoscopic documentation of the source of bleeding because complications are common and significant (14% major, 3% fata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rial of balloon tamponade should be considered in an exsanguinating patient with probable variceal bleeding in whom endoscopy is not immediately avail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ltation with a surgeon or gastroenterologist is advis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rg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all hemodynamically unstable patients with active bleeding who do not respond to medical therap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tality rate for patients undergoing emergency procedures for GI bleeding is approximately 23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ergency surgical consultation for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replacement exceeds 5 units within the first 4 to 6 hou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units of blood is needed every 4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sk Strat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40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stratification involves combining historical, clinical, and laboratory data to determine the risk of death and rebleeding in patients presenting to an ED with GI bleed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s present to the ED with a vague complaint of vomiting blood or passing blood from the rectum in whom detailed history and examination allows a diagnosis of hemorrhoid, or anal fissure, or there may be little or no objective evidence of significant GI bleeding….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scharge pt with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5288040"/>
            <a:ext cx="9372600" cy="1556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tients should be educated about the signs and symptoms of significant GI bleeding and when to return to the 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 in persons of any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commonly affects people in their 40s through 70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deaths in patients older than 60 ye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IB is more common in men than in women (in a 2 : 1 rati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IB is more common in wom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nts should undergo specific follow-up evaluation within 24 to 36 hou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should be instructed to avoid aspirin, nonsteroidal anti-inflammatory drugs, and alcoh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248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040" y="31240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NK YOU</a:t>
            </a:r>
            <a:endParaRPr b="0" lang="en-US" sz="4800" spc="-1" strike="noStrike">
              <a:solidFill>
                <a:srgbClr val="f4f1d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ointestinal Bleeding</a:t>
            </a:r>
            <a:endParaRPr b="0" lang="en-US" sz="3200" spc="-1" strike="noStrike">
              <a:solidFill>
                <a:srgbClr val="f4f1da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76212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UGIB requiring admission is more common in ad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 algn="just">
              <a:spcBef>
                <a:spcPts val="700"/>
              </a:spcBef>
              <a:buClr>
                <a:srgbClr val="ffff00"/>
              </a:buClr>
              <a:buSzPct val="9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IB requiring admission is more common in childr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3:00:54Z</dcterms:created>
  <dc:creator>admin</dc:creator>
  <dc:description/>
  <dc:language>en-US</dc:language>
  <cp:lastModifiedBy>admin</cp:lastModifiedBy>
  <dcterms:modified xsi:type="dcterms:W3CDTF">2015-08-24T04:54:45Z</dcterms:modified>
  <cp:revision>124</cp:revision>
  <dc:subject/>
  <dc:title>Slide 1</dc:title>
</cp:coreProperties>
</file>