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0A9AC-88E6-4610-BA24-A8702264D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A3288-3760-4A2B-B559-63A66A2EC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7ECE3-3877-43A8-9020-8B1B7D8A9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BC49D-EBA5-4B88-9667-A7EF04725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5745E-16C7-4970-BFD6-172BF0B28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52CC2-F2D4-44A8-B6E0-99610B385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CA231-CBB6-442E-B8F4-831E64C5C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1F7FF-98EB-4E6A-BF50-B47BB145A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4E8CD-9E09-46A6-947E-A75A4FA5B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CBB14-9B80-4BE8-AD01-56C4C337C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E4CD5-251A-475A-83B1-753700C5D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EFB5E-2A3C-4127-B835-EE50CC1C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D69AB-FD4D-4AA6-B3C2-CCEE6C719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AD31A-F3FE-4FBB-ACB8-D078276E8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33684-EEF3-4514-94DB-FC88EC45E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3A145-F7E7-4120-BF9F-7BE82FAEC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9CF6A-B315-44DB-8141-C36AF2C3C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CE11A-C1D4-4580-8AB5-397A0549C4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AC20B-53F7-4964-B86F-5895D4126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2EA4B-255C-411C-B146-87C65F631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63270-0008-4497-BEA9-8ED1D270A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D0132-4D2C-4ECC-B964-9C3B12766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B9A5-F1AC-4226-B757-D0C2436C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EB7E5-B873-40B3-80E4-515E1788A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27CD3-0DAB-407C-9AB2-3069F3494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135FB-C106-4C1D-9607-5FD6456B9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D8ABB-5E7E-48D0-9096-00CA843AE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A17A1-4F74-436A-94F9-2170D461C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BA037A-90F7-40ED-8412-C0D0854625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D8542-2BDB-4A65-8C04-A4F238ABF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2A040B-425F-457C-A1FB-F4CC57BFA7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793E1-495B-4969-A4B4-8ECCF0934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C8DD56-6014-4324-B855-CF52C084C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19E9-9C5E-4498-9639-129D48A8D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21D58-19FA-4A4F-A268-920648BD1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6A79A0-748D-4D39-8F7D-D22A3DAB7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391C96-4B8C-4928-8179-68E7F3345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72115-B037-4544-886C-B52071DED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7811F-A3B6-4277-ABAF-1EFE438A5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145BC-0840-4B9D-BD01-F31488FE7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F860B-E199-4231-854E-A18DC205F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E7467-82BE-46B5-8E6E-B5BBDC6263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431039-F3FE-4F9E-A313-97911B900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5FC59A-F667-4B26-98F1-FA0C5CA571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4B64-30BE-480D-81BD-91A5C531B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DF7928-5355-4E8B-B992-9295D9BCC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97E5A-3D2B-489C-AFB7-01A1560E57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56145-814C-4C2D-AA50-42063D89B1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A8DA1-2B5D-4F43-AE8D-78314FCBC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2F50B-B5F2-4605-BC3A-650D73C77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2EB84-BB50-4164-B030-D81F74D14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97AA7-AF9E-44EB-9403-0B1C94DBD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F1A1A-5160-4879-8F69-BED5A073B9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DB0B97-B6E3-4560-91B4-A73D4E3BF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B61F6E-D0C7-44BB-BE78-1548D9CA2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44BC-2BC2-4ACB-8776-6863292BD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2E8566-4C53-4D86-A302-64818929B2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B1E09E-7921-44F0-8E80-7D2897D2C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FA460C-CD7B-4A4D-8328-2409417D3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CF373-898D-4A45-8DFD-EA75906B8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124EB2-0426-4778-8BA0-C2A5CC0DC7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25F793-6D98-47F1-B3A1-6057281628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2DE12A-B34E-42E6-8BB8-1C4BC768B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61C7E-B38A-435F-A655-D07086D44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D4E52-11F9-4149-871F-5877A194E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D891F-877D-4C9C-A4F2-54CC7093D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1807-E33F-4218-8C9D-09A748CB7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7C4E8-CE3D-4A04-B84F-CA0446A03A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95E901-C00E-42F6-915B-3E3D4BF1B6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9B2DC6-BE92-4436-8B6D-28EDA23955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4910FC-8C4F-4C5D-8B8E-0487517E2D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72FA9-0AC2-490B-84D6-2F3AD8B2A4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1B22A-26C2-4E42-B223-2AED2CF83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9F8B5-05B5-4D31-AC63-E50370F7D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6F12D2-5AB1-408A-9A2F-58BCCF90D4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783CAE-197E-40EA-913B-35A7F3CA3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80DAB-3929-4C7A-96F8-10A4AED71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25993-09C0-41B8-B566-DADC2EEE4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FEF22-7587-4EF4-B86E-1F877ED11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91021-08F3-4BB9-8356-397400464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7689B-66F5-42DC-A1AE-02135B29A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9C21E9-CEC8-4403-8DD9-AB5E53A8C3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B2EAD6-9671-490A-B8DC-7436FBDF79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A4E1-2EFF-4267-872F-880FA9842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A69B-F506-4C01-A63A-137232997224}"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615A-7B79-4092-8F19-E6D618B3B795}"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5E05-98D5-47C1-8A70-8D9DE6B6DBDB}"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09C7-93AD-4D26-B448-C20F8BB58B43}"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05ED-A471-4860-82E3-81EF9E470F5A}"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8FBA-94E1-40B7-93C7-E971EE3704E6}"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7440" y="121752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87440" y="128232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40440" y="137016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40440" y="143496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92320" y="1473120"/>
              <a:ext cx="579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82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92320" y="1537920"/>
              <a:ext cx="579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7F0D-30B6-4C76-BD15-7917E89CD66F}"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312408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astrointestinal Bleeding</a:t>
            </a:r>
            <a:br>
              <a:rPr sz="4800"/>
            </a:br>
            <a:br>
              <a:rPr sz="4800"/>
            </a:br>
            <a:endParaRPr b="0" lang="en-US" sz="28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8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UGIB requiring admission is more common in adults, whereas LGIB requiring admission is more common in childr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6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can be sorted into four risk categories: very low, low, moderate, and high risk.</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atients present to the ED with a vague complaint of vomiting blood or passing blood from the rectum in whom detailed history and examination allows a diagnosis of hemorrhoid, or anal fissure, or there may be little or no objective evidence of significant GI blee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6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atients can be categorized as very low risk and can be sent home without further diagnostic tests.</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discharge, patients should be educated about the signs and symptoms of significant GI bleeding and when to return to the ED or when to call their primary care physic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6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uld be given specific education about the possible or actual cause of the bleeding and specific treatment for that disorder.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uld be educated about the side effects of any medica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7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ents should undergo specific follow-up evaluation within 24 to 36 hours.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uld be instructed to avoid aspirin, nonsteroidal anti-inflammatory drugs, and alcoh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7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low-risk, moderate-risk, and high-risk criteria are more complicated and require further assessment.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ly, nearly all patients with significant GI bleeding were admitted to the hospital. As health care has changed, a greater emphasis has been placed on outpatient management of sel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
          <p:cNvPicPr/>
          <p:nvPr/>
        </p:nvPicPr>
        <p:blipFill>
          <a:blip r:embed="rId1"/>
          <a:stretch/>
        </p:blipFill>
        <p:spPr>
          <a:xfrm>
            <a:off x="1371600" y="1066680"/>
            <a:ext cx="6248520" cy="4572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1298520" y="1143000"/>
            <a:ext cx="6546960" cy="4724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
          <p:cNvPicPr/>
          <p:nvPr/>
        </p:nvPicPr>
        <p:blipFill>
          <a:blip r:embed="rId1"/>
          <a:stretch/>
        </p:blipFill>
        <p:spPr>
          <a:xfrm>
            <a:off x="1301760" y="1143000"/>
            <a:ext cx="6540480" cy="46483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78"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risk patients with GI bleeding. Studies have shown that combining clinical and endoscopic criteria provides an accurate estimation of the risk of rebleeding and mortality in patients with UGIB.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80"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ombined criteria have been used to identify patients with UGIB at low risk, who can be discharged home, and patients at moderate or high risk, who need to be admitted to an appropriate care site in the hospi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89" name=""/>
          <p:cNvSpPr txBox="1"/>
          <p:nvPr/>
        </p:nvSpPr>
        <p:spPr>
          <a:xfrm>
            <a:off x="762120" y="144792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AGNOSTIC APPROACH</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ial Considerations</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ptic ulcer disease, gastric erosions, and varices account for approximately three fourths of adult patients with UGIB.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82"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clinical evidence of GI bleeding should undergo endoscopy as soon as it is available for final risk stratification, inpatient triage, and determination of appropriate treat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84"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ndoscopy is not immediately available, patients with low clinical risk may be admitted to an ED observation unit or short-stay hospital bed until endoscopy can be perform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86"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moderate clinical risk criteria may be admitted to an inpatient floor, intermediate care unit, or ICU, as indicated by specific patient management needs and depending on the capabilities of the institu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88"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high clinical risk should be admitted to a closely monitored step-down unit or an ICU.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iming of endoscopy depends on availability, the acuity of the patient, the need for emergent therapy, the need to determine final care site, and the need to minimize length of st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90"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LGIB that is not clearly due to hemorrhoids, fissure, or proctitis should be admitted to an inpatient bed.</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low risk may be admitted to an inpatient floor bed and prepared for a nuclear medicine imaging study (e.g., red blood cell–labeled study) or colonosco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92"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high-risk criteria should be admitted to a step-down unit or ICU and considered for angiography to identify the site of LGI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94"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moderate-risk criteria require individualized determination of the most appropriate inpatient care site (floor, intermediate care bed, or ICU) and the most useful diagnostic studies (nuclear imaging or angiograph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96"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ation with a surgeon should be obtained if it appears that more than 5 units of blood is required to achieve hemodynamic stability or if there is reasonable suspicion that operative intervention may be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98"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especially true of patients older than 65 years of age. In general, the older the patient, the more aggressive the surgical management ought to be.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a history of varices, persistent postural changes in heart rate, or significant bleeding of bright red blood per rectum are more likely to require surgery than are patients without these finding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600"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t vascular surgical consultation is needed for patients who have abdominal aortic grafts who present to the ED with GI bleeding, because of the possibility of an aortoenteric fistu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91" name=""/>
          <p:cNvSpPr txBox="1"/>
          <p:nvPr/>
        </p:nvSpPr>
        <p:spPr>
          <a:xfrm>
            <a:off x="685800" y="152388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ticulosis and angiodysplasia account for approximately 80% of adults with LGIB. In children, esophagitis, gastritis, and peptic ulcer disease are the most common causes of UGIB, and infectious colitis and inflammatory bowel disease are the most common causes of LGIB.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914040" y="312408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THANK YOU</a:t>
            </a:r>
            <a:endParaRPr b="0" lang="en-US" sz="48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93" name=""/>
          <p:cNvSpPr txBox="1"/>
          <p:nvPr/>
        </p:nvSpPr>
        <p:spPr>
          <a:xfrm>
            <a:off x="685800" y="152388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hildren younger than 2 years of age, massive LGIB is most often a result of Meckel’s diverticulum or intussusception.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ll ages, anorectal abnormalities are the most common cause of minor LGIB.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
          <p:cNvPicPr/>
          <p:nvPr/>
        </p:nvPicPr>
        <p:blipFill>
          <a:blip r:embed="rId1"/>
          <a:stretch/>
        </p:blipFill>
        <p:spPr>
          <a:xfrm>
            <a:off x="1371600" y="1143000"/>
            <a:ext cx="6400800" cy="46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1447920" y="1066680"/>
            <a:ext cx="6781680" cy="49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9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improved diagnostic techniques, no source of bleeding is identified in approximately 10% of patients with GI bleeding.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ith abdominal aortic grafts who present to the emergency department (ED) with GI bleeding, the possibility of aortoenteric fistula should be conside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99" name=""/>
          <p:cNvSpPr txBox="1"/>
          <p:nvPr/>
        </p:nvSpPr>
        <p:spPr>
          <a:xfrm>
            <a:off x="762120" y="152388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pt surgical consultation in the ED should be obtained if this is suspected, because bleeding can be massive and fa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01" name=""/>
          <p:cNvSpPr txBox="1"/>
          <p:nvPr/>
        </p:nvSpPr>
        <p:spPr>
          <a:xfrm>
            <a:off x="838080" y="144792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apid Assessment and Stabilization</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atients with GI bleeding are easy to diagnose because they present to the ED complaining of vomiting blood or passing black or bloody stool.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nosis is confirmed quickly by examination of the stool for the presence of bl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03" name=""/>
          <p:cNvSpPr txBox="1"/>
          <p:nvPr/>
        </p:nvSpPr>
        <p:spPr>
          <a:xfrm>
            <a:off x="838080" y="14479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suspected GI bleeding who are hemodynamically unstable should undergo rapid evaluation and resuscitation.</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uld be undressed quickly to permit placement of cardiac and oxygen saturation monitors, and supplemental oxygen should be given a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ase…</a:t>
            </a:r>
            <a:r>
              <a:rPr b="0" lang="en-US" sz="4000" spc="-1" strike="noStrike">
                <a:solidFill>
                  <a:srgbClr val="f4f1da"/>
                </a:solidFill>
                <a:latin typeface="Arial"/>
              </a:rPr>
              <a:t>	</a:t>
            </a:r>
            <a:endParaRPr b="0" lang="en-US" sz="4000" spc="-1" strike="noStrike">
              <a:solidFill>
                <a:srgbClr val="f4f1da"/>
              </a:solidFill>
              <a:latin typeface="Arial"/>
            </a:endParaRPr>
          </a:p>
        </p:txBody>
      </p:sp>
      <p:sp>
        <p:nvSpPr>
          <p:cNvPr id="37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ssan is 45 y/o saudi gentleman, presents to ED at KKUH early morning, C/O vomiting blood.</a:t>
            </a: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would you approach?</a:t>
            </a: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would you manag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05" name=""/>
          <p:cNvSpPr txBox="1"/>
          <p:nvPr/>
        </p:nvSpPr>
        <p:spPr>
          <a:xfrm>
            <a:off x="762120" y="14479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two large-bore peripheral intravenous lines should be placed (minimum 18-gauge); blood should be drawn for hemoglobin or hematocrit, platelet count, prothrombin time (PT), and type and screen or type and crossmatch studies; and crystalloid resuscitation should be initi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07" name=""/>
          <p:cNvSpPr txBox="1"/>
          <p:nvPr/>
        </p:nvSpPr>
        <p:spPr>
          <a:xfrm>
            <a:off x="762120" y="13716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enous crystalloid fluid should be given as a 2-L bolus in adults or 20 mL/kg in children until the patient’s vital signs have stabilized or the patient has received 40 mL/kg of crystalloid in an adult or 60 mL/kg as a chil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0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remain unstable after 40 to 60 mL/kg of crystalloid should be given type O, type-specific, or cross matched blood, depending on availability.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istently unstable patients should receive immediate consultation with a gastroenterologist for UGIB and with a surgeon for LGI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11" name=""/>
          <p:cNvSpPr txBox="1"/>
          <p:nvPr/>
        </p:nvSpPr>
        <p:spPr>
          <a:xfrm>
            <a:off x="68580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physical examination, testing a stool sample for blood, and measuring hemoglobin or hematocrit are the keys to diagnosing GI bleeding in most pat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13"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story</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typically complain of vomiting red blood or coffee grounds–like material, or passing black or bloody stool.</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atemesis (vomiting blood) occurs with bleeding of the esophagus, stomach, or proximal small bow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15"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story</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50% of patients with UGIB present with this complaint.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atemesis may be bright red or darker (i.e., coffee grounds–like) as a result of the conversion of hemoglobin to hematin or other pigments by hydrochloric acid in the stomac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1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lor of vomited or aspirated blood from the stomach does not differentiate between arterial and venous bleeding.</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lena, or black tarry stool, will result from the presence of approximately 150 to 200 mL of blood in the GI tract for a prolonged period.</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1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elena</a:t>
            </a:r>
            <a:r>
              <a:rPr b="0" lang="en-US" sz="2800" spc="-1" strike="noStrike">
                <a:solidFill>
                  <a:srgbClr val="ffffff"/>
                </a:solidFill>
                <a:latin typeface="Arial"/>
              </a:rPr>
              <a:t> is seen in approximately 70% of patients with UGIB and in one third of patients with LGIB.</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stool that is not tarlike may result from presence of 60 mL of blood from the upper GI tract. Blood from the duodenum or jejunum must remain in the GI tract for approximately 8 hours before turning bl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pic>
        <p:nvPicPr>
          <p:cNvPr id="421" name="عنصر نائب للمحتوى 3" descr="Black_Stools-1.jpg"/>
          <p:cNvPicPr/>
          <p:nvPr/>
        </p:nvPicPr>
        <p:blipFill>
          <a:blip r:embed="rId1"/>
          <a:stretch/>
        </p:blipFill>
        <p:spPr>
          <a:xfrm>
            <a:off x="2133720" y="1752480"/>
            <a:ext cx="5029200" cy="414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2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ally, black stool may follow bleeding into the lower portion of the small bowel and ascending colon.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may remain black and tarry for several days, even though bleeding has stopp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72" name=""/>
          <p:cNvSpPr txBox="1"/>
          <p:nvPr/>
        </p:nvSpPr>
        <p:spPr>
          <a:xfrm>
            <a:off x="762120" y="175248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ERSPECTIV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trointestinal (GI) bleeding is a relatively common problem countered in emergency medicine that often requires early consultation and hospital admi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2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ematochezia, </a:t>
            </a:r>
            <a:r>
              <a:rPr b="0" lang="en-US" sz="2800" spc="-1" strike="noStrike">
                <a:solidFill>
                  <a:srgbClr val="ffffff"/>
                </a:solidFill>
                <a:latin typeface="Arial"/>
              </a:rPr>
              <a:t>or bloody stool (bright red or maroon), most often signifies LGIB but may be due to a brisk UGIB with rapid transit time through the bowel in 10 to 15% of patients.</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UGIB is much more common than LGIB, a more proximal source of significant bleeding must be excluded before assuming the bleeding is from the lower GI tra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2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two thirds of patients with LGIB present with red blood from bleeding per rectum.</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amounts of red blood (e.g., 5 mL) from rectal bleeding, such as bleeding due to hemorrhoids, may cause the water in the toilet bowl to appear bright r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2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 red stools also can be seen after ingestion of a large quantity of beets; in this case, Hemoccult testing would be negative and the patient also will report pink colored water in the toilet bow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3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aking the history, specific questions should address the duration and quantity of bleeding, associated symptoms, previous history of bleeding, current medications, alcohol, nonsteroidal anti-inflammatory drug use and long-term aspirin ingestion, allergies, associated medical illnesses, previous surgery, treatment by nonhospital personnel, and the response to that treat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3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GI bleeding may report symptoms of hypovolemia, such as dizziness, weakness, or loss of consciousness, most often after standing up.</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nonspecific complaints include dyspnea, confusion, and abdominal p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3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an elderly patient may present with ischemic chest pain precipitated by significant anemia due to a GI bleed.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n five patients with GI bleeding may have only nonspecific complai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3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story is of limited help in predicting the site or quantity of bleeding.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a previously documented GI lesion bleed from the same site in only 60% of ca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3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ss estimates of blood loss based on the volume and color of the vomitus or stool (e.g., brown or black, pink or red) or the number of episodes of hemorrhage are notoriously inaccu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41"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ysical Examination</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ital</a:t>
            </a:r>
            <a:r>
              <a:rPr b="0" lang="en-US" sz="2800" spc="-1" strike="noStrike">
                <a:solidFill>
                  <a:srgbClr val="ffffff"/>
                </a:solidFill>
                <a:latin typeface="Arial"/>
              </a:rPr>
              <a:t> </a:t>
            </a:r>
            <a:r>
              <a:rPr b="1" i="1" lang="en-US" sz="2800" spc="-1" strike="noStrike">
                <a:solidFill>
                  <a:srgbClr val="ffffff"/>
                </a:solidFill>
                <a:latin typeface="Arial"/>
              </a:rPr>
              <a:t>Signs </a:t>
            </a:r>
            <a:r>
              <a:rPr b="0" lang="en-US" sz="2800" spc="-1" strike="noStrike">
                <a:solidFill>
                  <a:srgbClr val="ffffff"/>
                </a:solidFill>
                <a:latin typeface="Arial"/>
              </a:rPr>
              <a:t>Vital signs and postural changes in heart rate and blood pressure have been used to assess the amount of blood loss in patients with GI bleeding but are insensitive and nonspecific, with the exception of significant, sustained heart rate increase and hypotens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4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ith a history suggesting GI bleeding who are hypotensive, are tachycardic, or experience sustained posture-induced changes in heart rate of greater than 20 beats per minute should be assumed to have a significant hemorrh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74"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verall mortality rate for GI bleeding is approximately 10% and has not changed significantly since the 1960s.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modalities have improved much more than therapeutic techniqu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4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vital signs do not exclude a significant hemorrhage, and postural changes in heart rate and blood pressure may occur in individuals who are not bleeding (e.g., elderly patients, many normal individuals, individuals on certain medications such as beta-blockers, individuals with hypovolemia from other ca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4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eneral Examination </a:t>
            </a:r>
            <a:r>
              <a:rPr b="0" lang="en-US" sz="2800" spc="-1" strike="noStrike">
                <a:solidFill>
                  <a:srgbClr val="ffffff"/>
                </a:solidFill>
                <a:latin typeface="Arial"/>
              </a:rPr>
              <a:t>The physical examination is valuable in establishing a specific diagnosis and assessing the severity of blood loss and the physiologic response to that lo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4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ful attention is given to the patient’s general appearance, vital signs, mental status (including restlessness), skin signs (e.g., color, warmth, and moisture to assess for shock, or presence of lesions such as telangiectasia, bruises, or petechiae to assess for vascular diseases or hypocoagulable states), pulmonary and cardiac findings, abdominal examination, and rectal and stool examin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5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t reassessment is important because a patient’s status may change quick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5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ctal Examination </a:t>
            </a:r>
            <a:r>
              <a:rPr b="0" lang="en-US" sz="2800" spc="-1" strike="noStrike">
                <a:solidFill>
                  <a:srgbClr val="ffffff"/>
                </a:solidFill>
                <a:latin typeface="Arial"/>
              </a:rPr>
              <a:t>Rectal and stool examinations are often key to making or confirming the diagnosis of GI bleeding.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nding of red, black, or melenic stool early in the assessment is helpful in prompting early recognition and management of patients with GI blee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5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ence of black or bloody stool, however, does not exclude the diagnosis of GI bleeding.</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ardless of the apparent character and color of the stool, occult blood testing is ind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57"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cillary Testing</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ests for Occult Blood </a:t>
            </a:r>
            <a:r>
              <a:rPr b="0" lang="en-US" sz="2800" spc="-1" strike="noStrike">
                <a:solidFill>
                  <a:srgbClr val="ffffff"/>
                </a:solidFill>
                <a:latin typeface="Arial"/>
              </a:rPr>
              <a:t>The presence of hemoglobin in occult amounts in stool is confirmed by tests such as    ( Hemoccult, HemaPrompt).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tests for occult blood may have positive results 14 days after a single, major episode of UGI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5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positive results have been associated with the ingestion of certain fruits (e.g., cantaloupe, grapefruit, figs), uncooked vegetables (e.g., radish, cauliflower, broccoli) and red meat, methylene blue, chlorophyll, iodide, cupric sulfate, and bromide prepara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6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negative results are uncommon but can be caused by bile or ingestion of magnesium containing antacids or ascorbic acid.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 to evaluate gastric contents for occult blood (e.g., Gastroccult) can be unreliable and should not be used for this purpose.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ewborns, maternal blood that is swallowed may cause bloody stools; the Apt test may show that it is maternal in orig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6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inical Laboratory </a:t>
            </a:r>
            <a:r>
              <a:rPr b="0" lang="en-US" sz="2800" spc="-1" strike="noStrike">
                <a:solidFill>
                  <a:srgbClr val="ffffff"/>
                </a:solidFill>
                <a:latin typeface="Arial"/>
              </a:rPr>
              <a:t>Tests Blood should be drawn for evaluation of baseline hematocrit or hemoglobin, coagulation studies (PT and platelet count), and type and crossmatch studies (or type and screen studies if the patient is stable).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l hematocrit may be misleading in patients with preexisting anemia or polycythem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76" name=""/>
          <p:cNvSpPr txBox="1"/>
          <p:nvPr/>
        </p:nvSpPr>
        <p:spPr>
          <a:xfrm>
            <a:off x="685800" y="1676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 bleeding is often easy to identify when there is clear evidence of vomiting blood or passing blood in the stool, but the clinical presentation may be subtle, with signs and symptoms of hypovolemia, such as dizziness, weakness, or sync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6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the hematocrit may lag significantly behind actual blood loss. Infusion of normal saline speeds equilibration of the hematocrit; however, rapid infusion of crystalloid in nonbleeding patients also may cause a decrease in hematocrit by hemodilu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6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general, patients with a hemoglobin concentration of 8 g/dL or less (hematocrit &lt;25%) from acute blood loss usually require blood therapy.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ransfusion and in the absence of ongoing blood loss, the hematocrit can be expected to increase approximately 3% for each unit of blood administered (hemoglobin level increases by 1 mg/d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6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T should be used to determine whether a patient has a preexisting coagulopathy.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evated PT may indicate vitamin K deficiency, liver dysfunction, warfarin therapy, or consumptive coagulopath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7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receiving therapeutic anticoagulants or patients with an elevated PT and evidence of active bleeding should receive sufficient fresh frozen plasma to correct the PT.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platelet counts are used to determine the need for platelet transfusions (i.e., less than 50,000/mm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7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lood Bank Blood</a:t>
            </a:r>
            <a:r>
              <a:rPr b="0" lang="en-US" sz="2800" spc="-1" strike="noStrike">
                <a:solidFill>
                  <a:srgbClr val="ffffff"/>
                </a:solidFill>
                <a:latin typeface="Arial"/>
              </a:rPr>
              <a:t> should be sent for “type and hold” or type and crossmatch studies early in the patient’s care.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transfusion needs in unstable patients can be met with O-positive packed red blood cells (O-negative packed red blood cells in women of childbearing age whose Rh status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7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pecific blood is usually available within 10 to 15 minutes.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O blood and type-specific blood are safe for patients and cause few transfusion reac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7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crossmatched blood may take 60 minutes to prepare.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 patients can be managed more cost-effectively by ordering “type and hold” without crossmatching for units of bl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7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ther Laboratory Tests</a:t>
            </a:r>
            <a:r>
              <a:rPr b="0" lang="en-US" sz="2800" spc="-1" strike="noStrike">
                <a:solidFill>
                  <a:srgbClr val="ffffff"/>
                </a:solidFill>
                <a:latin typeface="Arial"/>
              </a:rPr>
              <a:t> Electrolytes usually are normal in patients with GI bleeding.</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determination of electrolytes, blood urea nitrogen, and creatinine may be useful in a small percentage of patients with GI bleeding when indica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8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in patients with repeated vomiting, hypokalemia, hyponatremia, and metabolic alkalosis may develop, which usually correct with adequate hydration and the resolution of vomi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8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shock often have metabolic acidosis from lactate accumulation. The blood urea nitrogen is elevated in many patients with UGIB as a result of the absorption of blood from the GI tract and hypovolemia causing prerenal azotem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78" name=""/>
          <p:cNvSpPr txBox="1"/>
          <p:nvPr/>
        </p:nvSpPr>
        <p:spPr>
          <a:xfrm>
            <a:off x="762120" y="1676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proach to GI bleeding depends on whether the hemorrhage is located in the proximal or the distal segment of the GI tract (i.e., upper or lower GI bleeding).</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egments are anatomically defined by the ligament of Treitz in the  duodenum.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9"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8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cardiogram An electrocardiogram (ECG) should be obtained in all patients with a GI bleed who are older than 50 years of age or have preexisting ischemic cardiac disease, significant anemia, or chest pain, shortness of breath, or persistent hypotens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8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ptomatic myocardial ischemia (ST segment depression greater than 1 mm) or injury (ST segment elevation greater than 1 mm) may develop in the setting of GI blee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8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GI bleeding and clinical or ECG evidence of myocardial ischemia should receive packed red blood cells as soon as possible, as well as appropriate treatment for myocardial ischem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9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maging GI </a:t>
            </a:r>
            <a:r>
              <a:rPr b="0" lang="en-US" sz="2800" spc="-1" strike="noStrike">
                <a:solidFill>
                  <a:srgbClr val="ffffff"/>
                </a:solidFill>
                <a:latin typeface="Arial"/>
              </a:rPr>
              <a:t>hemorrhage is not an indication for plain abdominal radiography.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pright chest radiograph should be obtained in patients with UGIB suspected of aspiration or with signs and symptoms of bowel perforation (shock with significant abdominal or peritoneal tender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9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diaphragmatic air consistent with bowel perforation is a rare finding with UGIB, but it is an indication for immediate surgical consultation and operative repa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95"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FFERENTIAL DIAGNOSIS</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patients complaining of vomiting blood or passing blood in the stool have GI bleeding.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llowing blood during epistaxis or from the oral cavity may cause hematemesis or melen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9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vomitus may be due to food products (e.g., Jell-O, tomato sauce, wine), and black stool may be due to iron therapy or bismuth (e.g., Pepto-Bism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49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volemia (and its symptoms) may be due to vomiting and diarrhea without bleeding.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oral intake with or without fever also may result in hypovolemia.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the patient’s hemoglobin or hematocrit is normal or elevated until hemodilution can occu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0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causes of anemia other than GI bleeding.</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bsence of suggestive symptoms or blood in the stool, GI bleeding is less likely to be the cause of observed anem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03"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EMENT</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identification, aggressive resuscitation, risk stratification, and prompt consultation are the keys to appropriate emergency management.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diagnosis of GI bleeding is made, emergency management of patients can proce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pic>
        <p:nvPicPr>
          <p:cNvPr id="381" name="عنصر نائب للمحتوى 3" descr="lot_sm.jpg"/>
          <p:cNvPicPr/>
          <p:nvPr/>
        </p:nvPicPr>
        <p:blipFill>
          <a:blip r:embed="rId1"/>
          <a:stretch/>
        </p:blipFill>
        <p:spPr>
          <a:xfrm>
            <a:off x="2666880" y="873000"/>
            <a:ext cx="4876920" cy="4740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05" name=""/>
          <p:cNvSpPr txBox="1"/>
          <p:nvPr/>
        </p:nvSpPr>
        <p:spPr>
          <a:xfrm>
            <a:off x="762120" y="160020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ssurance</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present to the ED with symptoms and signs of GI bleeding are often frightened by their symptoms.</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ay be concerned about the possibility of painful procedures and of the real or perceived risk of deat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0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atients and their families should be treated in a supportive and reassuring manner.</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uld be provided with accurate information about their problem, and all aspects of the care they are receiving should be explained in a way that they understa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09" name=""/>
          <p:cNvSpPr txBox="1"/>
          <p:nvPr/>
        </p:nvSpPr>
        <p:spPr>
          <a:xfrm>
            <a:off x="762120" y="1600200"/>
            <a:ext cx="7772400" cy="45720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initial resuscitation of the patient, it is important to identify whether the hemorrhage is proximal or distal to the ligament of Treitz (i.e., UGIB or LGIB).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patient’s vomitus demonstrates blood, then the diagnosis of UGIB is confirm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1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patient reports bloody or “coffee grounds” emesis or if melenic stool is present, an upper GI bleed is more likely.</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ment of a nasogastric (NG) tube formerly was widely undertaken in the belief that it had both diagnostic and therapeutic benef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1295280" y="685800"/>
            <a:ext cx="7086600" cy="4952880"/>
          </a:xfrm>
          <a:prstGeom prst="rect">
            <a:avLst/>
          </a:prstGeom>
          <a:ln w="0">
            <a:noFill/>
          </a:ln>
        </p:spPr>
      </p:pic>
      <p:sp>
        <p:nvSpPr>
          <p:cNvPr id="513" name="PlaceHolder 1"/>
          <p:cNvSpPr>
            <a:spLocks noGrp="1"/>
          </p:cNvSpPr>
          <p:nvPr>
            <p:ph type="title"/>
          </p:nvPr>
        </p:nvSpPr>
        <p:spPr>
          <a:xfrm>
            <a:off x="838080" y="5943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ergency management of patients with gastrointestinal bleeding. ED, emergency department; IV, intravenous; LGIB, lower gastrointestinal bleeding; UGIB, upper gastrointestinal bleeding.</a:t>
            </a:r>
            <a:endParaRPr b="0" lang="en-US" sz="14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1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ho have hematochezia, an upper GI origin for the bleeding often is associated with signs and symptoms of shock, because rapid transit time of large quantities of blood is producing the hematochez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1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up to 10 to 15% of patients with hematochezia have UGIB, it has been recommended that an NG tube be inserted in most cases of LGIB, but there is no evidence to support an improved outcome related to this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1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a clinical decision is made regarding the likelihood of an upper versus lower GI origin for the bleeding, and endoscopy is then performed based on that determination.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first endoscopy approach fails to identify the bleeding site, often endoscopy of the other end of the GI tract is necess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21"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oscopy/Proctosigmoidoscopy</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mild rectal bleeding who do not have obviously bleeding hemorrhoids should undergo anoscopy or proctosigmoidoscopy.</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bleeding internal hemorrhoids are discovered, and the patient does not have portal hypertension, the patient may be discharged with appropriate treatment and follow-up evaluation for hemorrho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2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morrhoids are not detected, it is important to determine if the stool above the rectum contains blood.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ence of blood above the rectum in a patient who is actively bleeding indicates that the source of bleeding is in the rectu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8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GI bleeding (LGIB) affects a smaller portion of patients and results in proportionally fewer hospital admissions than UGI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2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blood above the anoscope or sigmoidoscope does not invariably indicate a proximal source of bleeding, because retrograde passage of blood into the more proximal colon commonly occurs.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h patients need further eval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27"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doscopy</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oscopy is the most accurate diagnostic tool available for the evaluation of UGIB.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dentifies a lesion in 78% to 95% of patients with UGIB if it is performed within 12 to 24 hours of the hemorrhage.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identification of the bleeding site allows for risk stratification with respect to predicting rebleeding and mort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2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oscopy-based triage significantly reduces</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ization rates and costs of treating upper GI bleeding.</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advances in endoscopic hemostasis also make it of therapeutic value in select patients (e.g., for banding or sclerosing of varices).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noscopy is an effective tool for diagnosis and selected treatment of LGI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31"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giography and Tagged Red Blood</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 Scan Angiography can detect the location of UGIB in two thirds of patients studied.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e advent of endoscopy, however, the use of angiography has decreased significantly, and today angiography is used in only 1% of patients with UGI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3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iography is used more commonly in patients with LGIB and usually in consultation with a general surgeon.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angiography rarely diagnoses the cause of bleeding, it does identify the site of bleeding in approximately 40% of patients who have LGIB and in 65% of patients who eventually require surgical interven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3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iography ideally is performed during active bleeding; this may be apparent from persistently unstable vital signs or continued transfusion requirements to establish or maintain an optimal hemoglobin or hematocrit lev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3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erial embolization can be used in selected cases of LGIB.</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patients with more indolent or elusive bleeding, a nuclear isotope–tagged red blood cell scan, usually performed from the inpatient unit, may identify the bleeding si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39"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astric Acid Secretion Inhibition</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ith peptic ulcer disease documented by endoscopy should receive therapy with a proton-pump inhibitor (e.g., omeprazole).</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documented benefit to initiating this therapy or administering H2 antihistamines in the ED for patients with UGIB, howe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41"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ctreotide (Somatostatin Analogues)</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documented esophageal varices and acute upper GI bleeding should receive an intravenous infusion of octreotide at 25–50 μg/hour for a minimum of 24 hours while being observed in the intensive care unit (IC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4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reotide is a useful addition to endoscopic sclerotherapy and decreases rebleeding occurrences.</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reotide may also reduce the incidence of lower GI rebleeding secondary to angiodysplas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385" name=""/>
          <p:cNvSpPr txBox="1"/>
          <p:nvPr/>
        </p:nvSpPr>
        <p:spPr>
          <a:xfrm>
            <a:off x="762120" y="1676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 bleeding can occur in persons of any age but most commonly affects people in their 40s through 70s (mean age, 59 years).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eaths caused by GI bleeding occur in patients older than 60 years. UGIB is more common in men than in women (in a 2 : 1 ratio), whereas LGIB is more common in wom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45"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asopressin</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enous vasopressin has been used in the treatment of UGIB, most commonly in patients with variceal hemorrhage.</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ed studies have not shown a positive effect of vasopressin on overall mortality, howe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47"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sults, combined with a relatively high rate of serious complications (9% major</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3% fatal), suggest that use of vasopressin should be limited.</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rial of vasopressin may be warranted in an exsanguinating patient with suspected variceal bleeding, especially if endoscopy is not immediately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4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ommended dose of vasopressin is 20 units given intravenously over 20 minutes and then 0.2 to 0.4 unit per minute.</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ation with a gastroenterologist is advis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51"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ngstaken-Blakemore Tube</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ment of a Sengstaken-Blakemore tube stops hemorrhage in approximately 80% of patients bleeding from esophageal varices.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nton tube may be superior to the Sengstaken-Blakemore tube in patients with bleeding gastric varices; however, either of these tubes is rarely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53"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general, these tubes should not be used without endoscopic documentation of the source of bleeding because complications are common and significant (14% major, 3% fa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55"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rial of balloon tamponade should be considered, however, in an exsanguinating patient with probable variceal bleeding in whom endoscopy is not immediately available and vasopressin has not slowed the hemorrhage. </a:t>
            </a:r>
            <a:endParaRPr b="0" lang="en-US" sz="2800" spc="-1" strike="noStrike">
              <a:solidFill>
                <a:srgbClr val="ffffff"/>
              </a:solidFill>
              <a:latin typeface="Arial"/>
            </a:endParaRPr>
          </a:p>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ation with a surgeon or gastroenterologist is advis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57"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rgery</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gery is indicated for all hemodynamically unstable patients with active bleeding who do not respond to appropriate intravascular volume replacement, correction of any coagulopathy, and endoscopic intervention (if available). </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tality rate for patients undergoing emergency procedures for GI bleeding is approximately 2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59"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surgery is indicated whenever the risk of ineffective medical therapy and continued hemorrhage outweighs that of surgical morbidity and mort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61" name=""/>
          <p:cNvSpPr txBox="1"/>
          <p:nvPr/>
        </p:nvSpPr>
        <p:spPr>
          <a:xfrm>
            <a:off x="762120" y="160020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surgical consultation should be considered when blood replacement exceeds 5 units within the first 4 to 6 hours or when 2 units of blood is needed every 4 hours (after replacement of initial losses) to maintain normal cardiac out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astrointestinal Bleeding</a:t>
            </a:r>
            <a:endParaRPr b="0" lang="en-US" sz="3200" spc="-1" strike="noStrike">
              <a:solidFill>
                <a:srgbClr val="f4f1da"/>
              </a:solidFill>
              <a:latin typeface="Arial"/>
            </a:endParaRPr>
          </a:p>
        </p:txBody>
      </p:sp>
      <p:sp>
        <p:nvSpPr>
          <p:cNvPr id="563" name=""/>
          <p:cNvSpPr txBox="1"/>
          <p:nvPr/>
        </p:nvSpPr>
        <p:spPr>
          <a:xfrm>
            <a:off x="762120" y="1600200"/>
            <a:ext cx="7772400" cy="4572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SPOSITION</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Stratification</a:t>
            </a:r>
            <a:endParaRPr b="0" lang="en-US" sz="2800" spc="-1" strike="noStrike">
              <a:solidFill>
                <a:srgbClr val="ffffff"/>
              </a:solidFill>
              <a:latin typeface="Arial"/>
            </a:endParaRPr>
          </a:p>
          <a:p>
            <a:pPr marL="68400" algn="just">
              <a:spcBef>
                <a:spcPts val="700"/>
              </a:spcBef>
              <a:buClr>
                <a:srgbClr val="ffff00"/>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stratification involves combining historical, clinical, and laboratory data to determine the risk of death and rebleeding in patients presenting to an ED with GI blee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Dr.Zohair</cp:lastModifiedBy>
  <dcterms:modified xsi:type="dcterms:W3CDTF">2014-09-22T02:37:46Z</dcterms:modified>
  <cp:revision>115</cp:revision>
  <dc:subject/>
  <dc:title>Slide 1</dc:title>
</cp:coreProperties>
</file>