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2806-74C4-4EBA-8FF9-D422841DCA5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1143-4DB6-4F1E-B830-EB172A314AB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87A8-5741-4BCF-B84C-9823D4291BD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B515-EEB1-4A25-B32D-7ADEB6105E3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B6B7-2D37-4CE8-8AB1-5DACE6EBA84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0E54-CC0D-4C81-86CD-A6C316FC246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7619-5522-4D14-B4E8-1E901E524E5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5EA7-2CBD-4009-904A-A9AE8FDFEA7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E951-E649-4583-BF07-0E7C6703544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DE1F-7CAC-42F4-8005-F2CE2C0B805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E7A2-B8C2-456A-84EC-03E09D096ED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3F3F-252C-4B8A-8B9D-3E327F5C282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CB5E-E16B-420B-A2F0-5CBDB50348B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8540-F08E-41DD-844D-155112A6170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8FE7-89D6-47FD-A419-BF3B01F4247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F661-8C46-47BF-9356-941D20AC919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F707-E043-49C8-8DF5-71C589D6780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75FC-5804-4068-9B18-CCE919D7DDC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406-C830-45BC-907D-9CC5AB77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CB9-7603-4454-A3CF-917E481C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4E325-EEC8-4E81-B91C-803FA136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79D8C-AA2C-4F2A-B4E7-BF47F0EE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253CC-A6ED-4CD5-B780-AA9CD467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FA492-54AB-40A6-A20B-BB7FB2F2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2A3AC-1239-4D43-AFF9-5FE3CF14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8732D-6627-4BE3-ADE9-6F00390F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60518-823C-4E0B-BDA5-E9F7B8C4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EE295-9CE3-44A9-AD10-902D248A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47113-FE85-413C-8826-08960A77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00A84-AAFE-4F41-A8F8-CC968F99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4FA-6A75-4355-B41A-20EEE4C2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5B1F3-6393-448F-A4F0-4101250C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D1366-45B7-44F4-9AE3-F9030B80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6E592-22BC-4573-BEC4-F7786C82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841BE-A590-4282-8233-E52E6809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29AA9-D648-4B55-A6C1-84DDC255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85B9D-A544-401B-AEF5-305AF5B4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D7E73-C561-4660-94FA-CCEEEAF6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3C637-5C4A-4465-9C14-279B6313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B32C1-B32C-44A3-A362-5461E632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313CD-31F4-4EF7-9426-60E2DE9A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CED-14C7-4474-A980-3ADFF5C6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6F063-8598-4931-9D30-91C79DC4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9B74D-F82C-4E21-B0DC-6F5EE615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03FFE-9611-48B9-AC59-08C4E0CE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990F5-8316-4821-BA15-61FB93A3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EC67E-5F93-41A3-B7CD-0A3BF649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5B662-AE16-4136-AFDD-3C8CCA88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E925A-659E-4C54-8415-216BB198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4A9E9-1EAD-4DFC-8B7C-79051CC4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6A9E6-0A1E-434A-BC41-1BFC72E8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1BD16-8EA0-4403-8AC4-19BF7A25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6017-CC6C-428B-B8E6-F01D687D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C02F9-9AB5-41BF-BC6D-F63501A0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F3FF6-AC71-49B8-8CC4-295E17FE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FDD2D-A0CA-411E-8135-C52C5772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D386B-3F58-498A-98D2-61F8C53DF58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FBB8A-2DB2-45B5-A60A-5ECA602738E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BC5A67-A913-4B4D-8F82-C91CA980576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952B3-33CA-4A2F-B2DD-093E85086C3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9E9C2-9CE0-4AF5-A706-92093B01FDD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5B327-CE15-477E-BBE2-2327937A0F3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BFE13-3AE1-4C81-A41E-EE98E55887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78F4-6E6A-4E63-8AF4-583AFBC8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0D8A5-D593-412D-8532-7B573486AB4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ABEF9D-86F5-4E4A-93C5-B47DF34301F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63914-78F0-4562-994D-8358E386EE6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DC80A-414E-421F-A1CC-29D5ADA7430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2C3FC-BE61-444A-81C0-B59490A0163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6D97D-5536-47AE-A42A-F7CAF6B97CE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C194F-7698-46FC-B58D-4877E0C19E4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BA789-A96D-49DC-A885-25C718920D8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24050-CFF7-4961-8FA2-6A1E5617F0E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157CF-8958-455D-9B82-64D6AE32B3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DC07-CFCE-4146-AB73-6CDBD411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CBCEF-E166-447A-B4C4-8A0692DA39D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54B70-9F08-41ED-AF85-054112565C8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17359-C43B-4056-8307-CC881FD2D8A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067DC-7BA2-43DB-963B-84B0D008BA7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D5303-7315-4A04-B21A-E6D62871066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AD225-B7AA-47D0-94FB-939895361D4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B6824-A8A7-4612-960B-316F988285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F416-FB7D-43B7-A66E-3FCE6AF2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3501-AEEF-4D86-BBD5-5F6CA579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1158-613F-4C12-AEBB-7F740B63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8FBF-9B21-40FD-9B39-C4DD0BBA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C8D-E97C-4D7F-90B3-B665F103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1386-95E3-4FC7-B145-BF4A3ECF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A6C9-66FC-4500-AEDE-DC2142CC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B31A-A801-4B60-850B-799B055B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1B7D-7B0D-4627-B858-C40CC44E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84EE-D046-42A2-9249-73990FDB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C6152-F982-4679-8950-9FDDD9EA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08765-3B02-42B8-AC0B-229DE042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842F9-0BAC-46D8-B26C-3D2CF8E4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0565-699C-4F53-9750-02B69237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2AC4F-D861-4B8B-B253-BF458D05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701-3FE6-47CD-BEE7-43725F0A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EE6E-2A6B-49D9-907A-52A4A314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AD25D-BE3B-495B-B607-07A14C8B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4581-0E78-447C-9A99-E2B6850C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C1F47-04B1-40B7-BFDA-162CE3FF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735CC-FAC4-4095-9A61-FE0FA13E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89FD5-84F3-4A59-BC77-ECE8DDE4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002AC-5BE7-473E-B34D-D1427DAA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D55F3-ABAC-4953-A57F-97A7E17A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6880A-FC5C-412C-89A5-C0D0513C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9FA63-280E-4768-9001-36C72F4B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EDC-54A8-410E-87A0-2847AD48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708F1-DF0B-4CDE-8D0B-BF87C0EF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E42F5-A91E-4748-B3FF-9EB19A45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F0233-7F98-4FF7-9CF1-A7BF02AD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7EC9E-8A5D-47DB-A6AB-5DCBA3E7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02AD8-3370-4D29-A3F5-8A785930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AE05D-B544-4A8B-9510-8C5A4ECC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6A97-D584-4F0E-8C96-B3846FF6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96E6C-6D87-4AD0-99C3-34A2F38A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75585-56DB-484A-9D08-7589326B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66019-B89A-4A17-B4FA-2205C81E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7B3-5304-47E7-B22A-44A8F264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1B23D-C6D8-4328-91A1-61EF0F80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68D81-15A3-4A83-A6B9-8BE78EAF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E58FE-FB92-4324-A861-5DC21466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0D7AA-36CB-474F-A963-2C372A33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29E09-80D1-4F6F-A545-08D35B6F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0ED29-4606-4FC2-897C-6A0898A4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7DDFD-FE3D-4E4A-A555-0D6621A4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78B2B-B16A-481B-84E8-B745AC35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CD58F-5FF0-4FC9-B76D-C050C020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ED044-D22B-4A51-9CFF-049861EE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F81-8437-429A-BE62-C916B47F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F73DC-D48F-4B83-A48C-F4511D44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52723-8296-421B-84AA-0F697A3E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F7FE4-018F-4C60-B407-D6B89922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7949A-B9A6-46D4-9439-9906F5FA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83AC5-BC2D-4386-909A-9846F7AC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432F2-E528-4FE3-A1AA-6780065B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391AE-1A9B-4A12-90A5-F65DE928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85001-EADF-4829-9B1C-E65B298C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6F0F6-74C6-450F-A580-B86FB5F9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CBC5D-98CC-43A1-A4C6-8B7B06E7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56C-8953-4603-940C-72C8064D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AA3EC-71DF-4CF3-85B5-BD5C9533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7E2F6-CE74-4B9B-ADF5-E5FFF79C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4D888-0018-4CA6-AB74-3981AA6F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DDC5B-84E6-457D-9478-5EECD2F2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302DB-5426-4F7E-A373-4BC5A280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53FBB-3145-45A7-BD03-8FFE8962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20D04-2A83-47C1-BF07-73D091D6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D7700-9533-4E64-A239-BD6010D6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FEEC3-F848-49A2-A46C-39A1C22A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0D974-D8A6-4BCB-B5D5-7480FF0E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DCD-EA27-4E95-8B9F-875B055F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34D7D-331D-419F-AE13-B97B9B83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7CB6B-C126-4B34-BE04-968AFBF1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48C69-73FD-4A78-A142-9FB40E96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39154-7DFE-4442-B120-91C6784C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03158-0319-4983-B80C-FA5377B3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ACC46-60B5-4A29-A6FB-5E41DD8A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8CF97-F5CA-47A4-9F4E-A6C08124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37915-FB19-4726-860E-38D0514F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11090-974A-4DE5-832A-3AED1F5B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93A08-6B4E-4F01-98B5-52E3C9FC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CD7-DE16-476E-B6DE-925933D3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B4124-428D-4C88-AFBF-ACE9BE11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10AFF-A548-4AB8-A0FE-9670DF0D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55919-BE2A-4201-902B-79B6C65F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99A93-95BA-44F3-845B-61B0C092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2D4F0-D26F-4C6C-854C-490AFE5C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D7EC3-91A9-4C7B-BCA3-8459E379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1F1A5-B69C-4C5F-BAF0-7A575BB6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DD469-6FE3-4AD2-9F8B-CB817B0B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159CA-DB05-4E00-9600-83D82F13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D49B1-F583-429C-94AC-E410FBC1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F31D-ADCC-45D6-8C07-D654BE9C2BDD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0E01-BAC6-4338-9083-433C1A5C0F7C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9526-73EB-4130-9845-141AC9DAAB8F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40E7-4C28-4469-B1CB-DA4F27708500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660F-9DEC-4B6B-BEC9-7AF3202F7E6A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2725-479D-4999-86DF-6774D0CA213A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2782-D527-43BA-A267-777CA28C1227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35"/>
          </p:nvPr>
        </p:nvSpPr>
        <p:spPr>
          <a:xfrm>
            <a:off x="685440" y="6476760"/>
            <a:ext cx="7086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SECOND ED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36"/>
          </p:nvPr>
        </p:nvSpPr>
        <p:spPr>
          <a:xfrm>
            <a:off x="777240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49AE-FCBF-4AB2-B17F-90DDC0CA657B}" type="slidenum">
              <a:rPr b="0" lang="ar-SA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B177-4744-4C67-AB70-1924BA03BAF3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2681-F238-409F-A99B-C8ADEAA10E45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86C3-8DAA-4284-B399-B8C29258C961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8A88-C6C5-4DAF-932E-7308A9B8E572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8533-1ECA-4D68-B550-BB46D80ACC4F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4FC3-BCA7-484E-AA09-72668DFD5583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8D7C-8CC7-4CE6-B245-0243B97CAEE1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6FE3-3008-433E-8D35-B3EE18D535A5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8485-9134-4E3D-BD4C-0B62D34D362C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74FD-141D-4861-8EAF-9EAC494A1B87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7F24-A20B-4959-B1CE-4B9DB2B6FE61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9C80-6545-4FB3-8024-2B057F8D3CB6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E1E1-7658-4A6C-B730-5A90A10CFC56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2CCA-606F-46ED-B922-68AC526D981E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2D19-C84A-41CD-B0AE-E18E33250998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A9AD-91C4-41BD-A359-D0011CE3E87A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3200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 MT"/>
                <a:ea typeface="Majalla UI"/>
              </a:rPr>
              <a:t>CONTROL STRUCTURE</a:t>
            </a:r>
            <a:endParaRPr b="0" lang="en-US" sz="5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644A-DCA1-4289-A260-A2DB3DAB9D3C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For example,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Air” &lt; “Big”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  <a:ea typeface="Courier New"/>
              </a:rPr>
              <a:t>// because ‘A’ &lt; ‘B’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Air” &lt; “An”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  <a:ea typeface="Courier New"/>
              </a:rPr>
              <a:t>// because ‘i’ &lt; ‘n’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Hello” &lt; “hello”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  <a:ea typeface="Courier New"/>
              </a:rPr>
              <a:t>// because ‘H’ &lt; ‘h’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B9AF-C7D0-4432-90AC-2C7F05724383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trings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  <a:ea typeface="Majalla UI"/>
              </a:rPr>
              <a:t>can not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e compared with the usual &lt;, &lt;=, &gt;, or &gt;= operators,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and the == and != operators don't compare the characters in the strings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0CEA-0494-4622-89F0-4E503B1D5E6A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Majalla UI"/>
              </a:rPr>
              <a:t>class String 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Method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compareTo  (&lt;0 , 0 , &gt;0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Given string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1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2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	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0" y="28638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4"/>
              <p:cNvSpPr txBox="1"/>
              <p:nvPr/>
            </p:nvSpPr>
            <p:spPr>
              <a:xfrm>
                <a:off x="762120" y="4267080"/>
                <a:ext cx="800100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r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compareT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r2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 integer 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0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strin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str1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tr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strin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str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s equal to string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tr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 integer 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0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strin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str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tr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21" name="Picture 4" descr="Tbl04-03a"/>
          <p:cNvPicPr/>
          <p:nvPr/>
        </p:nvPicPr>
        <p:blipFill>
          <a:blip r:embed="rId1"/>
          <a:stretch/>
        </p:blipFill>
        <p:spPr>
          <a:xfrm>
            <a:off x="1066680" y="4343400"/>
            <a:ext cx="6774120" cy="2362320"/>
          </a:xfrm>
          <a:prstGeom prst="rect">
            <a:avLst/>
          </a:prstGeom>
          <a:ln w="0">
            <a:noFill/>
          </a:ln>
        </p:spPr>
      </p:pic>
      <p:sp>
        <p:nvSpPr>
          <p:cNvPr id="622" name="Slide Number Placeholder 5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A175-C301-4870-A35B-6E5261CADABE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81040" y="2133360"/>
            <a:ext cx="50292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1 = "Hello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2 = "Hi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3 = "Air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4 = "Bill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5 = "Bigger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228E-9791-46CC-93F8-101136ABECBB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7" descr="Tbl04-03b"/>
          <p:cNvPicPr/>
          <p:nvPr/>
        </p:nvPicPr>
        <p:blipFill>
          <a:blip r:embed="rId1"/>
          <a:stretch/>
        </p:blipFill>
        <p:spPr>
          <a:xfrm>
            <a:off x="609480" y="685800"/>
            <a:ext cx="7696440" cy="59817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D040-829C-45AB-90BF-187FE9664C33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public class Example4_2 {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1 = "Hello";                                   //Line 1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2 = "Hi";                                      //Line 2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3 = "Air";                                     //Line 3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4 = "Bill";                                    //Line 4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5 = "Bigger";                                  //Line 5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6: " + "str1.compareTo(str2) evaluates to "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 str1.compareTo(str2));             //Line 6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7: " + "str1.compareTo(\"Hen\") evaluates to "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 str1.compareTo("Hen"));            //Line 7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8: " +   "str4.compareTo(str3) evaluates to "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str4.compareTo(str3));              //Line 8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9: " +"str1.compareTo(\"hello\") evaluates to "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str1.compareTo("hello"));           //Line 9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10: " + "str2.compareTo(\"Hi\") evaluates to "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str2.compareTo("Hi"));              //Line 10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11: " + "str4.compareTo(\"Billy\") evaluates to "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 str4.compareTo("Billy"));          //Line 11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12: " + "str5.compareTo(\"Big\") evaluates to "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str5.compareTo("Big"));             //Line 12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}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F07F-AD00-4AF0-B054-8A69C38D44B8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6094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833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-2833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Values such as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-4, -2, 1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so on, are differences of the collating sequence of the first unmatched characters of the string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-2833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For example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 line 6: where,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1= “Hello”, str2=“Hi”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584280" indent="-28296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e’ </a:t>
            </a:r>
            <a:r>
              <a:rPr b="1" lang="en-US" sz="2000" spc="-1" strike="noStrike">
                <a:solidFill>
                  <a:srgbClr val="3d3d3d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101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584280" indent="-28296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’ </a:t>
            </a:r>
            <a:r>
              <a:rPr b="1" lang="en-US" sz="2000" spc="-1" strike="noStrike">
                <a:solidFill>
                  <a:srgbClr val="3d3d3d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105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584280" indent="-28296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101 – 105 </a:t>
            </a:r>
            <a:r>
              <a:rPr b="1" lang="en-US" sz="2000" spc="-1" strike="noStrike">
                <a:solidFill>
                  <a:srgbClr val="3d3d3d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-4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pic>
        <p:nvPicPr>
          <p:cNvPr id="631" name="Picture 5" descr="ex4_2"/>
          <p:cNvPicPr/>
          <p:nvPr/>
        </p:nvPicPr>
        <p:blipFill>
          <a:blip r:embed="rId1"/>
          <a:srcRect l="0" t="0" r="0" b="13081"/>
          <a:stretch/>
        </p:blipFill>
        <p:spPr>
          <a:xfrm>
            <a:off x="838080" y="1905120"/>
            <a:ext cx="6558120" cy="177624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D908-52EE-49C3-9F2E-D9EAE7634516}" type="slidenum">
              <a:rPr b="0" lang="ar-SA" sz="20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580680" y="2226960"/>
            <a:ext cx="841068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In addition to the method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compareTo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, you can use the method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equals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of the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class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.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Returns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true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or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false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: 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tr1 = “Hello”, str2= “Hi”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tr1.equals(“Hello”);   </a:t>
            </a:r>
            <a:r>
              <a:rPr b="0" lang="en-US" sz="2000" spc="-1" strike="noStrike">
                <a:solidFill>
                  <a:srgbClr val="339933"/>
                </a:solidFill>
                <a:latin typeface="Courier New"/>
                <a:ea typeface="Courier New"/>
              </a:rPr>
              <a:t>// returns true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tr1.equals(str2);     </a:t>
            </a:r>
            <a:r>
              <a:rPr b="0" lang="en-US" sz="2000" spc="-1" strike="noStrike">
                <a:solidFill>
                  <a:srgbClr val="339933"/>
                </a:solidFill>
                <a:latin typeface="Courier New"/>
                <a:ea typeface="Courier New"/>
              </a:rPr>
              <a:t>//returns false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4"/>
          <p:cNvSpPr/>
          <p:nvPr/>
        </p:nvSpPr>
        <p:spPr>
          <a:xfrm>
            <a:off x="581040" y="5951520"/>
            <a:ext cx="5156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07BE-C196-4B2A-BD71-E72D90C0F024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86560" indent="-286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You should use one of the following tests to compare the contents of two strings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590760" indent="-28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1.equals(string2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590760" indent="-28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1.compareTo(string2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685800" y="43862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's the </a:t>
            </a:r>
            <a:r>
              <a:rPr b="1" lang="en-US" sz="2400" spc="-1" strike="noStrike">
                <a:solidFill>
                  <a:srgbClr val="903163"/>
                </a:solidFill>
                <a:latin typeface="Arial"/>
              </a:rPr>
              <a:t>wro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y to do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= strin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580680" y="687240"/>
            <a:ext cx="84596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5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E750-61AE-4A24-83EE-AAFEB1B7933E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16" descr="Tbl04-04"/>
          <p:cNvPicPr/>
          <p:nvPr/>
        </p:nvPicPr>
        <p:blipFill>
          <a:blip r:embed="rId1"/>
          <a:srcRect l="0" t="0" r="46732" b="0"/>
          <a:stretch/>
        </p:blipFill>
        <p:spPr>
          <a:xfrm>
            <a:off x="1676520" y="2171880"/>
            <a:ext cx="5410080" cy="213336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8104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(BOOLEAN) OPERATORS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3" name="Rectangle 23"/>
          <p:cNvSpPr/>
          <p:nvPr/>
        </p:nvSpPr>
        <p:spPr>
          <a:xfrm>
            <a:off x="1066680" y="479268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!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unary op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bina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||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bina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8BC4-0757-417F-B5C7-486FB7A14ABB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HAPTER OBJECTIV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Learn about control structure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ine relational and logical operator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Explore how to form and evaluate logical (Boolean) expression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Learn how to use the selection control structures </a:t>
            </a: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Majalla UI"/>
              </a:rPr>
              <a:t>if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, </a:t>
            </a: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Majalla UI"/>
              </a:rPr>
              <a:t>if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…</a:t>
            </a: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Majalla UI"/>
              </a:rPr>
              <a:t>else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, and </a:t>
            </a: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Majalla UI"/>
              </a:rPr>
              <a:t>switch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in a program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C442-25D4-432D-8FBF-143E89C70B5D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" descr="Tbl04-05"/>
          <p:cNvPicPr/>
          <p:nvPr/>
        </p:nvPicPr>
        <p:blipFill>
          <a:blip r:embed="rId1"/>
          <a:srcRect l="0" t="0" r="47670" b="0"/>
          <a:stretch/>
        </p:blipFill>
        <p:spPr>
          <a:xfrm>
            <a:off x="349200" y="2057400"/>
            <a:ext cx="7575480" cy="236232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5"/>
          <p:cNvSpPr/>
          <p:nvPr/>
        </p:nvSpPr>
        <p:spPr>
          <a:xfrm>
            <a:off x="549360" y="4792680"/>
            <a:ext cx="7619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!(‘A’ &gt; ‘B’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‘A’ &gt; ‘B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!(‘A’ &gt; ‘B’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(BOOLEAN)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6858000" y="1523880"/>
            <a:ext cx="19051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calle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uth 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 flipH="1">
            <a:off x="6171840" y="198108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5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76DA-FF6E-4470-B004-8B5CA3596647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7" descr="Tbl04-06"/>
          <p:cNvPicPr/>
          <p:nvPr/>
        </p:nvPicPr>
        <p:blipFill>
          <a:blip r:embed="rId1"/>
          <a:srcRect l="0" t="0" r="18185" b="0"/>
          <a:stretch/>
        </p:blipFill>
        <p:spPr>
          <a:xfrm>
            <a:off x="914400" y="1905120"/>
            <a:ext cx="6858000" cy="1900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9" descr="Tbl04-07"/>
          <p:cNvPicPr/>
          <p:nvPr/>
        </p:nvPicPr>
        <p:blipFill>
          <a:blip r:embed="rId2"/>
          <a:srcRect l="0" t="0" r="18018" b="0"/>
          <a:stretch/>
        </p:blipFill>
        <p:spPr>
          <a:xfrm>
            <a:off x="914400" y="4262400"/>
            <a:ext cx="6934320" cy="192744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(BOOLEAN)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4"/>
          <p:cNvSpPr/>
          <p:nvPr/>
        </p:nvSpPr>
        <p:spPr>
          <a:xfrm>
            <a:off x="581040" y="5951520"/>
            <a:ext cx="480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532A-4BC6-44BC-813D-A8115C0474DC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580680" y="2226960"/>
            <a:ext cx="787716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3d3d3d"/>
              </a:solidFill>
              <a:latin typeface="Gill Sans MT"/>
              <a:ea typeface="Majalla UI"/>
            </a:endParaRPr>
          </a:p>
        </p:txBody>
      </p:sp>
      <p:pic>
        <p:nvPicPr>
          <p:cNvPr id="656" name="Picture 4" descr="logicalEx"/>
          <p:cNvPicPr/>
          <p:nvPr/>
        </p:nvPicPr>
        <p:blipFill>
          <a:blip r:embed="rId1"/>
          <a:stretch/>
        </p:blipFill>
        <p:spPr>
          <a:xfrm>
            <a:off x="457200" y="2262240"/>
            <a:ext cx="8113680" cy="444348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457200" y="687240"/>
            <a:ext cx="868680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(BOOLEAN) OPERATO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2735-0DA1-40C2-8011-6CED9AB181DB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7" descr="Tbl04-08"/>
          <p:cNvPicPr/>
          <p:nvPr/>
        </p:nvPicPr>
        <p:blipFill>
          <a:blip r:embed="rId1"/>
          <a:srcRect l="0" t="8768" r="38057" b="0"/>
          <a:stretch/>
        </p:blipFill>
        <p:spPr>
          <a:xfrm>
            <a:off x="990720" y="3276720"/>
            <a:ext cx="6629400" cy="349704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680" y="677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 MT"/>
                <a:ea typeface="Majalla UI"/>
              </a:rPr>
              <a:t>ORDER OF PRECEDENCE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419040" y="18288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3163"/>
                </a:solidFill>
                <a:latin typeface="Courier New"/>
                <a:ea typeface="Courier New"/>
              </a:rPr>
              <a:t>11 + 5 &lt;= 9 || 6 &lt; 15 &amp;&amp; 7 &gt;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hich to solve fir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rithmetic, relational or logica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PRECEDENCE RUL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920" y="2528640"/>
            <a:ext cx="853416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marL="234720" indent="-2347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d3d3d"/>
                </a:solidFill>
                <a:uFillTx/>
                <a:latin typeface="Gill Sans MT"/>
                <a:ea typeface="Majalla UI"/>
              </a:rPr>
              <a:t>Example 4_6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: Evaluate the following expression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(17 &lt; 4*3+5)||(8*2 == 4*4) &amp;&amp; !(3+3 == 6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(17 &lt; 12+5)||(16 == 16) &amp;&amp; !(6 == 6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(17 &lt; 17) || true &amp;&amp; ! (true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false || true &amp;&amp;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false ||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C013-0805-4B79-B4AA-ACBB45027FE0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D07E-4392-4931-9257-2486A0755A9C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11368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d3d3d"/>
                </a:solidFill>
                <a:uFillTx/>
                <a:latin typeface="Gill Sans MT"/>
                <a:ea typeface="Majalla UI"/>
              </a:rPr>
              <a:t>Exampl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: suppose the following declarations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boolean found = true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boolean flag =false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double x =5.2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valuate: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!found 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x &gt; 4.0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tru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flag &amp;&amp; found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PRECEDENCE RUL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C1B0-AED7-4EBC-BC3B-A2D9E990F2D1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uppose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age = 25;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char grade=‘B’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(age &gt;= 21) || ( 3 + 8 == 5)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ecause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(25 &gt;= 21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is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tru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the operator used is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||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,due to short-circuit evaluation the computer does not evaluate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( 3 + 8 == 5).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(grade == 'A') &amp;&amp; (3 - 2 &gt;= 7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ecause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(‘B’ == 'A'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is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the operator used is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&amp;&amp;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,due to short-circuit evaluation the computer does not evaluate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( 3 - 2 &gt;= 7).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SHORT-CIRCUIT EVALUA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IF STATE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Majalla UI"/>
              </a:rPr>
              <a:t>ONE-WAY SELECTION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25520" y="2514240"/>
            <a:ext cx="798840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Majalla UI"/>
              </a:rPr>
              <a:t>if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(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expression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statement 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pression referred to as decision maker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f the value of the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express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is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tru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                                 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atemen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execute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f the value of the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express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is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                                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atemen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does not execute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 referred to as action statement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0AB7-2F6D-46D9-B256-B22D0C5A4B2F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8"/>
          <p:cNvSpPr/>
          <p:nvPr/>
        </p:nvSpPr>
        <p:spPr>
          <a:xfrm>
            <a:off x="3809880" y="26258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4648320" y="2397240"/>
            <a:ext cx="2361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in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(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no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0"/>
          <p:cNvSpPr/>
          <p:nvPr/>
        </p:nvSpPr>
        <p:spPr>
          <a:xfrm>
            <a:off x="3657600" y="300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1"/>
          <p:cNvSpPr/>
          <p:nvPr/>
        </p:nvSpPr>
        <p:spPr>
          <a:xfrm>
            <a:off x="4648320" y="2854440"/>
            <a:ext cx="2666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end of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HORT-CIRCUIT EVALUA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216000" y="2023920"/>
            <a:ext cx="8775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 process in which the computer evaluates a logical expression from left to right and stops as soon as the value of the expression is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x&gt;y) || (x==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x&gt;y) is true, (x==5) is not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a==b) &amp;&amp; (x&gt;=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a==b) is false, (x&gt;=7) is not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x&gt;0) &amp;&amp; ( (y = z*2) &gt; 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x&gt;0) is false, ((y = z*2) &gt; 5) is not evaluated and the value of y will 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a5a5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3580-7D38-4BBE-986B-FC21DF3CC585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NTROL STRUCTUR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ree methods of processing a program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In sequence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Branching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Looping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Branch: 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Altering the flow of program execution by making a selection or choic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Loop: Altering the flow of program execution by repeating statement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IF .. ELS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WO-WAY SELEC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304920" y="2362320"/>
            <a:ext cx="8064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ynt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(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urier New"/>
                <a:ea typeface="Arial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tatement must be paired with an </a:t>
            </a:r>
            <a:r>
              <a:rPr b="0" lang="en-US" sz="3200" spc="-1" strike="noStrike">
                <a:solidFill>
                  <a:srgbClr val="333399"/>
                </a:solidFill>
                <a:latin typeface="Courier New"/>
                <a:ea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28760" y="76356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WO-WAY SELEC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152280" y="1846440"/>
            <a:ext cx="8798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hours &gt; 40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ges = 40.0 + rate * ho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ges = hours * rat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cause a semicolon follows the closing parenthesis of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 (Line 1),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 stands alone. The semicolon at the end of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 (see Line 1) ends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, so the statement at Line 2 separates the else clause from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. That is,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by itself. Because there is no separat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 in Java, this code generates a syntax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OUND (BLOCK OF)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506520" y="1924200"/>
            <a:ext cx="8064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OUND (BLOCK OF)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1" name="Espace réservé du pied de page 3"/>
          <p:cNvSpPr/>
          <p:nvPr/>
        </p:nvSpPr>
        <p:spPr>
          <a:xfrm>
            <a:off x="1042920" y="6308640"/>
            <a:ext cx="7274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ill Sans MT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468360" y="212724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age &gt; 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igible to vot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 longer a mino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t eligible to vot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ill a mino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6" name="Espace réservé du pied de page 4"/>
          <p:cNvSpPr/>
          <p:nvPr/>
        </p:nvSpPr>
        <p:spPr>
          <a:xfrm>
            <a:off x="1042920" y="6308640"/>
            <a:ext cx="7274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ill Sans MT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"/>
          <p:cNvSpPr/>
          <p:nvPr/>
        </p:nvSpPr>
        <p:spPr>
          <a:xfrm>
            <a:off x="380880" y="1932120"/>
            <a:ext cx="3957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4338720" y="2095560"/>
            <a:ext cx="4414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ultiple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tatements can be used if there is more than two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is associated with the most recent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at does not have an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380880" y="1981080"/>
            <a:ext cx="8064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urier New"/>
                <a:ea typeface="Courier New"/>
              </a:rPr>
              <a:t>// Assume that score is of type int. Based on the value of score, the following code determines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 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A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8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B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7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C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6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D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461880" y="2057400"/>
            <a:ext cx="867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tempreture &gt;= 5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tempreture &gt;= 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swimming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golfing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tennis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SWITCH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CONTROL STRUCTURE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3" name="Picture 2" descr="Fig04-01"/>
          <p:cNvPicPr/>
          <p:nvPr/>
        </p:nvPicPr>
        <p:blipFill>
          <a:blip r:embed="rId1"/>
          <a:stretch/>
        </p:blipFill>
        <p:spPr>
          <a:xfrm>
            <a:off x="380880" y="2209680"/>
            <a:ext cx="76964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STRUCTURE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510552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Expression is also known as sel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Expression can be an identif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Value can only be integ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380880" y="2235240"/>
            <a:ext cx="4562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1: statement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2: statement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alue n: statements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WITH BREAK STATEM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4373640" y="1905120"/>
            <a:ext cx="4495680" cy="47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57120" y="2521080"/>
            <a:ext cx="337176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MS PGothic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MS PGothic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1: x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2: x =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3: x =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9"/>
          <p:cNvGrpSpPr/>
          <p:nvPr/>
        </p:nvGrpSpPr>
        <p:grpSpPr>
          <a:xfrm>
            <a:off x="4530600" y="1905120"/>
            <a:ext cx="4162320" cy="4706280"/>
            <a:chOff x="4530600" y="1905120"/>
            <a:chExt cx="4162320" cy="4706280"/>
          </a:xfrm>
        </p:grpSpPr>
        <p:sp>
          <p:nvSpPr>
            <p:cNvPr id="712" name="AutoShape 10"/>
            <p:cNvSpPr/>
            <p:nvPr/>
          </p:nvSpPr>
          <p:spPr>
            <a:xfrm>
              <a:off x="6892920" y="2660760"/>
              <a:ext cx="1079280" cy="383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1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11"/>
            <p:cNvSpPr/>
            <p:nvPr/>
          </p:nvSpPr>
          <p:spPr>
            <a:xfrm>
              <a:off x="4530600" y="319968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2"/>
            <p:cNvSpPr/>
            <p:nvPr/>
          </p:nvSpPr>
          <p:spPr>
            <a:xfrm>
              <a:off x="6046920" y="236628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4728960" y="2552040"/>
              <a:ext cx="1254240" cy="5461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1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>
              <a:off x="5356080" y="190512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5"/>
            <p:cNvSpPr/>
            <p:nvPr/>
          </p:nvSpPr>
          <p:spPr>
            <a:xfrm>
              <a:off x="6892920" y="3815640"/>
              <a:ext cx="1079280" cy="3823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2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16"/>
            <p:cNvSpPr/>
            <p:nvPr/>
          </p:nvSpPr>
          <p:spPr>
            <a:xfrm>
              <a:off x="6892920" y="4958640"/>
              <a:ext cx="1079280" cy="3808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3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7"/>
            <p:cNvSpPr/>
            <p:nvPr/>
          </p:nvSpPr>
          <p:spPr>
            <a:xfrm>
              <a:off x="4728960" y="3695040"/>
              <a:ext cx="1254240" cy="545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2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8"/>
            <p:cNvSpPr/>
            <p:nvPr/>
          </p:nvSpPr>
          <p:spPr>
            <a:xfrm>
              <a:off x="4728960" y="4838040"/>
              <a:ext cx="1254240" cy="545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3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9"/>
            <p:cNvSpPr/>
            <p:nvPr/>
          </p:nvSpPr>
          <p:spPr>
            <a:xfrm>
              <a:off x="5959440" y="2833560"/>
              <a:ext cx="79992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20"/>
            <p:cNvSpPr/>
            <p:nvPr/>
          </p:nvSpPr>
          <p:spPr>
            <a:xfrm>
              <a:off x="5356080" y="309528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21"/>
            <p:cNvSpPr/>
            <p:nvPr/>
          </p:nvSpPr>
          <p:spPr>
            <a:xfrm>
              <a:off x="5356080" y="423828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>
              <a:off x="5356080" y="5393160"/>
              <a:ext cx="0" cy="1218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3"/>
            <p:cNvSpPr/>
            <p:nvPr/>
          </p:nvSpPr>
          <p:spPr>
            <a:xfrm>
              <a:off x="5984640" y="396432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6022800" y="510732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5"/>
            <p:cNvSpPr/>
            <p:nvPr/>
          </p:nvSpPr>
          <p:spPr>
            <a:xfrm>
              <a:off x="7432560" y="3047760"/>
              <a:ext cx="0" cy="2066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26"/>
            <p:cNvSpPr/>
            <p:nvPr/>
          </p:nvSpPr>
          <p:spPr>
            <a:xfrm>
              <a:off x="4530600" y="548532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27"/>
            <p:cNvSpPr/>
            <p:nvPr/>
          </p:nvSpPr>
          <p:spPr>
            <a:xfrm>
              <a:off x="4530600" y="4330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28"/>
            <p:cNvSpPr/>
            <p:nvPr/>
          </p:nvSpPr>
          <p:spPr>
            <a:xfrm>
              <a:off x="6046920" y="34851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29"/>
            <p:cNvSpPr/>
            <p:nvPr/>
          </p:nvSpPr>
          <p:spPr>
            <a:xfrm>
              <a:off x="6046920" y="46515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30"/>
            <p:cNvSpPr/>
            <p:nvPr/>
          </p:nvSpPr>
          <p:spPr>
            <a:xfrm>
              <a:off x="6892920" y="3256200"/>
              <a:ext cx="1079280" cy="264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31"/>
            <p:cNvSpPr/>
            <p:nvPr/>
          </p:nvSpPr>
          <p:spPr>
            <a:xfrm>
              <a:off x="7432560" y="4202640"/>
              <a:ext cx="0" cy="209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32"/>
            <p:cNvSpPr/>
            <p:nvPr/>
          </p:nvSpPr>
          <p:spPr>
            <a:xfrm>
              <a:off x="6892920" y="4410720"/>
              <a:ext cx="1079280" cy="2635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33"/>
            <p:cNvSpPr/>
            <p:nvPr/>
          </p:nvSpPr>
          <p:spPr>
            <a:xfrm>
              <a:off x="7432560" y="5333400"/>
              <a:ext cx="0" cy="2066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34"/>
            <p:cNvSpPr/>
            <p:nvPr/>
          </p:nvSpPr>
          <p:spPr>
            <a:xfrm>
              <a:off x="6892920" y="5541480"/>
              <a:ext cx="1079280" cy="264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35"/>
            <p:cNvSpPr/>
            <p:nvPr/>
          </p:nvSpPr>
          <p:spPr>
            <a:xfrm flipV="1">
              <a:off x="7978680" y="5671080"/>
              <a:ext cx="62244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6"/>
            <p:cNvSpPr/>
            <p:nvPr/>
          </p:nvSpPr>
          <p:spPr>
            <a:xfrm>
              <a:off x="7978680" y="4559760"/>
              <a:ext cx="584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7"/>
            <p:cNvSpPr/>
            <p:nvPr/>
          </p:nvSpPr>
          <p:spPr>
            <a:xfrm>
              <a:off x="5492520" y="3407760"/>
              <a:ext cx="3200400" cy="2809440"/>
            </a:xfrm>
            <a:custGeom>
              <a:avLst/>
              <a:gdLst/>
              <a:ahLst/>
              <a:rect l="l" t="t" r="r" b="b"/>
              <a:pathLst>
                <a:path w="1960" h="1888">
                  <a:moveTo>
                    <a:pt x="1512" y="0"/>
                  </a:moveTo>
                  <a:lnTo>
                    <a:pt x="1960" y="0"/>
                  </a:lnTo>
                  <a:lnTo>
                    <a:pt x="1960" y="1888"/>
                  </a:lnTo>
                  <a:lnTo>
                    <a:pt x="0" y="1888"/>
                  </a:lnTo>
                </a:path>
              </a:pathLst>
            </a:custGeom>
            <a:noFill/>
            <a:ln w="57240">
              <a:solidFill>
                <a:srgbClr val="ccecff"/>
              </a:solidFill>
              <a:miter/>
              <a:tailEnd len="med" type="triangle" w="med"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2120" y="687240"/>
            <a:ext cx="79898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Majalla UI"/>
              </a:rPr>
              <a:t>SWITCH WITH NO BREAK STATEM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4824360" y="1908000"/>
            <a:ext cx="36576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6"/>
          <p:cNvGrpSpPr/>
          <p:nvPr/>
        </p:nvGrpSpPr>
        <p:grpSpPr>
          <a:xfrm>
            <a:off x="423720" y="2203560"/>
            <a:ext cx="3503880" cy="2047680"/>
            <a:chOff x="423720" y="2203560"/>
            <a:chExt cx="3503880" cy="2047680"/>
          </a:xfrm>
        </p:grpSpPr>
        <p:sp>
          <p:nvSpPr>
            <p:cNvPr id="743" name="Rectangle 7"/>
            <p:cNvSpPr/>
            <p:nvPr/>
          </p:nvSpPr>
          <p:spPr>
            <a:xfrm>
              <a:off x="423720" y="2203560"/>
              <a:ext cx="3503880" cy="20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beb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8"/>
            <p:cNvSpPr/>
            <p:nvPr/>
          </p:nvSpPr>
          <p:spPr>
            <a:xfrm>
              <a:off x="471240" y="2303640"/>
              <a:ext cx="3371760" cy="19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switch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N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1: x = 1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2: x = 2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3: x = 3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9"/>
          <p:cNvGrpSpPr/>
          <p:nvPr/>
        </p:nvGrpSpPr>
        <p:grpSpPr>
          <a:xfrm>
            <a:off x="4932360" y="2171880"/>
            <a:ext cx="3422520" cy="4385880"/>
            <a:chOff x="4932360" y="2171880"/>
            <a:chExt cx="3422520" cy="4385880"/>
          </a:xfrm>
        </p:grpSpPr>
        <p:sp>
          <p:nvSpPr>
            <p:cNvPr id="746" name="AutoShape 10"/>
            <p:cNvSpPr/>
            <p:nvPr/>
          </p:nvSpPr>
          <p:spPr>
            <a:xfrm>
              <a:off x="7275600" y="292572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1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11"/>
            <p:cNvSpPr/>
            <p:nvPr/>
          </p:nvSpPr>
          <p:spPr>
            <a:xfrm>
              <a:off x="4932360" y="34628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2"/>
            <p:cNvSpPr/>
            <p:nvPr/>
          </p:nvSpPr>
          <p:spPr>
            <a:xfrm>
              <a:off x="6448680" y="26319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3"/>
            <p:cNvSpPr/>
            <p:nvPr/>
          </p:nvSpPr>
          <p:spPr>
            <a:xfrm>
              <a:off x="5130720" y="2817360"/>
              <a:ext cx="1254240" cy="5443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1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4"/>
            <p:cNvSpPr/>
            <p:nvPr/>
          </p:nvSpPr>
          <p:spPr>
            <a:xfrm>
              <a:off x="5757840" y="217188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15"/>
            <p:cNvSpPr/>
            <p:nvPr/>
          </p:nvSpPr>
          <p:spPr>
            <a:xfrm>
              <a:off x="7275600" y="407772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2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16"/>
            <p:cNvSpPr/>
            <p:nvPr/>
          </p:nvSpPr>
          <p:spPr>
            <a:xfrm>
              <a:off x="7275600" y="516996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3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7"/>
            <p:cNvSpPr/>
            <p:nvPr/>
          </p:nvSpPr>
          <p:spPr>
            <a:xfrm>
              <a:off x="5130720" y="3957480"/>
              <a:ext cx="1254240" cy="5443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2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5130720" y="5097240"/>
              <a:ext cx="1254240" cy="5446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3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9"/>
            <p:cNvSpPr/>
            <p:nvPr/>
          </p:nvSpPr>
          <p:spPr>
            <a:xfrm>
              <a:off x="6361200" y="3097800"/>
              <a:ext cx="79992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20"/>
            <p:cNvSpPr/>
            <p:nvPr/>
          </p:nvSpPr>
          <p:spPr>
            <a:xfrm>
              <a:off x="5757840" y="335916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21"/>
            <p:cNvSpPr/>
            <p:nvPr/>
          </p:nvSpPr>
          <p:spPr>
            <a:xfrm>
              <a:off x="5757840" y="449928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22"/>
            <p:cNvSpPr/>
            <p:nvPr/>
          </p:nvSpPr>
          <p:spPr>
            <a:xfrm>
              <a:off x="5757840" y="5650920"/>
              <a:ext cx="0" cy="9068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3"/>
            <p:cNvSpPr/>
            <p:nvPr/>
          </p:nvSpPr>
          <p:spPr>
            <a:xfrm flipH="1" rot="5400000">
              <a:off x="6584760" y="4853880"/>
              <a:ext cx="522360" cy="1931760"/>
            </a:xfrm>
            <a:custGeom>
              <a:avLst/>
              <a:gdLst/>
              <a:ahLst/>
              <a:rect l="l" t="t" r="r" b="b"/>
              <a:pathLst>
                <a:path w="961" h="472">
                  <a:moveTo>
                    <a:pt x="961" y="0"/>
                  </a:moveTo>
                  <a:lnTo>
                    <a:pt x="0" y="0"/>
                  </a:lnTo>
                  <a:lnTo>
                    <a:pt x="0" y="472"/>
                  </a:lnTo>
                </a:path>
              </a:pathLst>
            </a:custGeom>
            <a:noFill/>
            <a:ln w="57240">
              <a:solidFill>
                <a:srgbClr val="ccecff"/>
              </a:solidFill>
              <a:miter/>
              <a:tailEnd len="med" type="triangle" w="med"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24"/>
            <p:cNvSpPr/>
            <p:nvPr/>
          </p:nvSpPr>
          <p:spPr>
            <a:xfrm>
              <a:off x="6386400" y="422604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25"/>
            <p:cNvSpPr/>
            <p:nvPr/>
          </p:nvSpPr>
          <p:spPr>
            <a:xfrm>
              <a:off x="6424560" y="5365800"/>
              <a:ext cx="80028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26"/>
            <p:cNvSpPr/>
            <p:nvPr/>
          </p:nvSpPr>
          <p:spPr>
            <a:xfrm>
              <a:off x="7815240" y="3311640"/>
              <a:ext cx="0" cy="669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>
              <a:off x="7815240" y="4439880"/>
              <a:ext cx="0" cy="6663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28"/>
            <p:cNvSpPr/>
            <p:nvPr/>
          </p:nvSpPr>
          <p:spPr>
            <a:xfrm>
              <a:off x="4932360" y="5743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29"/>
            <p:cNvSpPr/>
            <p:nvPr/>
          </p:nvSpPr>
          <p:spPr>
            <a:xfrm>
              <a:off x="4932360" y="4591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0"/>
            <p:cNvSpPr/>
            <p:nvPr/>
          </p:nvSpPr>
          <p:spPr>
            <a:xfrm>
              <a:off x="6448680" y="37479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31"/>
            <p:cNvSpPr/>
            <p:nvPr/>
          </p:nvSpPr>
          <p:spPr>
            <a:xfrm>
              <a:off x="6448680" y="491184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WITH BREAK AND DEFAULT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9" name="Rectangle 2"/>
          <p:cNvSpPr/>
          <p:nvPr/>
        </p:nvSpPr>
        <p:spPr>
          <a:xfrm>
            <a:off x="95400" y="1981080"/>
            <a:ext cx="89629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A': System.out.println("The grade is A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B': System.out.println("The grade is B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C': System.out.println("The grade is C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D': System.out.println("The grade is 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F': System.out.println("The grade is F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  System.out.println("The grade is invali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WITH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1" name="ZoneTexte 5"/>
          <p:cNvSpPr/>
          <p:nvPr/>
        </p:nvSpPr>
        <p:spPr>
          <a:xfrm>
            <a:off x="446040" y="20574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A'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The grade is A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B'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B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C'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C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D'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D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F'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F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The grade is invalid.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FF22-CC97-4589-A04D-4D95E7A965CB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Relational operator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Allows you to make comparisons in a program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Binary operator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Condition is represented by a logical expression in Java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Logical expression: An expression that has a value of either true or false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5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1D76-6BE7-4F81-A5D5-C27A5C6E146C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Tbl04-01"/>
          <p:cNvPicPr/>
          <p:nvPr/>
        </p:nvPicPr>
        <p:blipFill>
          <a:blip r:embed="rId1"/>
          <a:stretch/>
        </p:blipFill>
        <p:spPr>
          <a:xfrm>
            <a:off x="457200" y="2209680"/>
            <a:ext cx="8153280" cy="33530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27E4-94FD-461A-BA92-A1FC8EF50C23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 AND PRIMITIVE DATA TYP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Can be used with integral and floating-point data type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Can be used with the char data typ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Unicode Collating Sequenc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8 &lt; 5  always evaluates to fals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8 &lt; ‘5’ always evaluates to true.  </a:t>
            </a:r>
            <a:r>
              <a:rPr b="0" lang="en-US" sz="1800" spc="-1" strike="noStrike">
                <a:solidFill>
                  <a:srgbClr val="339933"/>
                </a:solidFill>
                <a:latin typeface="Gill Sans MT"/>
                <a:ea typeface="Majalla UI"/>
              </a:rPr>
              <a:t>//‘5’= 53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5"/>
          <p:cNvSpPr/>
          <p:nvPr/>
        </p:nvSpPr>
        <p:spPr>
          <a:xfrm>
            <a:off x="200160" y="65167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6833-4F86-4071-9D8E-277C18D16C54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5" descr="Tbl04-02"/>
          <p:cNvPicPr/>
          <p:nvPr/>
        </p:nvPicPr>
        <p:blipFill>
          <a:blip r:embed="rId1"/>
          <a:stretch/>
        </p:blipFill>
        <p:spPr>
          <a:xfrm>
            <a:off x="380880" y="1981080"/>
            <a:ext cx="8153640" cy="49086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 AND PRIMITIVE DATA TYPES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D637-B484-46AE-A70B-18170AEFD975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80680" y="2226960"/>
            <a:ext cx="833436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trings are compared character by character, using the collating sequence, until one of three conditions is met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1.  A mismatch is found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2.  One string is exhausted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3.  The last characters have been compared and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are equal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Aseel</cp:lastModifiedBy>
  <dcterms:modified xsi:type="dcterms:W3CDTF">2014-10-11T12:41:11Z</dcterms:modified>
  <cp:revision>207</cp:revision>
  <dc:subject/>
  <dc:title>Chapter 1</dc:title>
</cp:coreProperties>
</file>