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E2FC-A66D-467D-86F8-43DAA19C453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BD24-7518-4C7F-A4FA-153B8D3F528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3CB0-772B-4D45-A402-40BE3C19AE1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E44A-F494-4866-93A6-01AD1997316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CF73-A2EC-4D1A-9D8C-7E1C7EF9C9A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7892-C955-4BD9-8BE1-09C4CC520CD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99AB-71AF-4618-92E9-8466FC89977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CBE8-C05B-4987-AA84-79A83C833AA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4F43-1A9B-435D-ABCE-9A3703F136E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241E-B2B9-4EE2-A9AC-546C48A26DD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886B-E50D-48E8-BFF0-E7AD6F56436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C140-0E22-4854-A3C1-0736CEA3AB2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B654-3BB0-4E79-8218-B86D07FCD1B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C781-8309-41FF-AEC9-AA226719B62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1FDB-0FD7-4405-AE7A-B7D05710C9F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BE78-2D7B-46FA-B732-9EE78271B42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FCEB-AA41-4767-937F-979A069572F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C973-2EB1-4B74-828E-5FCC5B55203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D0E4-FDD9-46E9-8419-E89CEA6CD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E2E3-C32F-4A17-B959-0589C3DC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2E89E-A1CE-4165-897F-760F2DB5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FDC00A-8F76-43A6-AD95-12FAFAE0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BB84C1-4F75-461C-9DCD-4B12C2C4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195A49-5AD0-426A-982B-964522C5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2791DD-E46F-4819-82FF-B788F533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1CBB1-E140-4A58-B81C-6EB67242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94B10-19DB-4928-A962-9307E9CF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ACD5A-D37B-4223-91ED-B6E791273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A402D-1DDC-4376-98AF-874982CBB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AF62AC-3D18-41E0-AA0C-DA6C6F846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FA3F-703D-4C8C-AC84-F677DFB60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7861B-A83F-411A-ACF0-0F42BC53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BDD10C-5A09-4108-8B9B-C7E8E8BD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7B49D3-6AB6-4CB1-B891-1DB637E4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AAC2AF-A096-43D5-B7F5-00785E45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D42421-91C1-4251-AD92-0F79D4A9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F1C446-6FB2-47BC-B16E-9E16E5E0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DEB65-FEA1-43FD-8E22-D52B0D7D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AD99D0-E047-47D7-8496-0AF3FE81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13327D-7EA5-4724-8F6A-00F9A0D8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EBDA8-2103-4BE2-BCDD-5DA7227DB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14F1-53BF-4976-8B9A-E72B76809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29B5EB-23C1-48A3-B0BD-2DCC67ADB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BD6E58-13ED-43C4-B4D6-A14039F98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4E715B-AB26-476E-9D2C-588B15E7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85E57-72D0-4771-95A2-16A3BD1A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99BD0B-BD0A-4000-AE02-A6FB3BF4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44CE7-ABDC-49EE-90FA-D89E9BBD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16AA1-BFF0-4406-BE42-16EA7F5E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A120D5-E757-4CFF-9E85-000BF146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859FA-BCCE-437C-BDF6-72818287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23E49-D132-46AC-A4EA-6E1410E2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3A5C-4FAB-40D8-A96E-942697677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04CEA-7CD2-478C-BDD7-8F1386A8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E88DE-D0DD-4370-8851-095908622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EB22F-BFFE-476E-BBF3-B3E7F5358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128987-1880-4E1B-A650-7CA80B6B63A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22D65E-9DA7-4B3D-AB40-26D3020867F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F84E56-CF44-45FD-B3D4-21132D379A8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BC8BE6-609B-474B-8324-4C4EC5780CA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F29F58-EF78-4C8F-A5FA-95B62C6201F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1F39AD-6EAB-490D-B5BA-B4CFE2588DA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6FC0C5-C149-4BA8-9B54-4F98DFEE80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13D4-EC9F-46B3-932C-0405240E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B486C4-1620-4F01-BAD5-1556AA1C2D0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75C75E-408D-490C-9B90-1F93EBF6A33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E04F4C-70EA-4681-ACD8-40FC4E41C3E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E79C34-BDA6-421E-BCA7-08DB0410877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C48CA8-908D-42B2-98FC-3AB32106052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9480F1-59B3-4D88-9F80-2F37EB1861E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B9C1C8-0D3C-4A42-BB93-EA2DF7BF84D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28A989-0346-4659-A115-5DB222AB415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E87A83-FFF5-4467-893B-A06A4A55164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9EAFD1-C548-415B-8B3D-5076B7AB23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DD92-E4DC-4816-B784-925DD431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657A8E-EC25-490D-BC5F-995DFE5BD43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2C8384-2758-4A93-A11C-F137F96CAB5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0FD95E-533A-43FE-B4F3-954598BC71C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DC3235-63A4-4903-BDD0-F29964C06C3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42AA7A-7BC9-4029-B880-00ED9F87E5A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5165BF-E922-49FD-9E47-05EECDFD203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0F822C-ACDD-4709-8A31-50C79B5062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2A93-56B1-432E-B09B-6FBC990B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6B2C-3366-4909-8517-AB948CA5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A7A4-68A8-458E-957F-3DD0AFB6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1BC4-2495-42C5-B1FF-B9930BB7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EE4B-2C70-49F6-8FC1-A4E71804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D14E-B926-423D-8D35-9565B3D4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07C2-A42B-4CA4-824F-13C6C1BB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64ED-CF53-4E6F-A946-9398D4BB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EF66-7559-4CF0-AD62-7305D1649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BA33-659A-4A83-9986-B09B36E7F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50272-3281-4556-AAAB-D6D7E48D6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D1150-8ACB-4DAC-A35A-BB2130C9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B0216-06DE-401F-9679-ADA4CA22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700E7-1A87-4B11-9207-6692982E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D83D0-BDDF-465E-9E5B-55830A7C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3F40-A025-4117-BD9A-AB96B9E1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C0356-1639-4DAA-B447-FDADA208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8956F-E999-4CDB-908E-D8F9F332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80F9C-2C6E-4032-829C-093B3D51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861D6-F9EB-4CB5-8B25-C8A053CC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35F82-B030-4135-A021-94146E69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53939-B0BB-40CC-BAB5-2D33B03B9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22187-9B90-4EF4-838E-BD78836A2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34F10-E4E3-4FAA-934A-15A32F432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79F76-9366-4982-9E4A-25D79329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AA60A-DD64-4DEE-8370-1F0CDDB2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CA49-3779-49E7-BFA4-301F4662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AF8EF-00DF-4560-A72F-23ED2A25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516E0-82BF-416E-A78A-CB9639D2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CC52C-4EFF-4A71-8FBD-29AB48E8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10341-D293-4E19-BEEC-0CBC8903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98283-2450-402F-84CA-8A1FA807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38E0D-FF71-46B6-9471-E783F3C2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C3D82-91F2-4A99-9203-9FF1A79E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31D44-D43C-45F9-A8FC-9BBBC6316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1B779-97EB-4B86-AEAD-3BFA71AA8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67035-36F5-4C59-9412-88FFD73D3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D636-F0BB-4303-9E5D-FA7EB61F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66143-9E54-408D-B0BB-4FEA87BF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9B2B6-1AD3-4DE2-A412-51B376C3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82241-A906-4C4B-AE56-D251177A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6DC57-084E-4FC4-972B-A0C79A27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651E9-93F4-4B8B-A2EE-229782B3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FEEEF-D76F-45AD-AB5C-8AC62851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BE1E9-3E2E-4CF3-86A9-D890521A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38455-9926-4E06-8E75-A7164B0F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C9CD9-18BC-48B1-8E23-A2625971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C6ADA-90F0-4D1D-98E4-FE4EB3B31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5C28-FE6F-4C22-BA7A-76FCD6CB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331EB-ED01-4028-8EFB-32A5EA091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F87BC-7B89-4954-A848-A0F4E6500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CEA94-D3D5-417C-9B31-9401301B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8C39D-EBC4-47AC-B5DE-7FA1A42E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CBAC3-6E96-404A-B0DC-14759B8A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FB1BD-8D66-4615-BABB-135564EA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A20AA-6524-404E-96B7-65FEF42D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53DD4-90C1-4A3E-ACBA-55650CD6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059DB-850E-4860-963B-A95F599D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B60F1-B3E1-4432-B184-2D71DA65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DD19-130F-4B1C-92B7-23E47E14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9E96E-AE9C-48EF-86C5-CD9C8929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059A4-CBBC-47CC-91C7-BE991C5C5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1AB46-562D-4D7E-AC4B-53E35C452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2B11B-5DDA-48BB-BA28-AF53500BB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3E4C9-C5C3-4499-B921-2A4E5AB4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190C5-ECF2-4E76-949A-85DEF4C5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B0E79-D7AF-4203-9F06-BEFF2EAE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9CDD7-746D-4378-9B26-6C188A8A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49861-BEE4-4C98-8FA6-7A85C7B4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2A20A-FD39-4351-BC68-109B81AE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94CB-6E03-469B-BF61-AA2E0048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0CC18-90C3-4ADB-AF50-EC57E01F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DBA49-D8DA-4E77-AA77-70E3E30C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66DF3-F432-4E59-9632-221291DD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0AFE4-4FF7-462E-8DBE-51F7AF128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B22C5-9836-45C8-8302-5F42510E0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746E6-0DBC-4262-86EF-3F49DF7F5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F65D0-F7B0-4CE5-8A1A-C9AC5362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6D5E4-F4D7-426D-ABAB-C89C2DD8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24DDC-A2DB-4B05-83C4-AAE43F09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B3F0C-5AA4-440C-8F2A-C43A3220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8959-E97D-4BB7-BD1C-1CC50503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19CEA-0131-48C6-A0AA-C62CE46A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DC06F-F173-4058-91B5-BF6FB01D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D2708-7FF7-47FE-8AFD-3662D6B5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2F6D4-7CF3-4D68-9115-1A501342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88794-DA41-434C-82DF-A332B38D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C115F-761C-4AE3-8511-ED5472CE0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9B75F-5390-4465-9C24-E106416DB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4346B-915A-4F3C-94D7-EC392BEC8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0C1AA4-367F-43D9-8C07-93EDD1EF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473EE-9716-4A95-B1B9-FDE2B2D5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6B1D-DE89-4847-9A8F-155CB7ACAFF1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BE54-8C95-47E0-A8A9-E3E441C6F0A1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1"/>
          <p:cNvSpPr/>
          <p:nvPr/>
        </p:nvSpPr>
        <p:spPr>
          <a:xfrm>
            <a:off x="6629400" y="600120"/>
            <a:ext cx="2057400" cy="58165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744960" y="5955840"/>
            <a:ext cx="947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DA4A-3CF8-475D-907D-69FF70BA976F}" type="datetime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580680" y="5951520"/>
            <a:ext cx="5923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DD0C-55B2-44BA-BD48-6CA8E7B9EFAE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9F98-F28C-42ED-9F56-C7AA9CCC49FC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B2EB-5AED-4143-81AC-C23D1C1D0E4A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Num" idx="34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450C-A8D1-4978-9834-0F89DFC2E1E6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ftr" idx="35"/>
          </p:nvPr>
        </p:nvSpPr>
        <p:spPr>
          <a:xfrm>
            <a:off x="685440" y="6476760"/>
            <a:ext cx="7086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SECOND EDI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sldNum" idx="36"/>
          </p:nvPr>
        </p:nvSpPr>
        <p:spPr>
          <a:xfrm>
            <a:off x="7772400" y="647676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3713-8870-411A-9707-9AF66AF2C7F8}" type="slidenum">
              <a:rPr b="0" lang="ar-SA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447840" y="3086280"/>
            <a:ext cx="8240400" cy="330516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D4A0-96EF-4907-93A2-E0D43674C708}" type="datetime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9FD6-5A97-43F9-902D-D597917B2D69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DAC2-A0E0-4300-8F2D-1B5B03A69055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B7B3-7E23-4A4A-B82C-150EE3043BD5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452520" y="514188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E4D5-5572-4BC5-8A14-DB3C49CEA335}" type="datetime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4329-F75A-403F-A211-658FD42B3D9C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648F-9748-4B74-9630-8BEF4420DA90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43BB-EE13-4C92-AAED-1A24534BE305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0C8D-DDCC-473F-9869-CDCF691B63A9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2F37-19B5-4D8A-8CFE-DFC5F2EC82A9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6B81-332B-4808-848F-68EDC17CC5AD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56D2-EB0A-4521-9ADB-16368CB25BA3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452520" y="5141880"/>
            <a:ext cx="8238960" cy="127476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EFE1-5110-4E97-A3F1-3600F4771847}" type="datetime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8E10-7778-4DE5-A5E1-D0BD91DBD887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8208-0543-4365-B14F-3F9EE83A8EAC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6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7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36A8-8818-4AF7-88A5-4112313CCC3A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3200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ill Sans MT"/>
                <a:ea typeface="Majalla UI"/>
              </a:rPr>
              <a:t>CONTROL STRUCTURE</a:t>
            </a:r>
            <a:endParaRPr b="0" lang="en-US" sz="5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4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BA49-C6B1-4A4C-9494-B465EF8B8907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For example,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“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Air” &lt; “Big” </a:t>
            </a:r>
            <a:r>
              <a:rPr b="0" lang="en-US" sz="2400" spc="-1" strike="noStrike">
                <a:solidFill>
                  <a:srgbClr val="339933"/>
                </a:solidFill>
                <a:latin typeface="Courier New"/>
                <a:ea typeface="Courier New"/>
              </a:rPr>
              <a:t>// because ‘A’ &lt; ‘B’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“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Air” &lt; “An” </a:t>
            </a:r>
            <a:r>
              <a:rPr b="0" lang="en-US" sz="2400" spc="-1" strike="noStrike">
                <a:solidFill>
                  <a:srgbClr val="339933"/>
                </a:solidFill>
                <a:latin typeface="Courier New"/>
                <a:ea typeface="Courier New"/>
              </a:rPr>
              <a:t>// because ‘i’ &lt; ‘n’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“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Hello” &lt; “hello” </a:t>
            </a:r>
            <a:r>
              <a:rPr b="0" lang="en-US" sz="2400" spc="-1" strike="noStrike">
                <a:solidFill>
                  <a:srgbClr val="339933"/>
                </a:solidFill>
                <a:latin typeface="Courier New"/>
                <a:ea typeface="Courier New"/>
              </a:rPr>
              <a:t>// because ‘H’ &lt; ‘h’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COMPARING STRING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Slide Number Placeholder 4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3B84-0ED5-4492-AA0E-554284011EF9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Strings </a:t>
            </a:r>
            <a:r>
              <a:rPr b="0" lang="en-US" sz="2400" spc="-1" strike="noStrike">
                <a:solidFill>
                  <a:srgbClr val="903163"/>
                </a:solidFill>
                <a:latin typeface="Gill Sans MT"/>
                <a:ea typeface="Majalla UI"/>
              </a:rPr>
              <a:t>can not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be compared with the usual &lt;, &lt;=, &gt;, or &gt;= operators, 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and the == and != operators don't compare the characters in the strings. 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COMPARING STRING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Slide Number Placeholder 4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10E3-45CF-49E2-B363-10CDB1AC4893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COMPARING STRING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7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d3d3d"/>
                </a:solidFill>
                <a:latin typeface="Gill Sans MT"/>
                <a:ea typeface="Majalla UI"/>
              </a:rPr>
              <a:t>class String </a:t>
            </a: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Method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Majalla UI"/>
              </a:rPr>
              <a:t>compareTo  (&lt;0 , 0 , &gt;0)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Given string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Majalla UI"/>
              </a:rPr>
              <a:t>str1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 and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Majalla UI"/>
              </a:rPr>
              <a:t>str2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	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18" name="Rectangle 5"/>
          <p:cNvSpPr/>
          <p:nvPr/>
        </p:nvSpPr>
        <p:spPr>
          <a:xfrm>
            <a:off x="0" y="28638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Object 4"/>
              <p:cNvSpPr txBox="1"/>
              <p:nvPr/>
            </p:nvSpPr>
            <p:spPr>
              <a:xfrm>
                <a:off x="762120" y="4267080"/>
                <a:ext cx="8001000" cy="16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r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compareTo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r2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n integer </m:t>
                              </m:r>
                              <m:r>
                                <m:t xml:space="preserve">&l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0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 string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str1</m:t>
                              </m:r>
                              <m:r>
                                <m:t xml:space="preserve">&l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tr2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 string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str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is equal to string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tr2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n integer </m:t>
                              </m:r>
                              <m:r>
                                <m:t xml:space="preserve">&g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0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 string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str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</m:t>
                              </m:r>
                              <m:r>
                                <m:t xml:space="preserve">&g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tr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  <a:ea typeface="Majalla UI"/>
              </a:rPr>
              <a:t>COMPARING STRINGS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21" name="Picture 4" descr="Tbl04-03a"/>
          <p:cNvPicPr/>
          <p:nvPr/>
        </p:nvPicPr>
        <p:blipFill>
          <a:blip r:embed="rId1"/>
          <a:stretch/>
        </p:blipFill>
        <p:spPr>
          <a:xfrm>
            <a:off x="1066680" y="4343400"/>
            <a:ext cx="6774120" cy="2362320"/>
          </a:xfrm>
          <a:prstGeom prst="rect">
            <a:avLst/>
          </a:prstGeom>
          <a:ln w="0">
            <a:noFill/>
          </a:ln>
        </p:spPr>
      </p:pic>
      <p:sp>
        <p:nvSpPr>
          <p:cNvPr id="622" name="Slide Number Placeholder 5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E97A-BD73-4F6E-AEC4-D9CF98D1682B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81040" y="2133360"/>
            <a:ext cx="50292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marL="27432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Majalla UI"/>
              </a:rPr>
              <a:t>String str1 = "Hello"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Majalla UI"/>
              </a:rPr>
              <a:t>String str2 = "Hi"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Majalla UI"/>
              </a:rPr>
              <a:t>String str3 = "Air"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Majalla UI"/>
              </a:rPr>
              <a:t>String str4 = "Bill"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Majalla UI"/>
              </a:rPr>
              <a:t>String str5 = "Bigger"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Slide Number Placeholder 4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AB07-9ECE-423A-A199-414D7931AE4D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7" descr="Tbl04-03b"/>
          <p:cNvPicPr/>
          <p:nvPr/>
        </p:nvPicPr>
        <p:blipFill>
          <a:blip r:embed="rId1"/>
          <a:stretch/>
        </p:blipFill>
        <p:spPr>
          <a:xfrm>
            <a:off x="609480" y="685800"/>
            <a:ext cx="7696440" cy="5981760"/>
          </a:xfrm>
          <a:prstGeom prst="rect">
            <a:avLst/>
          </a:prstGeom>
          <a:ln w="0">
            <a:noFill/>
          </a:ln>
        </p:spPr>
      </p:pic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COMPARING STRING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Slide Number Placeholder 4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BA30-9DE5-4332-A537-642BE271BC9E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/>
          </p:nvPr>
        </p:nvSpPr>
        <p:spPr>
          <a:xfrm>
            <a:off x="151920" y="144792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3000"/>
          </a:bodyPr>
          <a:p>
            <a:pPr marL="191880" indent="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public class Example4_2 {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marL="191880" indent="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marL="191880" indent="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String str1 = "Hello";                                   //Line 1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String str2 = "Hi";                                      //Line 2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String str3 = "Air";                                     //Line 3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String str4 = "Bill";                                    //Line 4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String str5 = "Bigger";                                  //Line 5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  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System.out.println("Line 6: " + "str1.compareTo(str2) evaluates to " 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                  +  str1.compareTo(str2));             //Line 6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marL="191880" indent="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System.out.println("Line 7: " + "str1.compareTo(\"Hen\") evaluates to " 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                  +  str1.compareTo("Hen"));            //Line 7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marL="191880" indent="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System.out.println("Line 8: " +   "str4.compareTo(str3) evaluates to "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                  + str4.compareTo(str3));              //Line 8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marL="191880" indent="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 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marL="191880" indent="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System.out.println("Line 9: " +"str1.compareTo(\"hello\") evaluates to "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                  + str1.compareTo("hello"));           //Line 9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marL="191880" indent="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System.out.println("Line 10: " + "str2.compareTo(\"Hi\") evaluates to " 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                  + str2.compareTo("Hi"));              //Line 10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marL="191880" indent="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System.out.println("Line 11: " + "str4.compareTo(\"Billy\") evaluates to " 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                  +  str4.compareTo("Billy"));          //Line 11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marL="191880" indent="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System.out.println("Line 12: " + "str5.compareTo(\"Big\") evaluates to "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                  + str5.compareTo("Big"));             //Line 12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}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Slide Number Placeholder 4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7845-60D3-4F4F-84AC-6CE5462E2D1C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/>
          </p:nvPr>
        </p:nvSpPr>
        <p:spPr>
          <a:xfrm>
            <a:off x="60948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marL="2833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33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33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3320" indent="-2833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Values such as </a:t>
            </a: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-4, -2, 1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and so on, are differences of the collating sequence of the first unmatched characters of the string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3320" indent="-2833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For example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33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     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in line 6: where,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str1= “Hello”, str2=“Hi”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584280" indent="-28296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‘</a:t>
            </a:r>
            <a:r>
              <a:rPr b="1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e’ </a:t>
            </a:r>
            <a:r>
              <a:rPr b="1" lang="en-US" sz="2000" spc="-1" strike="noStrike">
                <a:solidFill>
                  <a:srgbClr val="3d3d3d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101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584280" indent="-28296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‘</a:t>
            </a:r>
            <a:r>
              <a:rPr b="1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i’ </a:t>
            </a:r>
            <a:r>
              <a:rPr b="1" lang="en-US" sz="2000" spc="-1" strike="noStrike">
                <a:solidFill>
                  <a:srgbClr val="3d3d3d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105 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584280" indent="-28296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101 – 105 </a:t>
            </a:r>
            <a:r>
              <a:rPr b="1" lang="en-US" sz="2000" spc="-1" strike="noStrike">
                <a:solidFill>
                  <a:srgbClr val="3d3d3d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-4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</p:txBody>
      </p:sp>
      <p:pic>
        <p:nvPicPr>
          <p:cNvPr id="631" name="Picture 5" descr="ex4_2"/>
          <p:cNvPicPr/>
          <p:nvPr/>
        </p:nvPicPr>
        <p:blipFill>
          <a:blip r:embed="rId1"/>
          <a:srcRect l="0" t="0" r="0" b="13081"/>
          <a:stretch/>
        </p:blipFill>
        <p:spPr>
          <a:xfrm>
            <a:off x="838080" y="1905120"/>
            <a:ext cx="6558120" cy="1776240"/>
          </a:xfrm>
          <a:prstGeom prst="rect">
            <a:avLst/>
          </a:prstGeom>
          <a:ln w="0">
            <a:noFill/>
          </a:ln>
        </p:spPr>
      </p:pic>
      <p:sp>
        <p:nvSpPr>
          <p:cNvPr id="632" name="PlaceHolder 2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COMPARING STRING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Slide Number Placeholder 4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E705-ED76-4800-8AE3-0A807C8884A9}" type="slidenum">
              <a:rPr b="0" lang="ar-SA" sz="20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580680" y="2226960"/>
            <a:ext cx="841068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In addition to the method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compareTo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, you can use the method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equals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 of the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class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String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. 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Returns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true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 or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false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.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Example: </a:t>
            </a:r>
            <a:r>
              <a:rPr b="1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str1 = “Hello”, str2= “Hi”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str1.equals(“Hello”);   </a:t>
            </a:r>
            <a:r>
              <a:rPr b="0" lang="en-US" sz="2000" spc="-1" strike="noStrike">
                <a:solidFill>
                  <a:srgbClr val="339933"/>
                </a:solidFill>
                <a:latin typeface="Courier New"/>
                <a:ea typeface="Courier New"/>
              </a:rPr>
              <a:t>// returns true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str1.equals(str2);     </a:t>
            </a:r>
            <a:r>
              <a:rPr b="0" lang="en-US" sz="2000" spc="-1" strike="noStrike">
                <a:solidFill>
                  <a:srgbClr val="339933"/>
                </a:solidFill>
                <a:latin typeface="Courier New"/>
                <a:ea typeface="Courier New"/>
              </a:rPr>
              <a:t>//returns false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Majalla UI"/>
              </a:rPr>
              <a:t>COMPARING STRING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4"/>
          <p:cNvSpPr/>
          <p:nvPr/>
        </p:nvSpPr>
        <p:spPr>
          <a:xfrm>
            <a:off x="581040" y="5951520"/>
            <a:ext cx="5156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67A2-974B-4CF6-A6BA-38CAF5EC619B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marL="286560" indent="-28656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You should use one of the following tests to compare the contents of two strings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590760" indent="-286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string1.equals(string2)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590760" indent="-286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string1.compareTo(string2)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38" name="Rectangle 4"/>
          <p:cNvSpPr/>
          <p:nvPr/>
        </p:nvSpPr>
        <p:spPr>
          <a:xfrm>
            <a:off x="685800" y="438624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e's the </a:t>
            </a:r>
            <a:r>
              <a:rPr b="1" lang="en-US" sz="2400" spc="-1" strike="noStrike">
                <a:solidFill>
                  <a:srgbClr val="903163"/>
                </a:solidFill>
                <a:latin typeface="Arial"/>
              </a:rPr>
              <a:t>wro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ay to do 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 == string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title"/>
          </p:nvPr>
        </p:nvSpPr>
        <p:spPr>
          <a:xfrm>
            <a:off x="580680" y="687240"/>
            <a:ext cx="84596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COMPARING STRING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Slide Number Placeholder 5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CA14-0609-46F1-93F2-3B5FF360E5A9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16" descr="Tbl04-04"/>
          <p:cNvPicPr/>
          <p:nvPr/>
        </p:nvPicPr>
        <p:blipFill>
          <a:blip r:embed="rId1"/>
          <a:srcRect l="0" t="0" r="46732" b="0"/>
          <a:stretch/>
        </p:blipFill>
        <p:spPr>
          <a:xfrm>
            <a:off x="1676520" y="2171880"/>
            <a:ext cx="5410080" cy="2133360"/>
          </a:xfrm>
          <a:prstGeom prst="rect">
            <a:avLst/>
          </a:prstGeom>
          <a:ln w="0">
            <a:noFill/>
          </a:ln>
        </p:spPr>
      </p:pic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81040" y="1295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ill Sans MT"/>
                <a:ea typeface="Majalla UI"/>
              </a:rPr>
              <a:t>LOGICAL (BOOLEAN) OPERATORS</a:t>
            </a:r>
            <a:endParaRPr b="0" lang="en-US" sz="25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3" name="Rectangle 23"/>
          <p:cNvSpPr/>
          <p:nvPr/>
        </p:nvSpPr>
        <p:spPr>
          <a:xfrm>
            <a:off x="1066680" y="4792680"/>
            <a:ext cx="7620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!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s unary oper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&amp;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s binar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||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s binar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Slide Number Placeholder 4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E6E5-F979-41C1-9EA1-05E818891818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CHAPTER OBJECTIV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Learn about control structures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Examine relational and logical operators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Explore how to form and evaluate logical (Boolean) expressions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Learn how to use the selection control structures </a:t>
            </a:r>
            <a:r>
              <a:rPr b="0" lang="en-US" sz="1800" spc="-1" strike="noStrike">
                <a:solidFill>
                  <a:srgbClr val="903163"/>
                </a:solidFill>
                <a:latin typeface="Courier New"/>
                <a:ea typeface="Majalla UI"/>
              </a:rPr>
              <a:t>if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, </a:t>
            </a:r>
            <a:r>
              <a:rPr b="0" lang="en-US" sz="1800" spc="-1" strike="noStrike">
                <a:solidFill>
                  <a:srgbClr val="903163"/>
                </a:solidFill>
                <a:latin typeface="Courier New"/>
                <a:ea typeface="Majalla UI"/>
              </a:rPr>
              <a:t>if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…</a:t>
            </a:r>
            <a:r>
              <a:rPr b="0" lang="en-US" sz="1800" spc="-1" strike="noStrike">
                <a:solidFill>
                  <a:srgbClr val="903163"/>
                </a:solidFill>
                <a:latin typeface="Courier New"/>
                <a:ea typeface="Majalla UI"/>
              </a:rPr>
              <a:t>else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, and </a:t>
            </a:r>
            <a:r>
              <a:rPr b="0" lang="en-US" sz="1800" spc="-1" strike="noStrike">
                <a:solidFill>
                  <a:srgbClr val="903163"/>
                </a:solidFill>
                <a:latin typeface="Courier New"/>
                <a:ea typeface="Majalla UI"/>
              </a:rPr>
              <a:t>switch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 in a program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Slide Number Placeholder 4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0FA2-12F1-4EB6-9CBE-5216FC818443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4" descr="Tbl04-05"/>
          <p:cNvPicPr/>
          <p:nvPr/>
        </p:nvPicPr>
        <p:blipFill>
          <a:blip r:embed="rId1"/>
          <a:srcRect l="0" t="0" r="47670" b="0"/>
          <a:stretch/>
        </p:blipFill>
        <p:spPr>
          <a:xfrm>
            <a:off x="349200" y="2057400"/>
            <a:ext cx="7575480" cy="236232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5"/>
          <p:cNvSpPr/>
          <p:nvPr/>
        </p:nvSpPr>
        <p:spPr>
          <a:xfrm>
            <a:off x="549360" y="4792680"/>
            <a:ext cx="76197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!(‘A’ &gt; ‘B’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‘A’ &gt; ‘B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!(‘A’ &gt; ‘B’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LOGICAL (BOOLEAN) OPERATOR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8" name="Rectangle 7"/>
          <p:cNvSpPr/>
          <p:nvPr/>
        </p:nvSpPr>
        <p:spPr>
          <a:xfrm>
            <a:off x="6858000" y="1523880"/>
            <a:ext cx="19051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called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ruth ta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or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8"/>
          <p:cNvSpPr/>
          <p:nvPr/>
        </p:nvSpPr>
        <p:spPr>
          <a:xfrm flipH="1">
            <a:off x="6171840" y="1981080"/>
            <a:ext cx="6858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Slide Number Placeholder 5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8A5E-4E26-4589-BFE9-BF2772F69766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7" descr="Tbl04-06"/>
          <p:cNvPicPr/>
          <p:nvPr/>
        </p:nvPicPr>
        <p:blipFill>
          <a:blip r:embed="rId1"/>
          <a:srcRect l="0" t="0" r="18185" b="0"/>
          <a:stretch/>
        </p:blipFill>
        <p:spPr>
          <a:xfrm>
            <a:off x="914400" y="1905120"/>
            <a:ext cx="6858000" cy="19000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9" descr="Tbl04-07"/>
          <p:cNvPicPr/>
          <p:nvPr/>
        </p:nvPicPr>
        <p:blipFill>
          <a:blip r:embed="rId2"/>
          <a:srcRect l="0" t="0" r="18018" b="0"/>
          <a:stretch/>
        </p:blipFill>
        <p:spPr>
          <a:xfrm>
            <a:off x="914400" y="4262400"/>
            <a:ext cx="6934320" cy="1927440"/>
          </a:xfrm>
          <a:prstGeom prst="rect">
            <a:avLst/>
          </a:prstGeom>
          <a:ln w="0">
            <a:noFill/>
          </a:ln>
        </p:spPr>
      </p:pic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LOGICAL (BOOLEAN) OPERATOR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Slide Number Placeholder 4"/>
          <p:cNvSpPr/>
          <p:nvPr/>
        </p:nvSpPr>
        <p:spPr>
          <a:xfrm>
            <a:off x="581040" y="5951520"/>
            <a:ext cx="480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D62C-E4A8-4F37-9571-216F472D068C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/>
          </p:nvPr>
        </p:nvSpPr>
        <p:spPr>
          <a:xfrm>
            <a:off x="580680" y="2226960"/>
            <a:ext cx="787716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800" spc="-1" strike="noStrike">
              <a:solidFill>
                <a:srgbClr val="3d3d3d"/>
              </a:solidFill>
              <a:latin typeface="Gill Sans MT"/>
              <a:ea typeface="Majalla UI"/>
            </a:endParaRPr>
          </a:p>
        </p:txBody>
      </p:sp>
      <p:pic>
        <p:nvPicPr>
          <p:cNvPr id="656" name="Picture 4" descr="logicalEx"/>
          <p:cNvPicPr/>
          <p:nvPr/>
        </p:nvPicPr>
        <p:blipFill>
          <a:blip r:embed="rId1"/>
          <a:stretch/>
        </p:blipFill>
        <p:spPr>
          <a:xfrm>
            <a:off x="457200" y="2262240"/>
            <a:ext cx="8113680" cy="444348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2"/>
          <p:cNvSpPr>
            <a:spLocks noGrp="1"/>
          </p:cNvSpPr>
          <p:nvPr>
            <p:ph type="title"/>
          </p:nvPr>
        </p:nvSpPr>
        <p:spPr>
          <a:xfrm>
            <a:off x="457200" y="687240"/>
            <a:ext cx="868680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LOGICAL (BOOLEAN) OPERATOR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Slide Number Placeholder 4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39AE-89F9-463B-AED8-8E39B7A7BC9C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7" descr="Tbl04-08"/>
          <p:cNvPicPr/>
          <p:nvPr/>
        </p:nvPicPr>
        <p:blipFill>
          <a:blip r:embed="rId1"/>
          <a:srcRect l="0" t="8768" r="38057" b="0"/>
          <a:stretch/>
        </p:blipFill>
        <p:spPr>
          <a:xfrm>
            <a:off x="990720" y="3276720"/>
            <a:ext cx="6629400" cy="3497040"/>
          </a:xfrm>
          <a:prstGeom prst="rect">
            <a:avLst/>
          </a:prstGeom>
          <a:ln w="0">
            <a:noFill/>
          </a:ln>
        </p:spPr>
      </p:pic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71680" y="677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ill Sans MT"/>
                <a:ea typeface="Majalla UI"/>
              </a:rPr>
              <a:t>ORDER OF PRECEDENCE</a:t>
            </a:r>
            <a:endParaRPr b="0" lang="en-US" sz="25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1" name="Rectangle 11"/>
          <p:cNvSpPr/>
          <p:nvPr/>
        </p:nvSpPr>
        <p:spPr>
          <a:xfrm>
            <a:off x="419040" y="18288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03163"/>
                </a:solidFill>
                <a:latin typeface="Courier New"/>
                <a:ea typeface="Courier New"/>
              </a:rPr>
              <a:t>11 + 5 &lt;= 9 || 6 &lt; 15 &amp;&amp; 7 &gt;=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which to solve fir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rithmetic, relational or logical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PRECEDENCE RUL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04920" y="2528640"/>
            <a:ext cx="8534160" cy="36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marL="234720" indent="-23472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3d3d3d"/>
                </a:solidFill>
                <a:uFillTx/>
                <a:latin typeface="Gill Sans MT"/>
                <a:ea typeface="Majalla UI"/>
              </a:rPr>
              <a:t>Example 4_6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: Evaluate the following expression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34720" indent="-23472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34720" indent="-234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d3d3d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(17 &lt; 4*3+5)||(8*2 == 4*4) &amp;&amp; !(3+3 == 6)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34720" indent="-234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= (17 &lt; 12+5)||(16 == 16) &amp;&amp; !(6 == 6)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34720" indent="-234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= (17 &lt; 17) || true &amp;&amp; ! (true)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34720" indent="-234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= false || true &amp;&amp; false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34720" indent="-234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= false || false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34720" indent="-234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= false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34720" indent="-234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64" name="Slide Number Placeholder 4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D538-5006-4A52-81F7-36248E434619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lide Number Placeholder 4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5E81-EA4B-4A51-A703-A21F855CD4D2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113680" cy="47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3d3d3d"/>
                </a:solidFill>
                <a:uFillTx/>
                <a:latin typeface="Gill Sans MT"/>
                <a:ea typeface="Majalla UI"/>
              </a:rPr>
              <a:t>Example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: suppose the following declarations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boolean found = true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boolean flag =false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double x =5.2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Evaluate: 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!found  </a:t>
            </a:r>
            <a:r>
              <a:rPr b="0" lang="en-US" sz="2400" spc="-1" strike="noStrike">
                <a:solidFill>
                  <a:srgbClr val="3d3d3d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false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x &gt; 4.0 </a:t>
            </a:r>
            <a:r>
              <a:rPr b="0" lang="en-US" sz="2400" spc="-1" strike="noStrike">
                <a:solidFill>
                  <a:srgbClr val="3d3d3d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true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flag &amp;&amp; found </a:t>
            </a:r>
            <a:r>
              <a:rPr b="0" lang="en-US" sz="2400" spc="-1" strike="noStrike">
                <a:solidFill>
                  <a:srgbClr val="3d3d3d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false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PRECEDENCE RUL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Slide Number Placeholder 4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F615-1BDC-4B73-B22E-C243952C40FA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Suppose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int age = 25; 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char grade=‘B’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(age &gt;= 21) || ( 3 + 8 == 5)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   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Because 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  <a:ea typeface="Courier New"/>
              </a:rPr>
              <a:t>(25 &gt;= 21)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is 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  <a:ea typeface="Courier New"/>
              </a:rPr>
              <a:t>true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and the operator used is 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  <a:ea typeface="Courier New"/>
              </a:rPr>
              <a:t>||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,due to short-circuit evaluation the computer does not evaluate 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  <a:ea typeface="Courier New"/>
              </a:rPr>
              <a:t>( 3 + 8 == 5).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(grade == 'A') &amp;&amp; (3 - 2 &gt;= 7)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  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Because 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  <a:ea typeface="Courier New"/>
              </a:rPr>
              <a:t>(‘B’ == 'A')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is 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  <a:ea typeface="Courier New"/>
              </a:rPr>
              <a:t>false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and the operator used is 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  <a:ea typeface="Courier New"/>
              </a:rPr>
              <a:t>&amp;&amp;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,due to short-circuit evaluation the computer does not evaluate 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  <a:ea typeface="Courier New"/>
              </a:rPr>
              <a:t>( 3 - 2 &gt;= 7).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  <a:ea typeface="Courier New"/>
              </a:rPr>
              <a:t>	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SHORT-CIRCUIT EVALUATION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81040" y="3036960"/>
            <a:ext cx="7989840" cy="15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d1434"/>
                </a:solidFill>
                <a:latin typeface="Gill Sans MT"/>
              </a:rPr>
              <a:t>IF STATEMEN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81040" y="4541400"/>
            <a:ext cx="798984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800" spc="-1" strike="noStrike">
              <a:solidFill>
                <a:srgbClr val="903163"/>
              </a:solidFill>
              <a:latin typeface="Gill Sans MT"/>
              <a:ea typeface="Majalla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  <a:ea typeface="Majalla UI"/>
              </a:rPr>
              <a:t>ONE-WAY SELECTION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25520" y="2514240"/>
            <a:ext cx="7988400" cy="36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4000"/>
          </a:bodyPr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Syntax: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903163"/>
                </a:solidFill>
                <a:latin typeface="Courier New"/>
                <a:ea typeface="Majalla UI"/>
              </a:rPr>
              <a:t>if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Majalla UI"/>
              </a:rPr>
              <a:t> </a:t>
            </a: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Majalla UI"/>
              </a:rPr>
              <a:t>(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Majalla UI"/>
              </a:rPr>
              <a:t>expression</a:t>
            </a: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Majalla UI"/>
              </a:rPr>
              <a:t>)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Majalla UI"/>
              </a:rPr>
              <a:t>   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Majalla UI"/>
              </a:rPr>
              <a:t>statement 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Expression referred to as decision maker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If the value of the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expression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is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true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</a:t>
            </a:r>
            <a:r>
              <a:rPr b="0" lang="en-US" sz="2400" spc="-1" strike="noStrike">
                <a:solidFill>
                  <a:srgbClr val="3d3d3d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                                           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statement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executes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If the value of the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expression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is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false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</a:t>
            </a:r>
            <a:r>
              <a:rPr b="0" lang="en-US" sz="2400" spc="-1" strike="noStrike">
                <a:solidFill>
                  <a:srgbClr val="3d3d3d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                                          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statement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does not executes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Statement referred to as action statement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75" name="Slide Number Placeholder 5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9B18-DF90-4521-AAC5-6029116D5071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8"/>
          <p:cNvSpPr/>
          <p:nvPr/>
        </p:nvSpPr>
        <p:spPr>
          <a:xfrm>
            <a:off x="3809880" y="262584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9"/>
          <p:cNvSpPr/>
          <p:nvPr/>
        </p:nvSpPr>
        <p:spPr>
          <a:xfrm>
            <a:off x="4648320" y="2397240"/>
            <a:ext cx="2361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in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(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no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10"/>
          <p:cNvSpPr/>
          <p:nvPr/>
        </p:nvSpPr>
        <p:spPr>
          <a:xfrm>
            <a:off x="3657600" y="3006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11"/>
          <p:cNvSpPr/>
          <p:nvPr/>
        </p:nvSpPr>
        <p:spPr>
          <a:xfrm>
            <a:off x="4648320" y="2854440"/>
            <a:ext cx="2666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end of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SHORT-CIRCUIT EVALUATION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1" name="Rectangle 3"/>
          <p:cNvSpPr/>
          <p:nvPr/>
        </p:nvSpPr>
        <p:spPr>
          <a:xfrm>
            <a:off x="216000" y="2023920"/>
            <a:ext cx="877572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A process in which the computer evaluates a logical expression from left to right and stops as soon as the value of the expression is kn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9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urier New"/>
                <a:ea typeface="Courier New"/>
              </a:rPr>
              <a:t>(x&gt;y) || (x==5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000" spc="-1" strike="noStrike">
                <a:solidFill>
                  <a:srgbClr val="a5a5a5"/>
                </a:solidFill>
                <a:latin typeface="Courier New"/>
                <a:ea typeface="Courier New"/>
              </a:rPr>
              <a:t>// if (x&gt;y) is true, (x==5) is not evalu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9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urier New"/>
                <a:ea typeface="Courier New"/>
              </a:rPr>
              <a:t>(a==b) &amp;&amp; (x&gt;=7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a5a5a5"/>
                </a:solidFill>
                <a:latin typeface="Courier New"/>
                <a:ea typeface="Courier New"/>
              </a:rPr>
              <a:t>// if (a==b) is false, (x&gt;=7) is not evalu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9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urier New"/>
                <a:ea typeface="Courier New"/>
              </a:rPr>
              <a:t>(x&gt;0) &amp;&amp; ( (y = z*2) &gt; 5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a5a5a5"/>
                </a:solidFill>
                <a:latin typeface="Courier New"/>
                <a:ea typeface="Courier New"/>
              </a:rPr>
              <a:t>// if (x&gt;0) is false, ((y = z*2) &gt; 5) is not evaluated and the value of y will no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5a5a5"/>
              </a:buClr>
              <a:buSzPct val="9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Slide Number Placeholder 4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32FC-3310-4D46-BEBA-F35D1DA5068A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CONTROL STRUCTUR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Three methods of processing a program: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Gill Sans MT"/>
                <a:ea typeface="Majalla UI"/>
              </a:rPr>
              <a:t>In sequence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Gill Sans MT"/>
                <a:ea typeface="Majalla UI"/>
              </a:rPr>
              <a:t>Branching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Gill Sans MT"/>
                <a:ea typeface="Majalla UI"/>
              </a:rPr>
              <a:t>Looping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Branch: 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Altering the flow of program execution by making a selection or choice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Loop: Altering the flow of program execution by repeating statements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81040" y="3036960"/>
            <a:ext cx="7989840" cy="15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d1434"/>
                </a:solidFill>
                <a:latin typeface="Gill Sans MT"/>
              </a:rPr>
              <a:t>IF .. ELS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81040" y="4541400"/>
            <a:ext cx="798984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800" spc="-1" strike="noStrike">
              <a:solidFill>
                <a:srgbClr val="903163"/>
              </a:solidFill>
              <a:latin typeface="Gill Sans MT"/>
              <a:ea typeface="Majalla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TWO-WAY SELECTION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5" name="Rectangle 3"/>
          <p:cNvSpPr/>
          <p:nvPr/>
        </p:nvSpPr>
        <p:spPr>
          <a:xfrm>
            <a:off x="304920" y="2362320"/>
            <a:ext cx="806436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Synta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Arial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(expre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tatemen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tatemen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9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urier New"/>
                <a:ea typeface="Arial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tatement must be paired with an </a:t>
            </a:r>
            <a:r>
              <a:rPr b="0" lang="en-US" sz="3200" spc="-1" strike="noStrike">
                <a:solidFill>
                  <a:srgbClr val="333399"/>
                </a:solidFill>
                <a:latin typeface="Courier New"/>
                <a:ea typeface="Arial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28760" y="76356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TWO-WAY SELECTION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152280" y="1846440"/>
            <a:ext cx="8798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hours &gt; 40.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ges = 40.0 + rate * hou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ges = hours * rat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cause a semicolon follows the closing parenthesis of the </a:t>
            </a:r>
            <a:r>
              <a:rPr b="0" lang="en-US" sz="2400" spc="-1" strike="noStrike">
                <a:solidFill>
                  <a:srgbClr val="903163"/>
                </a:solidFill>
                <a:latin typeface="Gill Sans MT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tatement (Line 1), the </a:t>
            </a:r>
            <a:r>
              <a:rPr b="0" lang="en-US" sz="2400" spc="-1" strike="noStrike">
                <a:solidFill>
                  <a:srgbClr val="903163"/>
                </a:solidFill>
                <a:latin typeface="Gill Sans MT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tatement stands alone. The semicolon at the end of the </a:t>
            </a:r>
            <a:r>
              <a:rPr b="0" lang="en-US" sz="2400" spc="-1" strike="noStrike">
                <a:solidFill>
                  <a:srgbClr val="903163"/>
                </a:solidFill>
                <a:latin typeface="Gill Sans MT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tatement (see Line 1) ends the </a:t>
            </a:r>
            <a:r>
              <a:rPr b="0" lang="en-US" sz="2400" spc="-1" strike="noStrike">
                <a:solidFill>
                  <a:srgbClr val="903163"/>
                </a:solidFill>
                <a:latin typeface="Gill Sans MT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tatement, so the statement at Line 2 separates the else clause from the </a:t>
            </a:r>
            <a:r>
              <a:rPr b="0" lang="en-US" sz="2400" spc="-1" strike="noStrike">
                <a:solidFill>
                  <a:srgbClr val="903163"/>
                </a:solidFill>
                <a:latin typeface="Gill Sans MT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tatement. That is, </a:t>
            </a:r>
            <a:r>
              <a:rPr b="0" lang="en-US" sz="2400" spc="-1" strike="noStrike">
                <a:solidFill>
                  <a:srgbClr val="903163"/>
                </a:solidFill>
                <a:latin typeface="Gill Sans MT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s by itself. Because there is no separate </a:t>
            </a:r>
            <a:r>
              <a:rPr b="0" lang="en-US" sz="2400" spc="-1" strike="noStrike">
                <a:solidFill>
                  <a:srgbClr val="903163"/>
                </a:solidFill>
                <a:latin typeface="Gill Sans MT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tatement in Java, this code generates a syntax err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COMPOUND (BLOCK OF) STATEMENT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9" name="Rectangle 3"/>
          <p:cNvSpPr/>
          <p:nvPr/>
        </p:nvSpPr>
        <p:spPr>
          <a:xfrm>
            <a:off x="506520" y="1924200"/>
            <a:ext cx="806436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Synta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tatemen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tatemen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tatement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COMPOUND (BLOCK OF) STATEMENT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1" name="Espace réservé du pied de page 3"/>
          <p:cNvSpPr/>
          <p:nvPr/>
        </p:nvSpPr>
        <p:spPr>
          <a:xfrm>
            <a:off x="1042920" y="6308640"/>
            <a:ext cx="7274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ill Sans MT"/>
              </a:rPr>
              <a:t>Java Programming: From Problem Analysis to Program Design, D.S. Mal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3"/>
          <p:cNvSpPr/>
          <p:nvPr/>
        </p:nvSpPr>
        <p:spPr>
          <a:xfrm>
            <a:off x="468360" y="2127240"/>
            <a:ext cx="8064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age &gt; 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Eligible to vote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No longer a minor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Not eligible to vote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Still a minor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81040" y="3036960"/>
            <a:ext cx="7989840" cy="15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d1434"/>
                </a:solidFill>
                <a:latin typeface="Gill Sans MT"/>
              </a:rPr>
              <a:t>NESTED IF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81040" y="4541400"/>
            <a:ext cx="798984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800" spc="-1" strike="noStrike">
              <a:solidFill>
                <a:srgbClr val="903163"/>
              </a:solidFill>
              <a:latin typeface="Gill Sans MT"/>
              <a:ea typeface="Majalla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MULTIPLE SELECTION: NESTED IF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6" name="Espace réservé du pied de page 4"/>
          <p:cNvSpPr/>
          <p:nvPr/>
        </p:nvSpPr>
        <p:spPr>
          <a:xfrm>
            <a:off x="1042920" y="6308640"/>
            <a:ext cx="7274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ill Sans MT"/>
              </a:rPr>
              <a:t>Java Programming: From Problem Analysis to Program Design, D.S. Mal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3"/>
          <p:cNvSpPr/>
          <p:nvPr/>
        </p:nvSpPr>
        <p:spPr>
          <a:xfrm>
            <a:off x="380880" y="1932120"/>
            <a:ext cx="395784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expression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emen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expression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emen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emen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4"/>
          <p:cNvSpPr/>
          <p:nvPr/>
        </p:nvSpPr>
        <p:spPr>
          <a:xfrm>
            <a:off x="4338720" y="2095560"/>
            <a:ext cx="44146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ultiple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statements can be used if there is more than two altern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is associated with the most recent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that does not have an e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MULTIPLE SELECTION: NESTED IF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0" name="Rectangle 3"/>
          <p:cNvSpPr/>
          <p:nvPr/>
        </p:nvSpPr>
        <p:spPr>
          <a:xfrm>
            <a:off x="380880" y="1981080"/>
            <a:ext cx="80647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Courier New"/>
                <a:ea typeface="Courier New"/>
              </a:rPr>
              <a:t>// Assume that score is of type int. Based on the value of score, the following code determines the 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score &gt;= 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rade is A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score &gt;=8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rade is B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score &gt;=7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rade is C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score &gt;=6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rade is D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rade is F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MULTIPLE SELECTION: NESTED IF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2" name="Rectangle 3"/>
          <p:cNvSpPr/>
          <p:nvPr/>
        </p:nvSpPr>
        <p:spPr>
          <a:xfrm>
            <a:off x="461880" y="2057400"/>
            <a:ext cx="86756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tempreture &gt;= 50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tempreture &gt;= 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ood swimming day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ood golfing day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ood tennis day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81040" y="3036960"/>
            <a:ext cx="7989840" cy="15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d1434"/>
                </a:solidFill>
                <a:latin typeface="Gill Sans MT"/>
              </a:rPr>
              <a:t>SWITCH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81040" y="4541400"/>
            <a:ext cx="798984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800" spc="-1" strike="noStrike">
              <a:solidFill>
                <a:srgbClr val="903163"/>
              </a:solidFill>
              <a:latin typeface="Gill Sans MT"/>
              <a:ea typeface="Majalla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CONTROL STRUCTURE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593" name="Picture 2" descr="Fig04-01"/>
          <p:cNvPicPr/>
          <p:nvPr/>
        </p:nvPicPr>
        <p:blipFill>
          <a:blip r:embed="rId1"/>
          <a:stretch/>
        </p:blipFill>
        <p:spPr>
          <a:xfrm>
            <a:off x="380880" y="2209680"/>
            <a:ext cx="769644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SWITCH STRUCTURE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6" name="Rectangle 3"/>
          <p:cNvSpPr/>
          <p:nvPr/>
        </p:nvSpPr>
        <p:spPr>
          <a:xfrm>
            <a:off x="510552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Expression is also known as sele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Expression can be an identifi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Value can only be integr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4"/>
          <p:cNvSpPr/>
          <p:nvPr/>
        </p:nvSpPr>
        <p:spPr>
          <a:xfrm>
            <a:off x="380880" y="2235240"/>
            <a:ext cx="4562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switch</a:t>
            </a:r>
            <a:r>
              <a:rPr b="0" lang="en-US" sz="2000" spc="-1" strike="noStrike">
                <a:solidFill>
                  <a:srgbClr val="903163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expre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ca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lue1: statement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ca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lue2: statement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value n: statements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 stat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SWITCH WITH BREAK STATEMENT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9" name="Rectangle 4"/>
          <p:cNvSpPr/>
          <p:nvPr/>
        </p:nvSpPr>
        <p:spPr>
          <a:xfrm>
            <a:off x="4373640" y="1905120"/>
            <a:ext cx="4495680" cy="47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beb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8"/>
          <p:cNvSpPr/>
          <p:nvPr/>
        </p:nvSpPr>
        <p:spPr>
          <a:xfrm>
            <a:off x="357120" y="2521080"/>
            <a:ext cx="3371760" cy="31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749160"/>
                <a:tab algn="l" pos="13208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PGothic"/>
              </a:rPr>
              <a:t>switc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MS PGothic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N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MS PGothic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749160"/>
                <a:tab algn="l" pos="13208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PGothic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 1: x = 1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749160"/>
                <a:tab algn="l" pos="13208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PGothic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749160"/>
                <a:tab algn="l" pos="13208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PGothic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 2: x = 2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749160"/>
                <a:tab algn="l" pos="13208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PGothic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749160"/>
                <a:tab algn="l" pos="13208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PGothic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 3: x = 3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749160"/>
                <a:tab algn="l" pos="13208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PGothic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749160"/>
                <a:tab algn="l" pos="13208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Group 9"/>
          <p:cNvGrpSpPr/>
          <p:nvPr/>
        </p:nvGrpSpPr>
        <p:grpSpPr>
          <a:xfrm>
            <a:off x="4530600" y="1905120"/>
            <a:ext cx="4162320" cy="4706280"/>
            <a:chOff x="4530600" y="1905120"/>
            <a:chExt cx="4162320" cy="4706280"/>
          </a:xfrm>
        </p:grpSpPr>
        <p:sp>
          <p:nvSpPr>
            <p:cNvPr id="712" name="AutoShape 10"/>
            <p:cNvSpPr/>
            <p:nvPr/>
          </p:nvSpPr>
          <p:spPr>
            <a:xfrm>
              <a:off x="6892920" y="2660760"/>
              <a:ext cx="1079280" cy="38376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x = 10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Text Box 11"/>
            <p:cNvSpPr/>
            <p:nvPr/>
          </p:nvSpPr>
          <p:spPr>
            <a:xfrm>
              <a:off x="4530600" y="3199680"/>
              <a:ext cx="7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12"/>
            <p:cNvSpPr/>
            <p:nvPr/>
          </p:nvSpPr>
          <p:spPr>
            <a:xfrm>
              <a:off x="6046920" y="2366280"/>
              <a:ext cx="67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13"/>
            <p:cNvSpPr/>
            <p:nvPr/>
          </p:nvSpPr>
          <p:spPr>
            <a:xfrm>
              <a:off x="4728960" y="2552040"/>
              <a:ext cx="1254240" cy="54612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N  == 1 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4"/>
            <p:cNvSpPr/>
            <p:nvPr/>
          </p:nvSpPr>
          <p:spPr>
            <a:xfrm>
              <a:off x="5356080" y="1905120"/>
              <a:ext cx="0" cy="55188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5"/>
            <p:cNvSpPr/>
            <p:nvPr/>
          </p:nvSpPr>
          <p:spPr>
            <a:xfrm>
              <a:off x="6892920" y="3815640"/>
              <a:ext cx="1079280" cy="3823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x = 20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AutoShape 16"/>
            <p:cNvSpPr/>
            <p:nvPr/>
          </p:nvSpPr>
          <p:spPr>
            <a:xfrm>
              <a:off x="6892920" y="4958640"/>
              <a:ext cx="1079280" cy="38088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x = 30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17"/>
            <p:cNvSpPr/>
            <p:nvPr/>
          </p:nvSpPr>
          <p:spPr>
            <a:xfrm>
              <a:off x="4728960" y="3695040"/>
              <a:ext cx="1254240" cy="545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N  == 2 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18"/>
            <p:cNvSpPr/>
            <p:nvPr/>
          </p:nvSpPr>
          <p:spPr>
            <a:xfrm>
              <a:off x="4728960" y="4838040"/>
              <a:ext cx="1254240" cy="545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N  == 3 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19"/>
            <p:cNvSpPr/>
            <p:nvPr/>
          </p:nvSpPr>
          <p:spPr>
            <a:xfrm>
              <a:off x="5959440" y="2833560"/>
              <a:ext cx="799920" cy="432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20"/>
            <p:cNvSpPr/>
            <p:nvPr/>
          </p:nvSpPr>
          <p:spPr>
            <a:xfrm>
              <a:off x="5356080" y="3095280"/>
              <a:ext cx="0" cy="55188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21"/>
            <p:cNvSpPr/>
            <p:nvPr/>
          </p:nvSpPr>
          <p:spPr>
            <a:xfrm>
              <a:off x="5356080" y="4238280"/>
              <a:ext cx="0" cy="55188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22"/>
            <p:cNvSpPr/>
            <p:nvPr/>
          </p:nvSpPr>
          <p:spPr>
            <a:xfrm>
              <a:off x="5356080" y="5393160"/>
              <a:ext cx="0" cy="12182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23"/>
            <p:cNvSpPr/>
            <p:nvPr/>
          </p:nvSpPr>
          <p:spPr>
            <a:xfrm>
              <a:off x="5984640" y="3964320"/>
              <a:ext cx="800280" cy="432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24"/>
            <p:cNvSpPr/>
            <p:nvPr/>
          </p:nvSpPr>
          <p:spPr>
            <a:xfrm>
              <a:off x="6022800" y="5107320"/>
              <a:ext cx="800280" cy="432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25"/>
            <p:cNvSpPr/>
            <p:nvPr/>
          </p:nvSpPr>
          <p:spPr>
            <a:xfrm>
              <a:off x="7432560" y="3047760"/>
              <a:ext cx="0" cy="2066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 Box 26"/>
            <p:cNvSpPr/>
            <p:nvPr/>
          </p:nvSpPr>
          <p:spPr>
            <a:xfrm>
              <a:off x="4530600" y="5485320"/>
              <a:ext cx="7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Text Box 27"/>
            <p:cNvSpPr/>
            <p:nvPr/>
          </p:nvSpPr>
          <p:spPr>
            <a:xfrm>
              <a:off x="4530600" y="4330440"/>
              <a:ext cx="7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Text Box 28"/>
            <p:cNvSpPr/>
            <p:nvPr/>
          </p:nvSpPr>
          <p:spPr>
            <a:xfrm>
              <a:off x="6046920" y="3485160"/>
              <a:ext cx="67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Text Box 29"/>
            <p:cNvSpPr/>
            <p:nvPr/>
          </p:nvSpPr>
          <p:spPr>
            <a:xfrm>
              <a:off x="6046920" y="4651560"/>
              <a:ext cx="67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AutoShape 30"/>
            <p:cNvSpPr/>
            <p:nvPr/>
          </p:nvSpPr>
          <p:spPr>
            <a:xfrm>
              <a:off x="6892920" y="3256200"/>
              <a:ext cx="1079280" cy="26460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break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31"/>
            <p:cNvSpPr/>
            <p:nvPr/>
          </p:nvSpPr>
          <p:spPr>
            <a:xfrm>
              <a:off x="7432560" y="4202640"/>
              <a:ext cx="0" cy="20988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AutoShape 32"/>
            <p:cNvSpPr/>
            <p:nvPr/>
          </p:nvSpPr>
          <p:spPr>
            <a:xfrm>
              <a:off x="6892920" y="4410720"/>
              <a:ext cx="1079280" cy="2635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break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33"/>
            <p:cNvSpPr/>
            <p:nvPr/>
          </p:nvSpPr>
          <p:spPr>
            <a:xfrm>
              <a:off x="7432560" y="5333400"/>
              <a:ext cx="0" cy="2066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AutoShape 34"/>
            <p:cNvSpPr/>
            <p:nvPr/>
          </p:nvSpPr>
          <p:spPr>
            <a:xfrm>
              <a:off x="6892920" y="5541480"/>
              <a:ext cx="1079280" cy="26460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break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35"/>
            <p:cNvSpPr/>
            <p:nvPr/>
          </p:nvSpPr>
          <p:spPr>
            <a:xfrm flipV="1">
              <a:off x="7978680" y="5671080"/>
              <a:ext cx="622440" cy="432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Line 36"/>
            <p:cNvSpPr/>
            <p:nvPr/>
          </p:nvSpPr>
          <p:spPr>
            <a:xfrm>
              <a:off x="7978680" y="4559760"/>
              <a:ext cx="584280" cy="432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37"/>
            <p:cNvSpPr/>
            <p:nvPr/>
          </p:nvSpPr>
          <p:spPr>
            <a:xfrm>
              <a:off x="5492520" y="3407760"/>
              <a:ext cx="3200400" cy="2809440"/>
            </a:xfrm>
            <a:custGeom>
              <a:avLst/>
              <a:gdLst/>
              <a:ahLst/>
              <a:rect l="l" t="t" r="r" b="b"/>
              <a:pathLst>
                <a:path w="1960" h="1888">
                  <a:moveTo>
                    <a:pt x="1512" y="0"/>
                  </a:moveTo>
                  <a:lnTo>
                    <a:pt x="1960" y="0"/>
                  </a:lnTo>
                  <a:lnTo>
                    <a:pt x="1960" y="1888"/>
                  </a:lnTo>
                  <a:lnTo>
                    <a:pt x="0" y="1888"/>
                  </a:lnTo>
                </a:path>
              </a:pathLst>
            </a:custGeom>
            <a:noFill/>
            <a:ln w="57240">
              <a:solidFill>
                <a:srgbClr val="ccecff"/>
              </a:solidFill>
              <a:miter/>
              <a:tailEnd len="med" type="triangle" w="med"/>
            </a:ln>
            <a:effectLst>
              <a:outerShdw dist="45929" dir="3371122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92120" y="687240"/>
            <a:ext cx="7989840" cy="10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Majalla UI"/>
              </a:rPr>
              <a:t>SWITCH WITH NO BREAK STATEMENT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1" name="Rectangle 4"/>
          <p:cNvSpPr/>
          <p:nvPr/>
        </p:nvSpPr>
        <p:spPr>
          <a:xfrm>
            <a:off x="4824360" y="1908000"/>
            <a:ext cx="36576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beb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6"/>
          <p:cNvGrpSpPr/>
          <p:nvPr/>
        </p:nvGrpSpPr>
        <p:grpSpPr>
          <a:xfrm>
            <a:off x="423720" y="2203560"/>
            <a:ext cx="3503880" cy="2047680"/>
            <a:chOff x="423720" y="2203560"/>
            <a:chExt cx="3503880" cy="2047680"/>
          </a:xfrm>
        </p:grpSpPr>
        <p:sp>
          <p:nvSpPr>
            <p:cNvPr id="743" name="Rectangle 7"/>
            <p:cNvSpPr/>
            <p:nvPr/>
          </p:nvSpPr>
          <p:spPr>
            <a:xfrm>
              <a:off x="423720" y="2203560"/>
              <a:ext cx="3503880" cy="20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bebe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8"/>
            <p:cNvSpPr/>
            <p:nvPr/>
          </p:nvSpPr>
          <p:spPr>
            <a:xfrm>
              <a:off x="471240" y="2303640"/>
              <a:ext cx="3371760" cy="19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749160"/>
                  <a:tab algn="l" pos="1320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Courier New"/>
                  <a:ea typeface="MS PGothic"/>
                </a:rPr>
                <a:t>switch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Courier New"/>
                  <a:ea typeface="MS PGothic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N</a:t>
              </a:r>
              <a:r>
                <a:rPr b="0" lang="en-US" sz="2000" spc="-1" strike="noStrike">
                  <a:solidFill>
                    <a:srgbClr val="ff0000"/>
                  </a:solidFill>
                  <a:latin typeface="Courier New"/>
                  <a:ea typeface="MS PGothic"/>
                </a:rPr>
                <a:t>) {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749160"/>
                  <a:tab algn="l" pos="1320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	</a:t>
              </a:r>
              <a:r>
                <a:rPr b="0" lang="en-US" sz="2000" spc="-1" strike="noStrike">
                  <a:solidFill>
                    <a:srgbClr val="333399"/>
                  </a:solidFill>
                  <a:latin typeface="Courier New"/>
                  <a:ea typeface="MS PGothic"/>
                </a:rPr>
                <a:t>case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1: x = 10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749160"/>
                  <a:tab algn="l" pos="1320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	</a:t>
              </a:r>
              <a:r>
                <a:rPr b="0" lang="en-US" sz="2000" spc="-1" strike="noStrike">
                  <a:solidFill>
                    <a:srgbClr val="333399"/>
                  </a:solidFill>
                  <a:latin typeface="Courier New"/>
                  <a:ea typeface="MS PGothic"/>
                </a:rPr>
                <a:t>case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2: x = 20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749160"/>
                  <a:tab algn="l" pos="1320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	</a:t>
              </a:r>
              <a:r>
                <a:rPr b="0" lang="en-US" sz="2000" spc="-1" strike="noStrike">
                  <a:solidFill>
                    <a:srgbClr val="333399"/>
                  </a:solidFill>
                  <a:latin typeface="Courier New"/>
                  <a:ea typeface="MS PGothic"/>
                </a:rPr>
                <a:t>case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3: x = 30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749160"/>
                  <a:tab algn="l" pos="1320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urier New"/>
                  <a:ea typeface="MS PGothic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Group 9"/>
          <p:cNvGrpSpPr/>
          <p:nvPr/>
        </p:nvGrpSpPr>
        <p:grpSpPr>
          <a:xfrm>
            <a:off x="4932360" y="2171880"/>
            <a:ext cx="3422520" cy="4385880"/>
            <a:chOff x="4932360" y="2171880"/>
            <a:chExt cx="3422520" cy="4385880"/>
          </a:xfrm>
        </p:grpSpPr>
        <p:sp>
          <p:nvSpPr>
            <p:cNvPr id="746" name="AutoShape 10"/>
            <p:cNvSpPr/>
            <p:nvPr/>
          </p:nvSpPr>
          <p:spPr>
            <a:xfrm>
              <a:off x="7275600" y="2925720"/>
              <a:ext cx="1079280" cy="38304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x = 10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Text Box 11"/>
            <p:cNvSpPr/>
            <p:nvPr/>
          </p:nvSpPr>
          <p:spPr>
            <a:xfrm>
              <a:off x="4932360" y="3462840"/>
              <a:ext cx="7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Text Box 12"/>
            <p:cNvSpPr/>
            <p:nvPr/>
          </p:nvSpPr>
          <p:spPr>
            <a:xfrm>
              <a:off x="6448680" y="2631960"/>
              <a:ext cx="67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3"/>
            <p:cNvSpPr/>
            <p:nvPr/>
          </p:nvSpPr>
          <p:spPr>
            <a:xfrm>
              <a:off x="5130720" y="2817360"/>
              <a:ext cx="1254240" cy="54432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N  == 1 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14"/>
            <p:cNvSpPr/>
            <p:nvPr/>
          </p:nvSpPr>
          <p:spPr>
            <a:xfrm>
              <a:off x="5757840" y="2171880"/>
              <a:ext cx="0" cy="5504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AutoShape 15"/>
            <p:cNvSpPr/>
            <p:nvPr/>
          </p:nvSpPr>
          <p:spPr>
            <a:xfrm>
              <a:off x="7275600" y="4077720"/>
              <a:ext cx="1079280" cy="38304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x = 20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AutoShape 16"/>
            <p:cNvSpPr/>
            <p:nvPr/>
          </p:nvSpPr>
          <p:spPr>
            <a:xfrm>
              <a:off x="7275600" y="5169960"/>
              <a:ext cx="1079280" cy="38304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x = 30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7"/>
            <p:cNvSpPr/>
            <p:nvPr/>
          </p:nvSpPr>
          <p:spPr>
            <a:xfrm>
              <a:off x="5130720" y="3957480"/>
              <a:ext cx="1254240" cy="54432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N  == 2 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8"/>
            <p:cNvSpPr/>
            <p:nvPr/>
          </p:nvSpPr>
          <p:spPr>
            <a:xfrm>
              <a:off x="5130720" y="5097240"/>
              <a:ext cx="1254240" cy="54468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N  == 3 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19"/>
            <p:cNvSpPr/>
            <p:nvPr/>
          </p:nvSpPr>
          <p:spPr>
            <a:xfrm>
              <a:off x="6361200" y="3097800"/>
              <a:ext cx="799920" cy="468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20"/>
            <p:cNvSpPr/>
            <p:nvPr/>
          </p:nvSpPr>
          <p:spPr>
            <a:xfrm>
              <a:off x="5757840" y="3359160"/>
              <a:ext cx="0" cy="5504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21"/>
            <p:cNvSpPr/>
            <p:nvPr/>
          </p:nvSpPr>
          <p:spPr>
            <a:xfrm>
              <a:off x="5757840" y="4499280"/>
              <a:ext cx="0" cy="5504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22"/>
            <p:cNvSpPr/>
            <p:nvPr/>
          </p:nvSpPr>
          <p:spPr>
            <a:xfrm>
              <a:off x="5757840" y="5650920"/>
              <a:ext cx="0" cy="9068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23"/>
            <p:cNvSpPr/>
            <p:nvPr/>
          </p:nvSpPr>
          <p:spPr>
            <a:xfrm flipH="1" rot="5400000">
              <a:off x="6584760" y="4853880"/>
              <a:ext cx="522360" cy="1931760"/>
            </a:xfrm>
            <a:custGeom>
              <a:avLst/>
              <a:gdLst/>
              <a:ahLst/>
              <a:rect l="l" t="t" r="r" b="b"/>
              <a:pathLst>
                <a:path w="961" h="472">
                  <a:moveTo>
                    <a:pt x="961" y="0"/>
                  </a:moveTo>
                  <a:lnTo>
                    <a:pt x="0" y="0"/>
                  </a:lnTo>
                  <a:lnTo>
                    <a:pt x="0" y="472"/>
                  </a:lnTo>
                </a:path>
              </a:pathLst>
            </a:custGeom>
            <a:noFill/>
            <a:ln w="57240">
              <a:solidFill>
                <a:srgbClr val="ccecff"/>
              </a:solidFill>
              <a:miter/>
              <a:tailEnd len="med" type="triangle" w="med"/>
            </a:ln>
            <a:effectLst>
              <a:outerShdw dist="45929" dir="3371122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24"/>
            <p:cNvSpPr/>
            <p:nvPr/>
          </p:nvSpPr>
          <p:spPr>
            <a:xfrm>
              <a:off x="6386400" y="4226040"/>
              <a:ext cx="800280" cy="432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25"/>
            <p:cNvSpPr/>
            <p:nvPr/>
          </p:nvSpPr>
          <p:spPr>
            <a:xfrm>
              <a:off x="6424560" y="5365800"/>
              <a:ext cx="800280" cy="468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26"/>
            <p:cNvSpPr/>
            <p:nvPr/>
          </p:nvSpPr>
          <p:spPr>
            <a:xfrm>
              <a:off x="7815240" y="3311640"/>
              <a:ext cx="0" cy="6692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27"/>
            <p:cNvSpPr/>
            <p:nvPr/>
          </p:nvSpPr>
          <p:spPr>
            <a:xfrm>
              <a:off x="7815240" y="4439880"/>
              <a:ext cx="0" cy="66636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Text Box 28"/>
            <p:cNvSpPr/>
            <p:nvPr/>
          </p:nvSpPr>
          <p:spPr>
            <a:xfrm>
              <a:off x="4932360" y="5743440"/>
              <a:ext cx="7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Text Box 29"/>
            <p:cNvSpPr/>
            <p:nvPr/>
          </p:nvSpPr>
          <p:spPr>
            <a:xfrm>
              <a:off x="4932360" y="4591440"/>
              <a:ext cx="7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30"/>
            <p:cNvSpPr/>
            <p:nvPr/>
          </p:nvSpPr>
          <p:spPr>
            <a:xfrm>
              <a:off x="6448680" y="3747960"/>
              <a:ext cx="67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Text Box 31"/>
            <p:cNvSpPr/>
            <p:nvPr/>
          </p:nvSpPr>
          <p:spPr>
            <a:xfrm>
              <a:off x="6448680" y="4911840"/>
              <a:ext cx="67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SWITCH WITH BREAK AND DEFAULT STATEMENT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69" name="Rectangle 2"/>
          <p:cNvSpPr/>
          <p:nvPr/>
        </p:nvSpPr>
        <p:spPr>
          <a:xfrm>
            <a:off x="95400" y="1981080"/>
            <a:ext cx="89629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switc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gra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'A': System.out.println("The grade is A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'B': System.out.println("The grade is B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'C': System.out.println("The grade is C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'D': System.out.println("The grade is D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'F': System.out.println("The grade is F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:  System.out.println("The grade is invalid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WITH NESTED IF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71" name="ZoneTexte 5"/>
          <p:cNvSpPr/>
          <p:nvPr/>
        </p:nvSpPr>
        <p:spPr>
          <a:xfrm>
            <a:off x="446040" y="20574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grade == 'A'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"The grade is A.");</a:t>
            </a:r>
            <a:br>
              <a:rPr sz="1800"/>
            </a:br>
            <a:r>
              <a:rPr b="0" lang="fr-FR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r-FR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grade == 'B'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"The grade is B.");</a:t>
            </a:r>
            <a:br>
              <a:rPr sz="1800"/>
            </a:br>
            <a:r>
              <a:rPr b="0" lang="fr-FR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r-FR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grade == 'C'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"The grade is C.");</a:t>
            </a:r>
            <a:br>
              <a:rPr sz="1800"/>
            </a:br>
            <a:r>
              <a:rPr b="0" lang="fr-FR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r-FR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grade == 'D'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"The grade is D.");</a:t>
            </a:r>
            <a:br>
              <a:rPr sz="1800"/>
            </a:br>
            <a:r>
              <a:rPr b="0" lang="fr-FR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r-FR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grade == 'F'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"The grade is F.");</a:t>
            </a:r>
            <a:br>
              <a:rPr sz="1800"/>
            </a:br>
            <a:r>
              <a:rPr b="0" lang="fr-FR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"The grade is invalid.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Slide Number Placeholder 4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25E2-56B7-458C-957A-CC72639711F9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RELATIONAL OPERATOR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Relational operator: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Allows you to make comparisons in a program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Binary operator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Condition is represented by a logical expression in Java.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Logical expression: An expression that has a value of either true or false.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lide Number Placeholder 5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BDA3-B8F4-471F-802B-F8FA06A85720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5" descr="Tbl04-01"/>
          <p:cNvPicPr/>
          <p:nvPr/>
        </p:nvPicPr>
        <p:blipFill>
          <a:blip r:embed="rId1"/>
          <a:stretch/>
        </p:blipFill>
        <p:spPr>
          <a:xfrm>
            <a:off x="457200" y="2209680"/>
            <a:ext cx="8153280" cy="335304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RELATIONAL OPERATOR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lide Number Placeholder 4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E209-80D0-43C6-ADBC-5D808B5F8F61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RELATIONAL OPERATORS AND PRIMITIVE DATA TYP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Can be used with integral and floating-point data types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Can be used with the char data type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Unicode Collating Sequence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8 &lt; 5  always evaluates to false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8 &lt; ‘5’ always evaluates to true.  </a:t>
            </a:r>
            <a:r>
              <a:rPr b="0" lang="en-US" sz="1800" spc="-1" strike="noStrike">
                <a:solidFill>
                  <a:srgbClr val="339933"/>
                </a:solidFill>
                <a:latin typeface="Gill Sans MT"/>
                <a:ea typeface="Majalla UI"/>
              </a:rPr>
              <a:t>//‘5’= 53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Slide Number Placeholder 5"/>
          <p:cNvSpPr/>
          <p:nvPr/>
        </p:nvSpPr>
        <p:spPr>
          <a:xfrm>
            <a:off x="200160" y="65167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34C2-DBBF-4350-A87A-69AA67FE653D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5" descr="Tbl04-02"/>
          <p:cNvPicPr/>
          <p:nvPr/>
        </p:nvPicPr>
        <p:blipFill>
          <a:blip r:embed="rId1"/>
          <a:stretch/>
        </p:blipFill>
        <p:spPr>
          <a:xfrm>
            <a:off x="380880" y="1981080"/>
            <a:ext cx="8153640" cy="49086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 MT"/>
                <a:ea typeface="Majalla UI"/>
              </a:rPr>
              <a:t>RELATIONAL OPERATORS AND PRIMITIVE DATA TYPES</a:t>
            </a:r>
            <a:endParaRPr b="0" lang="en-US" sz="29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Slide Number Placeholder 4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BF52-E993-48CE-B217-2F3FDC652ADD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COMPARING STRING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80680" y="2226960"/>
            <a:ext cx="833436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Strings are compared character by character, using the collating sequence, until one of three conditions is met: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1.  A mismatch is found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2.  One string is exhausted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3.  The last characters have been compared and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    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are equal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5T07:59:11Z</dcterms:created>
  <dc:creator>Manasi Bhattacharyya</dc:creator>
  <dc:description/>
  <dc:language>en-US</dc:language>
  <cp:lastModifiedBy>Aseel</cp:lastModifiedBy>
  <dcterms:modified xsi:type="dcterms:W3CDTF">2014-10-11T12:41:11Z</dcterms:modified>
  <cp:revision>207</cp:revision>
  <dc:subject/>
  <dc:title>Chapter 1</dc:title>
</cp:coreProperties>
</file>