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110-0D19-4D6F-A792-E5AB2C96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71D-3791-4411-B0DF-460339C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6D56C-1036-4712-9D8D-BC86E8EF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D2F2C-C57F-410A-AB3D-43F3489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702BC-7A79-49CB-94FB-8C954720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9FC2-52DD-4E32-BCCD-5A1B707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DD51-297C-433A-A022-DAF7A12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ECA4-3DD3-4885-9D52-A6E2D7F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51C52-B08A-4AC2-9342-402BDA5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DB75-AFF1-4FC5-8B0D-102AEAB6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00F57-DFEC-4068-B54E-1E535E7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73ACD-6619-4DE5-8AF7-1933415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0A5-F233-462F-8CF2-E8FF72C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2FA3E-04B9-4189-9427-11A817C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2C8CF-D692-4E8B-B87A-AF641B4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081AE-36DF-4B9C-A474-2D24E24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FB654-45CE-40DE-A9EE-0FD8275E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139FD-55ED-4740-8837-3C92F1C2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5698-C3C6-479E-91CE-998071D7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083F-01A9-464A-89ED-D8CE45F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ADFBA-4EE3-48A5-A6E1-748C947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BF5DA-CDC8-4853-88D4-A8B43DE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5D645-13FB-43DD-989D-656C11D7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309-1CF3-4561-BAC3-35606312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BCC5-8759-4E05-9F65-E3B92EAC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179AE-A7D9-4BFF-9924-5ED1A9F9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3C1EC-0602-4A74-AE86-A928AF9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10F27-0C1C-4100-ABC9-441D4E4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534C-9B31-4BCF-96BB-728C62A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23BC-AA08-4086-98F8-7C38D97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72945-5FAF-4983-8A32-86FDD32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BA3F-F4D0-4495-8E21-F688F01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E839-E4BF-4CC8-BAE4-96F2D50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BD99-BB57-49FA-B698-B11053A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32E-993E-4327-8D01-8DB20926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B21B7-1B21-4A23-A125-F061585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8BD0-D742-4142-9FA8-35C7B46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FD78-BB7F-49D5-B862-07BDE96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C84BA-E842-4056-8C83-9DBBBEA4CD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BC96-FA53-4D7B-93EE-EC5B0EE0C5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2D5AF-8CC1-45C2-8DE6-77C71596FD2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B5467-2CC8-4D65-B892-EFB9DFDE06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8F082-141D-4348-90EC-F58265A91B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FC68C-3142-4080-8113-08F69E4597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1B15C-F6A4-4052-8276-D8667FDCA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35A1-AF1D-4BF5-8918-06201E8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B0775-A2D0-4939-A5BC-9F93706753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456B6-D634-4751-BD5C-C37E80985A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20110-F233-484B-86E7-C574CDD3535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7FE83-BA95-4336-91F4-CC5A491F6C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B390A-BDE1-44DB-AA4E-9CF6400C4A7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91CC-AC62-4132-8901-33D7443389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06049-C8CB-463F-A7C8-2A13B36055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AA71F-6AE6-49E4-9277-14BFAE7B46E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85AE9-D156-47E4-8DD1-147794FC0B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9ED61-A79D-4CFA-909E-96BA434E3D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E89C-FB81-4D51-801D-6F05586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11EC-9595-4D3C-9698-1C2B5ABB71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A090A-A0F8-4BC3-AFE9-9878ACB2C8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C0068-50F6-4049-82AA-6AD085F2C2A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5824F-B846-4FF3-96C7-5261176605E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425F9-869F-4FE6-AED6-8B56F604A9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5102A-F54A-49C6-91BF-F9E3C724CD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A1A83-BFCD-42C6-A99F-C34CCD265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B8E5-DBDB-4ACD-B3D3-B0EE3679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B323-5F94-422E-BF56-6EC6898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7764-B5D5-4A60-8817-82D712C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6B3-5863-4D98-9D66-53FB843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BBE-AF9C-4CC8-B3C0-FEAC18C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BD4C-D64F-4902-A2DD-CF985CFE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5F88-0E37-4FE2-9630-BA86030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04FA-605F-4952-9A9C-BFA7629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A945-82B6-4757-9A96-56BD067D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57D1-C5D5-4256-8604-DF8A20E6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9268-0118-4D2B-96B7-BE1A489B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CF90-D793-4BD2-BDF1-3DCF0210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7462-52F9-4C50-B47A-179D581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5C68-2233-4D9B-AA84-00172A5A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C3D4-9281-48FF-BE1F-91475F0C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9F4-CC99-4B76-AD5D-AA35106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535D-FED7-45E7-80A9-1E9C6DF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6C39-040A-446D-A42E-268A7BC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CF51-F356-4673-A7D5-63EACB2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CEF2-6322-4F0B-BA11-AF888B76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3124-A5A5-499A-A40B-393E479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20FB-1405-47F7-928F-EF0BBDD0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3CCC-3A0C-4254-B1FE-EF8FA9F5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68BA-F3DC-430D-8D7B-8FF4EA49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3928-1DD4-479C-BCFA-AB22C37C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D045-1882-4200-AA70-3CD72EF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2D8-7EC2-46D3-87EE-507555DF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7676-9813-4F1C-9634-C44EC23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1BA5-B3E7-49DB-BD34-0F42921C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7C71-9D28-439F-95E6-4097C48C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B1BB-E172-4604-9BB6-02E87B9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44B9-1410-484C-BE9B-07631DA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1259-D93B-46CE-9E91-CB5FF59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04FA-B6C7-404A-9228-35DF6F5B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925-F56D-4A4F-9C54-3B0E6445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BBAD-0CC6-426E-80B5-7F42FD41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670F-23EA-4997-979B-39F5EFA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27A-228C-4408-BCCF-9E2C07B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C113-9B42-4D43-A445-6615739D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A077-15ED-42DD-B8A4-34F3346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7BE9-E85F-4927-BD73-AD032E8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7559-9952-43DF-A7A6-2165A98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D16B-2C38-4623-9F99-8BD49C63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5595-2FBE-422B-BA8E-D5C6898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DA7B-7CB2-438A-AD89-1C803C4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3C54-E1EB-4BD9-9274-11DB22E9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87DA-464D-43F7-98B2-C0F0E6B0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B377-AFFD-49C6-A5F1-86FCF439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5E4-FD26-45B3-9DEC-DE1DD21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FCBC-EEB8-4B85-92CF-97D7EAD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00F7-06DF-4C4E-8B9C-0CDF736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0D362-C7F8-442F-862C-45C7F3D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1901-FC4D-4239-925C-A9703349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24FB-7CA4-46A0-A72B-B24D5B5E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B2FF6-CED8-4A5C-A66A-BC0E5B1D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FE81-55BA-43AB-A810-5F8D5D4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7CEC-EA4D-461C-823B-A7E8906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B075-ED4B-42A1-B46B-8B43009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D14E-541C-4FE8-9ED1-3890B18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84A-7C2D-4433-BF2A-E6660A3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14AC-E686-468B-B5D2-48451B4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3881-D640-4466-B781-D78AFA08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81A9B-9A8B-4C4A-AF8F-2DEB6B28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0A3B-210E-4DD5-B64D-D1E4F5A3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C118-97EA-4164-AD71-8087EC4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1D317-6A4F-480F-9E5B-FD18E6E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A2C8-AD72-4D92-9391-C410B87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A10A-CDD5-4B44-AEEE-CF47BDEB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6A08-83AD-4D11-8004-4D3A44D5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3082-2E5D-4A2A-ACAE-EBF7B59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772-FC51-4DAC-93C3-4C0BA37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1BF5F-B650-40C9-BF67-CD86018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3188-3D71-4598-8A5E-E29C5CB2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4086-389B-41A3-950C-AC55ED2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EFD7-7CEF-4708-A9F1-07386E4B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BC15-4448-47F2-AEE1-9883140E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A16C-E0B2-47D4-AD78-A62E0508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307A-3C04-4A23-A42A-0B9206DF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23CD-F418-414E-A5AF-D75670A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6566F-838A-4DC8-AB0C-30EB0B8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EB02-B22C-46B0-88C3-6B344C62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AF3-3B93-434C-A045-86BF6B7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4A4B-84F4-43C1-9F78-5E7B388B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E61F-FAD1-4AF8-8A09-E45185B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D4AA2-9142-43CA-A563-03C748E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8DE38-CF2E-4051-BA6F-68531BF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FC7F-A94D-42A0-AAED-BA57FF3A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BFB4-E247-4B5B-87EB-C1E25A9C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6022-9A17-40D3-B75E-E68BA235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3816D-A828-425D-930D-5670A95B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EC5B5-3756-4813-969E-C9A43B2E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275EC-A6EF-4A4E-9A5D-92FAC5C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278-EE02-4309-AFAF-894EBBA32B1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52A3-213E-46F0-90F3-437FCAA575C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A0F0-6CB8-4052-9633-ED2EE2778CD4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9893-628F-4EBB-AC2A-2B82513AEBD6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E7C-9CB7-4A01-A0B8-EAA5D1AAAD9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9B39-1E36-4FF7-9606-A13F41100CF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4157-637D-4AA2-9118-530E0552473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581-9D4D-4A25-A58D-396754B9EC18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611-AB12-4767-A126-181FFF03C5F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A30-7DFE-43B8-8011-FD20F4BB5963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FD91-0D8B-4303-8BB8-6C9AB9D3B520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77B-A018-4E27-B0A3-A5BEE3AB850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E9F-79FA-4195-80E3-6D862DF0315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478-1400-4CAF-A917-B8D7A971E616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254-945F-4281-80E7-165D125C4469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C34-F762-4AC7-9924-54717CB943A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26D-7CDA-4B65-BFB7-86730913863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409-D9E5-44A8-AC5B-33197898C11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BC40-0517-4F9D-A3A0-D249D9B0C60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A41-0765-4F86-BCFC-F4F993746BA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4CA-EDCE-4565-A0B8-F2CB3F205E9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1072-7231-4EB0-8E2B-CED402EE78A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53F8-AF9A-4A73-AF75-B7F471121FF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4CF-3B2E-4862-81D0-9ECA6B14E81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CONTROL STATEMENTS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LOOPS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185688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put: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tegers (positive, negative, and zero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N = 20; 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Output: Number of 0s, number of even integers, number of odd integer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14280" y="2057400"/>
            <a:ext cx="8515440" cy="45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for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counter = 1; counter &lt;= N; counter++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number = console.nextInt(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System.out.print(number + " "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switch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% 2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0: even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== 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zero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break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1: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-1: odd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1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many situations in which the same statements need to be executed several tim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Formulas used to find average grades for students in a clas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22093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5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;             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(i &lt;= 2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" ");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);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Output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0 5 10 15 20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838080" y="4692600"/>
            <a:ext cx="2233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  <a:ea typeface="Majalla UI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51920" y="213372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 (CONTINUE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55600" y="20574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count++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10-20T15:26:48Z</dcterms:modified>
  <cp:revision>202</cp:revision>
  <dc:subject/>
  <dc:title>Chapter 1</dc:title>
</cp:coreProperties>
</file>