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386-DD73-4684-8C56-C8C9EAB5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D1F-3164-44A5-B751-2B0DF257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B91C7-949C-4166-8815-759FD57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FA0D-0147-4C83-8279-28002D5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55FBF-A137-45F7-8701-C8A6723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6937-8505-4AF3-91A7-5A4B1DD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540BA-4F34-47CC-9DD1-0F83BA65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1F697-88D9-4961-9190-EB6210B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BA45-8F23-4342-951F-7A34D3C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88516-4ECF-4F91-B8FF-DCCA53EF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5C87F-6471-4928-8EAF-A61D58EC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5721C-7FDE-4FB1-8E68-886B89C2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263-5518-483E-8B5F-D407C010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3A9BB-1193-4F01-82F5-03A1228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D859-41AD-4036-93BA-66FD8D5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D027E-9023-4B36-9618-F284FE59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013FD-67F2-471A-BA71-761D63F0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A6D26-A444-4B32-BF8C-85804DB0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C958B-ABAC-478B-B81D-CA0C7E90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5F9C8-D4C4-4AA7-B0B6-9D37D93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8041D-446F-41F1-B9EE-0F768E6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B5643-E41A-4605-B06A-DCAD414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C1BC-453E-46A2-9F3F-18F0B0F3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359-E498-4F2C-9FC9-696368B2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D472-9F17-4E72-882C-460F4135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EB3D-0E3E-4751-AC1A-009E33B9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6885-36FE-4158-BA8C-7A280A6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47226-DD4F-4C96-BD99-65E43A80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99CC2-5DFE-497C-83F9-B0A105CA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B7833-A832-475C-86D7-9601368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020BC-0DFC-4C80-804A-E763FC47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8BACE-7A03-4565-A383-9530F56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917E2-237D-4C3B-B567-0DF4199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75F4F-3BAD-4BB4-BEA4-6100B724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AB4-7AFC-4C92-B032-1740717C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215B-0E39-4AD7-949C-2A48ECD3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E694-5203-4E21-BF85-5E3F2B9C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3779D-C37E-4CC9-BC34-6B7D1898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0AF36-FEE1-4D91-A5D5-93F4DBE09A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80E40-710A-4810-956C-4CD1AD3430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4E106-89D4-4BB4-BF62-175121D794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94491-1D30-42E6-9A06-207860AAAA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C927B-7589-461D-ADF5-3AC8961EA2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258E3-443B-4FB9-B7A3-77E6EF782A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72449-511F-4C32-BCFF-F7870F883E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92C-B486-4504-A1F5-41AFE52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8735B-C12C-4A00-8F79-E34BF77CCC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28A90-5CA9-4A69-A57E-1BFF46A8F50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88295-A406-4476-B0BD-F9CC7307A5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BD85B-52F6-46A6-837C-37437842EB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9AC67-40B1-4A16-A61F-9E903398FA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D90D7-BDCA-4A12-8040-BB221CBCC28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0C43-FF0F-4EB7-A506-1E96FF76EF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50DEE-DB87-4F77-922E-F8F2D7019E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963B-1411-4AE5-8537-748BA695BD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E3B53-3C0B-4DE3-A3C4-8433E4255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7BC0-3B04-45A2-8F4B-DA94FB29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7891F-E671-4E60-A4BE-9492166B2F6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14334-FFAF-4899-88B3-CC93392D83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378F5-82D1-4C49-AEDB-DA720F1B74F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4EDD7-0B81-4E39-8495-C5A4E1F02E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47D2D-12C8-409E-9A3F-909EF05511C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70086-355C-4A01-8E5E-D05448A05C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82565-96AC-46FF-BD03-B1E78B10A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9145-483A-4B5C-B4D2-827B2CA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775-B002-4A59-B831-9A683F8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5EC-1F17-4BD3-B21A-A9EC5FC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C37B-376B-44FB-873C-F42256C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484-E673-424D-8091-1BACDE3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575-099C-490A-91AE-F679217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C592-1995-48F1-9EF2-B9FFBC9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17DB-2417-47CA-B35B-9EA4D0F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6560-B08E-4D38-BA55-2470B983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C41-6B34-4EB0-824A-FFA1F8B4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DF23-6822-4721-8109-501992EB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30AD-DE8F-41F1-B3EE-81AD348C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C66D-A0EB-455C-869B-AFAB311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8D6F-A825-4ABB-B942-105360D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95C0-7EC0-4F3F-A8B8-A64C386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F90-15EE-4626-8C48-D55E466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D373-2070-44D1-B7EE-4EC3A0D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80E3-EA53-45AC-BEB6-D3B50DB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3ACA-A74A-445A-8617-6FE0E81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FA47-F3E6-4879-A49F-BFD37F8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5CCA-0E47-4E2E-BADE-9244CC2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D2C5-25D7-45DF-9357-0C346E20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864C-868D-4A4E-8E9C-EBCBFB13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5B52-1E41-42E8-8CAF-7C00193B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0E60-C1EC-4210-B6C4-C2214876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4E38-CFF1-40B9-A83F-996D12E4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485-9814-4B83-8A89-F1761ED0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5851-C53D-4330-A8A1-2EBD33F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47BF-7C06-4FA9-BE64-31C6189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8BFB-8F83-4486-B33F-CA56EDE3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67BF-C6C3-4DA5-B902-5522770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E4F7-2F2D-4502-9E2A-DC9F68D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BBF0-C7F5-4DD6-A21A-8FB1511F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DDB4-6EE1-410C-9BA9-694B4CAC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27ED-D4D4-4771-995C-21880333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990A-BA59-43E9-BE8A-1CB7F847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2FFB-3B94-4CC8-99BA-F822169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21F-012E-4B44-9EBA-0DF2F87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CDBD-B57B-4334-80A4-8F898FD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AE2F-DC88-498F-8C7C-282044F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129B-3881-4BA9-B805-A960737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DE71-05E8-4C35-A59C-3658D68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400F-C2FD-4D35-9B4B-80493E9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DC9C-B81C-42E2-843E-9DF65E4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33CD-DEE9-442E-A461-A43A13C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1BB9-BE0E-4F09-81F3-32096B5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1A65-94B3-42B1-A783-065D9C1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FCCA-62A1-4273-B856-5E9B22BE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CB5-ED08-483C-8ADE-78A2405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8FF09-1E00-49E2-BC90-81B8167D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37A8-B166-4AD4-A448-B22D6F37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1C5B-ADD2-4BAE-8A10-7BDB497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C6B1C-4365-4505-BC39-8D281CBD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6615-7402-408E-8FF4-1D54A2E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AE86-FD8C-445A-A8D1-DC7FA43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B1FD-73E1-429E-9AD3-CDB9461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3AC7-EC31-44D2-B3B5-F9FA1AB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5024-C469-43B1-A64D-E56F51A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E003F-AF41-4E10-8422-274357E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575-AAE3-4005-9FAE-4E019E2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169F-B6C7-4D89-AE29-9733A617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2D72-534E-4D68-9E86-F8473B3D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E20A-7AAC-4A16-8C51-4C8F0EF0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7DF8-3CD6-4D68-8F0B-8676D7D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1D99-E799-48E4-9E80-CFA0517B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3A1B-3C89-49CC-839F-25A660A0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65C0-186E-4AEC-AFC7-2E8053AC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1553-B1D3-4DDB-AA02-1A11EE4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B166-25ED-4EC5-990C-BCCA5B7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7570-ECB2-4E7F-BEF5-2C0355C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39A-DD95-4A1E-83CE-84DE4C8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0474-E395-4F03-A026-E9CF526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78C0-5CCF-491E-B7DE-E6BD9E4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48B8-8A67-40A9-B50A-FE29E62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68C3-C1B9-4E29-BA23-D5231AC0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19A4-6CA9-468A-AB30-1EF4573A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4C750-F3CC-4038-8B58-0AAF8395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EDD04-34B2-4E2B-8E11-CE8240A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FF69-271F-47E7-B01A-239D5CFA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8813-1076-4C17-B773-54FE0739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1BF0-E463-4C18-BDD4-4BDE07D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522-B988-495E-AE8F-7D96037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ADF7-CA4F-4F2B-BEBB-34FC2E17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3A57-FFBF-403C-8181-2AF88DC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0E62B-067E-4E32-AE5C-9FB43E9F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B24FD-87FB-4EA3-BA1E-ABAB6C3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0E03-DA69-4320-A891-B2710F18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ABA75-A725-4905-81CE-5758514A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86C3-C654-47B7-BC14-128E7CAA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11C10-FA4D-4E02-A63A-9E9EA8F0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B305F-9DC7-429F-9CA1-8B8C34A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1AE8C-1B6F-4849-9229-BE150C2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B36-51F2-4BD8-9D53-2A86B5AE1836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CB7-081E-4119-A4D5-8E626AD4070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FDC8-BD0E-4C91-92B0-71CBB6081093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28D5-754F-4815-9E58-DE327581A798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D75-5C54-44A8-A7C0-FD9111CC11C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7A5-7AEB-49C4-B9EE-148498C8E684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737-B9E7-46EA-95AB-6F621E6BBF48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1A1-BCD3-43BC-A7EA-4ADE04B11321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E9DF-081E-4709-A0C5-9E2822A974F7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F229-B26B-4139-B7CE-131F87250AB5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83F-BEE0-49BD-BC83-738776851B3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354-6CFA-4D29-B94C-851DB088E296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B80-D964-4D42-B339-FF5DAC44072A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131-95B5-4692-B007-02150773CFE3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211D-0DE4-40B9-85CA-2FA26E30A481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477-A929-43F5-86AE-DDA2F832B41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1436-2249-4C23-85A3-4EB246F0772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5FC-1692-4705-A512-615653BD47A2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77F-8B77-4E49-8529-C4AFC3A2F8EF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BF1-2B33-4E5A-9E61-4113DED3846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855C-9361-499C-A990-D0EE0D6E4176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967-D587-4D07-AC69-021BEA0CC90F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EE8-CC37-4F9F-B4CB-69BC38121FF2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B87-ABDB-4A79-8EE3-EB6B50B3C5AC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CONTROL STATEMENTS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LOOPS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185688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50920" y="1981080"/>
            <a:ext cx="85881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put: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tegers (positive, negative, and zeros)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N = 20; 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Times New Roman"/>
              </a:rPr>
              <a:t>//N easily modifie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Output: Number of 0s, number of even integers, number of odd integer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FOR LOOP PROGRAMMING EXAMPLE: CLASSIFY NUMBERS (SOLUTION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14280" y="2057400"/>
            <a:ext cx="8515440" cy="45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for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counter = 1; counter &lt;= N; counter++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number = console.nextInt(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System.out.print(number + " ")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switch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% 2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0: even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(number == 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zero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break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1: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</a:rPr>
              <a:t>cas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-1: odds++;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switch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</a:rPr>
              <a:t>} </a:t>
            </a:r>
            <a:r>
              <a:rPr b="0" lang="en-US" sz="1700" spc="-1" strike="noStrike">
                <a:solidFill>
                  <a:srgbClr val="339933"/>
                </a:solidFill>
                <a:latin typeface="Courier New"/>
              </a:rPr>
              <a:t>//end for loop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1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many situations in which the same statements need to be executed several tim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Formulas used to find average grades for students in a clas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22093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5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;               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(i &lt;= 20)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" ");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;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);             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Output 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700" spc="-1" strike="noStrike">
                <a:solidFill>
                  <a:srgbClr val="3d3d3d"/>
                </a:solidFill>
                <a:latin typeface="Courier New"/>
                <a:ea typeface="Courier New"/>
              </a:rPr>
              <a:t>0 5 10 15 20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6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838080" y="4692600"/>
            <a:ext cx="2233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  <a:ea typeface="Majalla UI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1680" indent="-30168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2080" indent="-3013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51920" y="2133720"/>
            <a:ext cx="95410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Sentinel-controlled while loop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;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sum = 0;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s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8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count = 0;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variable to store the 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</a:t>
            </a:r>
            <a:r>
              <a:rPr b="0" lang="en-US" sz="1800" spc="-1" strike="noStrike">
                <a:solidFill>
                  <a:srgbClr val="fa6400"/>
                </a:solidFill>
                <a:latin typeface="Courier New"/>
                <a:ea typeface="Majalla UI"/>
              </a:rPr>
              <a:t>//numbers re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System.out.println(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+ </a:t>
            </a:r>
            <a:r>
              <a:rPr b="0" lang="en-US" sz="1800" spc="-1" strike="noStrike">
                <a:solidFill>
                  <a:srgbClr val="00cb00"/>
                </a:solidFill>
                <a:latin typeface="Courier New"/>
                <a:ea typeface="Majalla UI"/>
              </a:rPr>
              <a:t>"ending with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br>
              <a:rPr sz="1800"/>
            </a:b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 (CONTINUE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55600" y="20574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(number != SENTINEL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sum = sum + number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count++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The sum of the “+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count 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+”numbers = “ +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um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(count != 0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The average =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+(sum / count));      </a:t>
            </a:r>
            <a:br>
              <a:rPr sz="1600"/>
            </a:br>
            <a:r>
              <a:rPr b="0" lang="en-US" sz="1600" spc="-1" strike="noStrike">
                <a:solidFill>
                  <a:srgbClr val="941edf"/>
                </a:solidFill>
                <a:latin typeface="Courier New"/>
                <a:ea typeface="Majalla UI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System.out.println(</a:t>
            </a:r>
            <a:r>
              <a:rPr b="0" lang="en-US" sz="1600" spc="-1" strike="noStrike">
                <a:solidFill>
                  <a:srgbClr val="00cb00"/>
                </a:solidFill>
                <a:latin typeface="Courier New"/>
                <a:ea typeface="Majalla UI"/>
              </a:rPr>
              <a:t>"No inpu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ajalla UI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Aseel</cp:lastModifiedBy>
  <dcterms:modified xsi:type="dcterms:W3CDTF">2014-10-20T15:26:48Z</dcterms:modified>
  <cp:revision>202</cp:revision>
  <dc:subject/>
  <dc:title>Chapter 1</dc:title>
</cp:coreProperties>
</file>