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339-7EE3-4D30-9ABA-24901A12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CD0-5B73-4303-8F36-B349D44C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A9F9D-65AC-433B-8B0E-E1BCE60B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43C99-630F-4000-9C43-5CBFBF84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59A42-C5BF-4F3E-A9C9-A603880B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6909C-D21E-4C27-B367-E3B44887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052F1-F999-4B03-B291-B6BC2F55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C0B2C-DCBE-4E9A-A629-F720F348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0A587-CE39-4E70-86B9-F92D23B5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8C488-4BF4-496D-B88F-41F00FFA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07F87-DD20-477B-B73B-665C2A5D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CF6AD-F6B3-4EC1-91CD-C69F5307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572-00BC-4E15-8462-7C8C4E1D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2DD5D-7779-4337-A8B9-B7C0CD68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A84F8-72E6-4C9D-B119-34DBC9F0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4342C-5797-4344-ABB4-AD851FB1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77B95-F8C5-4EAF-9B74-6E9E63C3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DF99F-86D6-4FBC-AE3B-3F20DCE8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90C72-94A3-482A-A1D6-D20EEE6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C2AA5-A573-4C08-888B-9B44B9E4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DA3DB-3F61-4ECC-9603-3076F77B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96210-D9A0-4BC8-BC7F-B8108807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07976-2E86-469B-8484-B7B989D3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1B4-FB5E-4A48-AFA7-5AF5EB80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E0137-55DA-44B5-8D30-CFD2D048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9B631-C1D0-4AAF-A2D7-CF5F2F9D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D2EC8-8E78-4C64-8CA1-3B492D99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5395D-2D49-4DAA-B154-558E574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67CF8-FA84-4CD7-BBCD-094D1A98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FC5B2-1A6A-405D-90C7-C712CC07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37958-B3AA-4E1B-9E5D-B9003C6C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E374B-6C59-450C-9A54-1303B9CE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1A9A9-CDBB-458F-8AB2-558A1C02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7B884-ECBF-4433-B25A-C2DE1CD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3FC6-7CBD-461D-96B0-1D159B48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7C921-044B-4D6C-8DDA-7B4A1F90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3E08D-74F0-4112-AA96-1271F941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B6F00-766B-4B38-8E2E-225AB46D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76FE9-77AE-4971-93F4-A509BDB3091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7F014-6156-47BC-866A-4BA731B9107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2A712-7261-44EE-9978-D3223773B38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AC51E-3634-4671-AA17-B4F79200F3D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F7CED-A281-49BC-BDFF-E414E4D553F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A6F75-5EC6-47A4-AC2D-5231209EFF6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4D140-F3D6-4016-B402-28EA2C4F24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9B74-2536-43DC-9A70-13096B30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8CC3C-B836-42CF-AD13-A47D29FF185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D38BD-CEEC-4DF9-8AD2-BF246B4FFC4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AB0A7-3126-4A1A-AA12-D4A90B6968D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1B254-0CDA-4FF9-8BD8-578972E5D34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072DA-B3FC-46B3-BF37-12DC7F70804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F09E3-C0B3-44D1-A7EF-8E50AA308B9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9E1C7-89D7-4267-A9A4-08508881B88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BE056-B3AF-4A4C-946E-E405F663854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0973A-42AF-4491-A9A3-937285B85E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13546-6EBE-4CB5-ABF3-700EB35E3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BB20-3558-49F5-989C-0E55AEF8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ECCDB-6D24-4C56-AB95-396ACA4F74D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4231F-C86E-4315-A365-ED6A791CF39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EC074-4097-43C8-AC96-7569CB89CD9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A56B1-89D1-4D4B-99CA-557CABAC443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0094A-2230-42B9-90ED-043485941D7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1CFE6-07D7-43CD-B35E-F33657E4437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7FB78-9641-4FE7-83FB-4E7B33AE7D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F991-2C21-4FBA-801B-C965C46C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B371-D651-4F83-B107-7ACC78AF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953E-BC66-4B77-88F9-7A842895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CD1A-101A-4FAC-8607-0905D8D3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D0F-5512-474C-8679-FA027202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F63C-8708-41C5-A5AD-D219706F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0043-A8D7-4E10-948B-A08DFCE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936B-ED10-47A4-B950-1845FA70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2C90-69EC-42C0-90FE-9066B380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0CD2-27A6-4FDC-BD2F-B4D6E37F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BB9D-FCF6-4F31-8A45-AA9D0FD3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F2A3-77AE-440A-931C-AFCFC98A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B4EF-3FDD-4570-AE9E-241397C0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3CAD-442B-4476-A2C5-48D5602E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CF6E-3C02-458F-8387-B9B57517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0DD-946D-4C99-B444-1FCB08C9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8691-84EB-4FE8-9173-929A1726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301A-30E4-4C1E-B0BF-6831DE9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14CB-8E3A-4B04-927E-54275D6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BAB57-ED0D-43A8-AC33-970E130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1A7D-7A30-4FCD-B277-2A3A6B86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8867-D1A5-48B5-A8BC-322B9C13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9EBA-F102-43CF-AD07-BEC1940B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59C6-8ACD-4AAD-925A-FDA9A035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2576A-04F4-4184-8888-BBA49050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1378-6D28-4A96-8873-71D2108A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A49-AEC4-4F24-B49C-208266E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1FE2-2933-421E-903A-5EDC6621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E8DD-34EE-43DD-925A-900D157E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E8BA-2DC0-4A22-8CF9-21929B67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3C1BC-4ADD-49B9-AC59-F83BA937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7A4D0-3DF7-4E56-AB6F-CEF86539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FD61F-43EE-4C7B-8CF2-23151BD1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0D96-FEA2-4266-B033-93C82CF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03D4-85FF-424F-8BA1-90B822BD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B887C-8488-4950-A518-038ECA15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F69F8-B171-4B16-A375-05FF13D7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939-F296-4B4B-8989-23F1A77C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6AB48-04C7-4ADC-B314-4890E5E6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106CD-D979-4F20-BD9B-5E87C43D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57A26-A3CC-4F61-B187-4CBF7A7B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3D964-EF2B-4D5C-B2E9-A1660AFB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6BA5-DF78-41EC-AB2D-B154AD5A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C3951-B0D1-469E-9865-B5F3BBAA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0A1FF-D946-4FB9-AE8A-D5CCF95C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1370C-FDB8-43FD-8D68-1589DB3A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1E4E0-99F2-4C3A-B93F-08F745B1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85B15-5A74-4223-891A-318BD21F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291-1722-4175-A40B-B321CBC2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B6E9-1305-4441-9821-0D71937B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201AA-2DF1-49A1-AFAF-84B2D48E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579F9-7BF4-48A0-994B-B565B361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07EFB-6F2D-4109-A5CA-8F624847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40DD1-E449-434A-BF7B-957B3C36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1446-3626-4FBB-86FC-C879B0A7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BF354-30A9-4F92-ACAC-A0D6AE41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27C04-A85A-4E7C-BBEB-E1F8D9A5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34965-F57A-48AB-8A16-8C43222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C89EC-796C-4022-8CFF-A4D0D2F8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09E-453D-440C-AEC8-3F24F848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D131-BB73-4C2B-A444-97A439D5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ABCB3-FCA7-4B2A-BAA7-52B04571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27AE8-B413-496F-A940-F3AC2573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9DE69-E507-452D-9956-10B9387D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E1E15-FA69-4094-8AB0-7A1CC05E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8A0B6-702F-46C0-B564-F585BBE5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6D662-BB31-4606-B068-7363C103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C83CA-2F5E-479A-A610-7E878E6B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3536-86F1-4004-B951-DF49AA59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7F3D5-6968-4529-8843-090066A9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799-AED5-4AF5-93CA-7CD00021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581E-7863-4868-B350-F2EAE69B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6FA42-47C7-4A5D-A036-062413FA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4C661-BBF9-4472-9344-9FFFF732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2DC63-D0F8-441B-B2B8-A18749EE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6A05F-8A93-4F70-A170-5AF46FF0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FB609-C42F-4CD2-A3EA-38302D69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A51C8-F963-4F1A-B03A-BE21EFBE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42E73-B570-456F-8A3C-B8798F7C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09ABC-C4CE-44AD-A9B2-5AFABD81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E9AC8-76E2-4A61-A665-5F739764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925-13B9-47E0-9585-57123E4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9338D-D5D9-412B-A863-140B8164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4CF3D-637F-4E49-B87D-700145B7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55C8B-A64D-47A4-B6FF-18FF094B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C84A8-E1B4-45CA-8F85-CCA8557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CC132-2ED6-422F-8B10-5D25869E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6C576-4066-4B69-BD02-68C8D3EF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469D5-2003-44F2-AD6D-9562F95A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BC005-AC55-4ED7-84E6-49D8F3B4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5D3FA-3090-4B1E-B501-7D9A8CCF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D75E9-94DC-4697-BF39-0E446890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D41F-9040-4A54-A906-C3E48ECB2562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2B13-D4C1-425D-8463-8873ECCA11B1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745E-8888-4E4A-99D9-871EAE9BB514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5F9F-0DB9-4149-A81D-513E509D2010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F408-02CE-4FB6-ADE3-6C258A75EA74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6F1A-B024-4AE5-977B-4625387517C1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2FE1-EB0D-47E1-98C6-A29042DA9BA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35"/>
          </p:nvPr>
        </p:nvSpPr>
        <p:spPr>
          <a:xfrm>
            <a:off x="685440" y="647676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SECOND E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6"/>
          </p:nvPr>
        </p:nvSpPr>
        <p:spPr>
          <a:xfrm>
            <a:off x="777240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9CB9-9DB3-4C06-B4B7-E4CF2F450BCC}" type="slidenum">
              <a:rPr b="0" lang="ar-SA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2D47-A4DF-44E9-95F7-611D1E63552A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9CE8-4C93-4252-8BBD-D1115590B3AE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A4E2-98E4-4799-9B7C-BA187A1CDC46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1920-BF0D-485D-92D9-B75FC76E153B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7749-83B4-46BC-8F4D-EC47F00FE462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5216-4616-47CF-95A9-92DB3F5596CD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7FC9-F60B-4D97-98E8-7AEC00CAB188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66FA-CAF4-4740-86AC-9B67C051EBA3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A00F-E1DF-4264-8F2F-3DAB19143B2D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2C65-1B6B-44A7-9424-7509DC67E41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20C0-4B15-41BC-8F39-0D54CBB1AF7B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7683-86A1-4A35-81E5-976A56FFA86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7D33-4D55-45D9-8862-561484DC0678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2358-CEA9-4C44-A769-3373F0EA4EEE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F659-D098-4523-9657-FDC6F3521F8E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6C26-16CC-4CAA-BF6A-64289F7D8171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CONTROL STATEMENTS</a:t>
            </a: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81040" y="2495160"/>
            <a:ext cx="79898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Gill Sans MT"/>
              </a:rPr>
              <a:t>LOOPS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7521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pecialized form of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Majalla UI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loop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ts primary purpose is to simplify the writing of counter-controlled loops. For this reason, the for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 is typically called a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counted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or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dexed for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. 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initial statement; loop condition; update statement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  <a:ea typeface="Times New Roman"/>
              </a:rPr>
              <a:t>Rewrite the previous examples using for loop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04920" y="2437920"/>
            <a:ext cx="853416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Gill Sans M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a star (on separate lines) five times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.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e following for loop outputs the word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Majalla UI"/>
              </a:rPr>
              <a:t>Hello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five times and the star only once: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Majalla UI"/>
              </a:rPr>
              <a:t>for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(i = 1; i &lt;= 5; i++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Hello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Majalla UI"/>
              </a:rPr>
              <a:t>System.out.println("*")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485280" indent="-4852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FOR LOOPING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51920" y="19810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Does not execute if loop condition is initially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pdate expression changes value of loop control variable, eventually making it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f loop condition is always 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result is an infinite loop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finite loop can be specified by omitting all three control statements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CONDITIONAL LOOP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In many programming situations, we will not be able to determine the exact number of loop repetitions before loop execution begins.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entinel-Controlled loops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Flag-Controlled loop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ENTINEL-CONTROLLED WHILE LOOP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Used when exact number of entry pieces is </a:t>
            </a:r>
            <a:r>
              <a:rPr b="0" lang="en-US" sz="2600" spc="-1" strike="noStrike">
                <a:solidFill>
                  <a:srgbClr val="903163"/>
                </a:solidFill>
                <a:latin typeface="Gill Sans MT"/>
                <a:ea typeface="Majalla UI"/>
              </a:rPr>
              <a:t>unknown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, but last entry (special/sentinel value) is known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Majalla UI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the first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variable != sentinel)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   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input a data item into variable;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:PROGRAM TO COMPUTE THE PRODUCT OF ENTERED NUMB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990720" y="2819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1000"/>
          </a:bodyPr>
          <a:p>
            <a:pPr marL="185760" indent="-18576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java.util.*;</a:t>
            </a:r>
            <a:br>
              <a:rPr sz="1400"/>
            </a:b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ControlledWhileLoop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 console =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Scanner(System.in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fi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SENTINEL = -999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main (String[] args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number, prod= 0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SSystem.out.println(</a:t>
            </a:r>
            <a:r>
              <a:rPr b="0" lang="en-US" sz="1400" spc="-1" strike="noStrike">
                <a:solidFill>
                  <a:srgbClr val="00cb00"/>
                </a:solidFill>
                <a:latin typeface="Courier New"/>
                <a:ea typeface="Majalla UI"/>
              </a:rPr>
              <a:t>"Enter positive integers ending with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+ SENTINEL);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number = console.nextInt();</a:t>
            </a:r>
            <a:r>
              <a:rPr b="0" lang="en-US" sz="2400" spc="-1" strike="noStrike">
                <a:solidFill>
                  <a:srgbClr val="00b050"/>
                </a:solidFill>
                <a:latin typeface="Courier New"/>
                <a:ea typeface="Majalla UI"/>
              </a:rPr>
              <a:t>//</a:t>
            </a:r>
            <a:r>
              <a:rPr b="0" lang="en-US" sz="2400" spc="-1" strike="noStrike">
                <a:solidFill>
                  <a:srgbClr val="00b050"/>
                </a:solidFill>
                <a:latin typeface="Gill Sans MT"/>
              </a:rPr>
              <a:t> Initialization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941edf"/>
                </a:solidFill>
                <a:latin typeface="Courier New"/>
                <a:ea typeface="Majalla UI"/>
              </a:rPr>
              <a:t>whi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(number != SENTINEL) </a:t>
            </a:r>
            <a:r>
              <a:rPr b="1" lang="en-US" sz="2400" spc="-1" strike="noStrike">
                <a:solidFill>
                  <a:srgbClr val="00b050"/>
                </a:solidFill>
                <a:latin typeface="Courier New"/>
                <a:ea typeface="Majalla UI"/>
              </a:rPr>
              <a:t>//testi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   prod= prod * number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System.out.println(</a:t>
            </a:r>
            <a:r>
              <a:rPr b="0" lang="en-US" sz="1400" spc="-1" strike="noStrike">
                <a:solidFill>
                  <a:srgbClr val="00cb00"/>
                </a:solidFill>
                <a:latin typeface="Courier New"/>
                <a:ea typeface="Majalla UI"/>
              </a:rPr>
              <a:t>"Enter positive integers ending with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+ SENTINEL);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number = console.nextInt(); </a:t>
            </a:r>
            <a:r>
              <a:rPr b="1" lang="en-US" sz="2400" spc="-1" strike="noStrike">
                <a:solidFill>
                  <a:srgbClr val="00b050"/>
                </a:solidFill>
                <a:latin typeface="Courier New"/>
                <a:ea typeface="Majalla UI"/>
              </a:rPr>
              <a:t>//updating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}   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85760" indent="-18576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ajalla UI"/>
              </a:rPr>
              <a:t>System.out.println(“the product is “ + prod);}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3" name="Oval Callout 3"/>
          <p:cNvSpPr/>
          <p:nvPr/>
        </p:nvSpPr>
        <p:spPr>
          <a:xfrm>
            <a:off x="0" y="3048120"/>
            <a:ext cx="1224000" cy="1295280"/>
          </a:xfrm>
          <a:prstGeom prst="wedgeEllipseCallout">
            <a:avLst>
              <a:gd name="adj1" fmla="val 73078"/>
              <a:gd name="adj2" fmla="val 23282"/>
            </a:avLst>
          </a:prstGeom>
          <a:solidFill>
            <a:srgbClr val="ffffff"/>
          </a:solidFill>
          <a:ln cap="rnd"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ad input befor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FLAG-CONTROLLED WHILE LOOP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0880" y="1918800"/>
            <a:ext cx="7656480" cy="49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Boolean value used to control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General form: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oolean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als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  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!found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found = </a:t>
            </a:r>
            <a:r>
              <a:rPr b="0" lang="en-US" sz="1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true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;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.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bool found = false;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num =0;  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while(</a:t>
            </a: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!found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) {        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num++;        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num == 3)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{ </a:t>
            </a: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found = true;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           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ajalla UI"/>
              </a:rPr>
              <a:t>System.out.println(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"value of flag is:“ +</a:t>
            </a: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found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 );  }         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}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DO…WHILE LOOP (REPETITION) 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;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first and then expression is evaluated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are executed at least once and then continued if expression is tru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1" name="Picture 3" descr="Fig05-05"/>
          <p:cNvPicPr/>
          <p:nvPr/>
        </p:nvPicPr>
        <p:blipFill>
          <a:blip r:embed="rId1"/>
          <a:stretch/>
        </p:blipFill>
        <p:spPr>
          <a:xfrm>
            <a:off x="468360" y="1773360"/>
            <a:ext cx="81532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YPES OF 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81040" y="2226960"/>
            <a:ext cx="7989840" cy="3632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Fig04-01"/>
          <p:cNvPicPr/>
          <p:nvPr/>
        </p:nvPicPr>
        <p:blipFill>
          <a:blip r:embed="rId2"/>
          <a:stretch/>
        </p:blipFill>
        <p:spPr>
          <a:xfrm>
            <a:off x="684360" y="2060640"/>
            <a:ext cx="769608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DO…WHILE LOOP (POST-TEST LOOP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0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do {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i + “ “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 = i + 5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}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while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( i &lt;= 30 )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output : 0  5  10  15  20  25  30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457200" y="4952880"/>
            <a:ext cx="59738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80680" y="2226960"/>
            <a:ext cx="82580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</a:rPr>
              <a:t>Used to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exit early from a loop.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</a:rPr>
              <a:t> (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)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skip remainder of </a:t>
            </a:r>
            <a:r>
              <a:rPr b="0" lang="en-US" sz="22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2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.</a:t>
            </a:r>
            <a:endParaRPr b="0" lang="en-US" sz="22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n be placed within if statement of a loop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f condition is met, loop is exited immediately.</a:t>
            </a:r>
            <a:r>
              <a:rPr b="0" lang="en-US" sz="15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fter the break statement executes, the program continues to execute with the first statement after the structure</a:t>
            </a:r>
            <a:r>
              <a:rPr b="0" lang="en-US" sz="1700" spc="-1" strike="noStrike">
                <a:solidFill>
                  <a:srgbClr val="3d3d3d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BREA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41280" y="177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 ; count &lt;= 10 ; count ++ 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break 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4178160" y="5257800"/>
            <a:ext cx="439272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928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9600" y="2133360"/>
            <a:ext cx="84614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Used in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...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.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loop, the remaining statements in the loop are skipped; proceeds with the next iteration of the loop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When executed 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/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do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expression is evaluated immediately after continue statement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In a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, the update statement is executed after the </a:t>
            </a:r>
            <a:r>
              <a:rPr b="0" lang="en-US" sz="26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6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atement; the loop condition then executes. </a:t>
            </a:r>
            <a:endParaRPr b="0" lang="en-US" sz="2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CONTINU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 STAT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 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count 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or ( count = 1; count &lt;= 10 ; count ++ 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{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if ( count == 5)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continu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ar-SA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(count + “ ” )}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684360" y="4941720"/>
            <a:ext cx="51116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2 3 4 6 7 8 9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28600" y="182844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89440" indent="-28944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Provides new power, subtlety, and complexity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els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, and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switch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structures can be placed within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 can be found within other 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 loops.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Nested loops consist of an outer loop with one or more inner loops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89440" indent="-28944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Each time the outer loop is repeated, the inner loops are reentered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96880" indent="-28908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Their loop control expressions are reevaluated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96880" indent="-28908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All required iterations are performed again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 rtl="1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03163"/>
                </a:solidFill>
                <a:latin typeface="Gill Sans MT"/>
                <a:ea typeface="Arial"/>
              </a:rPr>
              <a:t>Example: Sum of Scores of 3 sections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calculate the total scores in each section for 3 sections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 rtl="1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Each section's  scores are terminated by the sentinel -99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228600" y="22860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sec, score, 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</a:t>
            </a:r>
            <a:r>
              <a:rPr b="0" lang="en-GB" sz="1800" spc="-1" strike="noStrike">
                <a:solidFill>
                  <a:srgbClr val="a31515"/>
                </a:solidFill>
                <a:latin typeface="Courier New"/>
              </a:rPr>
              <a:t>"sum of scores for each section\n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31515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for (sec= 1  ;   sec &lt;= 3  ;  ++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it-IT" sz="1600" spc="-1" strike="noStrike">
                <a:solidFill>
                  <a:srgbClr val="0000ff"/>
                </a:solidFill>
                <a:latin typeface="Courier New"/>
              </a:rPr>
              <a:t>for (score=input.nextInt(); score != -99; score=input.nextInt(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{sum += score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</a:t>
            </a:r>
            <a:r>
              <a:rPr b="0" lang="en-GB" sz="1800" spc="-1" strike="noStrike">
                <a:solidFill>
                  <a:srgbClr val="a31515"/>
                </a:solidFill>
                <a:latin typeface="Courier New"/>
              </a:rPr>
              <a:t>"Section: " +sec+ " sum of scores :” +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31515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a31515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NESTED CONTROL STRUCTURE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80880" y="196164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i = 1; i &lt;= 5; i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{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int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j = 1; j &lt;= i; j++)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(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</a:rPr>
              <a:t>"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ystem.out.println();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}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Output: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Gill Sans MT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*****</a:t>
            </a:r>
            <a:endParaRPr b="0" lang="en-US" sz="19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380880" y="4152960"/>
            <a:ext cx="14400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LF REA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77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WHY IS REPETITION NEEDED?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09480" y="1980720"/>
            <a:ext cx="7989840" cy="416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There are many situations in which the same statements need to be executed several tim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Formulas used to find average grades for students in a class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Loop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Group of instructions that a computer executes repeatedly while some </a:t>
            </a:r>
            <a:r>
              <a:rPr b="0" lang="en-US" sz="2800" spc="-1" strike="noStrike">
                <a:solidFill>
                  <a:srgbClr val="d45b9f"/>
                </a:solidFill>
                <a:latin typeface="Gill Sans MT"/>
              </a:rPr>
              <a:t>condition</a:t>
            </a:r>
            <a:r>
              <a:rPr b="0" lang="en-US" sz="2800" spc="-1" strike="noStrike">
                <a:solidFill>
                  <a:srgbClr val="3d3d3d"/>
                </a:solidFill>
                <a:latin typeface="Gill Sans MT"/>
              </a:rPr>
              <a:t> remains </a:t>
            </a:r>
            <a:r>
              <a:rPr b="0" lang="en-US" sz="2800" spc="-1" strike="noStrike">
                <a:solidFill>
                  <a:srgbClr val="d45b9f"/>
                </a:solidFill>
                <a:latin typeface="Gill Sans MT"/>
              </a:rPr>
              <a:t>true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981920" cy="16668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3" descr="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PETI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Java has three repetition, or looping, structures that let you repeat statements over and over again until certain conditions are met: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for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903163"/>
                </a:solidFill>
                <a:latin typeface="Gill Sans MT"/>
                <a:ea typeface="Majalla UI"/>
              </a:rPr>
              <a:t>do…while</a:t>
            </a: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-CONTROLLED LOOP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The loop shown below in pseudo code is called a </a:t>
            </a:r>
            <a:r>
              <a:rPr b="0" lang="en-US" sz="2000" spc="-1" strike="noStrike">
                <a:solidFill>
                  <a:srgbClr val="0033cc"/>
                </a:solidFill>
                <a:latin typeface="Gill Sans MT"/>
              </a:rPr>
              <a:t>counter-controlled while loop 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</a:rPr>
              <a:t>because its repetition is managed by a loop control variable whose value represents a count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Set loop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trol variable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to an </a:t>
            </a:r>
            <a:r>
              <a:rPr b="0" lang="en-US" sz="1800" spc="-1" strike="noStrike">
                <a:solidFill>
                  <a:srgbClr val="0070c0"/>
                </a:solidFill>
                <a:latin typeface="Courier New"/>
              </a:rPr>
              <a:t>initial value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While loop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trol variable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&lt; </a:t>
            </a:r>
            <a:r>
              <a:rPr b="0" lang="en-US" sz="1800" spc="-1" strike="noStrike">
                <a:solidFill>
                  <a:srgbClr val="0070c0"/>
                </a:solidFill>
                <a:latin typeface="Courier New"/>
              </a:rPr>
              <a:t>final value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... //Do something multiple times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Increase loop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trol variable </a:t>
            </a:r>
            <a:r>
              <a:rPr b="0" lang="en-US" sz="1800" spc="-1" strike="noStrike">
                <a:solidFill>
                  <a:srgbClr val="3d3d3d"/>
                </a:solidFill>
                <a:latin typeface="Courier New"/>
              </a:rPr>
              <a:t>by 1 (or step size)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THE </a:t>
            </a:r>
            <a:r>
              <a:rPr b="0" lang="en-US" sz="3200" spc="-1" strike="noStrike">
                <a:solidFill>
                  <a:srgbClr val="903163"/>
                </a:solidFill>
                <a:latin typeface="Gill Sans MT"/>
                <a:ea typeface="Majalla UI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 LOOPING (REPETITION) STRUCTUR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0" name="Picture 4" descr="Fig05-01"/>
          <p:cNvPicPr/>
          <p:nvPr/>
        </p:nvPicPr>
        <p:blipFill>
          <a:blip r:embed="rId1"/>
          <a:stretch/>
        </p:blipFill>
        <p:spPr>
          <a:xfrm>
            <a:off x="2139840" y="4876920"/>
            <a:ext cx="4872240" cy="1609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1880" y="2286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Times New Roman"/>
              </a:rPr>
              <a:t>while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(expression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Times New Roman"/>
              </a:rPr>
              <a:t>statement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s must change value of expression to false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-280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 loop that continues to execute endlessly is called an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finite loop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(expression is always true)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04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422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1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S SLIDE SHOWS A PROGRAM FRAGMENT THAT COMPUTES AND DISPLAYS THE GROSS PAY FOR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SEVEN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EMPLOYEES. THE LOOP BODY IS THE COMPOUND STATEMENTS (THOSE BETWEEN { AND })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685800" y="1981080"/>
            <a:ext cx="716292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urier New"/>
              </a:rPr>
              <a:t>count_emp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hile (count_emp &lt;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Hours: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urs = input.next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Rate: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te = input.next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y = hours * r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y is:”+ p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</a:rPr>
              <a:t>count_emp = count_emp +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en-US" sz="1400" spc="-1" strike="noStrike">
                <a:solidFill>
                  <a:srgbClr val="00b050"/>
                </a:solidFill>
                <a:latin typeface="Courier New"/>
              </a:rPr>
              <a:t>//or count_emp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n All employees processed\n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791320" y="1905120"/>
            <a:ext cx="3352680" cy="1295280"/>
          </a:xfrm>
          <a:prstGeom prst="rect">
            <a:avLst/>
          </a:prstGeom>
          <a:solidFill>
            <a:srgbClr val="4d1434">
              <a:alpha val="22000"/>
            </a:srgbClr>
          </a:solidFill>
          <a:ln cap="rnd" w="22320">
            <a:solidFill>
              <a:srgbClr val="360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urier New"/>
              </a:rPr>
              <a:t>count_emp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hile (count_emp &lt;=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Straight Arrow Connector 6"/>
          <p:cNvCxnSpPr/>
          <p:nvPr/>
        </p:nvCxnSpPr>
        <p:spPr>
          <a:xfrm flipH="1" flipV="1">
            <a:off x="3885840" y="2285280"/>
            <a:ext cx="1829520" cy="305640"/>
          </a:xfrm>
          <a:prstGeom prst="straightConnector1">
            <a:avLst/>
          </a:prstGeom>
          <a:ln cap="rnd" w="12600">
            <a:solidFill>
              <a:srgbClr val="4512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Syntax of the while Statement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Gill Sans MT"/>
              </a:rPr>
              <a:t>Initializat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. i.e.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</a:rPr>
              <a:t>count_emp = 0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Gill Sans MT"/>
              </a:rPr>
              <a:t>Testing(condition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. i.e.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</a:rPr>
              <a:t>count_emp &lt; 7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Gill Sans MT"/>
              </a:rPr>
              <a:t>Updating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 i.e.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</a:rPr>
              <a:t>count_emp = count_emp + 1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The above steps must be followed for every while loop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</a:rPr>
              <a:t>If updating is skipped, it produce an </a:t>
            </a:r>
            <a:r>
              <a:rPr b="1" lang="en-US" sz="2400" spc="-1" strike="noStrike">
                <a:solidFill>
                  <a:srgbClr val="0033cc"/>
                </a:solidFill>
                <a:latin typeface="Gill Sans MT"/>
              </a:rPr>
              <a:t>infinite loop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 2: COMPUTING SU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04920" y="2286000"/>
            <a:ext cx="914400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want to compute          , we need to do 1+2+3+...+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int sum =0, i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while (i &lt;= 10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 = sum + i;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//or sum+=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i = i + 1;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//or i++;   ++i;   i+=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“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Sum is :“+sum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4"/>
              <p:cNvSpPr txBox="1"/>
              <p:nvPr/>
            </p:nvSpPr>
            <p:spPr>
              <a:xfrm>
                <a:off x="3276720" y="1905120"/>
                <a:ext cx="658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Nouf</cp:lastModifiedBy>
  <dcterms:modified xsi:type="dcterms:W3CDTF">2016-10-27T08:08:55Z</dcterms:modified>
  <cp:revision>211</cp:revision>
  <dc:subject/>
  <dc:title>Chapt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