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8E8-09C6-487C-B157-16E877F0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F00-1FF1-4F60-9BFE-C7797C1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ED072-AC4B-4919-8E31-30D8ED1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916E5-366C-4C15-80CF-AC06CAA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A4BF-0D24-4DE2-A98F-800A3974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9CC83-8C54-438F-AC5F-626C8D4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06D9B-40AF-4FA5-A41E-F7FF5C1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0A605-84B8-4550-8E21-D88609A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04F84-E087-46C2-A715-CFD0194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1511-B644-4213-ACFE-A9123B77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E470-BC39-4401-800E-36D97E5B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B158D-A456-49DF-8502-03361A89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5CC-F346-4879-8051-CDFBD3D9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9211-8C24-4A12-BF2D-5D194DFA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8DFB7-1E1F-4D3B-9A82-EA46046B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3A446-DE81-42F6-8A78-6A33651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691F1-C9D3-4E48-BA29-EF980C7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5C35E-AD63-4E37-9A86-B347C109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F94EB-452F-47B9-85D7-433652D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5C809-907F-41FD-893D-700F034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DDFEB-94D7-404B-ABAE-5AF9E5E1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A6DF8-E39C-4341-91BF-B65B016A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0D9A-6088-4941-99C9-8ECB4B59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F4-5A6A-4B9B-BF24-59B1DD5F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1ADD-C9DA-43EE-A80F-2A6C5187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ED1ED-2809-4D9D-9EC9-801DFD8B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B1D0B-7EDF-444B-BAF0-1873A251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30EB4-EEAB-4AEE-877D-B717733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EBAA-27FB-4AA8-BB66-FC90894B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EE46-09C7-4782-9F93-3371ECDA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22BFE-E3AD-43CF-A243-6794154B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45850-E102-4592-BE58-03EA285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09BE-317C-4090-BA8F-CECD9B4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F0F7-FA01-42D3-93E6-CB6D841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404C-3F5E-45B5-807A-1A92C31A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6097-5A9B-47DF-A9EC-B6D03ED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8FA9A-7E29-49D3-9FBF-7CF440B2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12502-8A6A-4143-BBA9-328EE47B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23B52-2012-4A5C-A3E7-44A8412041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26C01-2150-4E01-8874-84A5992B11E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5FA13-A30E-499D-AF9E-C357E3B3CD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8C663-67DC-4614-8211-54C9C41E79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71204-E8C3-42CD-A953-1C94E674CD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F87ED-3C38-411D-8443-C22428D826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E6230-E144-44BC-8009-EC184F64B3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3EF-2001-4E67-8B8A-6216C4E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1DF45-6973-4975-B37E-7C4FB32EB0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CB75C-1823-4B74-98F2-771C3B26C2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23DD5-B2E5-4AFA-A222-9BB6168F50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B37B9-56B6-4D9C-B190-6DF2826570C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CD9BC-E1BC-4250-85BE-E56AEAC92F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8B1A4-957C-4C11-863F-3F1E1E028B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C6A16-0F0F-449D-9035-B119D3CBDA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06B86-9187-4C93-83F7-7C4F43EEBC9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65BB6-253E-473B-9AEB-F204E5BE785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5F681-65A7-4495-AF95-F991451F5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FC9-C294-4975-BE75-7FF4C7F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56C0B-BA32-4384-9F68-6547890F59C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C5FCD-84AC-452E-B6E4-A33DF2778B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1FEA9-1BCC-4658-96BD-37BDFBF120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B97FE-890C-45FC-AD05-23259D38AB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B06B4-F65A-4D0B-ACBE-316A94284CA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A8773-70ED-4E87-946F-0C5FA04D8E6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93384-7E99-4691-9CED-19FB28739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A6D-5022-47B9-9AA6-7E66940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4D96-D5EB-465D-AC20-80F7C14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7B9-C56C-4274-BE07-EC1A62F7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A753-9E87-4F80-B4E8-6FAC325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861-BCBF-4BB2-98C5-9DAB15B3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ACB2-ED97-47D2-B579-FF69C5B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E95-C159-4D14-9DAC-A02C473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060B-4D10-4179-970F-B57C5B4C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E0E-E7F1-463E-869A-6B35A4B5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666-F68B-4D88-A54F-2D99175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0353-98C5-4951-B4FB-6F378015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91F9-A4F4-4211-BFE8-6C1EE574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4BD3-D017-4738-8BBC-CEF1390A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CF68-6E0D-4CC5-8694-E9184F1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9231-493B-4A74-B40A-24D17339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14F-60AF-471A-BBEC-7C84F85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80A3-9EE9-4AE2-A2B1-D089A9F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728B-CEEC-4DF5-89C7-C2262DC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3F9C-BB06-4DBE-998D-E446720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57D4-9FB5-4A97-8436-2D73D252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2017-E157-48DC-ACDA-427073F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7215-B0B6-4963-808D-0E2A096A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3381-F539-48A5-B1EF-44599A2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188C-34E2-4F63-B44C-24ACD8B5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C5AB-94DB-42A8-83FE-F468802B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DF42-876C-49F4-9D19-0CCADCF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DD5-2000-4DE5-A80D-C98D7008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FBB9-99F9-49FA-8C56-33AE56AA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9E3A-EA56-4CA6-A430-4332C6C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F0E6-CF14-43EE-B6EA-4B43B7EE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B7DC-624D-449E-8564-EB72701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1BAC-9927-4815-B995-BE2B54E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DC31-A071-4DEE-84B5-B539227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3919-7C0B-4236-829E-71B43243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786E-06D3-46ED-AF3C-40DA3C49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7B05-F169-4A7E-891B-60AA01CE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5ED0-0F1D-4073-AD6E-B51F1781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378-63AD-4FDD-B5B2-9C63821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CA93-8413-41AE-B657-DFC23211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B6D1-742A-498B-BA2D-0E02ED9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B364-D794-4C61-9488-05CFB43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1E90-8C8F-44AE-A9CF-BFF3513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A475-4DA5-4098-99A5-E214DDC2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C0FA-3227-4C6C-B392-46DAB80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4470-EAFE-45B7-96E8-65BACC1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D986-6C21-44B1-8A91-C22DB6F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4AB9-9271-4AB4-8203-A9183C2B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E622-0E2B-4FA6-976A-C542DF09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B34-BA37-4DF1-A35A-0C9BEFF1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86D3-563A-41D3-BF34-5088BBC6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1E7B-D449-4925-8595-2A800BA9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44B1-FC48-4228-B65D-E44E21A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7F49-314B-4C2E-BCA9-7B7C6B4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D754-B5BD-4E9F-BD7C-A295FBD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21EB-CE21-4D19-B994-527A3839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BFD4-A315-4913-851A-819C0245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2C0B-1EC0-46E0-AB73-8B00412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1977-85C9-4E83-B442-058E775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77BD-883A-4396-8C69-9EFA730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90C-5DFE-479A-B161-289411B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B8045-FAF7-4544-8807-C0D3E15D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FCA9-5524-4C4A-956B-1FDB6F3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F5B5-7EF3-4865-A6E0-E9D9F61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45FB-F90D-45E0-BEE8-82305A40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6E30-3236-440E-A0B4-9E3268F3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C8BE3-A73F-40C2-B0C9-D71EC51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45A9-F1C9-4D66-A06D-FF699A5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F3C3-5BF0-42CA-8B9F-4E89CB9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EC39A-1636-403A-8924-A5DF401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D6D4-260C-445F-91DE-EE5976F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D38-7760-42ED-AFE3-840429C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6602-3CAB-4913-BDDA-9C05767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407D-CDB2-43E8-9565-ED0ADAA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73C4-C709-483A-B281-519998C9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6C9AA-8435-44A4-9DFB-EA801B36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953A-5F2D-4754-A20B-7E9C9787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AA2A7-0678-4875-8432-F1F1CB26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3191-13A3-481C-9018-846B6A26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8FA4-C764-454A-BCB0-8FD25AE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1DDC-7525-4A44-915E-9803147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142E-B9DB-4CD3-85D4-0AACCA2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248-BF23-4C83-A1DD-DD06ACA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2F3C-FAA4-40C8-ACE2-5D63156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9BDF-252A-4EA7-B74C-855D5DA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6A79D-B92F-40B1-85CA-87BD30E4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1E82-257A-4439-B56C-1869B73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4F4F-A303-477C-8B83-CF1BBC69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23F6-405B-4533-ABF0-F1CF1EF2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2F938-8CAE-4D28-AA8F-F567BC26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26997-DC87-4AC1-8225-BE5C5511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9FAD7-AD20-4B7E-A6AC-BC70D02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EF6DB-BC14-4F1B-AE9F-B59F6F80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6FE-7EA9-417D-B2D4-B65DEF56D922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177-C4B2-4374-BE65-F507F0E210F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EE22-2101-494C-8DFB-757EB39A3C22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C62-EB23-4572-93D0-45DB912335DB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4C9-DDA3-476A-94FE-AEE966085053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6CD-F106-47FB-AFCB-5F86B58E928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E396-AF31-432E-BC14-5300E4FC47B4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879-71AB-42DF-8B26-C64F52C7ABA8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C0E-269D-4DBA-83A7-7751EB860949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D906-31DD-41E1-A49B-BF72C9E917F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484-72AC-47BD-A585-863E9322102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E8F-98BC-4029-913E-1868E38CC97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3AD4-89AE-4E25-A99D-4F12EC2CAAFA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AC7-81B1-4355-B18C-456AF2C259A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D4D-25FF-4070-A3DA-37A1C830E48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DFD1-8621-46E1-9469-120687ED598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810-3007-4330-80C7-9C65BDEA6043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45F3-B056-4480-93D1-FE5FA554A66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537-7566-4F6E-9B36-066CA0A803F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63B-D380-44C8-ABA2-42F9077BD21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0A3A-5C92-45AE-9BA6-F024E5890291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2B7-03BB-4D2B-A0FD-9BECE2E25BEF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917-B65E-436B-8FCA-65D5AB1339E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F6B6-DD91-45D0-A2E0-91044D219F5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CONTROL STATEMENTS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LOOPS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7521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Times New Roman"/>
              </a:rPr>
              <a:t>Rewrite the previous examples using for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ONDITIONAL LOOP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In many programming situations, we will not be able to determine the exact number of loop repetitions before loop execution begins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entinel-Controlled loop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Flag-Controlled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  <a:ea typeface="Majalla UI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   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:PROGRAM TO COMPUTE THE PRODUCT OF ENTERED NUMB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990720" y="2819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1000"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400"/>
            </a:b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, prod= 0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System.out.println(</a:t>
            </a:r>
            <a:r>
              <a:rPr b="0" lang="en-US" sz="14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ending with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</a:t>
            </a:r>
            <a:r>
              <a:rPr b="0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</a:t>
            </a:r>
            <a:r>
              <a:rPr b="0" lang="en-US" sz="2400" spc="-1" strike="noStrike">
                <a:solidFill>
                  <a:srgbClr val="00b050"/>
                </a:solidFill>
                <a:latin typeface="Gill Sans MT"/>
              </a:rPr>
              <a:t> Initializatio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(number != SENTINEL) 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test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prod= prod * number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4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ending with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updating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} 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“the product is “ + prod);}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3" name="Oval Callout 3"/>
          <p:cNvSpPr/>
          <p:nvPr/>
        </p:nvSpPr>
        <p:spPr>
          <a:xfrm>
            <a:off x="0" y="3048120"/>
            <a:ext cx="1224000" cy="1295280"/>
          </a:xfrm>
          <a:prstGeom prst="wedgeEllipseCallout">
            <a:avLst>
              <a:gd name="adj1" fmla="val 73078"/>
              <a:gd name="adj2" fmla="val 23282"/>
            </a:avLst>
          </a:prstGeom>
          <a:solidFill>
            <a:srgbClr val="ffffff"/>
          </a:solidFill>
          <a:ln cap="rnd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ad input befor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bool found = false;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num =0;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while(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!found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) {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num++;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num == 3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{ 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und = true;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   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"value of flag is:“ +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und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 );  }    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YPES OF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81040" y="2226960"/>
            <a:ext cx="7989840" cy="3632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Fig04-01"/>
          <p:cNvPicPr/>
          <p:nvPr/>
        </p:nvPicPr>
        <p:blipFill>
          <a:blip r:embed="rId2"/>
          <a:stretch/>
        </p:blipFill>
        <p:spPr>
          <a:xfrm>
            <a:off x="684360" y="2060640"/>
            <a:ext cx="769608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}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28600" y="182844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Nested loops consist of an outer loop with one or more inner loop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ach time the outer loop is repeated, the inner loops are reentere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Their loop control expressions are reevaluate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All required iterations are performed again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 rtl="1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  <a:ea typeface="Arial"/>
              </a:rPr>
              <a:t>Example: Sum of Scores of 3 sections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calculate the total scores in each section for 3 sections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 rtl="1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Each section's  scores are terminated by the sentinel -99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228600" y="22860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sec, score, 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"sum of scores for each section\n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for (sec= 1  ;   sec &lt;= 3  ;  ++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urier New"/>
              </a:rPr>
              <a:t>for (score=input.nextInt(); score != -99; score=input.nextInt(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{sum += score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"Section: " +sec+ " sum of scores :” +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LF REA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09480" y="1980720"/>
            <a:ext cx="7989840" cy="416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many situations in which the same statements need to be executed several tim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Formulas used to find average grades for students in a clas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oop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Group of instructions that a computer executes repeatedly while some </a:t>
            </a:r>
            <a:r>
              <a:rPr b="0" lang="en-US" sz="2800" spc="-1" strike="noStrike">
                <a:solidFill>
                  <a:srgbClr val="d45b9f"/>
                </a:solidFill>
                <a:latin typeface="Gill Sans MT"/>
              </a:rPr>
              <a:t>condition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remains </a:t>
            </a:r>
            <a:r>
              <a:rPr b="0" lang="en-US" sz="2800" spc="-1" strike="noStrike">
                <a:solidFill>
                  <a:srgbClr val="d45b9f"/>
                </a:solidFill>
                <a:latin typeface="Gill Sans MT"/>
              </a:rPr>
              <a:t>true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981920" cy="1666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-CONTROLLED LOOP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The loop shown below in pseudo code is called a </a:t>
            </a:r>
            <a:r>
              <a:rPr b="0" lang="en-US" sz="2000" spc="-1" strike="noStrike">
                <a:solidFill>
                  <a:srgbClr val="0033cc"/>
                </a:solidFill>
                <a:latin typeface="Gill Sans MT"/>
              </a:rPr>
              <a:t>counter-controlled while loop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because its repetition is managed by a loop control variable whose value represents a count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Set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to an </a:t>
            </a: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initial valu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While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&lt; </a:t>
            </a: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final valu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... //Do something multiple tim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crease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by 1 (or step size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0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422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1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S SLIDE SHOWS A PROGRAM FRAGMENT THAT COMPUTES AND DISPLAYS THE GROSS PAY FOR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EVEN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EMPLOYEES. THE LOOP BODY IS THE COMPOUND STATEMENTS (THOSE BETWEEN { AND })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981080"/>
            <a:ext cx="716292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count_emp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hile (count_emp &lt;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Hours: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urs = input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Rate: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input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y = hours * r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y is:”+ p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count_emp = count_emp +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1400" spc="-1" strike="noStrike">
                <a:solidFill>
                  <a:srgbClr val="00b050"/>
                </a:solidFill>
                <a:latin typeface="Courier New"/>
              </a:rPr>
              <a:t>//or count_em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 All employees processed\n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791320" y="1905120"/>
            <a:ext cx="3352680" cy="1295280"/>
          </a:xfrm>
          <a:prstGeom prst="rect">
            <a:avLst/>
          </a:prstGeom>
          <a:solidFill>
            <a:srgbClr val="4d1434">
              <a:alpha val="22000"/>
            </a:srgbClr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count_emp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hile (count_emp &lt;=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Arrow Connector 6"/>
          <p:cNvCxnSpPr/>
          <p:nvPr/>
        </p:nvCxnSpPr>
        <p:spPr>
          <a:xfrm flipH="1" flipV="1">
            <a:off x="3885840" y="2285280"/>
            <a:ext cx="1829520" cy="305640"/>
          </a:xfrm>
          <a:prstGeom prst="straightConnector1">
            <a:avLst/>
          </a:prstGeom>
          <a:ln cap="rnd" w="12600">
            <a:solidFill>
              <a:srgbClr val="4512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yntax of the while Statement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Initializa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.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= 0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Testing(condition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.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&lt; 7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Updating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= count_emp + 1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above steps must be followed for every while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f updating is skipped, it produce an </a:t>
            </a:r>
            <a:r>
              <a:rPr b="1" lang="en-US" sz="2400" spc="-1" strike="noStrike">
                <a:solidFill>
                  <a:srgbClr val="0033cc"/>
                </a:solidFill>
                <a:latin typeface="Gill Sans MT"/>
              </a:rPr>
              <a:t>infinite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 2: COMPUTING SU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04920" y="2286000"/>
            <a:ext cx="91440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want to compute          , we need to do 1+2+3+...+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int sum =0,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while (i &lt;= 10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 = sum + i;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//or sum+=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i = i + 1;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//or i++;   ++i;   i+=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“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Sum is :“+s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4"/>
              <p:cNvSpPr txBox="1"/>
              <p:nvPr/>
            </p:nvSpPr>
            <p:spPr>
              <a:xfrm>
                <a:off x="3276720" y="1905120"/>
                <a:ext cx="658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6-10-27T08:08:55Z</dcterms:modified>
  <cp:revision>211</cp:revision>
  <dc:subject/>
  <dc:title>Chapt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