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21C-8E80-4983-B5F8-85F29E8FDB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82CB-D754-4BA0-8AFF-C46E2E6C26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8B9-57CE-4E20-BBA0-3A36AF177E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998-5DD9-4EE8-A190-773A9DDF07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1729-FC2A-4D99-91CA-DE39BF1934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CE14-B260-4440-AD5A-14015D4AE4D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A1B5-B926-4F68-8F15-202F33DB6F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C57-AB60-4D73-A9CF-29E35EFB2F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6D69-A879-4FBF-A285-DABD140794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5BA0-A0AD-4F75-9EBA-F2BF69C111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70D2-918D-4287-9E5E-982FB8ADCC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7B1-3B48-4F79-BD65-412065D8E9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C8D-38F4-4BBC-92C4-3AA9EE1B6F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0B5-4F20-48A9-9EAB-019711A82C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4B5-9AF6-4086-B7F3-02B0124678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ED8C-1514-4953-AAC5-54DC5F1659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8286-9080-4FB9-BE0C-2C9E26FDAA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D73-2DF3-459E-82B4-BC8492099DF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B55-B3AF-44E0-A312-60DB4E76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E4B-93EE-49E6-8FFE-2D1706E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08B4D-F52C-498E-9841-1FEA0AC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1DEE7-0E43-4CE6-8E40-EFAEDAA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BAE3F-4ACC-4AE5-88C2-B3BA3941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A5C23-4585-48D0-9F47-FF47615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F460-6918-470E-95B0-3649F9C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E59B-85E9-45E2-8EFD-237A3646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4F803-9F10-444E-847A-1E7EFB00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93691-DDE0-48F6-91D2-BF2795A9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79C82-B715-41E8-BEA2-E72B8C12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136EA-E47F-4222-A4DB-8BBF49FF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DEC-1CD8-4E5D-8CA5-939B753C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4C9ED-FF4C-4C4C-97C7-EF2099E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7CA2-A6D7-4BFF-9CEB-83195F69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E6FA-B8FF-4F37-A157-0F4F94E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80C2-53C3-4180-B7ED-F167B018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F4DD8-2DF2-4C18-8386-AAD07E3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E2BD2-BEC3-4878-9BEA-4182C20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16160-E132-4224-85C4-3A0DA2F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4C2E-8D89-400E-9191-BF1BC09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55B2D-0C9F-45EE-A802-3E1FFAF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56994-D8D9-49A2-AFE8-F1E7C358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042-0FA9-4C8D-B3D8-2946F4F4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7F5E-74C9-41FF-8E0B-AF6D1A16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E835-7E58-4C62-A963-6A320824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5A03-80A1-4E22-982E-69DCF9D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98707-30A4-435D-9E4D-A08F7EC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4047-FF48-41D5-A2C6-06EC582D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7D1C4-72AF-40E7-AECD-5C4251E6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02156-1AF8-430E-B9D0-C2E68EE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917FC-3D17-48D3-8F23-5959739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0D1B4-7E0B-4762-A591-A37AF93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67595-EC69-419C-AFDA-B448819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7C35-F13B-479C-A09D-BEF26679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61E8-9866-45C8-81DD-4A410BD1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37C1D-97DA-441B-9E0B-3871EDC8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AC663-A4D1-41A3-809D-50A547D0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4FD36-F0EC-4F36-985E-BD7654AB4BD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8BDC7-6229-4399-B387-A84C22CE36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36042-97DF-4900-A830-8677982F2E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4062C-07F9-4CA6-AA5E-EEABE59764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C848D-BE09-49A2-AA3B-445BA3095B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D50EB-E9C4-4340-AA65-A3AD64C685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A502D-6FEE-4EB4-832C-A150414E1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CFA7-3F61-4EA3-8C61-98AC45A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E5ECB-BE93-4817-9A96-8E8E654E1C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0953B-40D8-428F-9250-8A23CD0C68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7FA38-45BB-4519-A0FC-69FAF0E18A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7D6DB-8990-4644-81D8-840156C3AA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2963F-8EAA-4949-85AE-BA99D1B7D35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6EECB-D9C9-46A0-A3BB-4FDE3A9CAB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E494-E464-491C-9D7D-6464AA9BA09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3C059-D583-4D0C-8A70-DC47D1AA48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3DFE7-8323-4D23-BF6D-C5D4218E9A1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6DD8-80E0-4C85-AB7A-71E7AC320B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4E80-7FE9-4E42-99B7-39E3939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523A-D6E0-426E-8BCA-C844A78F16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98962-6B39-4D1A-80C0-C893B5D519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60139-F0EC-4582-A35B-07CC48074C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97A0C-C73D-48B6-85E4-9ACFAE9F01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60F7B-D527-482B-9786-0524D012B80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F2406-C679-43B1-9D56-730FF6FC49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FF81F-61C0-4373-A3BE-DD20AEA3BC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074F-14FC-4320-854B-D30D072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3DC-2659-4928-AC7F-BFEB21C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936F-D3D5-46AD-B070-6FDB6D4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FF73-A5A0-4241-9842-42087BF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F86-350C-45D7-B76E-F4A78B9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07A2-4C1C-4A2D-8137-CDB5CC1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152-FCB7-455B-B02E-C864A2E0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1ED-E421-469C-A3EC-4B385DA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31C2-D961-4B67-A8F7-C59B455E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9041-CBA0-45F4-BE1D-B682EC68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E1DF-3DA3-432C-BE59-1560E8EF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DE57-8F6F-444D-AFE3-88ECE2E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9FC8-4A8A-489B-A258-2D040188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F0A0-D525-4B3A-B8D8-2D48D377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946A-C539-4A24-8F8C-76B8E1D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B1F-B10E-45FC-AABB-44CB20F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8207-C4F5-44CF-AE19-27C355E2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51CA-7BC4-4DF1-9E69-4C4A1BA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F8F0-CB78-4BD5-A3FF-DE747C1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8749-D004-4CF0-9D55-AD96F94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E861-84E8-4DED-928D-5CBBE9F5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8AAC-48D6-484B-B6E6-18E56AE8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FA69-3622-4A8A-B672-7E8BD9B2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FC061-F6C1-4CBA-852B-6E835DC1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FE95-8D1C-49A6-966D-F729C19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94C8-6B97-4F9D-B466-AA2DFC0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14B-B661-4FF7-93F6-96DAC1B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5637-5B36-4B5E-92AC-3EC640D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D0E9-09AC-4056-83F3-B82BBEA8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F223-1928-4905-A7BB-489B582B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7D87-ACC6-486C-8E64-49919AF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090E8-3AE2-49B9-B557-0BBBF68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0077-DF44-4749-A411-7C0B3DC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2424-D0B9-4924-AA74-48C83F21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E7DD-90F0-489E-9FBF-B06518CF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461D-1F2D-4442-9D5B-F055B9EB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FAB3-698B-49BA-A7B3-FA83855B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FB8-7D0A-4473-9247-CE67C5E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78E9-8329-46F8-955A-C7712BC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4D94-A58C-46C1-8651-0BD4BF4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FA8D-C44B-46E1-9503-61BD544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B215-E1E1-4E7F-88BB-E9DB538B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BBD8-10F6-4217-9988-6A9B94B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3CF3F-0116-4637-BA76-B492809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09D3-280C-4206-80D4-BAEEB67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BB16-8DE3-40B1-9A1E-4A87289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6BE5-6F39-49CA-BF84-2455EF74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82B1-F6E5-4325-9603-CA13969E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FF4-3E03-4F65-A0C9-2A591249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1EB9-1B8A-4BFC-8C64-31FE953F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25EF-91E5-4BB5-9EE0-599E27F6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8077-0DE9-435F-B798-BD9BC4DF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7EC3-8ADF-490C-9827-363E54BC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16D8-A88D-4CE2-A74F-7412A1B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1885-7041-43FC-891F-CE5D46F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FE4B-4A61-4572-B6B8-88275E1E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84906-278A-4468-8F67-A77B844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C204A-6044-490F-B965-16888D5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6981-1E07-41D5-89AD-F3D20B3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544-7196-447B-8329-A8D964E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3D31-CF44-4890-9DEB-7467C5EC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9B2F2-97DA-4020-92AF-82DC37D4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7BEB-183F-4168-B8C0-00921B43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0D167-67E9-4C96-AD89-9D7DD6F9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56A7-67C9-4A45-AD68-1E4F4DB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E273-ED07-4935-9F4E-2DE93790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4202-D698-49C7-9F15-CF68A9C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5CBB4-B649-434C-994E-B089CE8B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8F82-8F32-425A-877C-18F35E1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01DC4-34C0-4A34-B393-E881648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E02-00D6-43D2-B752-4A46A78F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46DAB-67FA-4B0C-BB40-5022611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69DA-16B4-4763-90B7-3ACA444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F761-89E4-4B8A-9985-8D469A12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70DE-5823-4EFE-880E-E04E771F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DBA4-8559-472F-A8D2-F823EB37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5BA7E-1424-4432-BFD8-3258B19E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6BDF-7E7F-4102-886E-8BCCD447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9663-29E4-4CE8-827B-B400678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1CD1-248E-406B-AD69-FE5A72A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198A-4570-4EA5-83B8-61CDE07E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CD0-516E-40F5-ABA7-360D7D40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41DD0-D002-49A7-B835-0FC5ABF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4D54C-14C8-4490-9303-CEC67E9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C30A-C8C9-4B46-8480-F455F5D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7E80-1747-4E47-8EE6-6152A9BA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1385-0AE1-414A-B324-7D6D98B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D4E2-4AEE-40D1-A084-AA77FEC4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F27E-2A50-490E-869E-A56C63C7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42CE5-1EB3-4B56-976E-6EDAEF94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817ED-726D-4571-A3F3-7C2D40B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A6CDA-4BCF-4932-BEA0-D8C7C44F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E8AF-BE85-4941-9FB8-F56ED8B5ECC5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E5D-6ED9-41D7-A3C9-3B8BC9D78453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408-83C8-4F7E-90E0-E6565585F588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0690-97EF-4F0D-BA36-2B27C39C7BC2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5DB5-CF85-495A-9830-2F5093782B2F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505-620C-47E6-BFB8-34CDCC1DBE97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D48-274B-4FB6-8CF4-2F2E76D70835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35"/>
          </p:nvPr>
        </p:nvSpPr>
        <p:spPr>
          <a:xfrm>
            <a:off x="685440" y="6476760"/>
            <a:ext cx="708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SECOND ED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6"/>
          </p:nvPr>
        </p:nvSpPr>
        <p:spPr>
          <a:xfrm>
            <a:off x="777240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25F0-08DF-4359-A283-5D1A4D785449}" type="slidenum">
              <a:rPr b="0" lang="ar-SA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667-0172-42AB-AA41-3859DD97ED19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A21-B003-4624-BB10-DF9F700A54F2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116-EA48-4F54-BD2F-254E96C484B0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8E56-C4AB-492E-BDEB-DC68ECA8989D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C327-CFEF-4DA8-BDD7-91E58D2D45BB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2AF-768A-4CE2-918F-7AD7E2A52BDA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A155-0CE7-439C-A398-DD5A8A0C7460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CC85-642A-4D67-A2C4-5D5586B61ECF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A9D-465F-4219-AD71-B23F938ED472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1FA4-C345-44E6-91AD-F4C6A41EBD1A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69EF-0E8E-42D1-B314-71C4313B97B6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EF10-D829-4105-AA9E-EA36DA4F6C4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C52-3CEF-4401-AE77-B635807CB907}" type="datetime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f29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F50-B082-4D5F-B569-1C77D5A841BC}" type="slidenum">
              <a:rPr b="0" lang="en-US" sz="900" spc="-1" strike="noStrike">
                <a:solidFill>
                  <a:srgbClr val="9f296b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903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4d1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 algn="r" rtl="1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5944-592F-448B-A284-3BFA46A54994}" type="datetime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JAVA PROGRAMMING: FROM PROBLEM ANALYSIS TO PROGRAM DESIGN, D.S. MALI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31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8BB7-A282-430B-83C1-FB05ED1C86EB}" type="slidenum">
              <a:rPr b="0" lang="en-US" sz="900" spc="-1" strike="noStrike">
                <a:solidFill>
                  <a:srgbClr val="90316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3200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</a:t>
            </a:r>
            <a:endParaRPr b="0" lang="en-US" sz="5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752-27EA-4BB0-A858-11F452D4F9A9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,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Big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A’ &lt; ‘B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Air” &lt; “An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i’ &lt; ‘n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Hello” &lt;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because ‘H’ &lt; ‘h’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” = “Hello” </a:t>
            </a:r>
            <a:r>
              <a:rPr b="0" lang="en-US" sz="2400" spc="-1" strike="noStrike">
                <a:solidFill>
                  <a:srgbClr val="339933"/>
                </a:solidFill>
                <a:latin typeface="Courier New"/>
                <a:ea typeface="Courier New"/>
              </a:rPr>
              <a:t>// </a:t>
            </a: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because all are the same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CA0-B1FB-4196-B403-7FD29651C81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  <a:ea typeface="Majalla UI"/>
              </a:rPr>
              <a:t>can not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 compared with the usual &lt;, &lt;=, &gt;, or &gt;= operators,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and the == and != operators don't compare the characters in the strings.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C4E1-B91F-41F0-AC8B-00BA98937DF8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7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d3d3d"/>
                </a:solidFill>
                <a:latin typeface="Gill Sans MT"/>
                <a:ea typeface="Majalla UI"/>
              </a:rPr>
              <a:t>class String </a:t>
            </a:r>
            <a:endParaRPr b="0" lang="en-US" sz="2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Method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compareTo  (&lt;0 , 0 , &gt;0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Given string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1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2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	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2863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762120" y="4267080"/>
                <a:ext cx="800100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mpareT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r2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equal to string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 integer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0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strin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tr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r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1" name="Picture 4" descr="Tbl04-03a"/>
          <p:cNvPicPr/>
          <p:nvPr/>
        </p:nvPicPr>
        <p:blipFill>
          <a:blip r:embed="rId1"/>
          <a:stretch/>
        </p:blipFill>
        <p:spPr>
          <a:xfrm>
            <a:off x="1066680" y="4343400"/>
            <a:ext cx="6774120" cy="2362320"/>
          </a:xfrm>
          <a:prstGeom prst="rect">
            <a:avLst/>
          </a:prstGeom>
          <a:ln w="0">
            <a:noFill/>
          </a:ln>
        </p:spPr>
      </p:pic>
      <p:sp>
        <p:nvSpPr>
          <p:cNvPr id="622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5174-CDF5-42A1-8E10-FD577DB5CDC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81040" y="213336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1 = "Hello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2 = "Hi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3 = "Ai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4 = "Bill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Majalla UI"/>
              </a:rPr>
              <a:t>String str5 = "Bigger"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C6E6-3EC8-4BBC-9B01-98340CE4371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7" descr="Tbl04-03b"/>
          <p:cNvPicPr/>
          <p:nvPr/>
        </p:nvPicPr>
        <p:blipFill>
          <a:blip r:embed="rId1"/>
          <a:stretch/>
        </p:blipFill>
        <p:spPr>
          <a:xfrm>
            <a:off x="609480" y="685800"/>
            <a:ext cx="7696440" cy="5981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E7D7-8E52-4475-BEEA-83D1046848A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class Example4_2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1 = "Hello";                                   //Line 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2 = "Hi";                                      //Line 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3 = "Air";                                     //Line 3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4 = "Bill";                                    //Line 4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 str5 = "Bigger";                                  //Line 5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6: " + "str1.compareTo(str2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str2));             //Line 6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7: " + "str1.compareTo(\"Hen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1.compareTo("Hen"));            //Line 7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8: " +   "str4.compareTo(str3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4.compareTo(str3));              //Line 8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9: " +"str1.compareTo(\"hello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1.compareTo("hello"));           //Line 9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0: " + "str2.compareTo(\"Hi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2.compareTo("Hi"));              //Line 10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1: " + "str4.compareTo(\"Billy\") evaluates to "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 str4.compareTo("Billy"));          //Line 11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  <a:p>
            <a:pPr marL="191880"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System.out.println("Line 12: " + "str5.compareTo(\"Big\") evaluates to "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                   + str5.compareTo("Big"));             //Line 12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   }</a:t>
            </a:r>
            <a:br>
              <a:rPr sz="1400"/>
            </a:br>
            <a:r>
              <a:rPr b="0" lang="en-US" sz="1400" spc="-1" strike="noStrike">
                <a:solidFill>
                  <a:srgbClr val="3d3d3d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9B5-C87C-42AB-934C-E45C93AF2B0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Values such as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-4, -2, 1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so on, are differences of the collating sequence of the first unmatched characters of the string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-2833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For exampl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833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n line 6: where,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= “Hello”, str2=“Hi”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101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’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5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584280" indent="-28296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101 – 105 </a:t>
            </a:r>
            <a:r>
              <a:rPr b="1" lang="en-US" sz="2000" spc="-1" strike="noStrike">
                <a:solidFill>
                  <a:srgbClr val="3d3d3d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-4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pic>
        <p:nvPicPr>
          <p:cNvPr id="631" name="Picture 5" descr="ex4_2"/>
          <p:cNvPicPr/>
          <p:nvPr/>
        </p:nvPicPr>
        <p:blipFill>
          <a:blip r:embed="rId1"/>
          <a:srcRect l="0" t="0" r="0" b="13081"/>
          <a:stretch/>
        </p:blipFill>
        <p:spPr>
          <a:xfrm>
            <a:off x="838080" y="1905120"/>
            <a:ext cx="6558120" cy="177624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F948-95E0-40BF-AEF3-C0822DB19666}" type="slidenum">
              <a:rPr b="0" lang="ar-SA" sz="20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841068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In addition to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, you can use the method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f the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turns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 or 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ple: </a:t>
            </a: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 = “Hello”, str2= “Hi”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“Hello”);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 returns tru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str1.equals(str2);     </a:t>
            </a:r>
            <a:r>
              <a:rPr b="0" lang="en-US" sz="2000" spc="-1" strike="noStrike">
                <a:solidFill>
                  <a:srgbClr val="339933"/>
                </a:solidFill>
                <a:latin typeface="Courier New"/>
                <a:ea typeface="Courier New"/>
              </a:rPr>
              <a:t>//returns false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4"/>
          <p:cNvSpPr/>
          <p:nvPr/>
        </p:nvSpPr>
        <p:spPr>
          <a:xfrm>
            <a:off x="581040" y="5951520"/>
            <a:ext cx="515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4DB8-970D-4CEA-A9B8-B59650C7E30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86560" indent="-286560"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You should use one of the following tests to compare the contents of two string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equals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lvl="1" marL="590760" indent="-28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ring1.compareTo(string2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685800" y="4386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's the </a:t>
            </a:r>
            <a:r>
              <a:rPr b="1" lang="en-US" sz="2400" spc="-1" strike="noStrike">
                <a:solidFill>
                  <a:srgbClr val="903163"/>
                </a:solidFill>
                <a:latin typeface="Arial"/>
              </a:rPr>
              <a:t>wro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y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== st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80680" y="687240"/>
            <a:ext cx="84596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099A-56D7-4F79-AE56-D4291236E08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6" descr="Tbl04-04"/>
          <p:cNvPicPr/>
          <p:nvPr/>
        </p:nvPicPr>
        <p:blipFill>
          <a:blip r:embed="rId1"/>
          <a:srcRect l="0" t="0" r="46732" b="0"/>
          <a:stretch/>
        </p:blipFill>
        <p:spPr>
          <a:xfrm>
            <a:off x="1676520" y="2171880"/>
            <a:ext cx="5410080" cy="2133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8104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Rectangle 23"/>
          <p:cNvSpPr/>
          <p:nvPr/>
        </p:nvSpPr>
        <p:spPr>
          <a:xfrm>
            <a:off x="1066680" y="479268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unary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bin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B52-F038-40ED-9410-8E51EECE1C0C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HAPTER OBJECTIV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about control structur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amine relational and logical operator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Explore how to form and evaluate logical (Boolean) expression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Learn how to use the selection control structures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…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else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, and </a:t>
            </a:r>
            <a:r>
              <a:rPr b="0" lang="en-US" sz="1800" spc="-1" strike="noStrike">
                <a:solidFill>
                  <a:srgbClr val="903163"/>
                </a:solidFill>
                <a:latin typeface="Courier New"/>
                <a:ea typeface="Majalla UI"/>
              </a:rPr>
              <a:t>switch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3F21-23A5-4BAD-BF09-C56720D29225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" descr="Tbl04-05"/>
          <p:cNvPicPr/>
          <p:nvPr/>
        </p:nvPicPr>
        <p:blipFill>
          <a:blip r:embed="rId1"/>
          <a:srcRect l="0" t="0" r="47670" b="0"/>
          <a:stretch/>
        </p:blipFill>
        <p:spPr>
          <a:xfrm>
            <a:off x="349200" y="2057400"/>
            <a:ext cx="7575480" cy="23623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5"/>
          <p:cNvSpPr/>
          <p:nvPr/>
        </p:nvSpPr>
        <p:spPr>
          <a:xfrm>
            <a:off x="549360" y="479268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 &gt; ‘B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!(‘A’ &gt; ‘B’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6858000" y="152388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uth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 flipH="1">
            <a:off x="6171840" y="19810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B2A6-6375-4F5D-821F-66AC9E8D96E2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7" descr="Tbl04-06"/>
          <p:cNvPicPr/>
          <p:nvPr/>
        </p:nvPicPr>
        <p:blipFill>
          <a:blip r:embed="rId1"/>
          <a:srcRect l="0" t="0" r="18185" b="0"/>
          <a:stretch/>
        </p:blipFill>
        <p:spPr>
          <a:xfrm>
            <a:off x="914400" y="1905120"/>
            <a:ext cx="6858000" cy="1900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Tbl04-07"/>
          <p:cNvPicPr/>
          <p:nvPr/>
        </p:nvPicPr>
        <p:blipFill>
          <a:blip r:embed="rId2"/>
          <a:srcRect l="0" t="0" r="18018" b="0"/>
          <a:stretch/>
        </p:blipFill>
        <p:spPr>
          <a:xfrm>
            <a:off x="914400" y="4262400"/>
            <a:ext cx="6934320" cy="19274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4"/>
          <p:cNvSpPr/>
          <p:nvPr/>
        </p:nvSpPr>
        <p:spPr>
          <a:xfrm>
            <a:off x="581040" y="5951520"/>
            <a:ext cx="480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B854-50ED-45E6-A4FD-E6A592AC757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580680" y="2226960"/>
            <a:ext cx="787716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3d3d3d"/>
              </a:solidFill>
              <a:latin typeface="Gill Sans MT"/>
              <a:ea typeface="Majalla UI"/>
            </a:endParaRPr>
          </a:p>
        </p:txBody>
      </p:sp>
      <p:pic>
        <p:nvPicPr>
          <p:cNvPr id="656" name="Picture 4" descr="logicalEx"/>
          <p:cNvPicPr/>
          <p:nvPr/>
        </p:nvPicPr>
        <p:blipFill>
          <a:blip r:embed="rId1"/>
          <a:stretch/>
        </p:blipFill>
        <p:spPr>
          <a:xfrm>
            <a:off x="457200" y="2262240"/>
            <a:ext cx="8113680" cy="44434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687240"/>
            <a:ext cx="868680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LOGICAL (BOOLEAN) OPERATO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AE2-C2DF-4617-8D99-37098880F1A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7" descr="Tbl04-08"/>
          <p:cNvPicPr/>
          <p:nvPr/>
        </p:nvPicPr>
        <p:blipFill>
          <a:blip r:embed="rId1"/>
          <a:srcRect l="0" t="8768" r="38057" b="0"/>
          <a:stretch/>
        </p:blipFill>
        <p:spPr>
          <a:xfrm>
            <a:off x="990720" y="3276720"/>
            <a:ext cx="6629400" cy="34970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680" y="677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ill Sans MT"/>
                <a:ea typeface="Majalla UI"/>
              </a:rPr>
              <a:t>ORDER OF PRECEDENCE</a:t>
            </a:r>
            <a:endParaRPr b="0" lang="en-US" sz="25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419040" y="18288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3163"/>
                </a:solidFill>
                <a:latin typeface="Courier New"/>
                <a:ea typeface="Courier New"/>
              </a:rPr>
              <a:t>11 + 5 &lt;= 9 || 6 &lt; 15 &amp;&amp; 7 &gt;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ich to solve fir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rithmetic, relational or logic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528640"/>
            <a:ext cx="853416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 4_6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Evaluate the following expression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(17 &lt; 4*3+5)||(8*2 == 4*4) &amp;&amp; !(3+3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2+5)||(16 == 16) &amp;&amp; !(6 == 6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(17 &lt; 17) || true &amp;&amp; ! (true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true &amp;&amp;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 ||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=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510-2F5D-491D-83FA-6C798E702A6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296-B919-489B-92DF-2E84B3BCBFD7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1136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d3d3d"/>
                </a:solidFill>
                <a:uFillTx/>
                <a:latin typeface="Gill Sans MT"/>
                <a:ea typeface="Majalla UI"/>
              </a:rPr>
              <a:t>Exampl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: suppose the following declarations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ound = tru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boolean flag =false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double x =5.2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valuate: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!found 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x &gt; 4.0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tru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lag &amp;&amp; found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 false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PRECEDENCE RU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9B40-58B1-4A79-9CE6-A39731AD4EB6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uppose: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int age = 25;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char grade=‘B’;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age &gt;= 21) || ( 3 + 8 == 5)</a:t>
            </a:r>
            <a:r>
              <a:rPr b="0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25 &gt;= 21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||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+ 8 == 5).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d3d3d"/>
                </a:solidFill>
                <a:latin typeface="Courier New"/>
                <a:ea typeface="Courier New"/>
              </a:rPr>
              <a:t>(grade == 'A') &amp;&amp; (3 - 2 &gt;= 7)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Becaus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‘B’ == 'A')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and the operator used is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&amp;&amp;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,due to short-circuit evaluation the computer does not evaluate 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( 3 - 2 &gt;= 7).</a:t>
            </a:r>
            <a:r>
              <a:rPr b="1" lang="en-US" sz="2400" spc="-1" strike="noStrike">
                <a:solidFill>
                  <a:srgbClr val="3d3d3d"/>
                </a:solidFill>
                <a:latin typeface="Gill Sans MT"/>
                <a:ea typeface="Courier New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STAT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Majalla UI"/>
              </a:rPr>
              <a:t>ONE-WAY SELEC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25520" y="2514240"/>
            <a:ext cx="79884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yntax: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2400" spc="-1" strike="noStrike">
                <a:solidFill>
                  <a:srgbClr val="903163"/>
                </a:solidFill>
                <a:latin typeface="Courier New"/>
                <a:ea typeface="Majalla UI"/>
              </a:rPr>
              <a:t>if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(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expression</a:t>
            </a:r>
            <a:r>
              <a:rPr b="1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)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	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Majalla UI"/>
              </a:rPr>
              <a:t>statement ;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Expression referred to as decision maker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tru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If the value of the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expression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is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r>
              <a:rPr b="0" lang="en-US" sz="2400" spc="-1" strike="noStrike">
                <a:solidFill>
                  <a:srgbClr val="3d3d3d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                                        </a:t>
            </a:r>
            <a:r>
              <a:rPr b="0" lang="en-US" sz="2400" spc="-1" strike="noStrike">
                <a:solidFill>
                  <a:srgbClr val="3d3d3d"/>
                </a:solidFill>
                <a:latin typeface="Courier New"/>
                <a:ea typeface="Courier New"/>
              </a:rPr>
              <a:t>statement</a:t>
            </a: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 does not executes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d3d3d"/>
                </a:solidFill>
                <a:latin typeface="Gill Sans MT"/>
                <a:ea typeface="Majalla UI"/>
              </a:rPr>
              <a:t>Statement referred to as action statement.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7800840" y="5956200"/>
            <a:ext cx="770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E44C-69DC-4C12-880C-D99D67B2E7A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"/>
          <p:cNvSpPr/>
          <p:nvPr/>
        </p:nvSpPr>
        <p:spPr>
          <a:xfrm>
            <a:off x="3809880" y="26258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4648320" y="2397240"/>
            <a:ext cx="2361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no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3657600" y="300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648320" y="285444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nd of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HORT-CIRCUIT EVALUA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216000" y="2023920"/>
            <a:ext cx="8775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process in which the computer evaluates a logical expression from left to right and stops as soon as the value of the expression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y) || (x==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y) is true, (x==5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a==b) &amp;&amp; (x&gt;=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a==b) is false, (x&gt;=7) is not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urier New"/>
                <a:ea typeface="Courier New"/>
              </a:rPr>
              <a:t>(x&gt;0) &amp;&amp; ( (y = z*2) &gt; 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a5a5a5"/>
                </a:solidFill>
                <a:latin typeface="Courier New"/>
                <a:ea typeface="Courier New"/>
              </a:rPr>
              <a:t>// if (x&gt;0) is false, ((y = z*2) &gt; 5) is not evaluated and the value of y will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a5a5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B02E-B608-406F-9EEE-25E7B62B9B10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Three methods of processing a program: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In sequence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d3d3d"/>
                </a:solidFill>
                <a:latin typeface="Gill Sans MT"/>
                <a:ea typeface="Majalla UI"/>
              </a:rPr>
              <a:t>Looping</a:t>
            </a:r>
            <a:endParaRPr b="0" lang="en-US" sz="16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Branch: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Altering the flow of program execution by making a selection or choi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Times New Roman"/>
              </a:rPr>
              <a:t>Loop: Altering the flow of program execution by repeating statement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IF .. ELS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04920" y="236232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tatement must be paired with an </a:t>
            </a:r>
            <a:r>
              <a:rPr b="0" lang="en-US" sz="3200" spc="-1" strike="noStrike">
                <a:solidFill>
                  <a:srgbClr val="333399"/>
                </a:solidFill>
                <a:latin typeface="Courier New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76356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TWO-WAY SELECT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52280" y="1846440"/>
            <a:ext cx="879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hours &gt; 4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ges = 40.0 * rate + 1.5 * rate * (hours - 40.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ges = hours * r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ause a semicolon follows the closing parenthesis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Line 1),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stands alone. The semicolon at the end of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(see Line 1) ends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, so the statement at Line 2 separates the else clause from th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. That is,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by itself. Because there is no separate </a:t>
            </a:r>
            <a:r>
              <a:rPr b="0" lang="en-US" sz="2400" spc="-1" strike="noStrike">
                <a:solidFill>
                  <a:srgbClr val="903163"/>
                </a:solidFill>
                <a:latin typeface="Gill Sans MT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ement in Java, this code generates a syntax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506520" y="1924200"/>
            <a:ext cx="8064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OUND (BLOCK OF)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Espace réservé du pied de page 3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468360" y="2127240"/>
            <a:ext cx="806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ge &gt;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 longer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Not eligible to vote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ill a minor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Espace réservé du pied de page 4"/>
          <p:cNvSpPr/>
          <p:nvPr/>
        </p:nvSpPr>
        <p:spPr>
          <a:xfrm>
            <a:off x="1042920" y="6308640"/>
            <a:ext cx="7274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ill Sans MT"/>
              </a:rPr>
              <a:t>Java Programming: From Problem Analysis to Program Design, D.S. Mal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80880" y="1932120"/>
            <a:ext cx="3957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expressio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men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4338720" y="2095560"/>
            <a:ext cx="441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ultiple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tatements can be used if there is more than two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is associated with the most recent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at does not have an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80880" y="1981080"/>
            <a:ext cx="806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// Assume that score is of type int. Based on the value of score, the following code determines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 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A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8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B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7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C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score &gt;=6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rade is 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MULTIPLE SELECTION: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461880" y="2057400"/>
            <a:ext cx="8675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tempreture &gt;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tempreture &gt;=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swimm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golfing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“Good tennis day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81040" y="303696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d1434"/>
                </a:solidFill>
                <a:latin typeface="Gill Sans MT"/>
              </a:rPr>
              <a:t>SWITCH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81040" y="4541400"/>
            <a:ext cx="79898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800" spc="-1" strike="noStrike">
              <a:solidFill>
                <a:srgbClr val="903163"/>
              </a:solidFill>
              <a:latin typeface="Gill Sans MT"/>
              <a:ea typeface="Majalla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CONTROL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93" name="Picture 2" descr="Fig04-01"/>
          <p:cNvPicPr/>
          <p:nvPr/>
        </p:nvPicPr>
        <p:blipFill>
          <a:blip r:embed="rId1"/>
          <a:stretch/>
        </p:blipFill>
        <p:spPr>
          <a:xfrm>
            <a:off x="380880" y="2209680"/>
            <a:ext cx="7696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STRUCTUR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510552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is also known as sel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xpression can be an iden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Value can only be integ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380880" y="2235240"/>
            <a:ext cx="456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903163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1: statement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2: statement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lue n: statement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4373640" y="1905120"/>
            <a:ext cx="4495680" cy="47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57120" y="2521080"/>
            <a:ext cx="33717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MS PGothic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1: x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2: x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 3: x =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PGothic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749160"/>
                <a:tab algn="l" pos="13208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MS PGothic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4530600" y="1905120"/>
            <a:ext cx="4162320" cy="4706280"/>
            <a:chOff x="4530600" y="1905120"/>
            <a:chExt cx="4162320" cy="4706280"/>
          </a:xfrm>
        </p:grpSpPr>
        <p:sp>
          <p:nvSpPr>
            <p:cNvPr id="712" name="AutoShape 10"/>
            <p:cNvSpPr/>
            <p:nvPr/>
          </p:nvSpPr>
          <p:spPr>
            <a:xfrm>
              <a:off x="6892920" y="2660760"/>
              <a:ext cx="1079280" cy="3837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4530600" y="319968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6046920" y="236628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4728960" y="2552040"/>
              <a:ext cx="1254240" cy="5461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5356080" y="190512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5"/>
            <p:cNvSpPr/>
            <p:nvPr/>
          </p:nvSpPr>
          <p:spPr>
            <a:xfrm>
              <a:off x="6892920" y="3815640"/>
              <a:ext cx="1079280" cy="3823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6"/>
            <p:cNvSpPr/>
            <p:nvPr/>
          </p:nvSpPr>
          <p:spPr>
            <a:xfrm>
              <a:off x="6892920" y="4958640"/>
              <a:ext cx="1079280" cy="38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4728960" y="3695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8"/>
            <p:cNvSpPr/>
            <p:nvPr/>
          </p:nvSpPr>
          <p:spPr>
            <a:xfrm>
              <a:off x="4728960" y="4838040"/>
              <a:ext cx="1254240" cy="5457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>
              <a:off x="5959440" y="2833560"/>
              <a:ext cx="79992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>
              <a:off x="5356080" y="3095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21"/>
            <p:cNvSpPr/>
            <p:nvPr/>
          </p:nvSpPr>
          <p:spPr>
            <a:xfrm>
              <a:off x="5356080" y="4238280"/>
              <a:ext cx="0" cy="5518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>
              <a:off x="5356080" y="5393160"/>
              <a:ext cx="0" cy="1218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5984640" y="3964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6022800" y="510732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7432560" y="304776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4530600" y="548532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4530600" y="4330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6046920" y="34851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29"/>
            <p:cNvSpPr/>
            <p:nvPr/>
          </p:nvSpPr>
          <p:spPr>
            <a:xfrm>
              <a:off x="6046920" y="46515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0"/>
            <p:cNvSpPr/>
            <p:nvPr/>
          </p:nvSpPr>
          <p:spPr>
            <a:xfrm>
              <a:off x="6892920" y="325620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1"/>
            <p:cNvSpPr/>
            <p:nvPr/>
          </p:nvSpPr>
          <p:spPr>
            <a:xfrm>
              <a:off x="7432560" y="4202640"/>
              <a:ext cx="0" cy="2109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2"/>
            <p:cNvSpPr/>
            <p:nvPr/>
          </p:nvSpPr>
          <p:spPr>
            <a:xfrm>
              <a:off x="6892920" y="4410720"/>
              <a:ext cx="1079280" cy="2635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7432560" y="5333400"/>
              <a:ext cx="0" cy="2066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"/>
            <p:cNvSpPr/>
            <p:nvPr/>
          </p:nvSpPr>
          <p:spPr>
            <a:xfrm>
              <a:off x="6892920" y="5541480"/>
              <a:ext cx="1079280" cy="26460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break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 flipV="1">
              <a:off x="7978680" y="5671080"/>
              <a:ext cx="622440" cy="1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978680" y="4559760"/>
              <a:ext cx="584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7"/>
            <p:cNvSpPr/>
            <p:nvPr/>
          </p:nvSpPr>
          <p:spPr>
            <a:xfrm>
              <a:off x="5492520" y="3407760"/>
              <a:ext cx="3200400" cy="2809440"/>
            </a:xfrm>
            <a:custGeom>
              <a:avLst/>
              <a:gdLst/>
              <a:ahLst/>
              <a:rect l="l" t="t" r="r" b="b"/>
              <a:pathLst>
                <a:path w="1960" h="1888">
                  <a:moveTo>
                    <a:pt x="1512" y="0"/>
                  </a:moveTo>
                  <a:lnTo>
                    <a:pt x="1960" y="0"/>
                  </a:lnTo>
                  <a:lnTo>
                    <a:pt x="1960" y="1888"/>
                  </a:lnTo>
                  <a:lnTo>
                    <a:pt x="0" y="1888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2120" y="687240"/>
            <a:ext cx="7989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Majalla UI"/>
              </a:rPr>
              <a:t>SWITCH WITH NO BREAK STAT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824360" y="1908000"/>
            <a:ext cx="36576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beb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6"/>
          <p:cNvGrpSpPr/>
          <p:nvPr/>
        </p:nvGrpSpPr>
        <p:grpSpPr>
          <a:xfrm>
            <a:off x="423720" y="2203560"/>
            <a:ext cx="3503880" cy="2047680"/>
            <a:chOff x="423720" y="2203560"/>
            <a:chExt cx="3503880" cy="2047680"/>
          </a:xfrm>
        </p:grpSpPr>
        <p:sp>
          <p:nvSpPr>
            <p:cNvPr id="743" name="Rectangle 7"/>
            <p:cNvSpPr/>
            <p:nvPr/>
          </p:nvSpPr>
          <p:spPr>
            <a:xfrm>
              <a:off x="423720" y="2203560"/>
              <a:ext cx="3503880" cy="20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eb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8"/>
            <p:cNvSpPr/>
            <p:nvPr/>
          </p:nvSpPr>
          <p:spPr>
            <a:xfrm>
              <a:off x="471240" y="2303640"/>
              <a:ext cx="337176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switch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N</a:t>
              </a: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) 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1: x = 1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2: x = 2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	</a:t>
              </a:r>
              <a:r>
                <a:rPr b="0" lang="en-US" sz="2000" spc="-1" strike="noStrike">
                  <a:solidFill>
                    <a:srgbClr val="333399"/>
                  </a:solidFill>
                  <a:latin typeface="Courier New"/>
                  <a:ea typeface="MS PGothic"/>
                </a:rPr>
                <a:t>case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3: x = 30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749160"/>
                  <a:tab algn="l" pos="1320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urier New"/>
                  <a:ea typeface="MS PGothic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9"/>
          <p:cNvGrpSpPr/>
          <p:nvPr/>
        </p:nvGrpSpPr>
        <p:grpSpPr>
          <a:xfrm>
            <a:off x="4932360" y="2171880"/>
            <a:ext cx="3422520" cy="4385880"/>
            <a:chOff x="4932360" y="2171880"/>
            <a:chExt cx="3422520" cy="4385880"/>
          </a:xfrm>
        </p:grpSpPr>
        <p:sp>
          <p:nvSpPr>
            <p:cNvPr id="746" name="AutoShape 10"/>
            <p:cNvSpPr/>
            <p:nvPr/>
          </p:nvSpPr>
          <p:spPr>
            <a:xfrm>
              <a:off x="7275600" y="2925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1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1"/>
            <p:cNvSpPr/>
            <p:nvPr/>
          </p:nvSpPr>
          <p:spPr>
            <a:xfrm>
              <a:off x="4932360" y="34628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2"/>
            <p:cNvSpPr/>
            <p:nvPr/>
          </p:nvSpPr>
          <p:spPr>
            <a:xfrm>
              <a:off x="6448680" y="2631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5130720" y="281736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1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4"/>
            <p:cNvSpPr/>
            <p:nvPr/>
          </p:nvSpPr>
          <p:spPr>
            <a:xfrm>
              <a:off x="5757840" y="21718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15"/>
            <p:cNvSpPr/>
            <p:nvPr/>
          </p:nvSpPr>
          <p:spPr>
            <a:xfrm>
              <a:off x="7275600" y="407772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2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6"/>
            <p:cNvSpPr/>
            <p:nvPr/>
          </p:nvSpPr>
          <p:spPr>
            <a:xfrm>
              <a:off x="7275600" y="5169960"/>
              <a:ext cx="1079280" cy="3830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x = 30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5130720" y="3957480"/>
              <a:ext cx="1254240" cy="5443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2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5130720" y="5097240"/>
              <a:ext cx="1254240" cy="5446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MT"/>
                  <a:ea typeface="HGｺﾞｼｯｸE"/>
                </a:rPr>
                <a:t>N  == 3 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9"/>
            <p:cNvSpPr/>
            <p:nvPr/>
          </p:nvSpPr>
          <p:spPr>
            <a:xfrm>
              <a:off x="6361200" y="3097800"/>
              <a:ext cx="79992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5757840" y="335916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5757840" y="4499280"/>
              <a:ext cx="0" cy="550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5757840" y="5650920"/>
              <a:ext cx="0" cy="9068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3"/>
            <p:cNvSpPr/>
            <p:nvPr/>
          </p:nvSpPr>
          <p:spPr>
            <a:xfrm flipH="1" rot="5400000">
              <a:off x="6584760" y="4857120"/>
              <a:ext cx="522360" cy="1931760"/>
            </a:xfrm>
            <a:custGeom>
              <a:avLst/>
              <a:gdLst/>
              <a:ahLst/>
              <a:rect l="l" t="t" r="r" b="b"/>
              <a:pathLst>
                <a:path w="961" h="472">
                  <a:moveTo>
                    <a:pt x="961" y="0"/>
                  </a:moveTo>
                  <a:lnTo>
                    <a:pt x="0" y="0"/>
                  </a:lnTo>
                  <a:lnTo>
                    <a:pt x="0" y="472"/>
                  </a:lnTo>
                </a:path>
              </a:pathLst>
            </a:custGeom>
            <a:noFill/>
            <a:ln w="57240">
              <a:solidFill>
                <a:srgbClr val="ccecff"/>
              </a:solidFill>
              <a:miter/>
              <a:tailEnd len="med" type="triangle" w="med"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4"/>
            <p:cNvSpPr/>
            <p:nvPr/>
          </p:nvSpPr>
          <p:spPr>
            <a:xfrm>
              <a:off x="6386400" y="4226040"/>
              <a:ext cx="800280" cy="43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5"/>
            <p:cNvSpPr/>
            <p:nvPr/>
          </p:nvSpPr>
          <p:spPr>
            <a:xfrm>
              <a:off x="6424560" y="5365800"/>
              <a:ext cx="800280" cy="468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6"/>
            <p:cNvSpPr/>
            <p:nvPr/>
          </p:nvSpPr>
          <p:spPr>
            <a:xfrm>
              <a:off x="7815240" y="3311640"/>
              <a:ext cx="0" cy="669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>
              <a:off x="7815240" y="4439880"/>
              <a:ext cx="0" cy="6663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28"/>
            <p:cNvSpPr/>
            <p:nvPr/>
          </p:nvSpPr>
          <p:spPr>
            <a:xfrm>
              <a:off x="4932360" y="5743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29"/>
            <p:cNvSpPr/>
            <p:nvPr/>
          </p:nvSpPr>
          <p:spPr>
            <a:xfrm>
              <a:off x="4932360" y="459144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0"/>
            <p:cNvSpPr/>
            <p:nvPr/>
          </p:nvSpPr>
          <p:spPr>
            <a:xfrm>
              <a:off x="6448680" y="374796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31"/>
            <p:cNvSpPr/>
            <p:nvPr/>
          </p:nvSpPr>
          <p:spPr>
            <a:xfrm>
              <a:off x="6448680" y="4911840"/>
              <a:ext cx="67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Tahoma"/>
                  <a:ea typeface="MS PGothic"/>
                </a:rPr>
                <a:t>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Majalla UI"/>
              </a:rPr>
              <a:t>SWITCH WITH BREAK AND DEFAULT STAT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95400" y="1981080"/>
            <a:ext cx="8962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A': System.out.println("The grade is A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B': System.out.println("The grade is B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C': System.out.println("The grade is C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D': System.out.println("The grade is 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'F': System.out.println("The grade is F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03163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 System.out.println("The grade is invalid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72" name="TextBox 7"/>
          <p:cNvSpPr/>
          <p:nvPr/>
        </p:nvSpPr>
        <p:spPr>
          <a:xfrm>
            <a:off x="685800" y="2392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program that ask the user to enter his grade then print the corresponding litter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8"/>
          <p:cNvSpPr/>
          <p:nvPr/>
        </p:nvSpPr>
        <p:spPr>
          <a:xfrm>
            <a:off x="685800" y="3497400"/>
            <a:ext cx="78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Grad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(String[] args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(“enter your grade: 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x = console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Majalla UI"/>
              </a:rPr>
              <a:t>WITH NESTED IF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5" name="ZoneTexte 5"/>
          <p:cNvSpPr/>
          <p:nvPr/>
        </p:nvSpPr>
        <p:spPr>
          <a:xfrm>
            <a:off x="446040" y="19810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9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A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80)&amp;&amp;(x&lt;9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B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70)&amp;&amp;(x&lt;8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C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gt;=60)&amp;&amp;(x&lt;7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D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x&lt;60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System.out.println("The grade is F.");</a:t>
            </a:r>
            <a:br>
              <a:rPr sz="1800"/>
            </a:br>
            <a:r>
              <a:rPr b="0" lang="fr-FR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ystem.out.println("The grade is invali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90F-2A89-4964-BCD4-270AA25F0DBE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Relational operator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llows you to make comparisons in a program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Condition is represented by a logical expression in Java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Logical expression: An expression that has a value of either true or false.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085-E065-44C5-9980-8FE103B18DA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Tbl04-01"/>
          <p:cNvPicPr/>
          <p:nvPr/>
        </p:nvPicPr>
        <p:blipFill>
          <a:blip r:embed="rId1"/>
          <a:stretch/>
        </p:blipFill>
        <p:spPr>
          <a:xfrm>
            <a:off x="457200" y="2209680"/>
            <a:ext cx="8153280" cy="33530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3518-58CC-4002-AA82-10500DD97B7F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integral and floating-point data types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Can be used with the char data typ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Unicode Collating Sequenc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5  always evaluates to false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8 &lt; ‘5’ always evaluates to true.  </a:t>
            </a:r>
            <a:r>
              <a:rPr b="0" lang="en-US" sz="1800" spc="-1" strike="noStrike">
                <a:solidFill>
                  <a:srgbClr val="339933"/>
                </a:solidFill>
                <a:latin typeface="Gill Sans MT"/>
                <a:ea typeface="Majalla UI"/>
              </a:rPr>
              <a:t>//‘5’= 53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marL="304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5"/>
          <p:cNvSpPr/>
          <p:nvPr/>
        </p:nvSpPr>
        <p:spPr>
          <a:xfrm>
            <a:off x="200160" y="65167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292-2C73-42FF-94EA-4492FD2FD064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Tbl04-02"/>
          <p:cNvPicPr/>
          <p:nvPr/>
        </p:nvPicPr>
        <p:blipFill>
          <a:blip r:embed="rId1"/>
          <a:stretch/>
        </p:blipFill>
        <p:spPr>
          <a:xfrm>
            <a:off x="380880" y="1981080"/>
            <a:ext cx="8153640" cy="49086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 Sans MT"/>
                <a:ea typeface="Majalla UI"/>
              </a:rPr>
              <a:t>RELATIONAL OPERATORS AND PRIMITIVE DATA TYPES</a:t>
            </a:r>
            <a:endParaRPr b="0" lang="en-US" sz="2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58104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149-D40D-4509-89AB-B5FB93BFAE03}" type="slidenum">
              <a:rPr b="0" lang="ar-SA" sz="900" spc="-1" strike="noStrike">
                <a:solidFill>
                  <a:srgbClr val="90316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Majalla UI"/>
              </a:rPr>
              <a:t>COMPARING STRIN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80680" y="2226960"/>
            <a:ext cx="8334360" cy="36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spcBef>
                <a:spcPts val="499"/>
              </a:spcBef>
              <a:spcAft>
                <a:spcPts val="601"/>
              </a:spcAft>
              <a:buClr>
                <a:srgbClr val="903163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d3d3d"/>
                </a:solidFill>
                <a:latin typeface="Gill Sans MT"/>
                <a:ea typeface="Majalla UI"/>
              </a:rPr>
              <a:t>Strings are compared character by character, using the collating sequence, until one of tow conditions is met:</a:t>
            </a:r>
            <a:endParaRPr b="0" lang="en-US" sz="20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1.  A mismatch is found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2.  The last characters have been compared and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	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    </a:t>
            </a:r>
            <a:r>
              <a:rPr b="0" lang="en-US" sz="1800" spc="-1" strike="noStrike">
                <a:solidFill>
                  <a:srgbClr val="3d3d3d"/>
                </a:solidFill>
                <a:latin typeface="Gill Sans MT"/>
                <a:ea typeface="Majalla UI"/>
              </a:rPr>
              <a:t>are equal.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7:59:11Z</dcterms:created>
  <dc:creator>Manasi Bhattacharyya</dc:creator>
  <dc:description/>
  <dc:language>en-US</dc:language>
  <cp:lastModifiedBy>Sarona</cp:lastModifiedBy>
  <dcterms:modified xsi:type="dcterms:W3CDTF">2017-10-17T13:23:39Z</dcterms:modified>
  <cp:revision>218</cp:revision>
  <dc:subject/>
  <dc:title>Chapter 1</dc:title>
</cp:coreProperties>
</file>