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90C7-0764-4096-A117-5FA6E0B232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E7B-8334-423B-922D-AD66AB3D9CB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439-8DB2-4B8E-8F50-9B801A5866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74E7-ADE2-4C24-9F03-5BF2CC6300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B11-7CCE-432C-A501-E3201B3763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CF2-436B-427D-9128-6F591E0BB65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567B-7D30-49ED-ABFD-A210546C31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5DF-65F8-48A1-A15A-029346D078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7CE9-5587-4CDC-8024-8F960236D7B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F278-389C-4B03-AF2F-416C38E89E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3E5-C55E-431B-B21B-6A0E5DF53F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894-4866-4143-AA95-D57BF1928A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710-B169-439B-ADA6-FF39E47FC3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BE04-F876-41F0-AC95-B939421B4F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1E5-A637-4176-A5B5-E3B7D11B22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D6E2-D645-4449-938A-0B3FD2498B2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D5D-24FB-4724-B30A-C59C2E27CA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1D8-5B69-4260-81BB-6B76350466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C1B-E2A0-4D2A-8CF7-DC33B30A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1AA-6359-47F9-95F0-E27DAEC8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1E338-465F-45DA-87CB-01DAF17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FE41-3087-4D3A-9D9B-F54AFDDC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910D-81D9-433C-8C86-9FAE0D2E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AB638-7CC2-46EA-9335-C23B52B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C830A-2C63-47B4-A7A4-F6E3AFA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F34B0-F197-443D-8285-FA04375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B9AAE-DD12-4872-87FC-79BA193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CC7B-F2A0-4400-817B-195F8A32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F7451-588A-4450-88E6-2B5664A4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06C00-5CCF-45F4-BC1F-685772F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2C0-9212-4E1F-AAA7-622BDABD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4C72D-9357-4910-AB68-0604608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B303A-9EB7-4D74-A9BC-50E10AF0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C2518-1005-44FD-A423-68149D0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28959-93A7-4B04-87A5-05D8E17C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AADEE-9CA8-46B0-8D1E-5CC1193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8A3F2-8B84-4120-A3FB-874F05D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722BC-99FA-4EA6-9C2C-9207676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49DB1-9F21-4C3A-8750-2A5CA2F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508AE-21D1-44BF-B6FB-24FA6DF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2C95B-0438-488B-BBC0-FC6EB56B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E61-97AD-4126-A338-25B258E9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9243D-DA15-47C2-8E82-8B139CBC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9062-1B26-4577-8B35-5C9E8A65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FF63E-A980-4754-AB0E-838C0E5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6D7C-B7F0-4CF2-A2BF-D09E53F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5585B-B494-4423-85A9-D294595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79903-4D26-40AC-842A-4159A57C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D18E9-EEB9-4DD7-9719-C7ACAC6D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C2160-12A9-4091-87D8-68FE16C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D7436-E50C-4DE2-BA31-D2FADF9D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E99DA-EC05-4687-BDA5-17FE82F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0288-0163-488B-A18D-F4843B1D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9E94B-998B-40B2-A7F4-6866C130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44D1A-F5DD-4F30-A48E-6CEB4210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FD40-7790-414D-B0E5-3C0B1A2D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62552-1938-4378-BB05-767FE9C9A5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1C71C-0CD7-428C-BDC5-978AA4B60E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B8520-8EC5-48EA-9DFC-4FAFE733B6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1D0C4-A885-4D45-A0C2-C74ADAD892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B89C9-EC11-4EBC-B637-660DDF6A3E8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B8D3D-009F-4BD3-8677-000B82A00A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14DB2-23B3-4D6B-BB48-87C7447E2F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B353-D140-424B-849F-BCDC9CBA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959CC-226F-4493-8F89-DDBDA27A6A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613A5-67F1-4E84-A11A-F6DA1F7019F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15643-8ED6-48BA-B4D2-481904CD75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A578C-A3F9-4FCD-B300-9417F81E57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79E24-23F3-4D89-BFDA-89F7693745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055D4-36ED-4454-B8BC-9DE1826B0F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C24D-6E17-47CB-857C-53F352ED43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FFAC9-BAC5-48D4-B6EA-6914654A0D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B4EF4-2D5C-42C1-9463-0D49EEDEC6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34993-13BE-4341-BAED-51DF2552E0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FC77-D3D5-4032-BD42-90E93B6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57A9B-CE1C-4AAA-AA66-B66C9E357A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E4B99-E64B-45C2-AC8F-3936FBB00B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10A8C-B3C6-45C9-B0AC-F3D96CC4C3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AB32C-E275-4247-A0C1-40DF21DC67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70DA-99C2-4783-906A-C2FD04A6DFF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3C308-C4D4-4C89-89B6-5BC3C04B51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2E791-B980-4718-860A-EB242A6DCC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B45-080F-431B-A8D5-BCDF09EC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C99D-62E9-4C31-9880-67D1C50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FF3-A104-499E-8880-E02D3A9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15F0-2D68-43BB-BA63-56C6AD1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82D-E7C2-4FE9-87D1-E3794F0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7E3F-511C-4BE9-9C01-1F9982A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82DA-77C1-4596-8646-43DEFB5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D868-2DDF-4F50-82ED-05820AE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F83C-4453-43F8-B7C0-935A0D61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609-3D0C-41A8-B081-6318D523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8E35-625B-49CA-B214-660F5D03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C7BF-6E86-4DA6-97B5-BFCBAD9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B23A-8873-4D3B-A41F-6EAF300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EDE7-45E6-4A5E-A2EE-471DD2B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A161-6860-4A30-A40E-E897B6A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209-3E73-4532-8FB3-501A2384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6571-E954-43F4-9A9F-4A1A847E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8009-86AC-4B8A-BBB5-4251658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EC73-CC3C-4B7D-8B13-892B7BF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CA4B-A448-4A4A-9BB0-819A180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EB4C-4C7D-40A8-B7C7-B03169A5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F421-C16C-426E-86CE-33EB7ED1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528C-33A3-4A41-888C-DCB8374D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DBB3-4EBF-4406-96FA-40EFD67D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8313-52A0-41B9-90FF-58124996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0F320-6B8C-452C-96DC-B39D4600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873-1332-44BD-8A09-C20C0B3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C042-4D49-4541-99EF-DB9D5386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19C2-FC08-4FC0-A5E9-84D30D5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202E-F14D-468B-89EA-2A8433A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2A8E-97C9-4D13-AC92-E23320D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506E-7DD7-4EA2-9BC5-EE531D5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AD99-F317-4408-A955-C545942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37AD-CB61-4045-91D5-FF595D6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967B-4578-4748-AF68-5B6D14B2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1D0D-1472-46C4-9532-F4F92404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CA6E-11F6-4D0A-801A-29FD4CD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D16-314D-4352-9AC7-C9B62C1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59DB-0977-4BB9-8EE1-8FF4A3B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E5D5-9BD6-4E2C-B8BE-0CDC53E1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9384-3C84-476D-A578-DB4A284A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740D-FBB2-4145-A9C1-ACEA9475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C39BE-29DF-4DE9-9C36-17D91394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90D29-E3AA-467D-8A0C-0F4AA38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AF246-1F29-40EC-8301-63C1E90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9642-332D-4ED6-A020-5A48ED1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10CF-57F9-44D0-BA5B-CC54E9ED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BBE1-CE36-4A32-9E68-47D6E7B2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E43-8710-407C-A31F-C57D1EDB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7AAA-C545-4BFE-827E-AC10F673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E9B49-84A2-4E67-89B8-C6CE9FD4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BF95-1C9C-466A-B3E9-A7FB289C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247B-CF39-4457-8D5E-6865CF1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E5D9-AF83-418F-AB18-4749A0DD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E7FA-B8D1-448B-9B7F-8E3DB53A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04A1-AB8B-49DE-9475-C9ED6A1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2339-7A0F-4F76-B0AB-F698CF9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928E-5860-4737-90A8-78899F3C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10F7-3C25-406D-BEF5-6F3908F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AF1-DDCB-4E5F-91CA-32815A0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E4259-89E4-49C4-BB10-30743480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5EE1-D51C-4D02-9E22-F20F166C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DA7A-89B7-44A9-80D2-13492A66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79E5-F0FA-4D13-899C-0B2A588F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8C805-9D4D-4F6D-8F92-A782F924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74B31-1A85-4802-86E9-66E1D2D1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28FDA-EBC6-4DCA-9FD1-94EF51F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DC01-F497-4102-B1A1-66425B53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D3BD-1D05-4CE0-AB03-D00FA708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A3946-FEB8-41C4-ADC5-11D52C6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95C-C379-409A-97FB-53ACA89E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D5BF-72C9-4E13-8AAD-51809609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870B-21AE-42BC-B884-CC7703D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028B-167E-4B04-9B14-85F771D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0F2D-7B54-4D48-9AEA-A91FFA3C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22038-8A4E-473B-AA7A-2B9FC19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0E97-6F08-41B9-B8F2-B05C1930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8BCE-9B5D-4DEC-BE40-31528253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AF5E-F140-4BE4-9D6A-CE3F6C38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5B83-E225-4F1E-83C3-6C87E9B6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F821-BC88-4E61-979E-8F229C4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68E-07A4-4703-B1ED-46B070F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03C4B-1B63-4143-93D5-0E25D3E2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88A6-47F3-4274-8953-4D47162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F261-630C-434C-AC2D-E64EF94A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F2211-30CE-43C3-ACB3-2F0848F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AF28-CCD7-4ECE-BC39-10CE0B2A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DCEC-ADDE-4701-A802-5938E562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C0B51-45DE-4F87-AC8B-5EB83EBB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129F4-0126-4D49-A634-632D475F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C5A21-C6B5-4DB2-B395-D8DC9B7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5097C-9637-4678-A68A-A3B3382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9DF5-8DF4-4C60-B5A3-CC73BA098D98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470D-E5C9-408C-85E8-A2F77104E55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DBE-B0E3-453F-87F4-BD8E28EAF44D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DF5F-581A-4FEB-B148-28E3FB62988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5F72-3AA6-4F97-A18D-F22A1B4357D3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5602-AE74-4B19-B4CD-A0543E9F0DF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5305-17EC-49D8-BE0D-A406E9DA3B80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AA5-160B-4424-8BBC-424FC738F38E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1016-A612-4786-BEE7-8635AF4DC7A9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E620-C763-4888-AA70-BAC75523552F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7EF-0941-4A78-BD64-F8B52225F91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A348-9629-472A-B7F3-5BE5409EA18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A445-3331-4DCC-A0B5-B00D6C5D5B85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513-2460-4DE8-9E05-7AF13854413B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F5C-9567-4221-BDC3-430674AFFA78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742-8A94-4921-87B2-C2916B8EEFF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DCD-6A62-4350-9C1C-32F905366A2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15A4-D179-426A-B541-944D40E1F22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C391-7BAA-46E9-BD28-325F8ED759A0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D44E-1373-4F26-A8AF-C5CE7361EBB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787C-08E4-40DB-B634-0C808475A994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CAA5-EA6B-472A-BA5A-47B587C7E0DB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413-D88C-4B9A-8143-2BCB0580A4AF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701-D774-4B15-8BDB-BD28EBA141F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3200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601-949D-47CB-BF7B-D90F8771B1BD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,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Big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A’ &lt; ‘B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An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i’ &lt; ‘n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Hello” &lt; “hello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H’ &lt; ‘h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” = “Hello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because all are the sam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A73-D017-4DB3-B2F2-8DBC64AA18B1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Majalla UI"/>
              </a:rPr>
              <a:t>can not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 compared with the usual &lt;, &lt;=, &gt;, or &gt;= operators,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nd the == and != operators don't compare the characters in the strings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C556-CEDE-4C03-888B-F4B42AF1A512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class String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ethod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compareTo  (&lt;0 , 0 , &gt;0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Given string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1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2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2863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762120" y="4267080"/>
                <a:ext cx="80010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mpareT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r2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equal to string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1" name="Picture 4" descr="Tbl04-03a"/>
          <p:cNvPicPr/>
          <p:nvPr/>
        </p:nvPicPr>
        <p:blipFill>
          <a:blip r:embed="rId1"/>
          <a:stretch/>
        </p:blipFill>
        <p:spPr>
          <a:xfrm>
            <a:off x="1066680" y="4343400"/>
            <a:ext cx="6774120" cy="236232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44A-D9E0-40CC-BDDC-ECD9D266D6F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81040" y="213336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1 = "Hello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2 = "Hi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3 = "Ai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4 = "Bill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5 = "Bigge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E7C-5EAB-4336-911C-3C070ED6B95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7" descr="Tbl04-03b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981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5292-99B3-4711-8F57-501F6A6E3A4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class Example4_2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1 = "Hello";                                   //Line 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2 = "Hi";                                      //Line 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3 = "Air";                                     //Line 3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4 = "Bill";                                    //Line 4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5 = "Bigger";                                  //Line 5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6: " + "str1.compareTo(str2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str2));             //Line 6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7: " + "str1.compareTo(\"Hen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"Hen"));            //Line 7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8: " +   "str4.compareTo(str3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4.compareTo(str3));              //Line 8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9: " +"str1.compareTo(\"hello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1.compareTo("hello"));           //Line 9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0: " + "str2.compareTo(\"Hi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2.compareTo("Hi"));              //Line 10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1: " + "str4.compareTo(\"Billy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4.compareTo("Billy"));          //Line 1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2: " + "str5.compareTo(\"Big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5.compareTo("Big"));             //Line 1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}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F42D-90C7-4B2A-995C-07DAE43C441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Values such as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-4, -2, 1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so on, are differences of the collating sequence of the first unmatched characters of the string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 line 6: where,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= “Hello”, str2=“Hi”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101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5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1 – 105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-4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31" name="Picture 5" descr="ex4_2"/>
          <p:cNvPicPr/>
          <p:nvPr/>
        </p:nvPicPr>
        <p:blipFill>
          <a:blip r:embed="rId1"/>
          <a:srcRect l="0" t="0" r="0" b="13081"/>
          <a:stretch/>
        </p:blipFill>
        <p:spPr>
          <a:xfrm>
            <a:off x="838080" y="1905120"/>
            <a:ext cx="6558120" cy="177624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D80-B32C-46AD-A04A-5792A196CE84}" type="slidenum">
              <a:rPr b="0" lang="ar-SA" sz="20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841068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 addition to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, you can use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f the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las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turns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r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 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 = “Hello”, str2= “Hi”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“Hello”);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 returns tru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str2);  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returns fals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4"/>
          <p:cNvSpPr/>
          <p:nvPr/>
        </p:nvSpPr>
        <p:spPr>
          <a:xfrm>
            <a:off x="581040" y="5951520"/>
            <a:ext cx="515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15F-60C7-4E16-AA3A-F53491778E0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86560" indent="-286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You should use one of the following tests to compare the contents of two string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equals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compareTo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85800" y="4386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's the </a:t>
            </a:r>
            <a:r>
              <a:rPr b="1" lang="en-US" sz="2400" spc="-1" strike="noStrike">
                <a:solidFill>
                  <a:srgbClr val="903163"/>
                </a:solidFill>
                <a:latin typeface="Arial"/>
              </a:rPr>
              <a:t>wr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y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= st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80680" y="687240"/>
            <a:ext cx="84596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82B9-5278-4092-9D2E-1090AC35784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6" descr="Tbl04-04"/>
          <p:cNvPicPr/>
          <p:nvPr/>
        </p:nvPicPr>
        <p:blipFill>
          <a:blip r:embed="rId1"/>
          <a:srcRect l="0" t="0" r="46732" b="0"/>
          <a:stretch/>
        </p:blipFill>
        <p:spPr>
          <a:xfrm>
            <a:off x="1676520" y="2171880"/>
            <a:ext cx="5410080" cy="21333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8104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Rectangle 23"/>
          <p:cNvSpPr/>
          <p:nvPr/>
        </p:nvSpPr>
        <p:spPr>
          <a:xfrm>
            <a:off x="1066680" y="479268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unary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2BD-0409-4FFA-A0E3-6E18BBA0A796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HAPTER OBJECTIV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about control structur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ine relational and logical operator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plore how to form and evaluate logical (Boolean) expression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how to use the selection control structures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…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else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and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switch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3E5-1CC9-4332-8A1C-EFE7B8598F9F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Tbl04-05"/>
          <p:cNvPicPr/>
          <p:nvPr/>
        </p:nvPicPr>
        <p:blipFill>
          <a:blip r:embed="rId1"/>
          <a:srcRect l="0" t="0" r="47670" b="0"/>
          <a:stretch/>
        </p:blipFill>
        <p:spPr>
          <a:xfrm>
            <a:off x="349200" y="2057400"/>
            <a:ext cx="7575480" cy="23623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5"/>
          <p:cNvSpPr/>
          <p:nvPr/>
        </p:nvSpPr>
        <p:spPr>
          <a:xfrm>
            <a:off x="549360" y="479268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A’ &gt; ‘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6858000" y="152388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uth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 flipH="1">
            <a:off x="6171840" y="19810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F8B4-16BF-4782-BB6B-1D6A880901D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7" descr="Tbl04-06"/>
          <p:cNvPicPr/>
          <p:nvPr/>
        </p:nvPicPr>
        <p:blipFill>
          <a:blip r:embed="rId1"/>
          <a:srcRect l="0" t="0" r="18185" b="0"/>
          <a:stretch/>
        </p:blipFill>
        <p:spPr>
          <a:xfrm>
            <a:off x="914400" y="1905120"/>
            <a:ext cx="6858000" cy="1900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Tbl04-07"/>
          <p:cNvPicPr/>
          <p:nvPr/>
        </p:nvPicPr>
        <p:blipFill>
          <a:blip r:embed="rId2"/>
          <a:srcRect l="0" t="0" r="18018" b="0"/>
          <a:stretch/>
        </p:blipFill>
        <p:spPr>
          <a:xfrm>
            <a:off x="914400" y="4262400"/>
            <a:ext cx="6934320" cy="19274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581040" y="5951520"/>
            <a:ext cx="480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2205-3B62-4E4A-9D10-64549F67BD62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787716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3d3d3d"/>
              </a:solidFill>
              <a:latin typeface="Gill Sans MT"/>
              <a:ea typeface="Majalla UI"/>
            </a:endParaRPr>
          </a:p>
        </p:txBody>
      </p:sp>
      <p:pic>
        <p:nvPicPr>
          <p:cNvPr id="656" name="Picture 4" descr="logicalEx"/>
          <p:cNvPicPr/>
          <p:nvPr/>
        </p:nvPicPr>
        <p:blipFill>
          <a:blip r:embed="rId1"/>
          <a:stretch/>
        </p:blipFill>
        <p:spPr>
          <a:xfrm>
            <a:off x="457200" y="2262240"/>
            <a:ext cx="8113680" cy="44434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57200" y="687240"/>
            <a:ext cx="868680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C957-FB94-42CC-BC91-DFC287872B0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7" descr="Tbl04-08"/>
          <p:cNvPicPr/>
          <p:nvPr/>
        </p:nvPicPr>
        <p:blipFill>
          <a:blip r:embed="rId1"/>
          <a:srcRect l="0" t="8768" r="38057" b="0"/>
          <a:stretch/>
        </p:blipFill>
        <p:spPr>
          <a:xfrm>
            <a:off x="990720" y="3276720"/>
            <a:ext cx="6629400" cy="3497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680" y="677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ORDER OF PRECEDENCE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41904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3163"/>
                </a:solidFill>
                <a:latin typeface="Courier New"/>
                <a:ea typeface="Courier New"/>
              </a:rPr>
              <a:t>11 + 5 &lt;= 9 || 6 &lt; 15 &amp;&amp; 7 &gt;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ich to solve fir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ithmetic, relational or logic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52864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 4_6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Evaluate the following expression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(17 &lt; 4*3+5)||(8*2 == 4*4) &amp;&amp; !(3+3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2+5)||(16 == 16) &amp;&amp; !(6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7) || true &amp;&amp; ! (true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true &amp;&amp;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87D0-D1E2-4D6B-99C3-C16D39F1308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143-B904-43A3-8E81-8DE06375BE0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11368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suppose the following declaration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ound = tr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lag =fals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double x =5.2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valuate: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!found 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x &gt; 4.0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lag &amp;&amp; found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5AA2-A1A7-4F54-993A-BFE824810F7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ppos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age = 25;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har grade=‘B’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age &gt;= 21) || ( 3 + 8 == 5)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25 &gt;= 21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||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+ 8 == 5).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grade == 'A') &amp;&amp; (3 - 2 &gt;= 7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‘B’ == 'A'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&amp;&amp;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- 2 &gt;= 7).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STAT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ONE-WAY SELECTION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25520" y="2514240"/>
            <a:ext cx="79884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(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expression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stateme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pression referred to as decision maker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does not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 referred to as action statemen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3A6-85E8-4D70-B2EB-F1C5C0747D9A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3809880" y="2625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4648320" y="2397240"/>
            <a:ext cx="2361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no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3657600" y="300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4648320" y="285444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nd of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216000" y="2023920"/>
            <a:ext cx="8775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y) || (x==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a==b) &amp;&amp; (x&gt;=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a5a5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7B27-5429-45E6-8F71-A8023D189FC1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ree methods of processing a program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n sequence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: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Altering the flow of program execution by making a selection or choi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Loop: Altering the flow of program execution by repeating statement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.. ELS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04920" y="236232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760" y="76356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52280" y="1846440"/>
            <a:ext cx="879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ges = 40.0 * rate + 1.5 * rate * (hours - 40.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ause a semicolon follows the closing parenthesis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Line 1),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stands alone. The semicolon at the end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see Line 1) ends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, so the statement at Line 2 separates the else clause from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. That is,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by itself. Because there is no separat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in Java, this code generates a syntax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06520" y="192420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68360" y="21272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380880" y="193212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4338720" y="2095560"/>
            <a:ext cx="441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380880" y="19810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461880" y="20574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SWITCH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3" name="Picture 2" descr="Fig04-01"/>
          <p:cNvPicPr/>
          <p:nvPr/>
        </p:nvPicPr>
        <p:blipFill>
          <a:blip r:embed="rId1"/>
          <a:stretch/>
        </p:blipFill>
        <p:spPr>
          <a:xfrm>
            <a:off x="380880" y="220968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10552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80880" y="223524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4373640" y="1905120"/>
            <a:ext cx="4495680" cy="47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57120" y="2521080"/>
            <a:ext cx="33717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1: x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2: x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3: x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9"/>
          <p:cNvGrpSpPr/>
          <p:nvPr/>
        </p:nvGrpSpPr>
        <p:grpSpPr>
          <a:xfrm>
            <a:off x="4530600" y="1905120"/>
            <a:ext cx="4162320" cy="4706280"/>
            <a:chOff x="4530600" y="1905120"/>
            <a:chExt cx="4162320" cy="4706280"/>
          </a:xfrm>
        </p:grpSpPr>
        <p:sp>
          <p:nvSpPr>
            <p:cNvPr id="712" name="AutoShape 10"/>
            <p:cNvSpPr/>
            <p:nvPr/>
          </p:nvSpPr>
          <p:spPr>
            <a:xfrm>
              <a:off x="6892920" y="266076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1"/>
            <p:cNvSpPr/>
            <p:nvPr/>
          </p:nvSpPr>
          <p:spPr>
            <a:xfrm>
              <a:off x="4530600" y="319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2"/>
            <p:cNvSpPr/>
            <p:nvPr/>
          </p:nvSpPr>
          <p:spPr>
            <a:xfrm>
              <a:off x="6046920" y="23662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4728960" y="2552040"/>
              <a:ext cx="1254240" cy="5461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5356080" y="190512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5"/>
            <p:cNvSpPr/>
            <p:nvPr/>
          </p:nvSpPr>
          <p:spPr>
            <a:xfrm>
              <a:off x="6892920" y="3815640"/>
              <a:ext cx="1079280" cy="382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6"/>
            <p:cNvSpPr/>
            <p:nvPr/>
          </p:nvSpPr>
          <p:spPr>
            <a:xfrm>
              <a:off x="6892920" y="4958640"/>
              <a:ext cx="1079280" cy="38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4728960" y="3695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8"/>
            <p:cNvSpPr/>
            <p:nvPr/>
          </p:nvSpPr>
          <p:spPr>
            <a:xfrm>
              <a:off x="4728960" y="4838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>
              <a:off x="5959440" y="2833560"/>
              <a:ext cx="79992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>
              <a:off x="5356080" y="3095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1"/>
            <p:cNvSpPr/>
            <p:nvPr/>
          </p:nvSpPr>
          <p:spPr>
            <a:xfrm>
              <a:off x="5356080" y="4238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>
              <a:off x="5356080" y="5393160"/>
              <a:ext cx="0" cy="1218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5984640" y="3964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6022800" y="5107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7432560" y="304776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6"/>
            <p:cNvSpPr/>
            <p:nvPr/>
          </p:nvSpPr>
          <p:spPr>
            <a:xfrm>
              <a:off x="4530600" y="548532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4530600" y="4330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6046920" y="3485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9"/>
            <p:cNvSpPr/>
            <p:nvPr/>
          </p:nvSpPr>
          <p:spPr>
            <a:xfrm>
              <a:off x="6046920" y="46515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0"/>
            <p:cNvSpPr/>
            <p:nvPr/>
          </p:nvSpPr>
          <p:spPr>
            <a:xfrm>
              <a:off x="6892920" y="325620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1"/>
            <p:cNvSpPr/>
            <p:nvPr/>
          </p:nvSpPr>
          <p:spPr>
            <a:xfrm>
              <a:off x="7432560" y="4202640"/>
              <a:ext cx="0" cy="210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2"/>
            <p:cNvSpPr/>
            <p:nvPr/>
          </p:nvSpPr>
          <p:spPr>
            <a:xfrm>
              <a:off x="6892920" y="4410720"/>
              <a:ext cx="1079280" cy="2635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7432560" y="533340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"/>
            <p:cNvSpPr/>
            <p:nvPr/>
          </p:nvSpPr>
          <p:spPr>
            <a:xfrm>
              <a:off x="6892920" y="554148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 flipV="1">
              <a:off x="7978680" y="5671080"/>
              <a:ext cx="622440" cy="1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978680" y="4559760"/>
              <a:ext cx="584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7"/>
            <p:cNvSpPr/>
            <p:nvPr/>
          </p:nvSpPr>
          <p:spPr>
            <a:xfrm>
              <a:off x="5492520" y="3407760"/>
              <a:ext cx="3200400" cy="2809440"/>
            </a:xfrm>
            <a:custGeom>
              <a:avLst/>
              <a:gdLst/>
              <a:ahLst/>
              <a:rect l="l" t="t" r="r" b="b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2120" y="68724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ajalla U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824360" y="1908000"/>
            <a:ext cx="36576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6"/>
          <p:cNvGrpSpPr/>
          <p:nvPr/>
        </p:nvGrpSpPr>
        <p:grpSpPr>
          <a:xfrm>
            <a:off x="423720" y="2203560"/>
            <a:ext cx="3503880" cy="2047680"/>
            <a:chOff x="423720" y="2203560"/>
            <a:chExt cx="3503880" cy="2047680"/>
          </a:xfrm>
        </p:grpSpPr>
        <p:sp>
          <p:nvSpPr>
            <p:cNvPr id="743" name="Rectangle 7"/>
            <p:cNvSpPr/>
            <p:nvPr/>
          </p:nvSpPr>
          <p:spPr>
            <a:xfrm>
              <a:off x="423720" y="2203560"/>
              <a:ext cx="350388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71240" y="2303640"/>
              <a:ext cx="337176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9"/>
          <p:cNvGrpSpPr/>
          <p:nvPr/>
        </p:nvGrpSpPr>
        <p:grpSpPr>
          <a:xfrm>
            <a:off x="4932360" y="2171880"/>
            <a:ext cx="3422520" cy="4385880"/>
            <a:chOff x="4932360" y="2171880"/>
            <a:chExt cx="3422520" cy="4385880"/>
          </a:xfrm>
        </p:grpSpPr>
        <p:sp>
          <p:nvSpPr>
            <p:cNvPr id="746" name="AutoShape 10"/>
            <p:cNvSpPr/>
            <p:nvPr/>
          </p:nvSpPr>
          <p:spPr>
            <a:xfrm>
              <a:off x="7275600" y="2925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"/>
            <p:cNvSpPr/>
            <p:nvPr/>
          </p:nvSpPr>
          <p:spPr>
            <a:xfrm>
              <a:off x="4932360" y="34628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2"/>
            <p:cNvSpPr/>
            <p:nvPr/>
          </p:nvSpPr>
          <p:spPr>
            <a:xfrm>
              <a:off x="6448680" y="2631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5130720" y="281736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4"/>
            <p:cNvSpPr/>
            <p:nvPr/>
          </p:nvSpPr>
          <p:spPr>
            <a:xfrm>
              <a:off x="5757840" y="21718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15"/>
            <p:cNvSpPr/>
            <p:nvPr/>
          </p:nvSpPr>
          <p:spPr>
            <a:xfrm>
              <a:off x="7275600" y="4077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6"/>
            <p:cNvSpPr/>
            <p:nvPr/>
          </p:nvSpPr>
          <p:spPr>
            <a:xfrm>
              <a:off x="7275600" y="516996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5130720" y="395748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5130720" y="5097240"/>
              <a:ext cx="1254240" cy="5446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9"/>
            <p:cNvSpPr/>
            <p:nvPr/>
          </p:nvSpPr>
          <p:spPr>
            <a:xfrm>
              <a:off x="6361200" y="3097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0"/>
            <p:cNvSpPr/>
            <p:nvPr/>
          </p:nvSpPr>
          <p:spPr>
            <a:xfrm>
              <a:off x="5757840" y="335916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1"/>
            <p:cNvSpPr/>
            <p:nvPr/>
          </p:nvSpPr>
          <p:spPr>
            <a:xfrm>
              <a:off x="5757840" y="44992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2"/>
            <p:cNvSpPr/>
            <p:nvPr/>
          </p:nvSpPr>
          <p:spPr>
            <a:xfrm>
              <a:off x="5757840" y="5650920"/>
              <a:ext cx="0" cy="906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3"/>
            <p:cNvSpPr/>
            <p:nvPr/>
          </p:nvSpPr>
          <p:spPr>
            <a:xfrm flipH="1" rot="5400000">
              <a:off x="6584760" y="4857120"/>
              <a:ext cx="522360" cy="1931760"/>
            </a:xfrm>
            <a:custGeom>
              <a:avLst/>
              <a:gdLst/>
              <a:ahLst/>
              <a:rect l="l" t="t" r="r" b="b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4"/>
            <p:cNvSpPr/>
            <p:nvPr/>
          </p:nvSpPr>
          <p:spPr>
            <a:xfrm>
              <a:off x="6386400" y="422604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5"/>
            <p:cNvSpPr/>
            <p:nvPr/>
          </p:nvSpPr>
          <p:spPr>
            <a:xfrm>
              <a:off x="6424560" y="536580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6"/>
            <p:cNvSpPr/>
            <p:nvPr/>
          </p:nvSpPr>
          <p:spPr>
            <a:xfrm>
              <a:off x="7815240" y="331164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>
              <a:off x="7815240" y="4439880"/>
              <a:ext cx="0" cy="6663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28"/>
            <p:cNvSpPr/>
            <p:nvPr/>
          </p:nvSpPr>
          <p:spPr>
            <a:xfrm>
              <a:off x="4932360" y="5743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29"/>
            <p:cNvSpPr/>
            <p:nvPr/>
          </p:nvSpPr>
          <p:spPr>
            <a:xfrm>
              <a:off x="4932360" y="4591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0"/>
            <p:cNvSpPr/>
            <p:nvPr/>
          </p:nvSpPr>
          <p:spPr>
            <a:xfrm>
              <a:off x="6448680" y="3747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31"/>
            <p:cNvSpPr/>
            <p:nvPr/>
          </p:nvSpPr>
          <p:spPr>
            <a:xfrm>
              <a:off x="6448680" y="49118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AND DEFAULT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9" name="Rectangle 2"/>
          <p:cNvSpPr/>
          <p:nvPr/>
        </p:nvSpPr>
        <p:spPr>
          <a:xfrm>
            <a:off x="95400" y="1981080"/>
            <a:ext cx="8962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72" name="TextBox 7"/>
          <p:cNvSpPr/>
          <p:nvPr/>
        </p:nvSpPr>
        <p:spPr>
          <a:xfrm>
            <a:off x="685800" y="2392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program that ask the user to enter his grade then print the corresponding litter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8"/>
          <p:cNvSpPr/>
          <p:nvPr/>
        </p:nvSpPr>
        <p:spPr>
          <a:xfrm>
            <a:off x="685800" y="3497400"/>
            <a:ext cx="78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Grad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“enter your grade: 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x = console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WITH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5" name="ZoneTexte 5"/>
          <p:cNvSpPr/>
          <p:nvPr/>
        </p:nvSpPr>
        <p:spPr>
          <a:xfrm>
            <a:off x="446040" y="19810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9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80)&amp;&amp;(x&lt;9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70)&amp;&amp;(x&lt;8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60)&amp;&amp;(x&lt;7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lt;6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DEA6-8DEA-47A5-82FB-3287EFB805FA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llows you to make comparisons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Condition is represented by a logical expression in Java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expression: An expression that has a value of either true or fals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80BA-AD46-4ACF-8085-95EBFFB59715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Tbl04-01"/>
          <p:cNvPicPr/>
          <p:nvPr/>
        </p:nvPicPr>
        <p:blipFill>
          <a:blip r:embed="rId1"/>
          <a:stretch/>
        </p:blipFill>
        <p:spPr>
          <a:xfrm>
            <a:off x="457200" y="2209680"/>
            <a:ext cx="8153280" cy="33530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BD0B-5EC9-4384-96E8-3316BE98133A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integral and floating-point data typ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the char data typ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Unicode Collating Sequen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5  always evaluates to fals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‘5’ always evaluates to true.  </a:t>
            </a:r>
            <a:r>
              <a:rPr b="0" lang="en-US" sz="1800" spc="-1" strike="noStrike">
                <a:solidFill>
                  <a:srgbClr val="339933"/>
                </a:solidFill>
                <a:latin typeface="Gill Sans MT"/>
                <a:ea typeface="Majalla UI"/>
              </a:rPr>
              <a:t>//‘5’= 53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200160" y="65167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E86-2589-47F6-B4D3-EFB854CA8E3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Tbl04-02"/>
          <p:cNvPicPr/>
          <p:nvPr/>
        </p:nvPicPr>
        <p:blipFill>
          <a:blip r:embed="rId1"/>
          <a:stretch/>
        </p:blipFill>
        <p:spPr>
          <a:xfrm>
            <a:off x="380880" y="1981080"/>
            <a:ext cx="8153640" cy="49086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A73A-BB3F-4983-A9B3-AD3BD122819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80680" y="2226960"/>
            <a:ext cx="833436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are compared character by character, using the collating sequence, until one of tow conditions is met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1.  A mismatch is found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  The last characters have been compared an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re equal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Sarona</cp:lastModifiedBy>
  <dcterms:modified xsi:type="dcterms:W3CDTF">2017-10-17T13:23:39Z</dcterms:modified>
  <cp:revision>218</cp:revision>
  <dc:subject/>
  <dc:title>Chapter 1</dc:title>
</cp:coreProperties>
</file>