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CC7-EF66-4451-A726-4DC55A0F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7EC-4A55-4262-9D45-472B41E4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CE5-C742-45BA-9C5A-1F64F75F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82E-A5F7-4538-A793-27B857DE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ADF-043A-416E-AD58-68FE36BA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47E-D491-4B08-933F-7379B1CA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29C-1CAC-46C3-968E-A847995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FDA-AF5B-466F-8449-DAC6F9EC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CED-E8A2-48A7-9CEA-309178FA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A46-A365-489B-BC3D-F5B8C4D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358-4F1F-4F36-A70F-C6E0582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E1C-208A-4BCD-A383-5AF82B04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58F3-B1F8-42D0-BDDE-01A6C7697C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D04C-BC49-45C5-92B4-4D7E0034F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B694-F617-48F3-92C4-AE7351821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DC7D-6E43-448E-A98E-CF6F66D94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010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pter 9 Part 2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4B7B-2DBE-4F1E-BCCC-46C038F5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9802-0F6E-4C75-ADA4-273507AC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sum of the values in a numeric array, create a loop to cycle through all the elements of the array adding the value in each array element to an accumulator variable that was initialized to zero before th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470F-0657-429E-9EB5-FA0FF626B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C994-7164-4596-8FE6-A28335AD9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3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Sum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6760" y="177156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 = 0;   // The accumulato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259B-F575-48D5-8CD7-DA7097127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3F87-F00C-4822-81FE-727526AEB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average of the values in a numeric array, first find the sum of the values in the array.  Then divide this sum by the number of elements in the arra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68D1-9DE3-419B-99D9-89AFE1332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6510-B63A-46E9-A2B1-C695E206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Average of the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ffset; // Loop counter used to cycle through all the subscripts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sum =0;   // The accumulato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era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offset = 0; offset &lt; array.length; offse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array[offse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sum / array.length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3C1D-E0CB-463F-9061-23887CDB7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733-3562-4100-B003-52C58761B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highest value in a numeric array, copy the value of the first element of the array into a variabl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is variable holds a copy of the highest value encountered so far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through the subscripts of each of the other elements of the array.  Compare each element to the value currentl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higher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-327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 copy of the high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852-E5BA-492E-B3E0-116D9EE7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692B-EB6F-4257-AEA6-11995AFF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8813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highest = array[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ubscript = 1; subscript &lt; array.length; subscrip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array[subscript] &gt; high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= array[subscrip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7A01-48EA-4085-A408-7189E4E5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2537-F4F2-4A0F-A39E-B387B52DD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ing the Highest and Lowest Values in a Numeric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st value in an array can be found using a method that is very similar to the one for finding the highes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 copy of the lowest value encountered so far in the array in a variable, sa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he value of each element of the array with the current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f the value of the element is less 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place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value of the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is finish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a copy of the lowest valu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8A3C-77B4-477B-A02B-7F14756E9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TestArra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uble[] myList = {1.9, 2.9, 3.4, 3.5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Print all the arra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 = 0; i &lt; myList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myList[i] + "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Summing all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uble total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 = 0; i &lt; myList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+= my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Total is " + tot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Finding the largest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uble max = myList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 = 1; i &lt; myList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myList[i] &gt; max) max = my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.out.println("Max is " + max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6400800" y="914400"/>
            <a:ext cx="1752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s 1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is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JavaStringArray 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main(String args[]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[] myFirstStringArray =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String[]{"String 1", "String 2", "String 3"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             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first declare String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[] mySecondStringArray =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String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           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Now Assign individual String array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econdStringArray[0] = "String 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econdStringArray[1] = "String 2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SecondStringArray[2] = "String 3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 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myFirstStringArray[1]);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this will retrieve second element of first String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/iterate the String array using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i=0; i &lt; mySecondStringArray.length; 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            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mySecondStringArray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        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7221-2189-49AE-B098-6349AD53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3BEC-BF0A-4D23-96DF-BB9B834EC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FBD-0C7C-470E-BC3D-56673E6A7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signment operat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py the contents of one array to another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ird statement in the segment below copies the address stor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eference variable na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a copy of the contents of the array referen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/ Does not make a copy of the contents of the array ref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// by old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1447-BB45-4671-AAAF-1A11D40F8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1FAB-B859-403F-AE0B-4D0845A1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ssigning Array Refere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920" y="202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following statements execute, we have the situation illustrated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oldValues = {10, 100, 200, 300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[ ] newValues = new int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assignment statement below executes we will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Values = oldValues;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// Copies the address in oldValues into new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8"/>
          <p:cNvSpPr/>
          <p:nvPr/>
        </p:nvSpPr>
        <p:spPr>
          <a:xfrm>
            <a:off x="3327840" y="359568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3839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0"/>
          <p:cNvSpPr/>
          <p:nvPr/>
        </p:nvSpPr>
        <p:spPr>
          <a:xfrm>
            <a:off x="438804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1"/>
          <p:cNvSpPr/>
          <p:nvPr/>
        </p:nvSpPr>
        <p:spPr>
          <a:xfrm>
            <a:off x="4935960" y="35956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2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3"/>
          <p:cNvSpPr/>
          <p:nvPr/>
        </p:nvSpPr>
        <p:spPr>
          <a:xfrm>
            <a:off x="3092400" y="358128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4"/>
          <p:cNvSpPr/>
          <p:nvPr/>
        </p:nvSpPr>
        <p:spPr>
          <a:xfrm>
            <a:off x="310212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5"/>
          <p:cNvSpPr/>
          <p:nvPr/>
        </p:nvSpPr>
        <p:spPr>
          <a:xfrm>
            <a:off x="364176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6"/>
          <p:cNvSpPr/>
          <p:nvPr/>
        </p:nvSpPr>
        <p:spPr>
          <a:xfrm>
            <a:off x="364176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7"/>
          <p:cNvSpPr/>
          <p:nvPr/>
        </p:nvSpPr>
        <p:spPr>
          <a:xfrm>
            <a:off x="3649680" y="3581280"/>
            <a:ext cx="5414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4191120" y="359100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9"/>
          <p:cNvSpPr/>
          <p:nvPr/>
        </p:nvSpPr>
        <p:spPr>
          <a:xfrm>
            <a:off x="419112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4199040" y="3581280"/>
            <a:ext cx="5396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1"/>
          <p:cNvSpPr/>
          <p:nvPr/>
        </p:nvSpPr>
        <p:spPr>
          <a:xfrm>
            <a:off x="4738680" y="359100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2"/>
          <p:cNvSpPr/>
          <p:nvPr/>
        </p:nvSpPr>
        <p:spPr>
          <a:xfrm>
            <a:off x="4738680" y="35812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3"/>
          <p:cNvSpPr/>
          <p:nvPr/>
        </p:nvSpPr>
        <p:spPr>
          <a:xfrm>
            <a:off x="4748040" y="3581280"/>
            <a:ext cx="540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4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5"/>
          <p:cNvSpPr/>
          <p:nvPr/>
        </p:nvSpPr>
        <p:spPr>
          <a:xfrm>
            <a:off x="5288040" y="35812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6"/>
          <p:cNvSpPr/>
          <p:nvPr/>
        </p:nvSpPr>
        <p:spPr>
          <a:xfrm>
            <a:off x="3092400" y="3591000"/>
            <a:ext cx="97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7"/>
          <p:cNvSpPr/>
          <p:nvPr/>
        </p:nvSpPr>
        <p:spPr>
          <a:xfrm>
            <a:off x="364176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8"/>
          <p:cNvSpPr/>
          <p:nvPr/>
        </p:nvSpPr>
        <p:spPr>
          <a:xfrm>
            <a:off x="419112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9"/>
          <p:cNvSpPr/>
          <p:nvPr/>
        </p:nvSpPr>
        <p:spPr>
          <a:xfrm>
            <a:off x="4738680" y="3591000"/>
            <a:ext cx="936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5288040" y="3591000"/>
            <a:ext cx="792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331560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2"/>
          <p:cNvSpPr/>
          <p:nvPr/>
        </p:nvSpPr>
        <p:spPr>
          <a:xfrm>
            <a:off x="386496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3"/>
          <p:cNvSpPr/>
          <p:nvPr/>
        </p:nvSpPr>
        <p:spPr>
          <a:xfrm>
            <a:off x="441432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4"/>
          <p:cNvSpPr/>
          <p:nvPr/>
        </p:nvSpPr>
        <p:spPr>
          <a:xfrm>
            <a:off x="4961880" y="3780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5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6"/>
          <p:cNvSpPr/>
          <p:nvPr/>
        </p:nvSpPr>
        <p:spPr>
          <a:xfrm>
            <a:off x="3092400" y="3765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7"/>
          <p:cNvSpPr/>
          <p:nvPr/>
        </p:nvSpPr>
        <p:spPr>
          <a:xfrm>
            <a:off x="310212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8"/>
          <p:cNvSpPr/>
          <p:nvPr/>
        </p:nvSpPr>
        <p:spPr>
          <a:xfrm>
            <a:off x="364176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9"/>
          <p:cNvSpPr/>
          <p:nvPr/>
        </p:nvSpPr>
        <p:spPr>
          <a:xfrm>
            <a:off x="3649680" y="376560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0"/>
          <p:cNvSpPr/>
          <p:nvPr/>
        </p:nvSpPr>
        <p:spPr>
          <a:xfrm>
            <a:off x="419112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1"/>
          <p:cNvSpPr/>
          <p:nvPr/>
        </p:nvSpPr>
        <p:spPr>
          <a:xfrm>
            <a:off x="4199040" y="376560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2"/>
          <p:cNvSpPr/>
          <p:nvPr/>
        </p:nvSpPr>
        <p:spPr>
          <a:xfrm>
            <a:off x="4738680" y="3765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3"/>
          <p:cNvSpPr/>
          <p:nvPr/>
        </p:nvSpPr>
        <p:spPr>
          <a:xfrm>
            <a:off x="4748040" y="376560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4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5"/>
          <p:cNvSpPr/>
          <p:nvPr/>
        </p:nvSpPr>
        <p:spPr>
          <a:xfrm>
            <a:off x="5288040" y="376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6"/>
          <p:cNvSpPr/>
          <p:nvPr/>
        </p:nvSpPr>
        <p:spPr>
          <a:xfrm>
            <a:off x="336564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7"/>
          <p:cNvSpPr/>
          <p:nvPr/>
        </p:nvSpPr>
        <p:spPr>
          <a:xfrm>
            <a:off x="391500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8"/>
          <p:cNvSpPr/>
          <p:nvPr/>
        </p:nvSpPr>
        <p:spPr>
          <a:xfrm>
            <a:off x="4464360" y="425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9"/>
          <p:cNvSpPr/>
          <p:nvPr/>
        </p:nvSpPr>
        <p:spPr>
          <a:xfrm>
            <a:off x="4952520" y="4267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0"/>
          <p:cNvSpPr/>
          <p:nvPr/>
        </p:nvSpPr>
        <p:spPr>
          <a:xfrm>
            <a:off x="3092400" y="4245120"/>
            <a:ext cx="97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1"/>
          <p:cNvSpPr/>
          <p:nvPr/>
        </p:nvSpPr>
        <p:spPr>
          <a:xfrm>
            <a:off x="3092400" y="42451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2"/>
          <p:cNvSpPr/>
          <p:nvPr/>
        </p:nvSpPr>
        <p:spPr>
          <a:xfrm>
            <a:off x="310212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3"/>
          <p:cNvSpPr/>
          <p:nvPr/>
        </p:nvSpPr>
        <p:spPr>
          <a:xfrm>
            <a:off x="364176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4"/>
          <p:cNvSpPr/>
          <p:nvPr/>
        </p:nvSpPr>
        <p:spPr>
          <a:xfrm>
            <a:off x="364176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5"/>
          <p:cNvSpPr/>
          <p:nvPr/>
        </p:nvSpPr>
        <p:spPr>
          <a:xfrm>
            <a:off x="3649680" y="4245120"/>
            <a:ext cx="541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6"/>
          <p:cNvSpPr/>
          <p:nvPr/>
        </p:nvSpPr>
        <p:spPr>
          <a:xfrm>
            <a:off x="4191120" y="4254480"/>
            <a:ext cx="792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7"/>
          <p:cNvSpPr/>
          <p:nvPr/>
        </p:nvSpPr>
        <p:spPr>
          <a:xfrm>
            <a:off x="419112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8"/>
          <p:cNvSpPr/>
          <p:nvPr/>
        </p:nvSpPr>
        <p:spPr>
          <a:xfrm>
            <a:off x="4199040" y="4245120"/>
            <a:ext cx="5396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9"/>
          <p:cNvSpPr/>
          <p:nvPr/>
        </p:nvSpPr>
        <p:spPr>
          <a:xfrm>
            <a:off x="4738680" y="425448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0"/>
          <p:cNvSpPr/>
          <p:nvPr/>
        </p:nvSpPr>
        <p:spPr>
          <a:xfrm>
            <a:off x="4738680" y="4245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1"/>
          <p:cNvSpPr/>
          <p:nvPr/>
        </p:nvSpPr>
        <p:spPr>
          <a:xfrm>
            <a:off x="4748040" y="4245120"/>
            <a:ext cx="540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2"/>
          <p:cNvSpPr/>
          <p:nvPr/>
        </p:nvSpPr>
        <p:spPr>
          <a:xfrm>
            <a:off x="5288040" y="4245120"/>
            <a:ext cx="79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3"/>
          <p:cNvSpPr/>
          <p:nvPr/>
        </p:nvSpPr>
        <p:spPr>
          <a:xfrm>
            <a:off x="5288040" y="4245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3092400" y="4255920"/>
            <a:ext cx="97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5"/>
          <p:cNvSpPr/>
          <p:nvPr/>
        </p:nvSpPr>
        <p:spPr>
          <a:xfrm>
            <a:off x="364176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6"/>
          <p:cNvSpPr/>
          <p:nvPr/>
        </p:nvSpPr>
        <p:spPr>
          <a:xfrm>
            <a:off x="419112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7"/>
          <p:cNvSpPr/>
          <p:nvPr/>
        </p:nvSpPr>
        <p:spPr>
          <a:xfrm>
            <a:off x="4738680" y="4255920"/>
            <a:ext cx="936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8"/>
          <p:cNvSpPr/>
          <p:nvPr/>
        </p:nvSpPr>
        <p:spPr>
          <a:xfrm>
            <a:off x="5288040" y="4255920"/>
            <a:ext cx="7920" cy="1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9"/>
          <p:cNvSpPr/>
          <p:nvPr/>
        </p:nvSpPr>
        <p:spPr>
          <a:xfrm>
            <a:off x="331560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0"/>
          <p:cNvSpPr/>
          <p:nvPr/>
        </p:nvSpPr>
        <p:spPr>
          <a:xfrm>
            <a:off x="386496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1"/>
          <p:cNvSpPr/>
          <p:nvPr/>
        </p:nvSpPr>
        <p:spPr>
          <a:xfrm>
            <a:off x="441432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2"/>
          <p:cNvSpPr/>
          <p:nvPr/>
        </p:nvSpPr>
        <p:spPr>
          <a:xfrm>
            <a:off x="4961880" y="44449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3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4"/>
          <p:cNvSpPr/>
          <p:nvPr/>
        </p:nvSpPr>
        <p:spPr>
          <a:xfrm>
            <a:off x="3092400" y="443088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5"/>
          <p:cNvSpPr/>
          <p:nvPr/>
        </p:nvSpPr>
        <p:spPr>
          <a:xfrm>
            <a:off x="310212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6"/>
          <p:cNvSpPr/>
          <p:nvPr/>
        </p:nvSpPr>
        <p:spPr>
          <a:xfrm>
            <a:off x="364176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3649680" y="4430880"/>
            <a:ext cx="541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8"/>
          <p:cNvSpPr/>
          <p:nvPr/>
        </p:nvSpPr>
        <p:spPr>
          <a:xfrm>
            <a:off x="419112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9"/>
          <p:cNvSpPr/>
          <p:nvPr/>
        </p:nvSpPr>
        <p:spPr>
          <a:xfrm>
            <a:off x="4199040" y="4430880"/>
            <a:ext cx="5396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0"/>
          <p:cNvSpPr/>
          <p:nvPr/>
        </p:nvSpPr>
        <p:spPr>
          <a:xfrm>
            <a:off x="4738680" y="44308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1"/>
          <p:cNvSpPr/>
          <p:nvPr/>
        </p:nvSpPr>
        <p:spPr>
          <a:xfrm>
            <a:off x="4748040" y="4430880"/>
            <a:ext cx="540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2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3"/>
          <p:cNvSpPr/>
          <p:nvPr/>
        </p:nvSpPr>
        <p:spPr>
          <a:xfrm>
            <a:off x="5288040" y="44308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4"/>
          <p:cNvSpPr/>
          <p:nvPr/>
        </p:nvSpPr>
        <p:spPr>
          <a:xfrm>
            <a:off x="1600200" y="3581280"/>
            <a:ext cx="9064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35"/>
          <p:cNvSpPr/>
          <p:nvPr/>
        </p:nvSpPr>
        <p:spPr>
          <a:xfrm>
            <a:off x="1838880" y="363528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8"/>
          <p:cNvSpPr/>
          <p:nvPr/>
        </p:nvSpPr>
        <p:spPr>
          <a:xfrm>
            <a:off x="685800" y="3581280"/>
            <a:ext cx="9050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9"/>
          <p:cNvSpPr/>
          <p:nvPr/>
        </p:nvSpPr>
        <p:spPr>
          <a:xfrm>
            <a:off x="865800" y="363204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0"/>
          <p:cNvSpPr/>
          <p:nvPr/>
        </p:nvSpPr>
        <p:spPr>
          <a:xfrm>
            <a:off x="1600200" y="4224240"/>
            <a:ext cx="906480" cy="2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1"/>
          <p:cNvSpPr/>
          <p:nvPr/>
        </p:nvSpPr>
        <p:spPr>
          <a:xfrm>
            <a:off x="1838880" y="427680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4"/>
          <p:cNvSpPr/>
          <p:nvPr/>
        </p:nvSpPr>
        <p:spPr>
          <a:xfrm>
            <a:off x="685800" y="4224240"/>
            <a:ext cx="905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5"/>
          <p:cNvSpPr/>
          <p:nvPr/>
        </p:nvSpPr>
        <p:spPr>
          <a:xfrm>
            <a:off x="805680" y="4275000"/>
            <a:ext cx="70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718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267080" y="5724360"/>
            <a:ext cx="79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815000" y="5724360"/>
            <a:ext cx="93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762120" y="5715000"/>
            <a:ext cx="4610160" cy="906480"/>
            <a:chOff x="762120" y="5715000"/>
            <a:chExt cx="4610160" cy="906480"/>
          </a:xfrm>
        </p:grpSpPr>
        <p:sp>
          <p:nvSpPr>
            <p:cNvPr id="140" name="Rectangle 11"/>
            <p:cNvSpPr/>
            <p:nvPr/>
          </p:nvSpPr>
          <p:spPr>
            <a:xfrm>
              <a:off x="3403800" y="57294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391500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446436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5011920" y="57294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316872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317808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3718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9"/>
            <p:cNvSpPr/>
            <p:nvPr/>
          </p:nvSpPr>
          <p:spPr>
            <a:xfrm>
              <a:off x="3726000" y="571500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0"/>
            <p:cNvSpPr/>
            <p:nvPr/>
          </p:nvSpPr>
          <p:spPr>
            <a:xfrm>
              <a:off x="4267080" y="571500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4275000" y="571500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2"/>
            <p:cNvSpPr/>
            <p:nvPr/>
          </p:nvSpPr>
          <p:spPr>
            <a:xfrm>
              <a:off x="4815000" y="571500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3"/>
            <p:cNvSpPr/>
            <p:nvPr/>
          </p:nvSpPr>
          <p:spPr>
            <a:xfrm>
              <a:off x="4824360" y="571500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4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5364000" y="571500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26"/>
            <p:cNvSpPr/>
            <p:nvPr/>
          </p:nvSpPr>
          <p:spPr>
            <a:xfrm>
              <a:off x="316872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27"/>
            <p:cNvSpPr/>
            <p:nvPr/>
          </p:nvSpPr>
          <p:spPr>
            <a:xfrm>
              <a:off x="3718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28"/>
            <p:cNvSpPr/>
            <p:nvPr/>
          </p:nvSpPr>
          <p:spPr>
            <a:xfrm>
              <a:off x="4267080" y="5724360"/>
              <a:ext cx="792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9"/>
            <p:cNvSpPr/>
            <p:nvPr/>
          </p:nvSpPr>
          <p:spPr>
            <a:xfrm>
              <a:off x="4815000" y="5724360"/>
              <a:ext cx="936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5364000" y="5724360"/>
              <a:ext cx="8280" cy="1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31"/>
            <p:cNvSpPr/>
            <p:nvPr/>
          </p:nvSpPr>
          <p:spPr>
            <a:xfrm>
              <a:off x="3391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32"/>
            <p:cNvSpPr/>
            <p:nvPr/>
          </p:nvSpPr>
          <p:spPr>
            <a:xfrm>
              <a:off x="394092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33"/>
            <p:cNvSpPr/>
            <p:nvPr/>
          </p:nvSpPr>
          <p:spPr>
            <a:xfrm>
              <a:off x="449028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5038200" y="591336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35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6"/>
            <p:cNvSpPr/>
            <p:nvPr/>
          </p:nvSpPr>
          <p:spPr>
            <a:xfrm>
              <a:off x="316872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317808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3718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9"/>
            <p:cNvSpPr/>
            <p:nvPr/>
          </p:nvSpPr>
          <p:spPr>
            <a:xfrm>
              <a:off x="3726000" y="5899320"/>
              <a:ext cx="541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0"/>
            <p:cNvSpPr/>
            <p:nvPr/>
          </p:nvSpPr>
          <p:spPr>
            <a:xfrm>
              <a:off x="4267080" y="5899320"/>
              <a:ext cx="7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41"/>
            <p:cNvSpPr/>
            <p:nvPr/>
          </p:nvSpPr>
          <p:spPr>
            <a:xfrm>
              <a:off x="4275000" y="5899320"/>
              <a:ext cx="540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2"/>
            <p:cNvSpPr/>
            <p:nvPr/>
          </p:nvSpPr>
          <p:spPr>
            <a:xfrm>
              <a:off x="4815000" y="58993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43"/>
            <p:cNvSpPr/>
            <p:nvPr/>
          </p:nvSpPr>
          <p:spPr>
            <a:xfrm>
              <a:off x="4824360" y="5899320"/>
              <a:ext cx="539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4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45"/>
            <p:cNvSpPr/>
            <p:nvPr/>
          </p:nvSpPr>
          <p:spPr>
            <a:xfrm>
              <a:off x="5364000" y="5899320"/>
              <a:ext cx="8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46"/>
            <p:cNvSpPr/>
            <p:nvPr/>
          </p:nvSpPr>
          <p:spPr>
            <a:xfrm>
              <a:off x="1676520" y="571500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47"/>
            <p:cNvSpPr/>
            <p:nvPr/>
          </p:nvSpPr>
          <p:spPr>
            <a:xfrm>
              <a:off x="1914840" y="576900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8"/>
            <p:cNvSpPr/>
            <p:nvPr/>
          </p:nvSpPr>
          <p:spPr>
            <a:xfrm>
              <a:off x="2590920" y="5807160"/>
              <a:ext cx="45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49"/>
            <p:cNvSpPr/>
            <p:nvPr/>
          </p:nvSpPr>
          <p:spPr>
            <a:xfrm>
              <a:off x="3040200" y="5756400"/>
              <a:ext cx="99720" cy="1015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3" h="64">
                  <a:moveTo>
                    <a:pt x="0" y="64"/>
                  </a:moveTo>
                  <a:lnTo>
                    <a:pt x="63" y="32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50"/>
            <p:cNvSpPr/>
            <p:nvPr/>
          </p:nvSpPr>
          <p:spPr>
            <a:xfrm>
              <a:off x="762120" y="571500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51"/>
            <p:cNvSpPr/>
            <p:nvPr/>
          </p:nvSpPr>
          <p:spPr>
            <a:xfrm>
              <a:off x="941760" y="57657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52"/>
            <p:cNvSpPr/>
            <p:nvPr/>
          </p:nvSpPr>
          <p:spPr>
            <a:xfrm>
              <a:off x="1676520" y="6354720"/>
              <a:ext cx="90648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1914840" y="640872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62120" y="6354720"/>
              <a:ext cx="904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882000" y="6405480"/>
              <a:ext cx="70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ew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6"/>
            <p:cNvSpPr/>
            <p:nvPr/>
          </p:nvSpPr>
          <p:spPr>
            <a:xfrm flipV="1">
              <a:off x="2590920" y="5970240"/>
              <a:ext cx="4870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57"/>
            <p:cNvSpPr/>
            <p:nvPr/>
          </p:nvSpPr>
          <p:spPr>
            <a:xfrm>
              <a:off x="3036960" y="5897520"/>
              <a:ext cx="102960" cy="1080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5" h="68">
                  <a:moveTo>
                    <a:pt x="48" y="68"/>
                  </a:moveTo>
                  <a:lnTo>
                    <a:pt x="65" y="0"/>
                  </a:lnTo>
                  <a:lnTo>
                    <a:pt x="0" y="27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46"/>
          <p:cNvSpPr/>
          <p:nvPr/>
        </p:nvSpPr>
        <p:spPr>
          <a:xfrm>
            <a:off x="251460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7"/>
          <p:cNvSpPr/>
          <p:nvPr/>
        </p:nvSpPr>
        <p:spPr>
          <a:xfrm>
            <a:off x="251460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20FA-5544-4963-9CD0-8750CF3B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82C-8C4F-4DAF-97E7-1FB159142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py the contents of one array to another you must copy the individual array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01FD-D178-4482-A09B-90B5BC14B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A4DB-8CBD-4592-8C94-FD9BCF85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ARRAY ELEMENTS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ing The Contents of One Array to Another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py the contents of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ld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array referen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could wr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oldValues = {10, 100, 200, 30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[ ] newValues = new short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 If newValues is large enough to hold the values in old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newValues.length &gt;= oldValues.length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count = 0; count &lt; oldValues.length; count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Values[count] = oldValues[coun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68440"/>
                <a:tab algn="l" pos="1144440"/>
                <a:tab algn="l" pos="17128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CE2C-A65A-4124-9DF8-A948FE09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FEA-9CF6-4873-9F93-8450367A0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in the segment below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ctly determine if the contents of the two array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 // This is a logical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AB92-E836-468D-A67B-CEC6BD6D2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41A7-133C-4AB6-A698-C15D62284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comparing the addresses stored in the reference variab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ay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two arrays are not stored in the same memory location so the conditional expression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qu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ys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1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[ ] array2 = {'A', 'B', 'C', 'D', 'A'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equal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(array1 == array2) // This is false - the addresses are not 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349-30A8-4065-8665-297F58511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537E-8E21-4926-B9B0-17FDFAE3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are the contents of two arrays, you must compare the individual elements of the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loop that goes through the subscripts of the arrays comparing the elements at the same subscript/offset in the two 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70EF-5BC4-43A0-BABB-CB12928F3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1BDE-D8D6-4631-BE01-EAEC44C6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USEFUL ARRAY OPERATIONS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ing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bscrip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sameSoFar = tru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.length != sec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ameSoFar &amp;&amp; subscript &lt; firstArray.leng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irstArray[subscript] != secArray[subscript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SoFar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++; // Incr. the counter used to move through the subscr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8440"/>
                <a:tab algn="l" pos="114444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2:30:39Z</dcterms:created>
  <dc:creator>Steve Thompson</dc:creator>
  <dc:description/>
  <dc:language>en-US</dc:language>
  <cp:lastModifiedBy>Sarona</cp:lastModifiedBy>
  <cp:lastPrinted>2009-04-23T01:45:53Z</cp:lastPrinted>
  <dcterms:modified xsi:type="dcterms:W3CDTF">2017-11-07T13:53:13Z</dcterms:modified>
  <cp:revision>1243</cp:revision>
  <dc:subject/>
  <dc:title>Chapter 1 INTRODUCTION TO COMPUTERS AND JAVA</dc:title>
</cp:coreProperties>
</file>