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3D3-9491-4F4C-83B9-0A22F38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EA6-6727-42E1-B3CA-43C01C84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873-6A77-4A2E-B842-65AE95D1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F7A-9461-4E37-8C47-94377B4D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9F7-1E25-43A6-942D-E90BEDC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D7D-0AEB-43C1-8AD1-637EF6FB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4F0-3442-4A9F-AA48-59CBD5A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C57-CA30-45FD-AF8F-74A209FF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817-4E05-4833-83C0-5C611D43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7B-7BA3-4587-9233-FDF8096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55E-30A9-4043-B98F-AF87AA0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8B3-BB6F-4AAD-AE80-B2D4627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A96-313D-480B-AB3C-ECE8BF0B17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CFCB-EFB4-41DF-A408-B6E22B5C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6D77-D60D-4965-9309-0E01EAD2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E4AD-E47E-4B10-B478-7221C7A0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010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pter 9 Part 2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5A0-0F7E-4871-A10E-2EFC363D0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DC9-5CA4-49D1-B7A5-002D9BB64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sum of the values in a numeric array, create a loop to cycle through all the elements of the array adding the value in each array element to an accumulator variable that was initialized to zero before th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FD4-8762-4425-9198-0D96F46D6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D017-9B30-4CA2-8921-6534A144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760" y="177156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 = 0;   // The accumulato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2E6-2F1E-4D2C-BE64-272084F3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D2A-FD27-44A0-8EC0-147692E37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average of the values in a numeric array, first find the sum of the values in the array.  Then divide this sum by the number of elements in the arra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AD70-31E8-476C-A68A-0E27FD789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F10-3F14-434A-BF22-8302D674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 =0;   // The accumulato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er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sum / array.length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06F8-8C68-4060-8DE5-9C6CDD0CA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68F-E27B-48AC-9F78-B26E2664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highest value in a numeric array, copy the value of the first element of the array into a variabl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variable holds a copy of the highest value encountered so far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through the subscripts of each of the other elements of the array.  Compare each element to the value currentl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higher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 copy of the high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6BB8-A3BC-401A-B8A2-0CBD8C36A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CE99-FE7F-4C16-92E9-85DC3F5D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8813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highest = array[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bscript = 1; subscript &lt; array.length; subscrip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ray[subscript] &gt; high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= array[subscrip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F55-2D20-4810-943C-A133FA26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06F-70E8-4CAC-9DFA-02B9B284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st value in an array can be found using a method that is very similar to the one for finding the high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copy of the lowest value encountered so far in the array in a variable, sa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value of each element of the array with the current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less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copy of the low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8B07-8840-438F-8280-D77A877A3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TestArra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[] myList = {1.9, 2.9, 3.4, 3.5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Print all the arra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0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myList[i] + 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Summing al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 tot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0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+= my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otal is " + tot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Finding the larges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 max = myList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1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myList[i] &gt; max) max = my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Max is " + max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6400800" y="914400"/>
            <a:ext cx="175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s 1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is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JavaStringArray 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main(String args[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[] myFirstStringArray =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String[]{"String 1", "String 2", "String 3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first declare String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[] mySecondStringArray =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String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           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Now Assign individual String array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0] = "String 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1] = "String 2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2] = "String 3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myFirstStringArray[1]);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this will retrieve second element of first String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iterate the String array using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i=0; i &lt; mySecondStringArray.length; 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mySecondStringArray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3E0-B65F-40FA-9BBF-315A689E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E5A8-D291-4880-8680-C9717A6F0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A04-9ADB-43C4-9889-100103FA5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signment operat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py the contents of one array to anoth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tatement in the segment below copies the address stor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eference variab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a copy of the contents of the array referen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/ Does not make a copy of the contents of the array ref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// by old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F2B9-8967-4605-9953-74188E3BA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431-D36A-41E8-97FC-901010FC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920" y="202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following statements execute, we have the situation illustrated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ssignment statement below executes we will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// Copies the address in oldValues into new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3327840" y="359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3839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0"/>
          <p:cNvSpPr/>
          <p:nvPr/>
        </p:nvSpPr>
        <p:spPr>
          <a:xfrm>
            <a:off x="4388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1"/>
          <p:cNvSpPr/>
          <p:nvPr/>
        </p:nvSpPr>
        <p:spPr>
          <a:xfrm>
            <a:off x="493596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2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4"/>
          <p:cNvSpPr/>
          <p:nvPr/>
        </p:nvSpPr>
        <p:spPr>
          <a:xfrm>
            <a:off x="310212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5"/>
          <p:cNvSpPr/>
          <p:nvPr/>
        </p:nvSpPr>
        <p:spPr>
          <a:xfrm>
            <a:off x="364176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6"/>
          <p:cNvSpPr/>
          <p:nvPr/>
        </p:nvSpPr>
        <p:spPr>
          <a:xfrm>
            <a:off x="364176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7"/>
          <p:cNvSpPr/>
          <p:nvPr/>
        </p:nvSpPr>
        <p:spPr>
          <a:xfrm>
            <a:off x="3649680" y="3581280"/>
            <a:ext cx="541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419112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9"/>
          <p:cNvSpPr/>
          <p:nvPr/>
        </p:nvSpPr>
        <p:spPr>
          <a:xfrm>
            <a:off x="419112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419904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4738680" y="359100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4738680" y="35812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4748040" y="3581280"/>
            <a:ext cx="540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6"/>
          <p:cNvSpPr/>
          <p:nvPr/>
        </p:nvSpPr>
        <p:spPr>
          <a:xfrm>
            <a:off x="3092400" y="3591000"/>
            <a:ext cx="97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7"/>
          <p:cNvSpPr/>
          <p:nvPr/>
        </p:nvSpPr>
        <p:spPr>
          <a:xfrm>
            <a:off x="364176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8"/>
          <p:cNvSpPr/>
          <p:nvPr/>
        </p:nvSpPr>
        <p:spPr>
          <a:xfrm>
            <a:off x="419112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9"/>
          <p:cNvSpPr/>
          <p:nvPr/>
        </p:nvSpPr>
        <p:spPr>
          <a:xfrm>
            <a:off x="4738680" y="3591000"/>
            <a:ext cx="936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528804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331560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2"/>
          <p:cNvSpPr/>
          <p:nvPr/>
        </p:nvSpPr>
        <p:spPr>
          <a:xfrm>
            <a:off x="386496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3"/>
          <p:cNvSpPr/>
          <p:nvPr/>
        </p:nvSpPr>
        <p:spPr>
          <a:xfrm>
            <a:off x="441432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4"/>
          <p:cNvSpPr/>
          <p:nvPr/>
        </p:nvSpPr>
        <p:spPr>
          <a:xfrm>
            <a:off x="496188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5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6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7"/>
          <p:cNvSpPr/>
          <p:nvPr/>
        </p:nvSpPr>
        <p:spPr>
          <a:xfrm>
            <a:off x="310212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8"/>
          <p:cNvSpPr/>
          <p:nvPr/>
        </p:nvSpPr>
        <p:spPr>
          <a:xfrm>
            <a:off x="364176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9"/>
          <p:cNvSpPr/>
          <p:nvPr/>
        </p:nvSpPr>
        <p:spPr>
          <a:xfrm>
            <a:off x="3649680" y="376560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0"/>
          <p:cNvSpPr/>
          <p:nvPr/>
        </p:nvSpPr>
        <p:spPr>
          <a:xfrm>
            <a:off x="419112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1"/>
          <p:cNvSpPr/>
          <p:nvPr/>
        </p:nvSpPr>
        <p:spPr>
          <a:xfrm>
            <a:off x="419904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2"/>
          <p:cNvSpPr/>
          <p:nvPr/>
        </p:nvSpPr>
        <p:spPr>
          <a:xfrm>
            <a:off x="4738680" y="3765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3"/>
          <p:cNvSpPr/>
          <p:nvPr/>
        </p:nvSpPr>
        <p:spPr>
          <a:xfrm>
            <a:off x="4748040" y="376560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4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5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6"/>
          <p:cNvSpPr/>
          <p:nvPr/>
        </p:nvSpPr>
        <p:spPr>
          <a:xfrm>
            <a:off x="336564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7"/>
          <p:cNvSpPr/>
          <p:nvPr/>
        </p:nvSpPr>
        <p:spPr>
          <a:xfrm>
            <a:off x="391500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8"/>
          <p:cNvSpPr/>
          <p:nvPr/>
        </p:nvSpPr>
        <p:spPr>
          <a:xfrm>
            <a:off x="446436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9"/>
          <p:cNvSpPr/>
          <p:nvPr/>
        </p:nvSpPr>
        <p:spPr>
          <a:xfrm>
            <a:off x="4952520" y="4267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0"/>
          <p:cNvSpPr/>
          <p:nvPr/>
        </p:nvSpPr>
        <p:spPr>
          <a:xfrm>
            <a:off x="3092400" y="4245120"/>
            <a:ext cx="9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1"/>
          <p:cNvSpPr/>
          <p:nvPr/>
        </p:nvSpPr>
        <p:spPr>
          <a:xfrm>
            <a:off x="3092400" y="4245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"/>
          <p:cNvSpPr/>
          <p:nvPr/>
        </p:nvSpPr>
        <p:spPr>
          <a:xfrm>
            <a:off x="310212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3"/>
          <p:cNvSpPr/>
          <p:nvPr/>
        </p:nvSpPr>
        <p:spPr>
          <a:xfrm>
            <a:off x="364176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"/>
          <p:cNvSpPr/>
          <p:nvPr/>
        </p:nvSpPr>
        <p:spPr>
          <a:xfrm>
            <a:off x="364176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5"/>
          <p:cNvSpPr/>
          <p:nvPr/>
        </p:nvSpPr>
        <p:spPr>
          <a:xfrm>
            <a:off x="3649680" y="424512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6"/>
          <p:cNvSpPr/>
          <p:nvPr/>
        </p:nvSpPr>
        <p:spPr>
          <a:xfrm>
            <a:off x="419112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7"/>
          <p:cNvSpPr/>
          <p:nvPr/>
        </p:nvSpPr>
        <p:spPr>
          <a:xfrm>
            <a:off x="419112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8"/>
          <p:cNvSpPr/>
          <p:nvPr/>
        </p:nvSpPr>
        <p:spPr>
          <a:xfrm>
            <a:off x="419904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9"/>
          <p:cNvSpPr/>
          <p:nvPr/>
        </p:nvSpPr>
        <p:spPr>
          <a:xfrm>
            <a:off x="4738680" y="4254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4738680" y="4245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1"/>
          <p:cNvSpPr/>
          <p:nvPr/>
        </p:nvSpPr>
        <p:spPr>
          <a:xfrm>
            <a:off x="4748040" y="424512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2"/>
          <p:cNvSpPr/>
          <p:nvPr/>
        </p:nvSpPr>
        <p:spPr>
          <a:xfrm>
            <a:off x="5288040" y="4245120"/>
            <a:ext cx="79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3"/>
          <p:cNvSpPr/>
          <p:nvPr/>
        </p:nvSpPr>
        <p:spPr>
          <a:xfrm>
            <a:off x="528804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3092400" y="4255920"/>
            <a:ext cx="97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364176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6"/>
          <p:cNvSpPr/>
          <p:nvPr/>
        </p:nvSpPr>
        <p:spPr>
          <a:xfrm>
            <a:off x="419112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7"/>
          <p:cNvSpPr/>
          <p:nvPr/>
        </p:nvSpPr>
        <p:spPr>
          <a:xfrm>
            <a:off x="4738680" y="4255920"/>
            <a:ext cx="936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8"/>
          <p:cNvSpPr/>
          <p:nvPr/>
        </p:nvSpPr>
        <p:spPr>
          <a:xfrm>
            <a:off x="528804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9"/>
          <p:cNvSpPr/>
          <p:nvPr/>
        </p:nvSpPr>
        <p:spPr>
          <a:xfrm>
            <a:off x="331560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0"/>
          <p:cNvSpPr/>
          <p:nvPr/>
        </p:nvSpPr>
        <p:spPr>
          <a:xfrm>
            <a:off x="386496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1"/>
          <p:cNvSpPr/>
          <p:nvPr/>
        </p:nvSpPr>
        <p:spPr>
          <a:xfrm>
            <a:off x="441432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2"/>
          <p:cNvSpPr/>
          <p:nvPr/>
        </p:nvSpPr>
        <p:spPr>
          <a:xfrm>
            <a:off x="496188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3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5"/>
          <p:cNvSpPr/>
          <p:nvPr/>
        </p:nvSpPr>
        <p:spPr>
          <a:xfrm>
            <a:off x="310212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6"/>
          <p:cNvSpPr/>
          <p:nvPr/>
        </p:nvSpPr>
        <p:spPr>
          <a:xfrm>
            <a:off x="364176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3649680" y="4430880"/>
            <a:ext cx="541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8"/>
          <p:cNvSpPr/>
          <p:nvPr/>
        </p:nvSpPr>
        <p:spPr>
          <a:xfrm>
            <a:off x="419112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9"/>
          <p:cNvSpPr/>
          <p:nvPr/>
        </p:nvSpPr>
        <p:spPr>
          <a:xfrm>
            <a:off x="419904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0"/>
          <p:cNvSpPr/>
          <p:nvPr/>
        </p:nvSpPr>
        <p:spPr>
          <a:xfrm>
            <a:off x="4738680" y="44308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4748040" y="4430880"/>
            <a:ext cx="5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2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3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4"/>
          <p:cNvSpPr/>
          <p:nvPr/>
        </p:nvSpPr>
        <p:spPr>
          <a:xfrm>
            <a:off x="1600200" y="3581280"/>
            <a:ext cx="906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5"/>
          <p:cNvSpPr/>
          <p:nvPr/>
        </p:nvSpPr>
        <p:spPr>
          <a:xfrm>
            <a:off x="1838880" y="36352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8"/>
          <p:cNvSpPr/>
          <p:nvPr/>
        </p:nvSpPr>
        <p:spPr>
          <a:xfrm>
            <a:off x="685800" y="3581280"/>
            <a:ext cx="905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9"/>
          <p:cNvSpPr/>
          <p:nvPr/>
        </p:nvSpPr>
        <p:spPr>
          <a:xfrm>
            <a:off x="865800" y="363204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0"/>
          <p:cNvSpPr/>
          <p:nvPr/>
        </p:nvSpPr>
        <p:spPr>
          <a:xfrm>
            <a:off x="1600200" y="4224240"/>
            <a:ext cx="9064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1"/>
          <p:cNvSpPr/>
          <p:nvPr/>
        </p:nvSpPr>
        <p:spPr>
          <a:xfrm>
            <a:off x="1838880" y="427680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4"/>
          <p:cNvSpPr/>
          <p:nvPr/>
        </p:nvSpPr>
        <p:spPr>
          <a:xfrm>
            <a:off x="685800" y="4224240"/>
            <a:ext cx="90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5"/>
          <p:cNvSpPr/>
          <p:nvPr/>
        </p:nvSpPr>
        <p:spPr>
          <a:xfrm>
            <a:off x="805680" y="4275000"/>
            <a:ext cx="70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8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267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815000" y="57243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762120" y="5715000"/>
            <a:ext cx="4610160" cy="906480"/>
            <a:chOff x="762120" y="5715000"/>
            <a:chExt cx="4610160" cy="906480"/>
          </a:xfrm>
        </p:grpSpPr>
        <p:sp>
          <p:nvSpPr>
            <p:cNvPr id="140" name="Rectangle 11"/>
            <p:cNvSpPr/>
            <p:nvPr/>
          </p:nvSpPr>
          <p:spPr>
            <a:xfrm>
              <a:off x="3403800" y="57294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391500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46436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01192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17808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3718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3726000" y="571500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4267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427500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481500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4824360" y="571500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16872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7"/>
            <p:cNvSpPr/>
            <p:nvPr/>
          </p:nvSpPr>
          <p:spPr>
            <a:xfrm>
              <a:off x="3718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4267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9"/>
            <p:cNvSpPr/>
            <p:nvPr/>
          </p:nvSpPr>
          <p:spPr>
            <a:xfrm>
              <a:off x="481500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364000" y="5724360"/>
              <a:ext cx="828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3391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3940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49028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503820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317808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3718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9"/>
            <p:cNvSpPr/>
            <p:nvPr/>
          </p:nvSpPr>
          <p:spPr>
            <a:xfrm>
              <a:off x="3726000" y="589932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0"/>
            <p:cNvSpPr/>
            <p:nvPr/>
          </p:nvSpPr>
          <p:spPr>
            <a:xfrm>
              <a:off x="4267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427500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2"/>
            <p:cNvSpPr/>
            <p:nvPr/>
          </p:nvSpPr>
          <p:spPr>
            <a:xfrm>
              <a:off x="481500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43"/>
            <p:cNvSpPr/>
            <p:nvPr/>
          </p:nvSpPr>
          <p:spPr>
            <a:xfrm>
              <a:off x="4824360" y="589932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1676520" y="571500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1914840" y="5769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8"/>
            <p:cNvSpPr/>
            <p:nvPr/>
          </p:nvSpPr>
          <p:spPr>
            <a:xfrm>
              <a:off x="2590920" y="5807160"/>
              <a:ext cx="45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3040200" y="5756400"/>
              <a:ext cx="99720" cy="101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3" h="64">
                  <a:moveTo>
                    <a:pt x="0" y="64"/>
                  </a:moveTo>
                  <a:lnTo>
                    <a:pt x="63" y="32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762120" y="571500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941760" y="57657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1676520" y="635472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1914840" y="640872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62120" y="635472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882000" y="640548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w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V="1">
              <a:off x="2590920" y="5970240"/>
              <a:ext cx="4870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3036960" y="589752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5" h="68">
                  <a:moveTo>
                    <a:pt x="48" y="68"/>
                  </a:moveTo>
                  <a:lnTo>
                    <a:pt x="65" y="0"/>
                  </a:lnTo>
                  <a:lnTo>
                    <a:pt x="0" y="27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46"/>
          <p:cNvSpPr/>
          <p:nvPr/>
        </p:nvSpPr>
        <p:spPr>
          <a:xfrm>
            <a:off x="251460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7"/>
          <p:cNvSpPr/>
          <p:nvPr/>
        </p:nvSpPr>
        <p:spPr>
          <a:xfrm>
            <a:off x="25146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4347-2BD3-497B-B41E-0AC75DA60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DE9-08EB-4B70-B597-F4CA8FC7C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py the contents of one array to another you must copy the individual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F37-2F59-4000-A55E-EA69CAC1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7C6-70EB-4274-99AE-06799E6E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py the contents of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ould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oldValues = {10, 100, 200, 30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newValues = new short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If newValues is large enough to hold the values in old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wValues.length &gt;= oldValues.length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oldValues.length; coun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Values[count] = oldValues[coun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E7CC-D979-4323-941E-C98B6C376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276-565B-482A-8150-C1A92712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in the segment be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ctly determine if the contents of the two array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 // This is a logical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C90-E5A3-4867-B014-8704E39E6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DB6B-2352-4D14-A12F-21F152A3F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comparing the addresses stored in the referenc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two arrays are not stored in the same memory location so the conditional expres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qu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s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// This is false - the addresses are no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570-A205-48F7-B6C0-7BCA18C48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342-983B-43FD-8A8B-D2DF65AE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are the contents of two arrays, you must compare the individual elements of the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loop that goes through the subscripts of the arrays comparing the elements at the same subscript/offset in the two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CD83-FC09-4D49-80F6-C9845A5B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0CB-968E-4399-917F-233A9EEF4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sameSoFar = tru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.length != sec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ameSoFar &amp;&amp; subscript &lt; first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[subscript] != secArray[subscript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++; // Incr. the counter used to move through the sub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2:30:39Z</dcterms:created>
  <dc:creator>Steve Thompson</dc:creator>
  <dc:description/>
  <dc:language>en-US</dc:language>
  <cp:lastModifiedBy>Sarona</cp:lastModifiedBy>
  <cp:lastPrinted>2009-04-23T01:45:53Z</cp:lastPrinted>
  <dcterms:modified xsi:type="dcterms:W3CDTF">2017-11-07T13:53:13Z</dcterms:modified>
  <cp:revision>1243</cp:revision>
  <dc:subject/>
  <dc:title>Chapter 1 INTRODUCTION TO COMPUTERS AND JAVA</dc:title>
</cp:coreProperties>
</file>