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6980238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0"/>
            <a:ext cx="69804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dt" idx="15"/>
          </p:nvPr>
        </p:nvSpPr>
        <p:spPr>
          <a:xfrm>
            <a:off x="395568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Rockwell Condensed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ftr" idx="16"/>
          </p:nvPr>
        </p:nvSpPr>
        <p:spPr>
          <a:xfrm>
            <a:off x="-36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 type="sldNum" idx="17"/>
          </p:nvPr>
        </p:nvSpPr>
        <p:spPr>
          <a:xfrm>
            <a:off x="395568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A0CEE57-5856-4CCE-9CA7-2F58F965FAD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956040" y="8774280"/>
            <a:ext cx="3024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3BC4B1C-5709-4D05-B360-9DAD61F5964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4AA7-E7E1-4E8A-8063-219FABB7B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7772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237200"/>
            <a:ext cx="7772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30D6-5B23-4C74-BE6F-DDB6A0B21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23720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23720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A5C4-5DC1-4E96-802F-4017C316D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212076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212076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23720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23720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23720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2A90-7B02-4283-99F2-EBC785558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55178-0D80-4EC7-9D57-BDD6FB938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2120760"/>
            <a:ext cx="77724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E5786-50EB-4159-B613-3F4B787C3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7772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B87C3-51A2-430C-B75A-452213C2C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37926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120760"/>
            <a:ext cx="37926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F074F-279B-4C67-ACC9-5A7146D7D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9950E-7162-407D-880E-AD0FB1FC9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483840"/>
            <a:ext cx="7772400" cy="74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5CBC9-8205-4D88-8526-A5ED52141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2120760"/>
            <a:ext cx="37926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23720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84789-C9EB-40FA-9963-D3C7F8ACC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2120760"/>
            <a:ext cx="77724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A7C4-33AA-4F10-8EE5-448FB005F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37926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23720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62FD9-61F4-41F6-864C-B6048FE5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237200"/>
            <a:ext cx="7772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DB55D-06F3-4CEB-B505-E566E5EB9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7772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237200"/>
            <a:ext cx="7772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2BDEE-A8F3-48B9-A4BE-4AF4A6F60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23720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23720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A535C-61D0-4811-A45F-60410902F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212076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212076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23720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23720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23720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03998-B44A-45D6-ADE0-2CACDD4E5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1031E-F0A1-44FE-95A6-9870D538C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2120760"/>
            <a:ext cx="77724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C342E-3BB7-4F5D-B104-058FC823D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7772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65959-EC15-47EF-A0AB-87460A08F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37926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2120760"/>
            <a:ext cx="37926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C2584-32EF-44CA-A7B3-9FB16DBEB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5BBF3-2C71-46A7-A7D3-275800C63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7772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DC4A-1C55-4CFE-B811-17579A2B8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800" y="483840"/>
            <a:ext cx="7772400" cy="74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4C409-BF0D-4C5B-8183-478178DAE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2120760"/>
            <a:ext cx="37926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23720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A9ACD-C375-4AAB-809F-BEC1944AA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37926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68480" y="423720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E8FC0-5ECF-4AB8-8E86-A32812426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4237200"/>
            <a:ext cx="7772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0D1C2-45D8-47A8-A791-B84F85117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7772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4237200"/>
            <a:ext cx="7772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2B44F-EC07-4635-B1DF-14D8D05F0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23720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68480" y="423720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6FF2C-A561-41D9-BAFF-704635DEB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13800" y="212076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41440" y="212076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423720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13800" y="423720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941440" y="423720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37A6E-2E9A-4F5A-A4C2-0D932DCDA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D0CED-E193-4A0F-8875-90C02B2E6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685800" y="2120760"/>
            <a:ext cx="77724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759AA-1D39-4EBF-8DFA-5901DC81C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7772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2E27B-357C-4BFA-ACDB-7C8E270F1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37926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120760"/>
            <a:ext cx="37926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9D17-225D-4F66-9251-8789F9BEF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37926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2120760"/>
            <a:ext cx="37926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143BE-BC6C-41F1-9CC7-C04E3B025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A398E-30C9-490B-9F17-4D39D40FD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685800" y="483840"/>
            <a:ext cx="7772400" cy="74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2AFD1-76ED-41A6-9918-398E3DDC0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2120760"/>
            <a:ext cx="37926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423720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F3ED4-C823-4B6F-8916-026097BD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37926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68480" y="423720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5F823-CCB8-45F3-BA02-4C6BE6894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85800" y="4237200"/>
            <a:ext cx="7772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5E512-4CFB-45DA-8C27-194E817B2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7772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85800" y="4237200"/>
            <a:ext cx="7772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9A4CD-1E64-4EE1-A879-718F443B3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85800" y="423720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68480" y="423720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66C82-4A9D-4EB9-824E-B65ECB652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313800" y="212076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41440" y="212076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85800" y="423720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313800" y="423720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5941440" y="423720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1DA43-DC71-4C78-92D6-601C1DA11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53D850-4704-4BED-B479-7E3DA613D7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6780-E675-411D-9462-7C820DCC1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685800" y="2120760"/>
            <a:ext cx="77724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F1EA7D-7881-4F03-B550-E7A0F7F39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7772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1BA704-0AC3-4312-A6B8-F52EE5554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37926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480" y="2120760"/>
            <a:ext cx="37926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489F87-6834-44C4-B55A-41657F816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C63A18-EDBC-4315-816D-656E9D4E9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685800" y="483840"/>
            <a:ext cx="7772400" cy="74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BBCC06-B2C8-4ACE-8246-E6FDC0710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8480" y="2120760"/>
            <a:ext cx="37926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85800" y="423720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8A2FBD-E376-4514-ACC6-9209FB278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37926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68480" y="423720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EB083A-3D2C-4168-B0BD-65C073994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85800" y="4237200"/>
            <a:ext cx="7772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3D5137-DDFD-48AA-8900-99D907976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7772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85800" y="4237200"/>
            <a:ext cx="7772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5045C5-9380-4AB4-AFB8-92AFC38AE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423720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68480" y="423720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D3E871-CD83-4D8C-ADBC-F5F39FF5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483840"/>
            <a:ext cx="7772400" cy="74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9B04-363E-4997-8D76-E12B9EFDE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313800" y="212076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941440" y="212076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685800" y="423720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313800" y="423720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5941440" y="423720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899BF3-9E66-45FF-BF83-16B793C155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2120760"/>
            <a:ext cx="37926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23720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85AD-5CEF-4CDF-BC91-2C889D3E7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37926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23720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1ADE-2C78-4A40-B7B0-368A55CE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237200"/>
            <a:ext cx="7772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7664-847C-41E5-BFBE-0AE62DCD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"/>
          <p:cNvGrpSpPr/>
          <p:nvPr/>
        </p:nvGrpSpPr>
        <p:grpSpPr>
          <a:xfrm>
            <a:off x="8523360" y="6254640"/>
            <a:ext cx="392040" cy="393840"/>
            <a:chOff x="8523360" y="6254640"/>
            <a:chExt cx="392040" cy="393840"/>
          </a:xfrm>
        </p:grpSpPr>
        <p:grpSp>
          <p:nvGrpSpPr>
            <p:cNvPr id="1" name="Oval 7"/>
            <p:cNvGrpSpPr/>
            <p:nvPr/>
          </p:nvGrpSpPr>
          <p:grpSpPr>
            <a:xfrm>
              <a:off x="8523360" y="6254640"/>
              <a:ext cx="392040" cy="393840"/>
              <a:chOff x="8523360" y="6254640"/>
              <a:chExt cx="392040" cy="393840"/>
            </a:xfrm>
          </p:grpSpPr>
          <p:pic>
            <p:nvPicPr>
              <p:cNvPr id="2" name="Oval 7" descr=""/>
              <p:cNvPicPr/>
              <p:nvPr/>
            </p:nvPicPr>
            <p:blipFill>
              <a:blip r:embed="rId2"/>
              <a:stretch/>
            </p:blipFill>
            <p:spPr>
              <a:xfrm>
                <a:off x="8523360" y="6254640"/>
                <a:ext cx="392040" cy="39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" name=""/>
              <p:cNvSpPr/>
              <p:nvPr/>
            </p:nvSpPr>
            <p:spPr>
              <a:xfrm>
                <a:off x="8580600" y="6312600"/>
                <a:ext cx="275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Rockwell"/>
                </a:endParaRPr>
              </a:p>
            </p:txBody>
          </p:sp>
        </p:grpSp>
        <p:sp>
          <p:nvSpPr>
            <p:cNvPr id="4" name="Oval 8"/>
            <p:cNvSpPr/>
            <p:nvPr/>
          </p:nvSpPr>
          <p:spPr>
            <a:xfrm>
              <a:off x="8559720" y="6291720"/>
              <a:ext cx="316800" cy="318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Rockwell Condensed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120760"/>
            <a:ext cx="7772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1" marL="45720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2" marL="73008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4" marL="127944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5" marL="127944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6" marL="127944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5992560" y="6272280"/>
            <a:ext cx="2454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685440" y="6272280"/>
            <a:ext cx="474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8483400" y="6272280"/>
            <a:ext cx="47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B5ED32-FA4B-432D-9734-79C12A63EC71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7" descr="paint"/>
          <p:cNvPicPr/>
          <p:nvPr/>
        </p:nvPicPr>
        <p:blipFill>
          <a:blip r:embed="rId3"/>
          <a:stretch/>
        </p:blipFill>
        <p:spPr>
          <a:xfrm>
            <a:off x="457200" y="167652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Rectangle 10"/>
          <p:cNvGrpSpPr/>
          <p:nvPr/>
        </p:nvGrpSpPr>
        <p:grpSpPr>
          <a:xfrm>
            <a:off x="689040" y="1347840"/>
            <a:ext cx="7772040" cy="79200"/>
            <a:chOff x="689040" y="1347840"/>
            <a:chExt cx="7772040" cy="79200"/>
          </a:xfrm>
        </p:grpSpPr>
        <p:pic>
          <p:nvPicPr>
            <p:cNvPr id="48" name="Rectangle 10" descr=""/>
            <p:cNvPicPr/>
            <p:nvPr/>
          </p:nvPicPr>
          <p:blipFill>
            <a:blip r:embed="rId2"/>
            <a:stretch/>
          </p:blipFill>
          <p:spPr>
            <a:xfrm>
              <a:off x="691920" y="1349280"/>
              <a:ext cx="7769160" cy="7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9040" y="1347840"/>
              <a:ext cx="7769160" cy="7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  <p:grpSp>
        <p:nvGrpSpPr>
          <p:cNvPr id="50" name="Rectangle 12"/>
          <p:cNvGrpSpPr/>
          <p:nvPr/>
        </p:nvGrpSpPr>
        <p:grpSpPr>
          <a:xfrm>
            <a:off x="689040" y="4286160"/>
            <a:ext cx="7772040" cy="77760"/>
            <a:chOff x="689040" y="4286160"/>
            <a:chExt cx="7772040" cy="77760"/>
          </a:xfrm>
        </p:grpSpPr>
        <p:pic>
          <p:nvPicPr>
            <p:cNvPr id="51" name="Rectangle 12" descr=""/>
            <p:cNvPicPr/>
            <p:nvPr/>
          </p:nvPicPr>
          <p:blipFill>
            <a:blip r:embed="rId3"/>
            <a:stretch/>
          </p:blipFill>
          <p:spPr>
            <a:xfrm>
              <a:off x="691920" y="4289040"/>
              <a:ext cx="7769160" cy="7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689040" y="4286160"/>
              <a:ext cx="776916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  <p:grpSp>
        <p:nvGrpSpPr>
          <p:cNvPr id="53" name="Rectangle 13"/>
          <p:cNvGrpSpPr/>
          <p:nvPr/>
        </p:nvGrpSpPr>
        <p:grpSpPr>
          <a:xfrm>
            <a:off x="689040" y="1487520"/>
            <a:ext cx="7772040" cy="2742840"/>
            <a:chOff x="689040" y="1487520"/>
            <a:chExt cx="7772040" cy="2742840"/>
          </a:xfrm>
        </p:grpSpPr>
        <p:pic>
          <p:nvPicPr>
            <p:cNvPr id="54" name="Rectangle 13" descr=""/>
            <p:cNvPicPr/>
            <p:nvPr/>
          </p:nvPicPr>
          <p:blipFill>
            <a:blip r:embed="rId4"/>
            <a:stretch/>
          </p:blipFill>
          <p:spPr>
            <a:xfrm>
              <a:off x="691920" y="1490400"/>
              <a:ext cx="7769160" cy="27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689040" y="1487520"/>
              <a:ext cx="7769160" cy="27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  <p:grpSp>
        <p:nvGrpSpPr>
          <p:cNvPr id="56" name="Group 14"/>
          <p:cNvGrpSpPr/>
          <p:nvPr/>
        </p:nvGrpSpPr>
        <p:grpSpPr>
          <a:xfrm>
            <a:off x="7234200" y="4106880"/>
            <a:ext cx="914400" cy="914400"/>
            <a:chOff x="7234200" y="4106880"/>
            <a:chExt cx="914400" cy="914400"/>
          </a:xfrm>
        </p:grpSpPr>
        <p:grpSp>
          <p:nvGrpSpPr>
            <p:cNvPr id="57" name="Oval 15"/>
            <p:cNvGrpSpPr/>
            <p:nvPr/>
          </p:nvGrpSpPr>
          <p:grpSpPr>
            <a:xfrm>
              <a:off x="7234200" y="4106880"/>
              <a:ext cx="914400" cy="914400"/>
              <a:chOff x="7234200" y="4106880"/>
              <a:chExt cx="914400" cy="914400"/>
            </a:xfrm>
          </p:grpSpPr>
          <p:pic>
            <p:nvPicPr>
              <p:cNvPr id="58" name="Oval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7234200" y="41068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7366680" y="4239000"/>
                <a:ext cx="646560" cy="64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Rockwell"/>
                </a:endParaRPr>
              </a:p>
            </p:txBody>
          </p:sp>
        </p:grpSp>
        <p:sp>
          <p:nvSpPr>
            <p:cNvPr id="60" name="Oval 16"/>
            <p:cNvSpPr/>
            <p:nvPr/>
          </p:nvSpPr>
          <p:spPr>
            <a:xfrm>
              <a:off x="7324200" y="4196520"/>
              <a:ext cx="731520" cy="7315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Rockwell Condensed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2120760"/>
            <a:ext cx="7772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1" marL="45720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2" marL="73008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4" marL="127944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5" marL="127944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6" marL="127944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5992560" y="6272280"/>
            <a:ext cx="2454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812880" y="6272280"/>
            <a:ext cx="474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243560" y="4227120"/>
            <a:ext cx="895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823AA5-5C9F-4520-93FE-F7B974FB8977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10"/>
          <p:cNvGrpSpPr/>
          <p:nvPr/>
        </p:nvGrpSpPr>
        <p:grpSpPr>
          <a:xfrm>
            <a:off x="0" y="4919760"/>
            <a:ext cx="9144000" cy="1938240"/>
            <a:chOff x="0" y="4919760"/>
            <a:chExt cx="9144000" cy="1938240"/>
          </a:xfrm>
        </p:grpSpPr>
        <p:pic>
          <p:nvPicPr>
            <p:cNvPr id="103" name="Rectangle 10" descr=""/>
            <p:cNvPicPr/>
            <p:nvPr/>
          </p:nvPicPr>
          <p:blipFill>
            <a:blip r:embed="rId2"/>
            <a:stretch/>
          </p:blipFill>
          <p:spPr>
            <a:xfrm>
              <a:off x="0" y="4921200"/>
              <a:ext cx="9144000" cy="193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4919760"/>
              <a:ext cx="9144000" cy="19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  <p:grpSp>
        <p:nvGrpSpPr>
          <p:cNvPr id="105" name="Group 12"/>
          <p:cNvGrpSpPr/>
          <p:nvPr/>
        </p:nvGrpSpPr>
        <p:grpSpPr>
          <a:xfrm>
            <a:off x="633240" y="2430360"/>
            <a:ext cx="914400" cy="914400"/>
            <a:chOff x="633240" y="2430360"/>
            <a:chExt cx="914400" cy="914400"/>
          </a:xfrm>
        </p:grpSpPr>
        <p:grpSp>
          <p:nvGrpSpPr>
            <p:cNvPr id="106" name="Oval 13"/>
            <p:cNvGrpSpPr/>
            <p:nvPr/>
          </p:nvGrpSpPr>
          <p:grpSpPr>
            <a:xfrm>
              <a:off x="633240" y="2430360"/>
              <a:ext cx="914400" cy="914400"/>
              <a:chOff x="633240" y="2430360"/>
              <a:chExt cx="914400" cy="914400"/>
            </a:xfrm>
          </p:grpSpPr>
          <p:pic>
            <p:nvPicPr>
              <p:cNvPr id="107" name="Oval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633240" y="243036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>
                <a:off x="766800" y="2562480"/>
                <a:ext cx="646560" cy="64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Rockwell"/>
                </a:endParaRPr>
              </a:p>
            </p:txBody>
          </p:sp>
        </p:grpSp>
        <p:sp>
          <p:nvSpPr>
            <p:cNvPr id="109" name="Oval 14"/>
            <p:cNvSpPr/>
            <p:nvPr/>
          </p:nvSpPr>
          <p:spPr>
            <a:xfrm>
              <a:off x="724320" y="2520000"/>
              <a:ext cx="731520" cy="7315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Rockwell Condensed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2120760"/>
            <a:ext cx="7772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1" marL="45720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2" marL="73008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4" marL="127944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5" marL="127944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6" marL="127944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445080" y="6272280"/>
            <a:ext cx="198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1636200" y="6272280"/>
            <a:ext cx="474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646200" y="2508120"/>
            <a:ext cx="890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3C50E5-E84A-4172-A8A5-9ED571E45C96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Rectangle 10"/>
          <p:cNvGrpSpPr/>
          <p:nvPr/>
        </p:nvGrpSpPr>
        <p:grpSpPr>
          <a:xfrm>
            <a:off x="6229440" y="0"/>
            <a:ext cx="2914560" cy="6858000"/>
            <a:chOff x="6229440" y="0"/>
            <a:chExt cx="2914560" cy="6858000"/>
          </a:xfrm>
        </p:grpSpPr>
        <p:pic>
          <p:nvPicPr>
            <p:cNvPr id="152" name="Rectangle 10" descr=""/>
            <p:cNvPicPr/>
            <p:nvPr/>
          </p:nvPicPr>
          <p:blipFill>
            <a:blip r:embed="rId2"/>
            <a:stretch/>
          </p:blipFill>
          <p:spPr>
            <a:xfrm>
              <a:off x="6230880" y="0"/>
              <a:ext cx="29127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6229440" y="0"/>
              <a:ext cx="29145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  <p:grpSp>
        <p:nvGrpSpPr>
          <p:cNvPr id="154" name="Group 12"/>
          <p:cNvGrpSpPr/>
          <p:nvPr/>
        </p:nvGrpSpPr>
        <p:grpSpPr>
          <a:xfrm>
            <a:off x="8523360" y="6254640"/>
            <a:ext cx="392040" cy="393840"/>
            <a:chOff x="8523360" y="6254640"/>
            <a:chExt cx="392040" cy="393840"/>
          </a:xfrm>
        </p:grpSpPr>
        <p:grpSp>
          <p:nvGrpSpPr>
            <p:cNvPr id="155" name="Oval 13"/>
            <p:cNvGrpSpPr/>
            <p:nvPr/>
          </p:nvGrpSpPr>
          <p:grpSpPr>
            <a:xfrm>
              <a:off x="8523360" y="6254640"/>
              <a:ext cx="392040" cy="393840"/>
              <a:chOff x="8523360" y="6254640"/>
              <a:chExt cx="392040" cy="393840"/>
            </a:xfrm>
          </p:grpSpPr>
          <p:pic>
            <p:nvPicPr>
              <p:cNvPr id="156" name="Oval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8523360" y="6254640"/>
                <a:ext cx="392040" cy="39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7" name=""/>
              <p:cNvSpPr/>
              <p:nvPr/>
            </p:nvSpPr>
            <p:spPr>
              <a:xfrm>
                <a:off x="8580600" y="6312600"/>
                <a:ext cx="275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Rockwell"/>
                </a:endParaRPr>
              </a:p>
            </p:txBody>
          </p:sp>
        </p:grpSp>
        <p:sp>
          <p:nvSpPr>
            <p:cNvPr id="158" name="Oval 14"/>
            <p:cNvSpPr/>
            <p:nvPr/>
          </p:nvSpPr>
          <p:spPr>
            <a:xfrm>
              <a:off x="8559720" y="6291720"/>
              <a:ext cx="316800" cy="318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Rockwell Condensed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2120760"/>
            <a:ext cx="7772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1" marL="45720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2" marL="73008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4" marL="127944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5" marL="127944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6" marL="127944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5992560" y="6272280"/>
            <a:ext cx="2454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685440" y="6272280"/>
            <a:ext cx="474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8483400" y="6272280"/>
            <a:ext cx="47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5A098D-FC13-4093-B1A5-320D68C02A30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Rectangle 10"/>
          <p:cNvGrpSpPr/>
          <p:nvPr/>
        </p:nvGrpSpPr>
        <p:grpSpPr>
          <a:xfrm>
            <a:off x="6229440" y="0"/>
            <a:ext cx="2914560" cy="6858000"/>
            <a:chOff x="6229440" y="0"/>
            <a:chExt cx="2914560" cy="6858000"/>
          </a:xfrm>
        </p:grpSpPr>
        <p:pic>
          <p:nvPicPr>
            <p:cNvPr id="201" name="Rectangle 10" descr=""/>
            <p:cNvPicPr/>
            <p:nvPr/>
          </p:nvPicPr>
          <p:blipFill>
            <a:blip r:embed="rId2"/>
            <a:stretch/>
          </p:blipFill>
          <p:spPr>
            <a:xfrm>
              <a:off x="6230880" y="0"/>
              <a:ext cx="29127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6229440" y="0"/>
              <a:ext cx="29145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  <p:grpSp>
        <p:nvGrpSpPr>
          <p:cNvPr id="203" name="Group 12"/>
          <p:cNvGrpSpPr/>
          <p:nvPr/>
        </p:nvGrpSpPr>
        <p:grpSpPr>
          <a:xfrm>
            <a:off x="8523360" y="6254640"/>
            <a:ext cx="392040" cy="393840"/>
            <a:chOff x="8523360" y="6254640"/>
            <a:chExt cx="392040" cy="393840"/>
          </a:xfrm>
        </p:grpSpPr>
        <p:grpSp>
          <p:nvGrpSpPr>
            <p:cNvPr id="204" name="Oval 13"/>
            <p:cNvGrpSpPr/>
            <p:nvPr/>
          </p:nvGrpSpPr>
          <p:grpSpPr>
            <a:xfrm>
              <a:off x="8523360" y="6254640"/>
              <a:ext cx="392040" cy="393840"/>
              <a:chOff x="8523360" y="6254640"/>
              <a:chExt cx="392040" cy="393840"/>
            </a:xfrm>
          </p:grpSpPr>
          <p:pic>
            <p:nvPicPr>
              <p:cNvPr id="205" name="Oval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8523360" y="6254640"/>
                <a:ext cx="392040" cy="39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6" name=""/>
              <p:cNvSpPr/>
              <p:nvPr/>
            </p:nvSpPr>
            <p:spPr>
              <a:xfrm>
                <a:off x="8580600" y="6312600"/>
                <a:ext cx="275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Rockwell"/>
                </a:endParaRPr>
              </a:p>
            </p:txBody>
          </p:sp>
        </p:grpSp>
        <p:sp>
          <p:nvSpPr>
            <p:cNvPr id="207" name="Oval 14"/>
            <p:cNvSpPr/>
            <p:nvPr/>
          </p:nvSpPr>
          <p:spPr>
            <a:xfrm>
              <a:off x="8559720" y="6291720"/>
              <a:ext cx="316800" cy="318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Rockwell Condensed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2120760"/>
            <a:ext cx="7772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1" marL="45720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2" marL="73008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4" marL="127944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5" marL="127944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6" marL="127944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3"/>
          </p:nvPr>
        </p:nvSpPr>
        <p:spPr>
          <a:xfrm>
            <a:off x="5992560" y="6272280"/>
            <a:ext cx="2454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sldNum" idx="14"/>
          </p:nvPr>
        </p:nvSpPr>
        <p:spPr>
          <a:xfrm>
            <a:off x="8483400" y="6272280"/>
            <a:ext cx="47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0268F1-5D91-48C8-AC88-5D3B7656F039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Rectangle 2" descr=""/>
          <p:cNvPicPr/>
          <p:nvPr/>
        </p:nvPicPr>
        <p:blipFill>
          <a:blip r:embed="rId1"/>
          <a:stretch/>
        </p:blipFill>
        <p:spPr>
          <a:xfrm>
            <a:off x="689040" y="2286000"/>
            <a:ext cx="7772400" cy="11462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Lecture4 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57" name="Slide Number Placeholder 5"/>
          <p:cNvSpPr/>
          <p:nvPr/>
        </p:nvSpPr>
        <p:spPr>
          <a:xfrm>
            <a:off x="7243920" y="4227480"/>
            <a:ext cx="8953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1D8320-4199-445B-9AA6-D8751D6B2B22}" type="slidenum"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Rectangle 2" descr=""/>
          <p:cNvPicPr/>
          <p:nvPr/>
        </p:nvPicPr>
        <p:blipFill>
          <a:blip r:embed="rId1"/>
          <a:stretch/>
        </p:blipFill>
        <p:spPr>
          <a:xfrm>
            <a:off x="689040" y="487440"/>
            <a:ext cx="7772400" cy="160956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 txBox="1"/>
          <p:nvPr/>
        </p:nvSpPr>
        <p:spPr>
          <a:xfrm>
            <a:off x="685800" y="2120760"/>
            <a:ext cx="7772400" cy="40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What is the domain of a structured data type? Operations?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Example: 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boolean[] 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55" name="Slide Number Placeholder 5"/>
          <p:cNvSpPr/>
          <p:nvPr/>
        </p:nvSpPr>
        <p:spPr>
          <a:xfrm>
            <a:off x="8483760" y="6272280"/>
            <a:ext cx="479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BAA07E-DD1C-4CB9-9AF0-E14D4493CC12}" type="slidenum"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56" name="Text Box 24"/>
          <p:cNvSpPr/>
          <p:nvPr/>
        </p:nvSpPr>
        <p:spPr>
          <a:xfrm>
            <a:off x="3641760" y="4253040"/>
            <a:ext cx="48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0</a:t>
            </a:r>
            <a:endParaRPr b="0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57" name="Text Box 25"/>
          <p:cNvSpPr/>
          <p:nvPr/>
        </p:nvSpPr>
        <p:spPr>
          <a:xfrm>
            <a:off x="3657600" y="4648320"/>
            <a:ext cx="48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1</a:t>
            </a:r>
            <a:endParaRPr b="0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58" name="Text Box 26"/>
          <p:cNvSpPr/>
          <p:nvPr/>
        </p:nvSpPr>
        <p:spPr>
          <a:xfrm>
            <a:off x="3657600" y="5029200"/>
            <a:ext cx="48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0</a:t>
            </a:r>
            <a:endParaRPr b="0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4191120" y="4267080"/>
            <a:ext cx="48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1</a:t>
            </a:r>
            <a:endParaRPr b="0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4724280" y="4267080"/>
            <a:ext cx="48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61" name="Text Box 29"/>
          <p:cNvSpPr/>
          <p:nvPr/>
        </p:nvSpPr>
        <p:spPr>
          <a:xfrm>
            <a:off x="4191120" y="4648320"/>
            <a:ext cx="48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1</a:t>
            </a:r>
            <a:endParaRPr b="0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62" name="Text Box 30"/>
          <p:cNvSpPr/>
          <p:nvPr/>
        </p:nvSpPr>
        <p:spPr>
          <a:xfrm>
            <a:off x="4191120" y="5029200"/>
            <a:ext cx="48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63" name="Text Box 31"/>
          <p:cNvSpPr/>
          <p:nvPr/>
        </p:nvSpPr>
        <p:spPr>
          <a:xfrm>
            <a:off x="4724280" y="4648320"/>
            <a:ext cx="48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1</a:t>
            </a:r>
            <a:endParaRPr b="0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64" name="Oval 33"/>
          <p:cNvSpPr/>
          <p:nvPr/>
        </p:nvSpPr>
        <p:spPr>
          <a:xfrm>
            <a:off x="3352680" y="3962520"/>
            <a:ext cx="2133720" cy="160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65" name="Text Box 35"/>
          <p:cNvSpPr/>
          <p:nvPr/>
        </p:nvSpPr>
        <p:spPr>
          <a:xfrm>
            <a:off x="2135520" y="434340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main</a:t>
            </a: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5867280" y="3809880"/>
          <a:ext cx="1143000" cy="365400"/>
        </p:xfrm>
        <a:graphic>
          <a:graphicData uri="http://schemas.openxmlformats.org/drawingml/2006/table">
            <a:tbl>
              <a:tblPr/>
              <a:tblGrid>
                <a:gridCol w="398520"/>
                <a:gridCol w="398520"/>
                <a:gridCol w="345960"/>
              </a:tblGrid>
              <a:tr h="36540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7" name="Line 59"/>
          <p:cNvSpPr/>
          <p:nvPr/>
        </p:nvSpPr>
        <p:spPr>
          <a:xfrm flipV="1">
            <a:off x="5029200" y="403812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Rectangle 1026" descr=""/>
          <p:cNvPicPr/>
          <p:nvPr/>
        </p:nvPicPr>
        <p:blipFill>
          <a:blip r:embed="rId1"/>
          <a:stretch/>
        </p:blipFill>
        <p:spPr>
          <a:xfrm>
            <a:off x="689040" y="487440"/>
            <a:ext cx="7772400" cy="160956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 txBox="1"/>
          <p:nvPr/>
        </p:nvSpPr>
        <p:spPr>
          <a:xfrm>
            <a:off x="685800" y="2120760"/>
            <a:ext cx="7772400" cy="40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Example: Operations: 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1" marL="457200" indent="-18252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1" marL="457200" indent="-18252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imSu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imSun"/>
              </a:rPr>
              <a:t>Sample[0] = True;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1" marL="457200" indent="-18252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imSu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70" name="Slide Number Placeholder 5"/>
          <p:cNvSpPr/>
          <p:nvPr/>
        </p:nvSpPr>
        <p:spPr>
          <a:xfrm>
            <a:off x="8483760" y="6272280"/>
            <a:ext cx="479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F2C455-6566-43F2-8F6F-BCA44360E7C5}" type="slidenum"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Rectangle 2" descr=""/>
          <p:cNvPicPr/>
          <p:nvPr/>
        </p:nvPicPr>
        <p:blipFill>
          <a:blip r:embed="rId1"/>
          <a:stretch/>
        </p:blipFill>
        <p:spPr>
          <a:xfrm>
            <a:off x="689040" y="487440"/>
            <a:ext cx="7772400" cy="160956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 txBox="1"/>
          <p:nvPr/>
        </p:nvSpPr>
        <p:spPr>
          <a:xfrm>
            <a:off x="685800" y="2120760"/>
            <a:ext cx="7772400" cy="40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ckwell"/>
              </a:rPr>
              <a:t>Abstraction</a:t>
            </a: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? Anything that hides details &amp; provides only the essentials.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ckwell"/>
              </a:rPr>
              <a:t>Abstract Data Types (ADTs):</a:t>
            </a: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 Simple or structured data types whose implementation details are hidden…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ADT is a set of objects together with a set of operations.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 lvl="1" marL="457200" indent="-18252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E.g., List 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 lvl="1" marL="457200" indent="-18252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Insert, delete, search, sort Insert, delete, search, sort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73" name="Slide Number Placeholder 5"/>
          <p:cNvSpPr/>
          <p:nvPr/>
        </p:nvSpPr>
        <p:spPr>
          <a:xfrm>
            <a:off x="8483760" y="6272280"/>
            <a:ext cx="479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B1A457-F00B-48A9-91AA-4C1EF5CD8105}" type="slidenum"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Rectangle 2" descr=""/>
          <p:cNvPicPr/>
          <p:nvPr/>
        </p:nvPicPr>
        <p:blipFill>
          <a:blip r:embed="rId1"/>
          <a:stretch/>
        </p:blipFill>
        <p:spPr>
          <a:xfrm>
            <a:off x="689040" y="487440"/>
            <a:ext cx="7772400" cy="160956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 txBox="1"/>
          <p:nvPr/>
        </p:nvSpPr>
        <p:spPr>
          <a:xfrm>
            <a:off x="685800" y="2120760"/>
            <a:ext cx="7772400" cy="40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While designing ADTs, a designer has to deal with two types of questions: 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lvl="1" marL="457200" indent="-18252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(i) </a:t>
            </a:r>
            <a:r>
              <a:rPr b="1" lang="en-US" sz="2800" spc="-1" strike="noStrike">
                <a:solidFill>
                  <a:srgbClr val="000000"/>
                </a:solidFill>
                <a:latin typeface="Rockwell"/>
              </a:rPr>
              <a:t>What</a:t>
            </a: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 values are in the domain? </a:t>
            </a:r>
            <a:r>
              <a:rPr b="1" lang="en-US" sz="2800" spc="-1" strike="noStrike">
                <a:solidFill>
                  <a:srgbClr val="000000"/>
                </a:solidFill>
                <a:latin typeface="Rockwell"/>
              </a:rPr>
              <a:t>What</a:t>
            </a: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 operations can be performed on the values of a particular data type? 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lvl="1" marL="457200" indent="-18252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(ii) </a:t>
            </a:r>
            <a:r>
              <a:rPr b="1" lang="en-US" sz="2800" spc="-1" strike="noStrike">
                <a:solidFill>
                  <a:srgbClr val="000000"/>
                </a:solidFill>
                <a:latin typeface="Rockwell"/>
              </a:rPr>
              <a:t>How</a:t>
            </a: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 is the data type represented? </a:t>
            </a:r>
            <a:r>
              <a:rPr b="1" lang="en-US" sz="2800" spc="-1" strike="noStrike">
                <a:solidFill>
                  <a:srgbClr val="000000"/>
                </a:solidFill>
                <a:latin typeface="Rockwell"/>
              </a:rPr>
              <a:t>How</a:t>
            </a: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 are the operations implemented?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lvl="1" marL="457200" indent="-18252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76" name="Slide Number Placeholder 5"/>
          <p:cNvSpPr/>
          <p:nvPr/>
        </p:nvSpPr>
        <p:spPr>
          <a:xfrm>
            <a:off x="8483760" y="6272280"/>
            <a:ext cx="479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1B9B75-DADA-40A2-9A3F-19E8844380A9}" type="slidenum"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9040" y="487440"/>
            <a:ext cx="7772400" cy="160956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 txBox="1"/>
          <p:nvPr/>
        </p:nvSpPr>
        <p:spPr>
          <a:xfrm>
            <a:off x="685800" y="2120760"/>
            <a:ext cx="7772400" cy="40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7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ADTs </a:t>
            </a:r>
            <a:r>
              <a:rPr b="1" lang="en-US" sz="2600" spc="-1" strike="noStrike">
                <a:solidFill>
                  <a:srgbClr val="000000"/>
                </a:solidFill>
                <a:latin typeface="Rockwell"/>
              </a:rPr>
              <a:t>specification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 answers the ‘what’ questions. Specification is written first. 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marL="182520" indent="-182520">
              <a:lnSpc>
                <a:spcPct val="7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ADTs </a:t>
            </a:r>
            <a:r>
              <a:rPr b="1" lang="en-US" sz="2600" spc="-1" strike="noStrike">
                <a:solidFill>
                  <a:srgbClr val="000000"/>
                </a:solidFill>
                <a:latin typeface="Rockwell"/>
              </a:rPr>
              <a:t>implementation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 answers the ‘how’ questions. Done after specification.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marL="182520" indent="-182520">
              <a:lnSpc>
                <a:spcPct val="7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Users &amp; Implementers.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marL="182520" indent="-182520">
              <a:lnSpc>
                <a:spcPct val="7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Users of an ADT need only know the specification …. no implementation details.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 advantage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  <a:p>
            <a:pPr marL="182520" indent="-182520">
              <a:lnSpc>
                <a:spcPct val="7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Programmer (Implementer) who implements ADT is concerned with..specification, representation, implementation.</a:t>
            </a:r>
            <a:endParaRPr b="0" lang="en-US" sz="2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79" name="Slide Number Placeholder 5"/>
          <p:cNvSpPr/>
          <p:nvPr/>
        </p:nvSpPr>
        <p:spPr>
          <a:xfrm>
            <a:off x="8483760" y="6272280"/>
            <a:ext cx="479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84E0A8-665B-4241-9D0B-136967952DDF}" type="slidenum"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Rectangle 2" descr=""/>
          <p:cNvPicPr/>
          <p:nvPr/>
        </p:nvPicPr>
        <p:blipFill>
          <a:blip r:embed="rId1"/>
          <a:stretch/>
        </p:blipFill>
        <p:spPr>
          <a:xfrm>
            <a:off x="689040" y="487440"/>
            <a:ext cx="7772400" cy="160956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 txBox="1"/>
          <p:nvPr/>
        </p:nvSpPr>
        <p:spPr>
          <a:xfrm>
            <a:off x="762120" y="1905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82" name="Slide Number Placeholder 5"/>
          <p:cNvSpPr/>
          <p:nvPr/>
        </p:nvSpPr>
        <p:spPr>
          <a:xfrm>
            <a:off x="8483760" y="6272280"/>
            <a:ext cx="479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C5BE45-874C-47BE-8836-7F219EC18F89}" type="slidenum"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Rockwell"/>
            </a:endParaRPr>
          </a:p>
        </p:txBody>
      </p:sp>
      <p:grpSp>
        <p:nvGrpSpPr>
          <p:cNvPr id="383" name="Group 46"/>
          <p:cNvGrpSpPr/>
          <p:nvPr/>
        </p:nvGrpSpPr>
        <p:grpSpPr>
          <a:xfrm>
            <a:off x="3048120" y="2286000"/>
            <a:ext cx="3200400" cy="3809880"/>
            <a:chOff x="3048120" y="2286000"/>
            <a:chExt cx="3200400" cy="3809880"/>
          </a:xfrm>
        </p:grpSpPr>
        <p:grpSp>
          <p:nvGrpSpPr>
            <p:cNvPr id="384" name="Group 45"/>
            <p:cNvGrpSpPr/>
            <p:nvPr/>
          </p:nvGrpSpPr>
          <p:grpSpPr>
            <a:xfrm>
              <a:off x="3048120" y="2286000"/>
              <a:ext cx="3200400" cy="2057400"/>
              <a:chOff x="3048120" y="2286000"/>
              <a:chExt cx="3200400" cy="2057400"/>
            </a:xfrm>
          </p:grpSpPr>
          <p:grpSp>
            <p:nvGrpSpPr>
              <p:cNvPr id="385" name="Group 44"/>
              <p:cNvGrpSpPr/>
              <p:nvPr/>
            </p:nvGrpSpPr>
            <p:grpSpPr>
              <a:xfrm>
                <a:off x="3048120" y="2286000"/>
                <a:ext cx="1144440" cy="457200"/>
                <a:chOff x="3048120" y="2286000"/>
                <a:chExt cx="1144440" cy="457200"/>
              </a:xfrm>
            </p:grpSpPr>
            <p:sp>
              <p:nvSpPr>
                <p:cNvPr id="386" name="Rectangle 6"/>
                <p:cNvSpPr/>
                <p:nvPr/>
              </p:nvSpPr>
              <p:spPr>
                <a:xfrm>
                  <a:off x="3048120" y="2286000"/>
                  <a:ext cx="1143000" cy="457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Rockwell"/>
                  </a:endParaRPr>
                </a:p>
              </p:txBody>
            </p:sp>
            <p:sp>
              <p:nvSpPr>
                <p:cNvPr id="387" name="Text Box 7"/>
                <p:cNvSpPr/>
                <p:nvPr/>
              </p:nvSpPr>
              <p:spPr>
                <a:xfrm>
                  <a:off x="3109680" y="2324160"/>
                  <a:ext cx="1082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lements</a:t>
                  </a:r>
                  <a:endParaRPr b="0" lang="en-US" sz="1800" spc="-1" strike="noStrike">
                    <a:solidFill>
                      <a:srgbClr val="000000"/>
                    </a:solidFill>
                    <a:latin typeface="Rockwell"/>
                  </a:endParaRPr>
                </a:p>
              </p:txBody>
            </p:sp>
          </p:grpSp>
          <p:grpSp>
            <p:nvGrpSpPr>
              <p:cNvPr id="388" name="Group 8"/>
              <p:cNvGrpSpPr/>
              <p:nvPr/>
            </p:nvGrpSpPr>
            <p:grpSpPr>
              <a:xfrm>
                <a:off x="4267080" y="2286000"/>
                <a:ext cx="1143000" cy="457200"/>
                <a:chOff x="4267080" y="2286000"/>
                <a:chExt cx="1143000" cy="457200"/>
              </a:xfrm>
            </p:grpSpPr>
            <p:sp>
              <p:nvSpPr>
                <p:cNvPr id="389" name="Text Box 9"/>
                <p:cNvSpPr/>
                <p:nvPr/>
              </p:nvSpPr>
              <p:spPr>
                <a:xfrm>
                  <a:off x="4268520" y="2362320"/>
                  <a:ext cx="1121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tructure</a:t>
                  </a:r>
                  <a:endParaRPr b="0" lang="en-US" sz="1800" spc="-1" strike="noStrike">
                    <a:solidFill>
                      <a:srgbClr val="000000"/>
                    </a:solidFill>
                    <a:latin typeface="Rockwell"/>
                  </a:endParaRPr>
                </a:p>
              </p:txBody>
            </p:sp>
            <p:sp>
              <p:nvSpPr>
                <p:cNvPr id="390" name="Rectangle 10"/>
                <p:cNvSpPr/>
                <p:nvPr/>
              </p:nvSpPr>
              <p:spPr>
                <a:xfrm>
                  <a:off x="4267080" y="2286000"/>
                  <a:ext cx="1143000" cy="457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Rockwell"/>
                  </a:endParaRPr>
                </a:p>
              </p:txBody>
            </p:sp>
          </p:grpSp>
          <p:sp>
            <p:nvSpPr>
              <p:cNvPr id="391" name="Rectangle 11"/>
              <p:cNvSpPr/>
              <p:nvPr/>
            </p:nvSpPr>
            <p:spPr>
              <a:xfrm>
                <a:off x="3505320" y="3276360"/>
                <a:ext cx="11430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Rockwell"/>
                </a:endParaRPr>
              </a:p>
            </p:txBody>
          </p:sp>
          <p:sp>
            <p:nvSpPr>
              <p:cNvPr id="392" name="Rectangle 13"/>
              <p:cNvSpPr/>
              <p:nvPr/>
            </p:nvSpPr>
            <p:spPr>
              <a:xfrm>
                <a:off x="4952880" y="3276360"/>
                <a:ext cx="129564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Rockwell"/>
                </a:endParaRPr>
              </a:p>
            </p:txBody>
          </p:sp>
          <p:sp>
            <p:nvSpPr>
              <p:cNvPr id="393" name="Text Box 14"/>
              <p:cNvSpPr/>
              <p:nvPr/>
            </p:nvSpPr>
            <p:spPr>
              <a:xfrm>
                <a:off x="4954320" y="3352680"/>
                <a:ext cx="1273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perations</a:t>
                </a:r>
                <a:endParaRPr b="0" lang="en-US" sz="1800" spc="-1" strike="noStrike">
                  <a:solidFill>
                    <a:srgbClr val="000000"/>
                  </a:solidFill>
                  <a:latin typeface="Rockwell"/>
                </a:endParaRPr>
              </a:p>
            </p:txBody>
          </p:sp>
          <p:sp>
            <p:nvSpPr>
              <p:cNvPr id="394" name="AutoShape 15"/>
              <p:cNvSpPr/>
              <p:nvPr/>
            </p:nvSpPr>
            <p:spPr>
              <a:xfrm>
                <a:off x="3505320" y="2743200"/>
                <a:ext cx="485640" cy="533160"/>
              </a:xfrm>
              <a:prstGeom prst="downArrow">
                <a:avLst>
                  <a:gd name="adj1" fmla="val 50000"/>
                  <a:gd name="adj2" fmla="val 27446"/>
                </a:avLst>
              </a:prstGeom>
              <a:solidFill>
                <a:srgbClr val="d3481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Rockwell"/>
                </a:endParaRPr>
              </a:p>
            </p:txBody>
          </p:sp>
          <p:sp>
            <p:nvSpPr>
              <p:cNvPr id="395" name="AutoShape 16"/>
              <p:cNvSpPr/>
              <p:nvPr/>
            </p:nvSpPr>
            <p:spPr>
              <a:xfrm>
                <a:off x="4267080" y="2743200"/>
                <a:ext cx="486000" cy="533160"/>
              </a:xfrm>
              <a:prstGeom prst="downArrow">
                <a:avLst>
                  <a:gd name="adj1" fmla="val 50000"/>
                  <a:gd name="adj2" fmla="val 27426"/>
                </a:avLst>
              </a:prstGeom>
              <a:solidFill>
                <a:srgbClr val="d3481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Rockwell"/>
                </a:endParaRPr>
              </a:p>
            </p:txBody>
          </p:sp>
          <p:sp>
            <p:nvSpPr>
              <p:cNvPr id="396" name="AutoShape 20"/>
              <p:cNvSpPr/>
              <p:nvPr/>
            </p:nvSpPr>
            <p:spPr>
              <a:xfrm>
                <a:off x="4038480" y="3733560"/>
                <a:ext cx="486000" cy="609840"/>
              </a:xfrm>
              <a:prstGeom prst="downArrow">
                <a:avLst>
                  <a:gd name="adj1" fmla="val 50000"/>
                  <a:gd name="adj2" fmla="val 31370"/>
                </a:avLst>
              </a:prstGeom>
              <a:solidFill>
                <a:srgbClr val="d3481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Rockwell"/>
                </a:endParaRPr>
              </a:p>
            </p:txBody>
          </p:sp>
          <p:sp>
            <p:nvSpPr>
              <p:cNvPr id="397" name="AutoShape 21"/>
              <p:cNvSpPr/>
              <p:nvPr/>
            </p:nvSpPr>
            <p:spPr>
              <a:xfrm>
                <a:off x="5257800" y="3733560"/>
                <a:ext cx="485640" cy="609840"/>
              </a:xfrm>
              <a:prstGeom prst="downArrow">
                <a:avLst>
                  <a:gd name="adj1" fmla="val 50000"/>
                  <a:gd name="adj2" fmla="val 31394"/>
                </a:avLst>
              </a:prstGeom>
              <a:solidFill>
                <a:srgbClr val="d3481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Rockwell"/>
                </a:endParaRPr>
              </a:p>
            </p:txBody>
          </p:sp>
        </p:grpSp>
        <p:sp>
          <p:nvSpPr>
            <p:cNvPr id="398" name="Rectangle 25"/>
            <p:cNvSpPr/>
            <p:nvPr/>
          </p:nvSpPr>
          <p:spPr>
            <a:xfrm>
              <a:off x="3583080" y="3352680"/>
              <a:ext cx="95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omain</a:t>
              </a:r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  <p:sp>
          <p:nvSpPr>
            <p:cNvPr id="399" name="Rectangle 28"/>
            <p:cNvSpPr/>
            <p:nvPr/>
          </p:nvSpPr>
          <p:spPr>
            <a:xfrm>
              <a:off x="4038480" y="4343400"/>
              <a:ext cx="17528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  <p:sp>
          <p:nvSpPr>
            <p:cNvPr id="400" name="Rectangle 30"/>
            <p:cNvSpPr/>
            <p:nvPr/>
          </p:nvSpPr>
          <p:spPr>
            <a:xfrm>
              <a:off x="4038480" y="5715000"/>
              <a:ext cx="17528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  <p:sp>
          <p:nvSpPr>
            <p:cNvPr id="401" name="Rectangle 31"/>
            <p:cNvSpPr/>
            <p:nvPr/>
          </p:nvSpPr>
          <p:spPr>
            <a:xfrm>
              <a:off x="4038480" y="5029200"/>
              <a:ext cx="17528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  <p:sp>
          <p:nvSpPr>
            <p:cNvPr id="402" name="AutoShape 32"/>
            <p:cNvSpPr/>
            <p:nvPr/>
          </p:nvSpPr>
          <p:spPr>
            <a:xfrm>
              <a:off x="4648320" y="4724280"/>
              <a:ext cx="485640" cy="304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  <p:sp>
          <p:nvSpPr>
            <p:cNvPr id="403" name="AutoShape 33"/>
            <p:cNvSpPr/>
            <p:nvPr/>
          </p:nvSpPr>
          <p:spPr>
            <a:xfrm>
              <a:off x="4648320" y="5410080"/>
              <a:ext cx="485640" cy="304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  <p:sp>
          <p:nvSpPr>
            <p:cNvPr id="404" name="Text Box 34"/>
            <p:cNvSpPr/>
            <p:nvPr/>
          </p:nvSpPr>
          <p:spPr>
            <a:xfrm>
              <a:off x="4191120" y="4343400"/>
              <a:ext cx="144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pecification</a:t>
              </a:r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  <p:sp>
          <p:nvSpPr>
            <p:cNvPr id="405" name="Text Box 35"/>
            <p:cNvSpPr/>
            <p:nvPr/>
          </p:nvSpPr>
          <p:spPr>
            <a:xfrm>
              <a:off x="4039920" y="5029200"/>
              <a:ext cx="166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presentation</a:t>
              </a:r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  <p:sp>
          <p:nvSpPr>
            <p:cNvPr id="406" name="Text Box 36"/>
            <p:cNvSpPr/>
            <p:nvPr/>
          </p:nvSpPr>
          <p:spPr>
            <a:xfrm>
              <a:off x="4040280" y="5715000"/>
              <a:ext cx="174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mplementation</a:t>
              </a:r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  <p:sp>
        <p:nvSpPr>
          <p:cNvPr id="407" name="Text Box 39"/>
          <p:cNvSpPr/>
          <p:nvPr/>
        </p:nvSpPr>
        <p:spPr>
          <a:xfrm>
            <a:off x="1753920" y="4038480"/>
            <a:ext cx="172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 of an ADT</a:t>
            </a: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know</a:t>
            </a: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this</a:t>
            </a: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08" name="AutoShape 42"/>
          <p:cNvSpPr/>
          <p:nvPr/>
        </p:nvSpPr>
        <p:spPr>
          <a:xfrm>
            <a:off x="3733920" y="4343400"/>
            <a:ext cx="75960" cy="457200"/>
          </a:xfrm>
          <a:custGeom>
            <a:avLst/>
            <a:gdLst>
              <a:gd name="textAreaLeft" fmla="*/ 48600 w 75960"/>
              <a:gd name="textAreaRight" fmla="*/ 76320 w 7596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09" name="Text Box 53"/>
          <p:cNvSpPr/>
          <p:nvPr/>
        </p:nvSpPr>
        <p:spPr>
          <a:xfrm>
            <a:off x="6173640" y="4724280"/>
            <a:ext cx="19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er must</a:t>
            </a: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 all these.</a:t>
            </a: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10" name="AutoShape 54"/>
          <p:cNvSpPr/>
          <p:nvPr/>
        </p:nvSpPr>
        <p:spPr>
          <a:xfrm>
            <a:off x="5867280" y="4343400"/>
            <a:ext cx="228600" cy="1828800"/>
          </a:xfrm>
          <a:custGeom>
            <a:avLst/>
            <a:gdLst>
              <a:gd name="textAreaLeft" fmla="*/ 0 w 228600"/>
              <a:gd name="textAreaRight" fmla="*/ 82440 w 2286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Title 1" descr=""/>
          <p:cNvPicPr/>
          <p:nvPr/>
        </p:nvPicPr>
        <p:blipFill>
          <a:blip r:embed="rId1"/>
          <a:stretch/>
        </p:blipFill>
        <p:spPr>
          <a:xfrm>
            <a:off x="689040" y="487440"/>
            <a:ext cx="7772400" cy="160956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685800" y="2120760"/>
            <a:ext cx="7772400" cy="40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List, Stack, Queue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8483760" y="6272280"/>
            <a:ext cx="479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09A514-7C08-491C-8153-5CE044CF77B4}" type="slidenum">
              <a:rPr b="1" lang="en-US" sz="11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Title 1" descr=""/>
          <p:cNvPicPr/>
          <p:nvPr/>
        </p:nvPicPr>
        <p:blipFill>
          <a:blip r:embed="rId1"/>
          <a:stretch/>
        </p:blipFill>
        <p:spPr>
          <a:xfrm>
            <a:off x="689040" y="487440"/>
            <a:ext cx="7772400" cy="160956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685800" y="2120760"/>
            <a:ext cx="7772400" cy="40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List of size N: A0, A1, …, AN-1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Each element A has a unique position k in the list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Operations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insert(X,k), remove(k), find(X), findKth(k),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printList()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8483760" y="6272280"/>
            <a:ext cx="479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335D87-3FC0-45A8-B5A5-405FB2418732}" type="slidenum">
              <a:rPr b="1" lang="en-US" sz="11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Title 1" descr=""/>
          <p:cNvPicPr/>
          <p:nvPr/>
        </p:nvPicPr>
        <p:blipFill>
          <a:blip r:embed="rId1"/>
          <a:stretch/>
        </p:blipFill>
        <p:spPr>
          <a:xfrm>
            <a:off x="689040" y="487440"/>
            <a:ext cx="7772400" cy="160956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685800" y="2120760"/>
            <a:ext cx="7772400" cy="40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tack = a list where insert and remove take place only at the “top” 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Operations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1" marL="457200" indent="-18252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Rockwell"/>
              </a:rPr>
              <a:t>Push (insert) element on top of stack</a:t>
            </a: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  <a:p>
            <a:pPr lvl="1" marL="457200" indent="-18252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"/>
              </a:rPr>
              <a:t>Pop (remove) element from top of stack</a:t>
            </a: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  <a:p>
            <a:pPr lvl="1" marL="457200" indent="-18252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"/>
              </a:rPr>
              <a:t>Top: return element at top of stack</a:t>
            </a: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  <a:p>
            <a:pPr lvl="1" marL="457200" indent="-18252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  <a:p>
            <a:pPr lvl="1" marL="457200" indent="-18252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  <a:p>
            <a:pPr lvl="1" marL="457200" indent="-18252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  <a:p>
            <a:pPr lvl="1" marL="457200" indent="-18252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"/>
              </a:rPr>
              <a:t>LIFO (Last In First Out)</a:t>
            </a: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  <a:p>
            <a:pPr lvl="1" marL="457200" indent="-18252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8483760" y="6272280"/>
            <a:ext cx="479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F30362-9393-4D57-A0CB-FA6118A7269F}" type="slidenum">
              <a:rPr b="1" lang="en-US" sz="11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itle 1" descr=""/>
          <p:cNvPicPr/>
          <p:nvPr/>
        </p:nvPicPr>
        <p:blipFill>
          <a:blip r:embed="rId1"/>
          <a:stretch/>
        </p:blipFill>
        <p:spPr>
          <a:xfrm>
            <a:off x="689040" y="487440"/>
            <a:ext cx="7772400" cy="160956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685800" y="2120760"/>
            <a:ext cx="7772400" cy="40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Queue = a list where insert takes place at the back, but remove takes place at the front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 lvl="1" marL="457200" indent="-18252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Enqueue (insert) element at the back of the queue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 lvl="1" marL="457200" indent="-18252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Dequeue (remove and return) element from the front of the queue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 lvl="1" marL="457200" indent="-18252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FIFO (First In First Out) FIFO (First In First Out)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8483760" y="6272280"/>
            <a:ext cx="479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F89570-21F8-4C86-9605-AA0CA4EA066D}" type="slidenum">
              <a:rPr b="1" lang="en-US" sz="11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Rectangle 2" descr=""/>
          <p:cNvPicPr/>
          <p:nvPr/>
        </p:nvPicPr>
        <p:blipFill>
          <a:blip r:embed="rId1"/>
          <a:stretch/>
        </p:blipFill>
        <p:spPr>
          <a:xfrm>
            <a:off x="689040" y="487440"/>
            <a:ext cx="7772400" cy="160956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 txBox="1"/>
          <p:nvPr/>
        </p:nvSpPr>
        <p:spPr>
          <a:xfrm>
            <a:off x="685800" y="2120760"/>
            <a:ext cx="7772400" cy="40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Applications/programs read data, store data temporarily, process it and finally output results. 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What is data? Numbers, Characters, etc.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60" name="Slide Number Placeholder 5"/>
          <p:cNvSpPr/>
          <p:nvPr/>
        </p:nvSpPr>
        <p:spPr>
          <a:xfrm>
            <a:off x="8483760" y="6272280"/>
            <a:ext cx="479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35EA7F-BB7F-46B0-8359-FA677D4F3C80}" type="slidenum"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Rockwell"/>
            </a:endParaRPr>
          </a:p>
        </p:txBody>
      </p:sp>
      <p:grpSp>
        <p:nvGrpSpPr>
          <p:cNvPr id="261" name="Group 11"/>
          <p:cNvGrpSpPr/>
          <p:nvPr/>
        </p:nvGrpSpPr>
        <p:grpSpPr>
          <a:xfrm>
            <a:off x="2438280" y="4572000"/>
            <a:ext cx="4190760" cy="1371600"/>
            <a:chOff x="2438280" y="4572000"/>
            <a:chExt cx="4190760" cy="1371600"/>
          </a:xfrm>
        </p:grpSpPr>
        <p:sp>
          <p:nvSpPr>
            <p:cNvPr id="262" name="Rectangle 4"/>
            <p:cNvSpPr/>
            <p:nvPr/>
          </p:nvSpPr>
          <p:spPr>
            <a:xfrm>
              <a:off x="3428640" y="4572000"/>
              <a:ext cx="2286000" cy="1371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  <p:sp>
          <p:nvSpPr>
            <p:cNvPr id="263" name="AutoShape 5"/>
            <p:cNvSpPr/>
            <p:nvPr/>
          </p:nvSpPr>
          <p:spPr>
            <a:xfrm>
              <a:off x="2438280" y="4800600"/>
              <a:ext cx="990360" cy="914400"/>
            </a:xfrm>
            <a:prstGeom prst="rightArrow">
              <a:avLst>
                <a:gd name="adj1" fmla="val 50000"/>
                <a:gd name="adj2" fmla="val 2707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  <p:sp>
          <p:nvSpPr>
            <p:cNvPr id="264" name="AutoShape 6"/>
            <p:cNvSpPr/>
            <p:nvPr/>
          </p:nvSpPr>
          <p:spPr>
            <a:xfrm>
              <a:off x="5714640" y="4800600"/>
              <a:ext cx="914400" cy="91440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  <p:sp>
          <p:nvSpPr>
            <p:cNvPr id="265" name="Text Box 7"/>
            <p:cNvSpPr/>
            <p:nvPr/>
          </p:nvSpPr>
          <p:spPr>
            <a:xfrm>
              <a:off x="3733920" y="4876920"/>
              <a:ext cx="1791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pplication/</a:t>
              </a:r>
              <a:endParaRPr b="0" lang="en-US" sz="2400" spc="-1" strike="noStrike">
                <a:solidFill>
                  <a:srgbClr val="000000"/>
                </a:solidFill>
                <a:latin typeface="Rockwel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gram</a:t>
              </a:r>
              <a:endParaRPr b="0" lang="en-US" sz="2400" spc="-1" strike="noStrike">
                <a:solidFill>
                  <a:srgbClr val="000000"/>
                </a:solidFill>
                <a:latin typeface="Rockwell"/>
              </a:endParaRPr>
            </a:p>
          </p:txBody>
        </p:sp>
        <p:sp>
          <p:nvSpPr>
            <p:cNvPr id="266" name="Text Box 8"/>
            <p:cNvSpPr/>
            <p:nvPr/>
          </p:nvSpPr>
          <p:spPr>
            <a:xfrm>
              <a:off x="2440080" y="5029200"/>
              <a:ext cx="80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Rockwell"/>
              </a:endParaRPr>
            </a:p>
          </p:txBody>
        </p:sp>
        <p:sp>
          <p:nvSpPr>
            <p:cNvPr id="267" name="Text Box 9"/>
            <p:cNvSpPr/>
            <p:nvPr/>
          </p:nvSpPr>
          <p:spPr>
            <a:xfrm>
              <a:off x="5776920" y="4994280"/>
              <a:ext cx="80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Rectangle 2" descr=""/>
          <p:cNvPicPr/>
          <p:nvPr/>
        </p:nvPicPr>
        <p:blipFill>
          <a:blip r:embed="rId1"/>
          <a:stretch/>
        </p:blipFill>
        <p:spPr>
          <a:xfrm>
            <a:off x="689040" y="487440"/>
            <a:ext cx="7772400" cy="160956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 txBox="1"/>
          <p:nvPr/>
        </p:nvSpPr>
        <p:spPr>
          <a:xfrm>
            <a:off x="685800" y="2120760"/>
            <a:ext cx="7772400" cy="40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Data is classified into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Rockwell"/>
              </a:rPr>
              <a:t>data types</a:t>
            </a: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. e.g. char, float, int, etc.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A data type is (i) a </a:t>
            </a:r>
            <a:r>
              <a:rPr b="1" lang="en-US" sz="2800" spc="-1" strike="noStrike">
                <a:solidFill>
                  <a:srgbClr val="000000"/>
                </a:solidFill>
                <a:latin typeface="Rockwell"/>
              </a:rPr>
              <a:t>domain</a:t>
            </a: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 of allowed values and (ii) a set of </a:t>
            </a:r>
            <a:r>
              <a:rPr b="1" lang="en-US" sz="2800" spc="-1" strike="noStrike">
                <a:solidFill>
                  <a:srgbClr val="000000"/>
                </a:solidFill>
                <a:latin typeface="Rockwell"/>
              </a:rPr>
              <a:t>operations</a:t>
            </a: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 on these values.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Compiler signals an error if wrong operation is performed on data of a certain type. For example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 x,y,z; z = x*y</a:t>
            </a: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 is not allowed.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70" name="Slide Number Placeholder 5"/>
          <p:cNvSpPr/>
          <p:nvPr/>
        </p:nvSpPr>
        <p:spPr>
          <a:xfrm>
            <a:off x="8483760" y="6272280"/>
            <a:ext cx="479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58B02C-C693-411E-B393-5B459251BFF5}" type="slidenum"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Rectangle 2" descr=""/>
          <p:cNvPicPr/>
          <p:nvPr/>
        </p:nvPicPr>
        <p:blipFill>
          <a:blip r:embed="rId1"/>
          <a:stretch/>
        </p:blipFill>
        <p:spPr>
          <a:xfrm>
            <a:off x="689040" y="487440"/>
            <a:ext cx="7772400" cy="160956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 txBox="1"/>
          <p:nvPr/>
        </p:nvSpPr>
        <p:spPr>
          <a:xfrm>
            <a:off x="685800" y="2120760"/>
            <a:ext cx="7772400" cy="40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Examples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73" name="Slide Number Placeholder 5"/>
          <p:cNvSpPr/>
          <p:nvPr/>
        </p:nvSpPr>
        <p:spPr>
          <a:xfrm>
            <a:off x="8483760" y="6272280"/>
            <a:ext cx="479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1FF8CC-3EE3-4B74-94CA-4F7E9F666875}" type="slidenum"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Rockwel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1676520" y="2971800"/>
          <a:ext cx="6095880" cy="229392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a 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m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era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ole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d, or, =, et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CII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, &lt;&gt;, &lt;, et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g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maxint to +maxi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, _, =, ==, &lt;&gt;, &lt;, et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Rectangle 2" descr=""/>
          <p:cNvPicPr/>
          <p:nvPr/>
        </p:nvPicPr>
        <p:blipFill>
          <a:blip r:embed="rId1"/>
          <a:stretch/>
        </p:blipFill>
        <p:spPr>
          <a:xfrm>
            <a:off x="689040" y="487440"/>
            <a:ext cx="7772400" cy="160956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 txBox="1"/>
          <p:nvPr/>
        </p:nvSpPr>
        <p:spPr>
          <a:xfrm>
            <a:off x="685800" y="2120760"/>
            <a:ext cx="7772400" cy="40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  <a:ea typeface="Arial Unicode MS"/>
              </a:rPr>
              <a:t>int i,j;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 i, j can take only integer values and only integer operations can be carried out on i, j.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ckwell"/>
              </a:rPr>
              <a:t>Built-in </a:t>
            </a: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types: defined within the language e.g. 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int,float</a:t>
            </a: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, etc.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ckwell"/>
              </a:rPr>
              <a:t>User-defined</a:t>
            </a: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 types: defined and implemented by the user e.g. using 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typedef </a:t>
            </a: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or</a:t>
            </a: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 class</a:t>
            </a: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77" name="Slide Number Placeholder 5"/>
          <p:cNvSpPr/>
          <p:nvPr/>
        </p:nvSpPr>
        <p:spPr>
          <a:xfrm>
            <a:off x="8483760" y="6272280"/>
            <a:ext cx="479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CEA643-A915-44E7-9960-0AE38E01DD05}" type="slidenum"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Rectangle 2" descr=""/>
          <p:cNvPicPr/>
          <p:nvPr/>
        </p:nvPicPr>
        <p:blipFill>
          <a:blip r:embed="rId1"/>
          <a:stretch/>
        </p:blipFill>
        <p:spPr>
          <a:xfrm>
            <a:off x="689040" y="487440"/>
            <a:ext cx="7772400" cy="160956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 txBox="1"/>
          <p:nvPr/>
        </p:nvSpPr>
        <p:spPr>
          <a:xfrm>
            <a:off x="685800" y="2120760"/>
            <a:ext cx="7772400" cy="40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ckwell"/>
              </a:rPr>
              <a:t>Simple Data</a:t>
            </a: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 types: also known as atomic data type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 have no component parts. E.g. int, char, float, etc.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80" name="Slide Number Placeholder 5"/>
          <p:cNvSpPr/>
          <p:nvPr/>
        </p:nvSpPr>
        <p:spPr>
          <a:xfrm>
            <a:off x="8483760" y="6272280"/>
            <a:ext cx="479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283870-274B-4359-BFB4-E3F1E6D88E5E}" type="slidenum"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Rockwel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1828800" y="4114800"/>
          <a:ext cx="609480" cy="517680"/>
        </p:xfrm>
        <a:graphic>
          <a:graphicData uri="http://schemas.openxmlformats.org/drawingml/2006/table">
            <a:tbl>
              <a:tblPr/>
              <a:tblGrid>
                <a:gridCol w="60948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2" name=""/>
          <p:cNvGraphicFramePr/>
          <p:nvPr/>
        </p:nvGraphicFramePr>
        <p:xfrm>
          <a:off x="3276720" y="4114800"/>
          <a:ext cx="914400" cy="51768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3" name=""/>
          <p:cNvGraphicFramePr/>
          <p:nvPr/>
        </p:nvGraphicFramePr>
        <p:xfrm>
          <a:off x="5105520" y="4114800"/>
          <a:ext cx="685800" cy="5176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‘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Rectangle 2" descr=""/>
          <p:cNvPicPr/>
          <p:nvPr/>
        </p:nvPicPr>
        <p:blipFill>
          <a:blip r:embed="rId1"/>
          <a:stretch/>
        </p:blipFill>
        <p:spPr>
          <a:xfrm>
            <a:off x="689040" y="487440"/>
            <a:ext cx="7772400" cy="160956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 txBox="1"/>
          <p:nvPr/>
        </p:nvSpPr>
        <p:spPr>
          <a:xfrm>
            <a:off x="685800" y="2120760"/>
            <a:ext cx="7772400" cy="40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ckwell"/>
              </a:rPr>
              <a:t>Structured Data</a:t>
            </a: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 types: can be broken into component parts. E.g. an object, array, set, file, etc. Example: a student object.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86" name="Slide Number Placeholder 5"/>
          <p:cNvSpPr/>
          <p:nvPr/>
        </p:nvSpPr>
        <p:spPr>
          <a:xfrm>
            <a:off x="8483760" y="6272280"/>
            <a:ext cx="479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522D32-C0E6-40BC-9205-F79970D1336D}" type="slidenum"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Rockwel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2743200" y="4267080"/>
          <a:ext cx="4343400" cy="1006560"/>
        </p:xfrm>
        <a:graphic>
          <a:graphicData uri="http://schemas.openxmlformats.org/drawingml/2006/table">
            <a:tbl>
              <a:tblPr/>
              <a:tblGrid>
                <a:gridCol w="868320"/>
                <a:gridCol w="868320"/>
                <a:gridCol w="870120"/>
                <a:gridCol w="868320"/>
                <a:gridCol w="868320"/>
              </a:tblGrid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4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8" name="Text Box 88"/>
          <p:cNvSpPr/>
          <p:nvPr/>
        </p:nvSpPr>
        <p:spPr>
          <a:xfrm>
            <a:off x="1983960" y="426708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89" name="Text Box 89"/>
          <p:cNvSpPr/>
          <p:nvPr/>
        </p:nvSpPr>
        <p:spPr>
          <a:xfrm>
            <a:off x="2058840" y="457200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</a:t>
            </a:r>
            <a:endParaRPr b="0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90" name="Text Box 90"/>
          <p:cNvSpPr/>
          <p:nvPr/>
        </p:nvSpPr>
        <p:spPr>
          <a:xfrm>
            <a:off x="1982880" y="495288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nch</a:t>
            </a:r>
            <a:endParaRPr b="0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91" name="Oval 91"/>
          <p:cNvSpPr/>
          <p:nvPr/>
        </p:nvSpPr>
        <p:spPr>
          <a:xfrm>
            <a:off x="2666880" y="4572000"/>
            <a:ext cx="106704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92" name="Line 93"/>
          <p:cNvSpPr/>
          <p:nvPr/>
        </p:nvSpPr>
        <p:spPr>
          <a:xfrm>
            <a:off x="3200400" y="495288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93" name="Text Box 94"/>
          <p:cNvSpPr/>
          <p:nvPr/>
        </p:nvSpPr>
        <p:spPr>
          <a:xfrm>
            <a:off x="3720960" y="5319720"/>
            <a:ext cx="16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mponent part</a:t>
            </a:r>
            <a:endParaRPr b="0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Rectangle 2" descr=""/>
          <p:cNvPicPr/>
          <p:nvPr/>
        </p:nvPicPr>
        <p:blipFill>
          <a:blip r:embed="rId1"/>
          <a:stretch/>
        </p:blipFill>
        <p:spPr>
          <a:xfrm>
            <a:off x="689040" y="487440"/>
            <a:ext cx="7772400" cy="160956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 txBox="1"/>
          <p:nvPr/>
        </p:nvSpPr>
        <p:spPr>
          <a:xfrm>
            <a:off x="685800" y="2120760"/>
            <a:ext cx="7772400" cy="40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Rockwell"/>
              </a:rPr>
              <a:t>data structure</a:t>
            </a: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 is a data type whose values (i) can be decomposed into a set of component elements each of which is either simple (atomic) or another data structure (ii) include a structure involving the component parts.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96" name="Slide Number Placeholder 5"/>
          <p:cNvSpPr/>
          <p:nvPr/>
        </p:nvSpPr>
        <p:spPr>
          <a:xfrm>
            <a:off x="8483760" y="6272280"/>
            <a:ext cx="479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A0EDB4-3EA9-4AAB-AC53-973E4FB604DB}" type="slidenum"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Rectangle 2" descr=""/>
          <p:cNvPicPr/>
          <p:nvPr/>
        </p:nvPicPr>
        <p:blipFill>
          <a:blip r:embed="rId1"/>
          <a:stretch/>
        </p:blipFill>
        <p:spPr>
          <a:xfrm>
            <a:off x="689040" y="487440"/>
            <a:ext cx="7772400" cy="160956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 txBox="1"/>
          <p:nvPr/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Possible Structures: Set, Linear, Tree, Graph.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99" name="Slide Number Placeholder 5"/>
          <p:cNvSpPr/>
          <p:nvPr/>
        </p:nvSpPr>
        <p:spPr>
          <a:xfrm>
            <a:off x="8483760" y="6272280"/>
            <a:ext cx="479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F240B5-AE8B-4978-A114-8C10431DBFCE}" type="slidenum"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00" name="Oval 4"/>
          <p:cNvSpPr/>
          <p:nvPr/>
        </p:nvSpPr>
        <p:spPr>
          <a:xfrm>
            <a:off x="1295280" y="2971800"/>
            <a:ext cx="152640" cy="152280"/>
          </a:xfrm>
          <a:prstGeom prst="ellipse">
            <a:avLst/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01" name="Oval 5"/>
          <p:cNvSpPr/>
          <p:nvPr/>
        </p:nvSpPr>
        <p:spPr>
          <a:xfrm>
            <a:off x="1752480" y="2971800"/>
            <a:ext cx="152640" cy="152280"/>
          </a:xfrm>
          <a:prstGeom prst="ellipse">
            <a:avLst/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02" name="Oval 6"/>
          <p:cNvSpPr/>
          <p:nvPr/>
        </p:nvSpPr>
        <p:spPr>
          <a:xfrm>
            <a:off x="1447920" y="3352680"/>
            <a:ext cx="152280" cy="152640"/>
          </a:xfrm>
          <a:prstGeom prst="ellipse">
            <a:avLst/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03" name="Oval 7"/>
          <p:cNvSpPr/>
          <p:nvPr/>
        </p:nvSpPr>
        <p:spPr>
          <a:xfrm>
            <a:off x="1905120" y="3276720"/>
            <a:ext cx="152280" cy="152280"/>
          </a:xfrm>
          <a:prstGeom prst="ellipse">
            <a:avLst/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04" name="Oval 8"/>
          <p:cNvSpPr/>
          <p:nvPr/>
        </p:nvSpPr>
        <p:spPr>
          <a:xfrm>
            <a:off x="1676520" y="3657600"/>
            <a:ext cx="152280" cy="152280"/>
          </a:xfrm>
          <a:prstGeom prst="ellipse">
            <a:avLst/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05" name="Oval 9"/>
          <p:cNvSpPr/>
          <p:nvPr/>
        </p:nvSpPr>
        <p:spPr>
          <a:xfrm>
            <a:off x="2209680" y="3048120"/>
            <a:ext cx="152640" cy="152280"/>
          </a:xfrm>
          <a:prstGeom prst="ellipse">
            <a:avLst/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06" name="Oval 10"/>
          <p:cNvSpPr/>
          <p:nvPr/>
        </p:nvSpPr>
        <p:spPr>
          <a:xfrm>
            <a:off x="2057400" y="3581280"/>
            <a:ext cx="152280" cy="152640"/>
          </a:xfrm>
          <a:prstGeom prst="ellipse">
            <a:avLst/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07" name="Oval 11"/>
          <p:cNvSpPr/>
          <p:nvPr/>
        </p:nvSpPr>
        <p:spPr>
          <a:xfrm>
            <a:off x="3733920" y="3124080"/>
            <a:ext cx="152280" cy="152640"/>
          </a:xfrm>
          <a:prstGeom prst="ellipse">
            <a:avLst/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08" name="Oval 24"/>
          <p:cNvSpPr/>
          <p:nvPr/>
        </p:nvSpPr>
        <p:spPr>
          <a:xfrm>
            <a:off x="6477120" y="3124080"/>
            <a:ext cx="152280" cy="152640"/>
          </a:xfrm>
          <a:prstGeom prst="ellipse">
            <a:avLst/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09" name="Oval 25"/>
          <p:cNvSpPr/>
          <p:nvPr/>
        </p:nvSpPr>
        <p:spPr>
          <a:xfrm>
            <a:off x="6019920" y="3124080"/>
            <a:ext cx="152280" cy="152640"/>
          </a:xfrm>
          <a:prstGeom prst="ellipse">
            <a:avLst/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10" name="Oval 26"/>
          <p:cNvSpPr/>
          <p:nvPr/>
        </p:nvSpPr>
        <p:spPr>
          <a:xfrm>
            <a:off x="5638680" y="3124080"/>
            <a:ext cx="152640" cy="152640"/>
          </a:xfrm>
          <a:prstGeom prst="ellipse">
            <a:avLst/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11" name="Oval 27"/>
          <p:cNvSpPr/>
          <p:nvPr/>
        </p:nvSpPr>
        <p:spPr>
          <a:xfrm>
            <a:off x="5181480" y="3124080"/>
            <a:ext cx="152640" cy="152640"/>
          </a:xfrm>
          <a:prstGeom prst="ellipse">
            <a:avLst/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12" name="Oval 28"/>
          <p:cNvSpPr/>
          <p:nvPr/>
        </p:nvSpPr>
        <p:spPr>
          <a:xfrm>
            <a:off x="4724280" y="3124080"/>
            <a:ext cx="152640" cy="152640"/>
          </a:xfrm>
          <a:prstGeom prst="ellipse">
            <a:avLst/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13" name="Oval 29"/>
          <p:cNvSpPr/>
          <p:nvPr/>
        </p:nvSpPr>
        <p:spPr>
          <a:xfrm>
            <a:off x="4267080" y="3124080"/>
            <a:ext cx="152640" cy="152640"/>
          </a:xfrm>
          <a:prstGeom prst="ellipse">
            <a:avLst/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14" name="Line 31"/>
          <p:cNvSpPr/>
          <p:nvPr/>
        </p:nvSpPr>
        <p:spPr>
          <a:xfrm>
            <a:off x="3886200" y="32004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15" name="Line 32"/>
          <p:cNvSpPr/>
          <p:nvPr/>
        </p:nvSpPr>
        <p:spPr>
          <a:xfrm>
            <a:off x="4419720" y="3200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16" name="Line 33"/>
          <p:cNvSpPr/>
          <p:nvPr/>
        </p:nvSpPr>
        <p:spPr>
          <a:xfrm>
            <a:off x="4876920" y="3200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17" name="Line 34"/>
          <p:cNvSpPr/>
          <p:nvPr/>
        </p:nvSpPr>
        <p:spPr>
          <a:xfrm>
            <a:off x="5334120" y="3200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18" name="Line 35"/>
          <p:cNvSpPr/>
          <p:nvPr/>
        </p:nvSpPr>
        <p:spPr>
          <a:xfrm>
            <a:off x="5791320" y="3200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19" name="Line 36"/>
          <p:cNvSpPr/>
          <p:nvPr/>
        </p:nvSpPr>
        <p:spPr>
          <a:xfrm>
            <a:off x="617220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grpSp>
        <p:nvGrpSpPr>
          <p:cNvPr id="320" name="Group 53"/>
          <p:cNvGrpSpPr/>
          <p:nvPr/>
        </p:nvGrpSpPr>
        <p:grpSpPr>
          <a:xfrm>
            <a:off x="4800600" y="4267080"/>
            <a:ext cx="2286000" cy="1371600"/>
            <a:chOff x="4800600" y="4267080"/>
            <a:chExt cx="2286000" cy="1371600"/>
          </a:xfrm>
        </p:grpSpPr>
        <p:sp>
          <p:nvSpPr>
            <p:cNvPr id="321" name="Oval 18"/>
            <p:cNvSpPr/>
            <p:nvPr/>
          </p:nvSpPr>
          <p:spPr>
            <a:xfrm>
              <a:off x="5867280" y="5486400"/>
              <a:ext cx="152640" cy="152280"/>
            </a:xfrm>
            <a:prstGeom prst="ellipse">
              <a:avLst/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  <p:sp>
          <p:nvSpPr>
            <p:cNvPr id="322" name="Oval 19"/>
            <p:cNvSpPr/>
            <p:nvPr/>
          </p:nvSpPr>
          <p:spPr>
            <a:xfrm>
              <a:off x="6934320" y="5257800"/>
              <a:ext cx="152280" cy="152280"/>
            </a:xfrm>
            <a:prstGeom prst="ellipse">
              <a:avLst/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  <p:sp>
          <p:nvSpPr>
            <p:cNvPr id="323" name="Oval 20"/>
            <p:cNvSpPr/>
            <p:nvPr/>
          </p:nvSpPr>
          <p:spPr>
            <a:xfrm>
              <a:off x="5638680" y="4800600"/>
              <a:ext cx="152640" cy="152280"/>
            </a:xfrm>
            <a:prstGeom prst="ellipse">
              <a:avLst/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  <p:sp>
          <p:nvSpPr>
            <p:cNvPr id="324" name="Oval 21"/>
            <p:cNvSpPr/>
            <p:nvPr/>
          </p:nvSpPr>
          <p:spPr>
            <a:xfrm>
              <a:off x="4800600" y="4876560"/>
              <a:ext cx="152280" cy="152640"/>
            </a:xfrm>
            <a:prstGeom prst="ellipse">
              <a:avLst/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  <p:sp>
          <p:nvSpPr>
            <p:cNvPr id="325" name="Oval 22"/>
            <p:cNvSpPr/>
            <p:nvPr/>
          </p:nvSpPr>
          <p:spPr>
            <a:xfrm>
              <a:off x="6324480" y="4572000"/>
              <a:ext cx="152640" cy="152280"/>
            </a:xfrm>
            <a:prstGeom prst="ellipse">
              <a:avLst/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  <p:sp>
          <p:nvSpPr>
            <p:cNvPr id="326" name="Oval 23"/>
            <p:cNvSpPr/>
            <p:nvPr/>
          </p:nvSpPr>
          <p:spPr>
            <a:xfrm>
              <a:off x="5257800" y="4267080"/>
              <a:ext cx="152280" cy="152280"/>
            </a:xfrm>
            <a:prstGeom prst="ellipse">
              <a:avLst/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  <p:sp>
          <p:nvSpPr>
            <p:cNvPr id="327" name="Line 37"/>
            <p:cNvSpPr/>
            <p:nvPr/>
          </p:nvSpPr>
          <p:spPr>
            <a:xfrm flipH="1">
              <a:off x="4952520" y="4419360"/>
              <a:ext cx="3049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  <p:sp>
          <p:nvSpPr>
            <p:cNvPr id="328" name="Line 38"/>
            <p:cNvSpPr/>
            <p:nvPr/>
          </p:nvSpPr>
          <p:spPr>
            <a:xfrm>
              <a:off x="5410080" y="4343400"/>
              <a:ext cx="9144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  <p:sp>
          <p:nvSpPr>
            <p:cNvPr id="329" name="Line 39"/>
            <p:cNvSpPr/>
            <p:nvPr/>
          </p:nvSpPr>
          <p:spPr>
            <a:xfrm>
              <a:off x="5334120" y="4419360"/>
              <a:ext cx="30456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  <p:sp>
          <p:nvSpPr>
            <p:cNvPr id="330" name="Line 40"/>
            <p:cNvSpPr/>
            <p:nvPr/>
          </p:nvSpPr>
          <p:spPr>
            <a:xfrm flipH="1">
              <a:off x="5714640" y="4724280"/>
              <a:ext cx="6094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  <p:sp>
          <p:nvSpPr>
            <p:cNvPr id="331" name="Line 41"/>
            <p:cNvSpPr/>
            <p:nvPr/>
          </p:nvSpPr>
          <p:spPr>
            <a:xfrm>
              <a:off x="5791320" y="4952880"/>
              <a:ext cx="11430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  <p:sp>
          <p:nvSpPr>
            <p:cNvPr id="332" name="Line 42"/>
            <p:cNvSpPr/>
            <p:nvPr/>
          </p:nvSpPr>
          <p:spPr>
            <a:xfrm>
              <a:off x="6477120" y="4724280"/>
              <a:ext cx="4572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  <p:sp>
          <p:nvSpPr>
            <p:cNvPr id="333" name="Line 44"/>
            <p:cNvSpPr/>
            <p:nvPr/>
          </p:nvSpPr>
          <p:spPr>
            <a:xfrm>
              <a:off x="4952880" y="5029200"/>
              <a:ext cx="9144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  <p:sp>
          <p:nvSpPr>
            <p:cNvPr id="334" name="Line 45"/>
            <p:cNvSpPr/>
            <p:nvPr/>
          </p:nvSpPr>
          <p:spPr>
            <a:xfrm flipV="1">
              <a:off x="6019920" y="5333400"/>
              <a:ext cx="9144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  <p:grpSp>
        <p:nvGrpSpPr>
          <p:cNvPr id="335" name="Group 54"/>
          <p:cNvGrpSpPr/>
          <p:nvPr/>
        </p:nvGrpSpPr>
        <p:grpSpPr>
          <a:xfrm>
            <a:off x="1371600" y="4495680"/>
            <a:ext cx="1676520" cy="1295280"/>
            <a:chOff x="1371600" y="4495680"/>
            <a:chExt cx="1676520" cy="1295280"/>
          </a:xfrm>
        </p:grpSpPr>
        <p:sp>
          <p:nvSpPr>
            <p:cNvPr id="336" name="Oval 12"/>
            <p:cNvSpPr/>
            <p:nvPr/>
          </p:nvSpPr>
          <p:spPr>
            <a:xfrm>
              <a:off x="2133720" y="4495680"/>
              <a:ext cx="152280" cy="152280"/>
            </a:xfrm>
            <a:prstGeom prst="ellipse">
              <a:avLst/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  <p:sp>
          <p:nvSpPr>
            <p:cNvPr id="337" name="Oval 13"/>
            <p:cNvSpPr/>
            <p:nvPr/>
          </p:nvSpPr>
          <p:spPr>
            <a:xfrm>
              <a:off x="1676520" y="4952880"/>
              <a:ext cx="152280" cy="152280"/>
            </a:xfrm>
            <a:prstGeom prst="ellipse">
              <a:avLst/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  <p:sp>
          <p:nvSpPr>
            <p:cNvPr id="338" name="Oval 14"/>
            <p:cNvSpPr/>
            <p:nvPr/>
          </p:nvSpPr>
          <p:spPr>
            <a:xfrm>
              <a:off x="2590920" y="5029200"/>
              <a:ext cx="152280" cy="152280"/>
            </a:xfrm>
            <a:prstGeom prst="ellipse">
              <a:avLst/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  <p:sp>
          <p:nvSpPr>
            <p:cNvPr id="339" name="Oval 15"/>
            <p:cNvSpPr/>
            <p:nvPr/>
          </p:nvSpPr>
          <p:spPr>
            <a:xfrm>
              <a:off x="1371600" y="5638680"/>
              <a:ext cx="152640" cy="152280"/>
            </a:xfrm>
            <a:prstGeom prst="ellipse">
              <a:avLst/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  <p:sp>
          <p:nvSpPr>
            <p:cNvPr id="340" name="Oval 16"/>
            <p:cNvSpPr/>
            <p:nvPr/>
          </p:nvSpPr>
          <p:spPr>
            <a:xfrm>
              <a:off x="1905120" y="5638680"/>
              <a:ext cx="152280" cy="152280"/>
            </a:xfrm>
            <a:prstGeom prst="ellipse">
              <a:avLst/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  <p:sp>
          <p:nvSpPr>
            <p:cNvPr id="341" name="Oval 17"/>
            <p:cNvSpPr/>
            <p:nvPr/>
          </p:nvSpPr>
          <p:spPr>
            <a:xfrm>
              <a:off x="2362320" y="5638680"/>
              <a:ext cx="152280" cy="152280"/>
            </a:xfrm>
            <a:prstGeom prst="ellipse">
              <a:avLst/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  <p:sp>
          <p:nvSpPr>
            <p:cNvPr id="342" name="Oval 30"/>
            <p:cNvSpPr/>
            <p:nvPr/>
          </p:nvSpPr>
          <p:spPr>
            <a:xfrm>
              <a:off x="2895840" y="5638680"/>
              <a:ext cx="152280" cy="152280"/>
            </a:xfrm>
            <a:prstGeom prst="ellipse">
              <a:avLst/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  <p:sp>
          <p:nvSpPr>
            <p:cNvPr id="343" name="Line 46"/>
            <p:cNvSpPr/>
            <p:nvPr/>
          </p:nvSpPr>
          <p:spPr>
            <a:xfrm flipH="1">
              <a:off x="1828440" y="46479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  <p:sp>
          <p:nvSpPr>
            <p:cNvPr id="344" name="Line 47"/>
            <p:cNvSpPr/>
            <p:nvPr/>
          </p:nvSpPr>
          <p:spPr>
            <a:xfrm>
              <a:off x="2286000" y="464796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  <p:sp>
          <p:nvSpPr>
            <p:cNvPr id="345" name="Line 48"/>
            <p:cNvSpPr/>
            <p:nvPr/>
          </p:nvSpPr>
          <p:spPr>
            <a:xfrm flipH="1">
              <a:off x="1447560" y="5105160"/>
              <a:ext cx="2286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  <p:sp>
          <p:nvSpPr>
            <p:cNvPr id="346" name="Line 49"/>
            <p:cNvSpPr/>
            <p:nvPr/>
          </p:nvSpPr>
          <p:spPr>
            <a:xfrm>
              <a:off x="1752840" y="5105160"/>
              <a:ext cx="2286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  <p:sp>
          <p:nvSpPr>
            <p:cNvPr id="347" name="Line 50"/>
            <p:cNvSpPr/>
            <p:nvPr/>
          </p:nvSpPr>
          <p:spPr>
            <a:xfrm flipH="1">
              <a:off x="2438280" y="5181480"/>
              <a:ext cx="228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  <p:sp>
          <p:nvSpPr>
            <p:cNvPr id="348" name="Line 52"/>
            <p:cNvSpPr/>
            <p:nvPr/>
          </p:nvSpPr>
          <p:spPr>
            <a:xfrm>
              <a:off x="2667240" y="5181480"/>
              <a:ext cx="3045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  <p:sp>
        <p:nvSpPr>
          <p:cNvPr id="349" name="Text Box 55"/>
          <p:cNvSpPr/>
          <p:nvPr/>
        </p:nvSpPr>
        <p:spPr>
          <a:xfrm>
            <a:off x="1433880" y="39243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</a:t>
            </a: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50" name="Text Box 56"/>
          <p:cNvSpPr/>
          <p:nvPr/>
        </p:nvSpPr>
        <p:spPr>
          <a:xfrm>
            <a:off x="4803120" y="350532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AR</a:t>
            </a: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51" name="Text Box 57"/>
          <p:cNvSpPr/>
          <p:nvPr/>
        </p:nvSpPr>
        <p:spPr>
          <a:xfrm>
            <a:off x="2729160" y="453384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52" name="Text Box 58"/>
          <p:cNvSpPr/>
          <p:nvPr/>
        </p:nvSpPr>
        <p:spPr>
          <a:xfrm>
            <a:off x="4481280" y="5295960"/>
            <a:ext cx="10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PH</a:t>
            </a: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8T09:46:40Z</dcterms:created>
  <dc:creator>Inayat</dc:creator>
  <dc:description/>
  <dc:language>en-US</dc:language>
  <cp:lastModifiedBy>Sarona</cp:lastModifiedBy>
  <dcterms:modified xsi:type="dcterms:W3CDTF">2017-10-04T04:53:55Z</dcterms:modified>
  <cp:revision>76</cp:revision>
  <dc:subject/>
  <dc:title>Data Structures: Introduction</dc:title>
</cp:coreProperties>
</file>