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61060FA-121E-434D-99EF-B48DE3DB51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F20A027-8FB2-47A7-A723-FFE240C84E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1AB8B59-023E-4420-B070-807D87667A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4389B36-DD4E-4AC6-832B-A4EC5CE9FE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9730F32-6CD1-4056-BFB2-AD1077C542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3D3979C-9145-49A4-B3B7-21A931C33B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7D21596-3786-41FF-96EF-E49A6035D4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E91F5D8-1FFC-4DB8-80A8-E7D3A5CECB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3DBF80A-A2BE-4D7B-B6FD-3B405F0013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D44C27F-8F06-45FD-8977-4D57929EAF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223D582-4D45-49A1-80B3-E4B0804E74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8C30FA9-508B-4878-A304-1AE1AC5E20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EB26804-A2C6-46DB-B9D0-342408BA6E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3FD85C6-F10C-42C4-8181-A873969F8F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F4FF8E5-0611-4102-9602-51B5B13CFD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EFD9932-B0A9-46C8-88B1-D278BD0F84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369C50-51C9-42D1-91AB-B9FA5C78A7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FAEB8BE-1DF3-4244-BBF4-94AED7E694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B396D1E-2F80-4721-906B-E9BBC5442B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8B29800-C305-4431-A751-377DF6E7DF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43A5326-A5C3-4541-9388-E09B0F1FBF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494AE28-887B-4952-88E1-1B3E8AE126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271ACA1-9FA4-4E2F-B0D7-CB7893DE99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7335D22-A355-44C1-A588-2EC405CBFA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DFB23C2-49D5-408D-A044-3FE31FCFAE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C7F6A3D-4DB7-4808-84D5-1036A02E9A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E183D87-ABF4-431F-97AB-391D43B085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8AD0D9F-D3C5-42C4-8C0E-708DAC0338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1B518DD-AE22-4290-AB8D-3724AEDB2C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7742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344365F-7FFE-41CA-B304-E9B6CC626C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94E-F3DB-4A96-911E-F2DAD18F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343-B1D7-43FE-ACCF-1E50340B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720-1D72-4FEF-B687-68EA5881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87D-7DCE-4E5F-B19A-2AE8EF0D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BAE-7C80-4329-B2B0-4025AA20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A9E-C501-4ED8-A5CF-266325ED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D73-094B-4D46-903D-E8D663B2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562-4179-4150-835E-F8AAB7FE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3AB4-E944-4808-A432-58908109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1CE-5E77-474A-86E8-F66ABBC0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7A18-D02F-4314-9912-CB38F330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ECD-0CB9-4040-94FD-EAE8C0EB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53EE-4CC9-407F-BE35-15058B2F5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7488-F2E0-40C5-B327-31E2C6B46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eneral Trees &amp; Binary Tre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C2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ree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ithmetic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proces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9920-8D24-4829-B95C-F0A3576AD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4E14-D3EB-47CA-8B39-3F9B7EE79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rees (Arithmetic expression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33"/>
          <p:cNvGrpSpPr/>
          <p:nvPr/>
        </p:nvGrpSpPr>
        <p:grpSpPr>
          <a:xfrm>
            <a:off x="605520" y="2286000"/>
            <a:ext cx="3813840" cy="3581280"/>
            <a:chOff x="605520" y="2286000"/>
            <a:chExt cx="3813840" cy="3581280"/>
          </a:xfrm>
        </p:grpSpPr>
        <p:sp>
          <p:nvSpPr>
            <p:cNvPr id="134" name="Oval 3"/>
            <p:cNvSpPr/>
            <p:nvPr/>
          </p:nvSpPr>
          <p:spPr>
            <a:xfrm>
              <a:off x="3124080" y="22860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4"/>
            <p:cNvSpPr/>
            <p:nvPr/>
          </p:nvSpPr>
          <p:spPr>
            <a:xfrm>
              <a:off x="1676160" y="426708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5"/>
            <p:cNvSpPr/>
            <p:nvPr/>
          </p:nvSpPr>
          <p:spPr>
            <a:xfrm>
              <a:off x="3886200" y="320040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6"/>
            <p:cNvSpPr/>
            <p:nvPr/>
          </p:nvSpPr>
          <p:spPr>
            <a:xfrm>
              <a:off x="2361960" y="32004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7"/>
            <p:cNvSpPr/>
            <p:nvPr/>
          </p:nvSpPr>
          <p:spPr>
            <a:xfrm>
              <a:off x="1066680" y="53341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8"/>
            <p:cNvSpPr/>
            <p:nvPr/>
          </p:nvSpPr>
          <p:spPr>
            <a:xfrm>
              <a:off x="297180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9"/>
            <p:cNvSpPr/>
            <p:nvPr/>
          </p:nvSpPr>
          <p:spPr>
            <a:xfrm>
              <a:off x="2361960" y="5334120"/>
              <a:ext cx="53352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 flipH="1">
              <a:off x="2666520" y="281952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3429000" y="2819520"/>
              <a:ext cx="685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 flipH="1">
              <a:off x="1981080" y="37339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2666880" y="37339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 flipH="1">
              <a:off x="1295280" y="4800600"/>
              <a:ext cx="533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9"/>
            <p:cNvSpPr/>
            <p:nvPr/>
          </p:nvSpPr>
          <p:spPr>
            <a:xfrm>
              <a:off x="2057400" y="480060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30"/>
            <p:cNvSpPr/>
            <p:nvPr/>
          </p:nvSpPr>
          <p:spPr>
            <a:xfrm>
              <a:off x="605520" y="2743200"/>
              <a:ext cx="180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[(a + b) * c] +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48"/>
          <p:cNvGrpSpPr/>
          <p:nvPr/>
        </p:nvGrpSpPr>
        <p:grpSpPr>
          <a:xfrm>
            <a:off x="4648320" y="2286000"/>
            <a:ext cx="3733200" cy="3232440"/>
            <a:chOff x="4648320" y="2286000"/>
            <a:chExt cx="3733200" cy="3232440"/>
          </a:xfrm>
        </p:grpSpPr>
        <p:sp>
          <p:nvSpPr>
            <p:cNvPr id="149" name="Oval 11"/>
            <p:cNvSpPr/>
            <p:nvPr/>
          </p:nvSpPr>
          <p:spPr>
            <a:xfrm>
              <a:off x="7238880" y="320040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2"/>
            <p:cNvSpPr/>
            <p:nvPr/>
          </p:nvSpPr>
          <p:spPr>
            <a:xfrm>
              <a:off x="6248160" y="228600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34"/>
            <p:cNvSpPr/>
            <p:nvPr/>
          </p:nvSpPr>
          <p:spPr>
            <a:xfrm>
              <a:off x="670536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35"/>
            <p:cNvSpPr/>
            <p:nvPr/>
          </p:nvSpPr>
          <p:spPr>
            <a:xfrm>
              <a:off x="5943600" y="4267080"/>
              <a:ext cx="53280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6"/>
            <p:cNvSpPr/>
            <p:nvPr/>
          </p:nvSpPr>
          <p:spPr>
            <a:xfrm>
              <a:off x="464832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7"/>
            <p:cNvSpPr/>
            <p:nvPr/>
          </p:nvSpPr>
          <p:spPr>
            <a:xfrm>
              <a:off x="5333760" y="3200400"/>
              <a:ext cx="53316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8"/>
            <p:cNvSpPr/>
            <p:nvPr/>
          </p:nvSpPr>
          <p:spPr>
            <a:xfrm>
              <a:off x="7848360" y="42670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0"/>
            <p:cNvSpPr/>
            <p:nvPr/>
          </p:nvSpPr>
          <p:spPr>
            <a:xfrm flipH="1">
              <a:off x="5638680" y="2743200"/>
              <a:ext cx="685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1"/>
            <p:cNvSpPr/>
            <p:nvPr/>
          </p:nvSpPr>
          <p:spPr>
            <a:xfrm>
              <a:off x="6705360" y="27432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42"/>
            <p:cNvSpPr/>
            <p:nvPr/>
          </p:nvSpPr>
          <p:spPr>
            <a:xfrm flipH="1">
              <a:off x="4952520" y="3657600"/>
              <a:ext cx="456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4"/>
            <p:cNvSpPr/>
            <p:nvPr/>
          </p:nvSpPr>
          <p:spPr>
            <a:xfrm>
              <a:off x="5715000" y="3657600"/>
              <a:ext cx="456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 flipH="1">
              <a:off x="6933960" y="365760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>
              <a:off x="7619760" y="3657600"/>
              <a:ext cx="456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47"/>
            <p:cNvSpPr/>
            <p:nvPr/>
          </p:nvSpPr>
          <p:spPr>
            <a:xfrm>
              <a:off x="5542200" y="5119560"/>
              <a:ext cx="180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a + b) * (c + 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ree (Arithmetic expression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 * (a - 1) + (3 *b))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CCA2-2088-426E-9A11-F4123DD63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5399-02CF-43D5-A38A-1F68E0818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ement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elements are nodes, each node contains the following data type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a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ftChi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ightChi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enc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uctu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ierarchical structure; each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ave two children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ild; there is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o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 and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ur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ma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number of nodes in a binary tree is bounded; domain contains empty tree, trees with one element, two element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47D5-B3D4-45EA-9003-1105C22D2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verse (Order 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nary Tree (BT) is not empty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ach element in the tree is processed exactly once by a user supplied procedure. The order in which nodes are processed depends on the value of ord (Order = {preorder, postorder, inorder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order: each node processed before any node in either of its subtre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order: each node is processed after all its nodes in its left subtree and before any node in its right sub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order: each node is processed after all its nodes in both of its subtre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A65E-79F6-44CB-AE9A-B35A6035A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01520" y="-28440"/>
            <a:ext cx="11655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DDC1-A5B1-455B-8B5F-03C194733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-685800" y="290520"/>
            <a:ext cx="1064268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120A-AB0D-4748-8A27-8CD142514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10534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A737-FA72-4F75-973C-B23803777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102488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78C5-AB98-4ADC-940A-76A8FF95E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-1143000" y="17640"/>
            <a:ext cx="1121256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1AEB-2F4A-4408-853D-81CA2DAAD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 data structures (e.g. lists, stacks, queues) have a linear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structures represen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e-to-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 between data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s have a nested or a hierarchical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chical structures represen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e-to-m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 between data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971C-06A0-4135-9DB7-F2908EA27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-380880" y="263520"/>
            <a:ext cx="1094256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069F-FB00-4AAD-9DE0-5A3422420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 Travers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raverse a tree means to process (e.g. printing it) each element in the tre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traversals: n! ways of traversing a tree of n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order, in-order, post-ord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ee natural traversals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traversals: n! ways of traversing a list of n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nt-to-back or back-to-front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wo natural traversals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2011-5A15-4CE9-B293-5140465DF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er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ert (Type e, Relative rel, boolean inser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lative = {leftchild, rightchild, root, parent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(1) Full () is false and (2) either (a) rel = root and Empty() is true or (b) rel &lt;&gt; root and rel &lt;&gt; parent and Empty( ) is false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, r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se (1) rel = leftChild, current node has a left child, or (2) rel = rightChild, current node has a right child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erted is false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node containing e is added as rel of the current node in the tree and becomes the current node and inserted is tr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nse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DF30-4964-47D2-A620-AF684F2C3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leteSub 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inary tree is not empty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subtree whose root node was the current node is deleted from the tree. If the resulting tree is not empty, then the root node is the current nod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pdate (Type 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inary tree is not empty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element in e is copied into the current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5C66-75E1-46F2-820C-D78F10BD9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rieve (Type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inary tree is not empty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lement in the current node is copied into 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573C-35F1-4554-AC94-0EF9D5178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(Relative rel, boolean f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inary tree is not empty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current node of the tree is determined by the value of  rel and previous current node.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ty (boolean empt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Binary tree is empty then empty is true; otherwise empty is fal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D4F8-1997-4C72-A911-904585B1C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ll (boolean fu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n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n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the binary tree is full then full is true otherwise fals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009F-140B-4D6F-840B-D4FAFB2E3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: BTNod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class BTNode &lt;T&gt;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T 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BTNode&lt;T&gt; left, 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/** Creates a new instance of BTNod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BTNode(T va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data 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left = right = null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BTNode(T val, BTNode&lt;T&gt; l, BTNode&lt;T&gt; r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data 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left = 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ight = r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B59B-5A0E-434F-AC1C-45EC2459A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: Order &amp; Relativ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imSun"/>
              </a:rPr>
              <a:t>//These definitions are in separate files and def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imSun"/>
              </a:rPr>
              <a:t>// the Order and Relative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enum Order {preOrder, inOrder, postOrder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enum Relative {Root, Parent, LeftChild, RightChild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5EE4-565C-4BD0-ABB2-0CFC0DA41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class BT&lt;T&gt;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BTNode&lt;T&gt; root, curr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/** Creates a new instance of BT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B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oot = current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public boolean empty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return root == null ? true: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A1F2-8115-4361-A2B2-1B7F0058D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situations were one-to-many relations exist… these can be represented as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between a parent and his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between a person and books he ow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between a basketball team and the players on the t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 catalog in a libr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450B-E48B-43F3-93D7-C89D00FCC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imSun"/>
              </a:rPr>
              <a:t>// Non-recursive version of findparent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ff0000"/>
                </a:solidFill>
                <a:latin typeface="SimSun"/>
              </a:rPr>
              <a:t> uses pre-order tra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rivate BTNode&lt;T&gt; findparent (BTNode&lt;T&gt; 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imSun"/>
              </a:rPr>
              <a:t>// Stack is used to store the right pointers of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LinkStack&lt;BTNode&lt;T&gt;&gt; stack = new LinkStack&lt;BTNode&lt;T&gt;&gt;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BTNode&lt;T&gt; q = ro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while (q.right != p &amp;&amp; q.left != p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q.right != null) stack.push(q.r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q.left !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q = q.lef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q = stack.pop(); </a:t>
            </a:r>
            <a:r>
              <a:rPr b="0" lang="en-US" sz="1800" spc="-1" strike="noStrike">
                <a:solidFill>
                  <a:srgbClr val="ff0000"/>
                </a:solidFill>
                <a:latin typeface="SimSun"/>
              </a:rPr>
              <a:t>// Go right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eturn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5422-5B70-4E15-8653-F96F1DB91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/* Recursive version of findparent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preorder traversal use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private BTNode&lt;T&gt; findparent (BTNode&lt;T&gt; p, BTNode&lt;T&gt; t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if (t == null) return null; /* empty tre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if (t.right == null &amp;&amp; t.left ==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else if (t.right == p || t.left == 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return t; /* parent is 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BTNode q = findparent(p, t.lef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if (q !=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return q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return findparent(p, t.righ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EC11-941B-4BD9-855E-01E8FCC8D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public boolean find (Relative rel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switch (re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Root: //easy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ro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Paren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current == root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findparent(current, roo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LeftChi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current.left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current.lef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2960-774E-461F-83E9-117255930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RightChi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current.right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current.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defaul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7A54-5509-4C57-84F1-0929FE158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SimSu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public boolean insert (Relative rel, T va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switch (re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! empty()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root = new BTNode&lt;T&gt;(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Parent: </a:t>
            </a:r>
            <a:r>
              <a:rPr b="0" lang="en-US" sz="1800" spc="-1" strike="noStrike">
                <a:solidFill>
                  <a:srgbClr val="ff0000"/>
                </a:solidFill>
                <a:latin typeface="SimSun"/>
              </a:rPr>
              <a:t>//This an impossible c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LeftChi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current.left !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.left = new BTNode&lt;T&gt;(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current.lef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4419-801B-496D-8311-0A561C368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ase RightChi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if (current.right !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.right = new BTNode&lt;T&gt; (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current = current.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defaul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C010-7692-4152-BD3F-6285D125B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T retrieve 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return current.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void update (T val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.data 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A51E-8030-49E9-99A5-F78C74C0A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T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public void delete_subtree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current == root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 = roo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BTNode&lt;T&gt; p = curr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find(Relative.Par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if (current.left == 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.lef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.righ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current = roo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SimSun"/>
              </a:rPr>
              <a:t>}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9724-4C31-446C-BD20-393943C36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: 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ee is represented as a set of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nected b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edge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27"/>
          <p:cNvGrpSpPr/>
          <p:nvPr/>
        </p:nvGrpSpPr>
        <p:grpSpPr>
          <a:xfrm>
            <a:off x="1525320" y="3124080"/>
            <a:ext cx="4731840" cy="2424240"/>
            <a:chOff x="1525320" y="3124080"/>
            <a:chExt cx="4731840" cy="2424240"/>
          </a:xfrm>
        </p:grpSpPr>
        <p:sp>
          <p:nvSpPr>
            <p:cNvPr id="62" name="Oval 4"/>
            <p:cNvSpPr/>
            <p:nvPr/>
          </p:nvSpPr>
          <p:spPr>
            <a:xfrm>
              <a:off x="3673440" y="3490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3521160" y="5091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2606760" y="5091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3063960" y="4252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4359240" y="4252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0"/>
            <p:cNvSpPr/>
            <p:nvPr/>
          </p:nvSpPr>
          <p:spPr>
            <a:xfrm flipH="1">
              <a:off x="3292200" y="39481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3902040" y="3948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 flipH="1">
              <a:off x="2835360" y="4709880"/>
              <a:ext cx="457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3292560" y="470988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4"/>
            <p:cNvSpPr/>
            <p:nvPr/>
          </p:nvSpPr>
          <p:spPr>
            <a:xfrm>
              <a:off x="5410440" y="358128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6"/>
            <p:cNvSpPr/>
            <p:nvPr/>
          </p:nvSpPr>
          <p:spPr>
            <a:xfrm flipH="1">
              <a:off x="4206960" y="37954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7"/>
            <p:cNvSpPr/>
            <p:nvPr/>
          </p:nvSpPr>
          <p:spPr>
            <a:xfrm flipH="1">
              <a:off x="4816080" y="37954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8"/>
            <p:cNvSpPr/>
            <p:nvPr/>
          </p:nvSpPr>
          <p:spPr>
            <a:xfrm>
              <a:off x="4283640" y="509112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d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1"/>
            <p:cNvSpPr/>
            <p:nvPr/>
          </p:nvSpPr>
          <p:spPr>
            <a:xfrm flipH="1" flipV="1">
              <a:off x="3673440" y="4100400"/>
              <a:ext cx="838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22"/>
            <p:cNvSpPr/>
            <p:nvPr/>
          </p:nvSpPr>
          <p:spPr>
            <a:xfrm flipH="1" flipV="1">
              <a:off x="3597120" y="486216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24"/>
            <p:cNvSpPr/>
            <p:nvPr/>
          </p:nvSpPr>
          <p:spPr>
            <a:xfrm>
              <a:off x="1525320" y="35812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T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5"/>
            <p:cNvSpPr/>
            <p:nvPr/>
          </p:nvSpPr>
          <p:spPr>
            <a:xfrm>
              <a:off x="4419720" y="312408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26"/>
            <p:cNvSpPr/>
            <p:nvPr/>
          </p:nvSpPr>
          <p:spPr>
            <a:xfrm flipH="1">
              <a:off x="4130280" y="333828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Text Box 28"/>
          <p:cNvSpPr/>
          <p:nvPr/>
        </p:nvSpPr>
        <p:spPr>
          <a:xfrm>
            <a:off x="1889640" y="57294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a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9"/>
          <p:cNvSpPr/>
          <p:nvPr/>
        </p:nvSpPr>
        <p:spPr>
          <a:xfrm flipV="1">
            <a:off x="2514600" y="5562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0"/>
          <p:cNvSpPr/>
          <p:nvPr/>
        </p:nvSpPr>
        <p:spPr>
          <a:xfrm flipV="1">
            <a:off x="2666880" y="5562720"/>
            <a:ext cx="838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8A68-5403-42E8-A749-66034D070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: Comparison with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 call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 call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lement, other than the first and the last, has a unique predecessor and a unique suc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first node calle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has successors, called it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hild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has one predecessor, calle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ea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no child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no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EA08-2555-4180-9B88-544280396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: Mor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mple 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sequence of distinct nodes in the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th 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umber of nodes in a p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blin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wo nodes that have the same pa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cest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given a node A in a tree, the parent of the node A and the ancestors of the parent of A, are ancestors of 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8854-11B8-49BF-9DEC-4902D31C4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: Mor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parent of a node is it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edecess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i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child of a node is it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uccess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unique node without any predecess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af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des without any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escenda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given a node A in a tree, the children of A and all descendents of the children of A are descendents of 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9BFD-1668-47BF-8D43-C2F9AFFBA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s: Mor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54"/>
          <p:cNvGrpSpPr/>
          <p:nvPr/>
        </p:nvGrpSpPr>
        <p:grpSpPr>
          <a:xfrm>
            <a:off x="913680" y="2133720"/>
            <a:ext cx="7383600" cy="3765960"/>
            <a:chOff x="913680" y="2133720"/>
            <a:chExt cx="7383600" cy="3765960"/>
          </a:xfrm>
        </p:grpSpPr>
        <p:grpSp>
          <p:nvGrpSpPr>
            <p:cNvPr id="96" name="Group 40"/>
            <p:cNvGrpSpPr/>
            <p:nvPr/>
          </p:nvGrpSpPr>
          <p:grpSpPr>
            <a:xfrm>
              <a:off x="2301840" y="2133720"/>
              <a:ext cx="4419720" cy="3276360"/>
              <a:chOff x="2301840" y="2133720"/>
              <a:chExt cx="4419720" cy="3276360"/>
            </a:xfrm>
          </p:grpSpPr>
          <p:sp>
            <p:nvSpPr>
              <p:cNvPr id="97" name="Oval 3"/>
              <p:cNvSpPr/>
              <p:nvPr/>
            </p:nvSpPr>
            <p:spPr>
              <a:xfrm>
                <a:off x="4511520" y="2133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4"/>
              <p:cNvSpPr/>
              <p:nvPr/>
            </p:nvSpPr>
            <p:spPr>
              <a:xfrm>
                <a:off x="481644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5"/>
              <p:cNvSpPr/>
              <p:nvPr/>
            </p:nvSpPr>
            <p:spPr>
              <a:xfrm>
                <a:off x="367344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6"/>
              <p:cNvSpPr/>
              <p:nvPr/>
            </p:nvSpPr>
            <p:spPr>
              <a:xfrm>
                <a:off x="230184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7"/>
              <p:cNvSpPr/>
              <p:nvPr/>
            </p:nvSpPr>
            <p:spPr>
              <a:xfrm>
                <a:off x="2987640" y="30481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8"/>
              <p:cNvSpPr/>
              <p:nvPr/>
            </p:nvSpPr>
            <p:spPr>
              <a:xfrm>
                <a:off x="4587840" y="30481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Oval 9"/>
              <p:cNvSpPr/>
              <p:nvPr/>
            </p:nvSpPr>
            <p:spPr>
              <a:xfrm>
                <a:off x="4206960" y="49528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Oval 10"/>
              <p:cNvSpPr/>
              <p:nvPr/>
            </p:nvSpPr>
            <p:spPr>
              <a:xfrm>
                <a:off x="6188040" y="30481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Oval 11"/>
              <p:cNvSpPr/>
              <p:nvPr/>
            </p:nvSpPr>
            <p:spPr>
              <a:xfrm>
                <a:off x="626436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Oval 12"/>
              <p:cNvSpPr/>
              <p:nvPr/>
            </p:nvSpPr>
            <p:spPr>
              <a:xfrm>
                <a:off x="5425920" y="49528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31"/>
              <p:cNvSpPr/>
              <p:nvPr/>
            </p:nvSpPr>
            <p:spPr>
              <a:xfrm>
                <a:off x="4740120" y="259092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32"/>
              <p:cNvSpPr/>
              <p:nvPr/>
            </p:nvSpPr>
            <p:spPr>
              <a:xfrm flipH="1">
                <a:off x="3292200" y="2590920"/>
                <a:ext cx="14475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4740120" y="2590920"/>
                <a:ext cx="1600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 flipH="1">
                <a:off x="2530080" y="3505320"/>
                <a:ext cx="6858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3216240" y="3505320"/>
                <a:ext cx="6858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4816440" y="3505320"/>
                <a:ext cx="1522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37"/>
              <p:cNvSpPr/>
              <p:nvPr/>
            </p:nvSpPr>
            <p:spPr>
              <a:xfrm flipH="1">
                <a:off x="4511520" y="4495680"/>
                <a:ext cx="533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38"/>
              <p:cNvSpPr/>
              <p:nvPr/>
            </p:nvSpPr>
            <p:spPr>
              <a:xfrm>
                <a:off x="5045040" y="4495680"/>
                <a:ext cx="6094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39"/>
              <p:cNvSpPr/>
              <p:nvPr/>
            </p:nvSpPr>
            <p:spPr>
              <a:xfrm>
                <a:off x="6416640" y="3505320"/>
                <a:ext cx="76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Oval 44"/>
            <p:cNvSpPr/>
            <p:nvPr/>
          </p:nvSpPr>
          <p:spPr>
            <a:xfrm>
              <a:off x="4054320" y="3733920"/>
              <a:ext cx="1981440" cy="213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45"/>
            <p:cNvSpPr/>
            <p:nvPr/>
          </p:nvSpPr>
          <p:spPr>
            <a:xfrm>
              <a:off x="6082200" y="5195880"/>
              <a:ext cx="15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b-T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ooted at 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46"/>
            <p:cNvSpPr/>
            <p:nvPr/>
          </p:nvSpPr>
          <p:spPr>
            <a:xfrm flipH="1" flipV="1">
              <a:off x="5959080" y="5257440"/>
              <a:ext cx="3049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47"/>
            <p:cNvSpPr/>
            <p:nvPr/>
          </p:nvSpPr>
          <p:spPr>
            <a:xfrm>
              <a:off x="1064520" y="4738680"/>
              <a:ext cx="186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-B-F is a P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49"/>
            <p:cNvSpPr/>
            <p:nvPr/>
          </p:nvSpPr>
          <p:spPr>
            <a:xfrm>
              <a:off x="7331760" y="2162160"/>
              <a:ext cx="96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50"/>
            <p:cNvSpPr/>
            <p:nvPr/>
          </p:nvSpPr>
          <p:spPr>
            <a:xfrm>
              <a:off x="7331760" y="3076560"/>
              <a:ext cx="96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51"/>
            <p:cNvSpPr/>
            <p:nvPr/>
          </p:nvSpPr>
          <p:spPr>
            <a:xfrm>
              <a:off x="7331760" y="4067280"/>
              <a:ext cx="96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52"/>
            <p:cNvSpPr/>
            <p:nvPr/>
          </p:nvSpPr>
          <p:spPr>
            <a:xfrm>
              <a:off x="7315560" y="4967280"/>
              <a:ext cx="96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53"/>
            <p:cNvSpPr/>
            <p:nvPr/>
          </p:nvSpPr>
          <p:spPr>
            <a:xfrm>
              <a:off x="913680" y="2148120"/>
              <a:ext cx="10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igh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D8B4-AE2E-4AD0-B219-7F32774DE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nary tree is a tree with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can hav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t 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ubtrees and therefo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t 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ubtree is identified as being either the left subtree or the right subtree of th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may be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 in a binary tree may be composite e.g. of variable type ‘Type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9:46:40Z</dcterms:created>
  <dc:creator>Inayat</dc:creator>
  <dc:description/>
  <dc:language>en-US</dc:language>
  <cp:lastModifiedBy>Sarona</cp:lastModifiedBy>
  <dcterms:modified xsi:type="dcterms:W3CDTF">2017-11-14T14:06:55Z</dcterms:modified>
  <cp:revision>78</cp:revision>
  <dc:subject/>
  <dc:title>Human-Machine Interaction and User-Interface Design</dc:title>
</cp:coreProperties>
</file>