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7C51ABF-B355-4249-A1D4-089B4D4577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90B6F5D-4618-4176-B1B3-5B375D2003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224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C127B54-75C7-4256-91D5-341888220B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E612C13-BC6B-452B-8E1A-CF0F79AF25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D4E4DC9-571A-4923-8FB7-55F7EB23DB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16208D6-54EC-4223-8767-67F4C122B0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93701D7-A827-4D05-9ED0-628C601930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9554D12-1EC3-40E7-B92E-5AC780FF93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85E5C14-B559-47FD-A6A9-F5151D5B50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399A5BA-7C5C-4130-978C-52DA5C67D5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235CB8C-FFF4-425E-BF8F-F51FE91DC6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B579257-2BCD-4F97-B1C5-588EB3DD82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69D13BF-E021-4050-9BFD-20DD2C9E9A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20C5E2A-D9F7-497E-A6D3-D3325662CD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0A66397-8AE7-46F3-97B8-0B2295C79C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CE17A08-2482-4716-8775-84DD356534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5B96374-7A07-4619-AD78-460AAAD097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564C88D-086E-49C1-A051-D9F3BA5628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6F30399-9642-483F-A075-A302BD2023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53C5D9E-4081-427E-ACD4-406638F932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A31603F-74B9-4CC9-B131-13F670E885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ADB1090-86B2-47F7-845F-DFCA479AE1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37E730C-5D41-40BE-A005-1F7E55D9BD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E509B85-6FD0-414C-A711-9298B42241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BDD8268-0701-4BD0-860B-A1F36BD82E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C25B421-9E9A-49D4-996F-EC080D4C47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CB616C0-888A-4072-8059-DDF00530E1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EEE3436-FC79-4A38-ABD4-800904DC8E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E301679-E313-41AB-99D8-CF5481EC60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2C3EB51-165C-4F99-89BA-A34EE65050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F5D8-1138-49C8-A9DA-86F3EAFD9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0F2F-B496-4124-B614-234CC539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E120-0357-4D17-979E-FEBE10291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134E-DC7D-4AA9-A8B6-315118A10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79B3-9AED-4657-8EDF-B2ADBA74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559D-92A8-40F2-961A-93809108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987B-79E3-459C-92F1-F240A0B6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98F7-DD6E-4935-864A-0C0F84A6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CCF9-BF3D-4231-9DB9-960118A3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8207-F45C-48F6-982D-4B514CD5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E1E9-EF23-4635-AAB2-3495781A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9929-DB08-475A-873E-B2B64AD2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5080-AF8D-457D-87D7-62670C72A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A:\paint.GIF"/>
          <p:cNvPicPr/>
          <p:nvPr/>
        </p:nvPicPr>
        <p:blipFill>
          <a:blip r:embed="rId2"/>
          <a:stretch/>
        </p:blipFill>
        <p:spPr>
          <a:xfrm>
            <a:off x="457200" y="16765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DD73-80E3-4D42-B9F6-353545F27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eneral Trees &amp; Binary Tre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C2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ree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ithmetic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 proces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EFF8-25CB-427F-A680-9F735718A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8552-D656-4F1D-B728-A8AED97B8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rees (Arithmetic expressions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33"/>
          <p:cNvGrpSpPr/>
          <p:nvPr/>
        </p:nvGrpSpPr>
        <p:grpSpPr>
          <a:xfrm>
            <a:off x="605520" y="2286000"/>
            <a:ext cx="3813840" cy="3581280"/>
            <a:chOff x="605520" y="2286000"/>
            <a:chExt cx="3813840" cy="3581280"/>
          </a:xfrm>
        </p:grpSpPr>
        <p:sp>
          <p:nvSpPr>
            <p:cNvPr id="134" name="Oval 3"/>
            <p:cNvSpPr/>
            <p:nvPr/>
          </p:nvSpPr>
          <p:spPr>
            <a:xfrm>
              <a:off x="3124080" y="228600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Oval 4"/>
            <p:cNvSpPr/>
            <p:nvPr/>
          </p:nvSpPr>
          <p:spPr>
            <a:xfrm>
              <a:off x="1676160" y="42670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Oval 5"/>
            <p:cNvSpPr/>
            <p:nvPr/>
          </p:nvSpPr>
          <p:spPr>
            <a:xfrm>
              <a:off x="3886200" y="320040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6"/>
            <p:cNvSpPr/>
            <p:nvPr/>
          </p:nvSpPr>
          <p:spPr>
            <a:xfrm>
              <a:off x="2361960" y="320040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7"/>
            <p:cNvSpPr/>
            <p:nvPr/>
          </p:nvSpPr>
          <p:spPr>
            <a:xfrm>
              <a:off x="1066680" y="53341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8"/>
            <p:cNvSpPr/>
            <p:nvPr/>
          </p:nvSpPr>
          <p:spPr>
            <a:xfrm>
              <a:off x="2971800" y="42670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Oval 9"/>
            <p:cNvSpPr/>
            <p:nvPr/>
          </p:nvSpPr>
          <p:spPr>
            <a:xfrm>
              <a:off x="2361960" y="53341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14"/>
            <p:cNvSpPr/>
            <p:nvPr/>
          </p:nvSpPr>
          <p:spPr>
            <a:xfrm flipH="1">
              <a:off x="2666520" y="281952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15"/>
            <p:cNvSpPr/>
            <p:nvPr/>
          </p:nvSpPr>
          <p:spPr>
            <a:xfrm>
              <a:off x="3429000" y="2819520"/>
              <a:ext cx="6858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6"/>
            <p:cNvSpPr/>
            <p:nvPr/>
          </p:nvSpPr>
          <p:spPr>
            <a:xfrm flipH="1">
              <a:off x="1981080" y="373392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17"/>
            <p:cNvSpPr/>
            <p:nvPr/>
          </p:nvSpPr>
          <p:spPr>
            <a:xfrm>
              <a:off x="2666880" y="373392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18"/>
            <p:cNvSpPr/>
            <p:nvPr/>
          </p:nvSpPr>
          <p:spPr>
            <a:xfrm flipH="1">
              <a:off x="1295280" y="4800600"/>
              <a:ext cx="5335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19"/>
            <p:cNvSpPr/>
            <p:nvPr/>
          </p:nvSpPr>
          <p:spPr>
            <a:xfrm>
              <a:off x="2057400" y="4800600"/>
              <a:ext cx="5331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30"/>
            <p:cNvSpPr/>
            <p:nvPr/>
          </p:nvSpPr>
          <p:spPr>
            <a:xfrm>
              <a:off x="605520" y="2743200"/>
              <a:ext cx="180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[(a + b) * c] + 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Group 48"/>
          <p:cNvGrpSpPr/>
          <p:nvPr/>
        </p:nvGrpSpPr>
        <p:grpSpPr>
          <a:xfrm>
            <a:off x="4648320" y="2286000"/>
            <a:ext cx="3733200" cy="3232440"/>
            <a:chOff x="4648320" y="2286000"/>
            <a:chExt cx="3733200" cy="3232440"/>
          </a:xfrm>
        </p:grpSpPr>
        <p:sp>
          <p:nvSpPr>
            <p:cNvPr id="149" name="Oval 11"/>
            <p:cNvSpPr/>
            <p:nvPr/>
          </p:nvSpPr>
          <p:spPr>
            <a:xfrm>
              <a:off x="7238880" y="320040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Oval 12"/>
            <p:cNvSpPr/>
            <p:nvPr/>
          </p:nvSpPr>
          <p:spPr>
            <a:xfrm>
              <a:off x="6248160" y="228600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Oval 34"/>
            <p:cNvSpPr/>
            <p:nvPr/>
          </p:nvSpPr>
          <p:spPr>
            <a:xfrm>
              <a:off x="6705360" y="42670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Oval 35"/>
            <p:cNvSpPr/>
            <p:nvPr/>
          </p:nvSpPr>
          <p:spPr>
            <a:xfrm>
              <a:off x="5943600" y="4267080"/>
              <a:ext cx="53280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36"/>
            <p:cNvSpPr/>
            <p:nvPr/>
          </p:nvSpPr>
          <p:spPr>
            <a:xfrm>
              <a:off x="4648320" y="42670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37"/>
            <p:cNvSpPr/>
            <p:nvPr/>
          </p:nvSpPr>
          <p:spPr>
            <a:xfrm>
              <a:off x="5333760" y="320040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38"/>
            <p:cNvSpPr/>
            <p:nvPr/>
          </p:nvSpPr>
          <p:spPr>
            <a:xfrm>
              <a:off x="7848360" y="42670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0"/>
            <p:cNvSpPr/>
            <p:nvPr/>
          </p:nvSpPr>
          <p:spPr>
            <a:xfrm flipH="1">
              <a:off x="5638680" y="2743200"/>
              <a:ext cx="685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1"/>
            <p:cNvSpPr/>
            <p:nvPr/>
          </p:nvSpPr>
          <p:spPr>
            <a:xfrm>
              <a:off x="6705360" y="27432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42"/>
            <p:cNvSpPr/>
            <p:nvPr/>
          </p:nvSpPr>
          <p:spPr>
            <a:xfrm flipH="1">
              <a:off x="4952520" y="3657600"/>
              <a:ext cx="4568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4"/>
            <p:cNvSpPr/>
            <p:nvPr/>
          </p:nvSpPr>
          <p:spPr>
            <a:xfrm>
              <a:off x="5715000" y="3657600"/>
              <a:ext cx="4568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5"/>
            <p:cNvSpPr/>
            <p:nvPr/>
          </p:nvSpPr>
          <p:spPr>
            <a:xfrm flipH="1">
              <a:off x="6933960" y="3657600"/>
              <a:ext cx="380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6"/>
            <p:cNvSpPr/>
            <p:nvPr/>
          </p:nvSpPr>
          <p:spPr>
            <a:xfrm>
              <a:off x="7619760" y="3657600"/>
              <a:ext cx="4568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47"/>
            <p:cNvSpPr/>
            <p:nvPr/>
          </p:nvSpPr>
          <p:spPr>
            <a:xfrm>
              <a:off x="5542200" y="5119560"/>
              <a:ext cx="180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a + b) * (c + 7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ree (Arithmetic expression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 * (a - 1) + (3 *b)) 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A752-9327-4E24-A124-777940148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2D77-30B7-4F8C-BD9E-C22CF4445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lement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elements are nodes, each node contains the following data type: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ha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ftChi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ightChi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ferenc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ructu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ierarchical structure; each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ave two children: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ild; there is 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o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 and 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ur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mai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number of nodes in a binary tree is bounded; domain contains empty tree, trees with one element, two element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B574-96D6-40C4-8EB4-08E27B67E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peration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raverse (Order 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nary Tree (BT) is not empty.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ach element in the tree is processed exactly once by a user supplied procedure. The order in which nodes are processed depends on the value of ord (Order = {preorder, postorder, inorder}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order: each node processed before any node in either of its subtre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order: each node is processed after all its nodes in its left subtree and before any node in its right subt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order: each node is processed after all its nodes in both of its subtre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7E02-28E3-40CD-84DB-4816B57ED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01520" y="-28440"/>
            <a:ext cx="116553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B0AF-7355-46BE-9926-A32559157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-685800" y="290520"/>
            <a:ext cx="10642680" cy="59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43CE-E353-4EE9-8AF8-10A60FC62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0" y="76320"/>
            <a:ext cx="105346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F5BE-4B02-4FE6-9294-9548AF2E1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102488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BB76-A680-4DD1-802E-68D3840A2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-1143000" y="17640"/>
            <a:ext cx="11212560" cy="63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067A-F36B-40D6-9252-E63FF4326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ious data structures (e.g. lists, stacks, queues) have a linear struc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structures represen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ne-to-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 between data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es have a nested or a hierarchical struc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erarchical structures represen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ne-to-m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 between data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C16A-AD4C-4FA1-AF60-9BBEEB79D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-380880" y="263520"/>
            <a:ext cx="10942560" cy="62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81B2-690E-4A22-9B28-DF691044C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 Travers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traverse a tree means to process (e.g. printing it) each element in the tre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 traversals: n! ways of traversing a tree of n n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-order, in-order, post-orde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ree natural traversals 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traversals: n! ways of traversing a list of n n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nt-to-back or back-to-front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wo natural traversals 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0068-8868-4F0E-A150-C2655F425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pera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sert (Type e, Relative rel, boolean inser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elative = {leftchild, rightchild, root, parent}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(1) Full () is false and (2) either (a) rel = root and Empty() is true or (b) rel &lt;&gt; root and rel &lt;&gt; parent and Empty( ) is false.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e, r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se (1) rel = leftChild, current node has a left child, or (2) rel = rightChild, current node has a right child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serted is false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node containing e is added as rel of the current node in the tree and becomes the current node and inserted is tr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inse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ABD5-9ED2-4786-A13C-D8F799EB3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leteSub 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inary tree is not empty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he subtree whose root node was the current node is deleted from the tree. If the resulting tree is not empty, then the root node is the current node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pdate (Type 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inary tree is not empty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he element in e is copied into the current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206B-15E2-4B80-95C7-55FC6971B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rieve (Type 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Binary tree is not empty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element in the current node is copied into e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073C-9BBD-4D68-9B5B-78A345656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(Relative rel, boolean fou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inary tree is not empty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r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he current node of the tree is determined by the value of  rel and previous current node.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mpty (boolean empt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one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f Binary tree is empty then empty is true; otherwise empty is fal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637E-B295-4A76-B4B3-4B6C8BE7C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ll (boolean ful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one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one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the binary tree is full then full is true otherwise false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fu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8496-6B41-4DE6-AFBA-41401C588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: BTNod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ublic class BTNode &lt;T&gt;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ublic T 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ublic BTNode&lt;T&gt; left, righ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/** Creates a new instance of BTNod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ublic BTNode(T va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data =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left = right = null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ublic BTNode(T val, BTNode&lt;T&gt; l, BTNode&lt;T&gt; r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data =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left = 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right = r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8371-AC93-457B-BAA3-033DA768F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: Order &amp; Relativ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imSun"/>
              </a:rPr>
              <a:t>//These definitions are in separate files and def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imSun"/>
              </a:rPr>
              <a:t>// the Order and Relative cla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enum Order {preOrder, inOrder, postOrder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enum Relative {Root, Parent, LeftChild, RightChild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1D30-6857-4BD0-B74B-202711E6F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class BT&lt;T&gt;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BTNode&lt;T&gt; root, curr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/** Creates a new instance of BT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BT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root = current =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boolean empty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return root == null ? true: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33EE-78E9-49BC-9E84-B7A167B14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 of situations were one-to-many relations exist… these can be represented as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 between a parent and his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 between a person and books he ow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 between a basketball team and the players on the t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 catalog in a libr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3832-CD40-4463-AB59-A5C1BC9E8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imSun"/>
              </a:rPr>
              <a:t>// Non-recursive version of findparent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ff0000"/>
                </a:solidFill>
                <a:latin typeface="SimSun"/>
              </a:rPr>
              <a:t> uses pre-order trave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rivate BTNode&lt;T&gt; findparent (BTNode&lt;T&gt; p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imSun"/>
              </a:rPr>
              <a:t>// Stack is used to store the right pointers of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LinkStack&lt;BTNode&lt;T&gt;&gt; stack = new LinkStack&lt;BTNode&lt;T&gt;&gt;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BTNode&lt;T&gt; q = roo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while (q.right != p &amp;&amp; q.left != p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if (q.right != null) stack.push(q.righ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if (q.left !=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q = q.lef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q = stack.pop(); </a:t>
            </a:r>
            <a:r>
              <a:rPr b="0" lang="en-US" sz="1800" spc="-1" strike="noStrike">
                <a:solidFill>
                  <a:srgbClr val="ff0000"/>
                </a:solidFill>
                <a:latin typeface="SimSun"/>
              </a:rPr>
              <a:t>// Go right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return 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1F12-59CE-4027-ACD7-1095FD406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/* Recursive version of findparent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preorder traversal used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private BTNode&lt;T&gt; findparent (BTNode&lt;T&gt; p, BTNode&lt;T&gt; t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if (t == null) return null; /* empty tre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if (t.right == null &amp;&amp; t.left == nu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else if (t.right == p || t.left == 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return t; /* parent is 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BTNode q = findparent(p, t.lef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if (q != nu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return q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return findparent(p, t.righ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7B4F-6CC0-4491-A17D-A8E16204B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public boolean find (Relative rel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switch (re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ase Root: //easy 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urrent = roo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ase Paren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if (current == root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urrent = findparent(current, roo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ase LeftChil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if (current.left =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urrent = current.lef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3193-C658-444D-81A8-862C7CCFB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SimSu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ase RightChil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if (current.right =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urrent = current.righ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defaul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2A42-2128-485E-9395-49345AFF5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SimSun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public boolean insert (Relative rel, T va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switch (re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ase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if (! empty()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urrent = root = new BTNode&lt;T&gt;(v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ase Parent: </a:t>
            </a:r>
            <a:r>
              <a:rPr b="0" lang="en-US" sz="1800" spc="-1" strike="noStrike">
                <a:solidFill>
                  <a:srgbClr val="ff0000"/>
                </a:solidFill>
                <a:latin typeface="SimSun"/>
              </a:rPr>
              <a:t>//This an impossible ca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ase LeftChil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if (current.left !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urrent.left = new BTNode&lt;T&gt;(v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urrent = current.lef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7C42-2782-4634-BA3F-F391810DC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SimSu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ase RightChil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if (current.right !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urrent.right = new BTNode&lt;T&gt; (v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urrent = current.righ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defaul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66C5-D5FC-479F-84B6-53FE718A6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ublic T retrieve 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return current.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ublic void update (T val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current.data =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BEB2-8A54-4D2D-A47D-A2936B3D7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ublic void delete_subtree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if (current == root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current = root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BTNode&lt;T&gt; p = curr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find(Relative.Paren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if (current.left == 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current.left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current.right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current = roo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}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4E64-802C-4B58-B162-993954AAF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s: Som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ee is represented as a set of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nod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nected by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edge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27"/>
          <p:cNvGrpSpPr/>
          <p:nvPr/>
        </p:nvGrpSpPr>
        <p:grpSpPr>
          <a:xfrm>
            <a:off x="1525320" y="3124080"/>
            <a:ext cx="4731840" cy="2424240"/>
            <a:chOff x="1525320" y="3124080"/>
            <a:chExt cx="4731840" cy="2424240"/>
          </a:xfrm>
        </p:grpSpPr>
        <p:sp>
          <p:nvSpPr>
            <p:cNvPr id="62" name="Oval 4"/>
            <p:cNvSpPr/>
            <p:nvPr/>
          </p:nvSpPr>
          <p:spPr>
            <a:xfrm>
              <a:off x="3673440" y="34909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Oval 5"/>
            <p:cNvSpPr/>
            <p:nvPr/>
          </p:nvSpPr>
          <p:spPr>
            <a:xfrm>
              <a:off x="3521160" y="5091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Oval 6"/>
            <p:cNvSpPr/>
            <p:nvPr/>
          </p:nvSpPr>
          <p:spPr>
            <a:xfrm>
              <a:off x="2606760" y="5091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Oval 7"/>
            <p:cNvSpPr/>
            <p:nvPr/>
          </p:nvSpPr>
          <p:spPr>
            <a:xfrm>
              <a:off x="3063960" y="42526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Oval 8"/>
            <p:cNvSpPr/>
            <p:nvPr/>
          </p:nvSpPr>
          <p:spPr>
            <a:xfrm>
              <a:off x="4359240" y="42526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10"/>
            <p:cNvSpPr/>
            <p:nvPr/>
          </p:nvSpPr>
          <p:spPr>
            <a:xfrm flipH="1">
              <a:off x="3292200" y="3948120"/>
              <a:ext cx="533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11"/>
            <p:cNvSpPr/>
            <p:nvPr/>
          </p:nvSpPr>
          <p:spPr>
            <a:xfrm>
              <a:off x="3902040" y="3948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2"/>
            <p:cNvSpPr/>
            <p:nvPr/>
          </p:nvSpPr>
          <p:spPr>
            <a:xfrm flipH="1">
              <a:off x="2835360" y="4709880"/>
              <a:ext cx="4572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3"/>
            <p:cNvSpPr/>
            <p:nvPr/>
          </p:nvSpPr>
          <p:spPr>
            <a:xfrm>
              <a:off x="3292560" y="4709880"/>
              <a:ext cx="3808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14"/>
            <p:cNvSpPr/>
            <p:nvPr/>
          </p:nvSpPr>
          <p:spPr>
            <a:xfrm>
              <a:off x="5410440" y="3581280"/>
              <a:ext cx="84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16"/>
            <p:cNvSpPr/>
            <p:nvPr/>
          </p:nvSpPr>
          <p:spPr>
            <a:xfrm flipH="1">
              <a:off x="4206960" y="37954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17"/>
            <p:cNvSpPr/>
            <p:nvPr/>
          </p:nvSpPr>
          <p:spPr>
            <a:xfrm flipH="1">
              <a:off x="4816080" y="379548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18"/>
            <p:cNvSpPr/>
            <p:nvPr/>
          </p:nvSpPr>
          <p:spPr>
            <a:xfrm>
              <a:off x="4283640" y="509112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d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1"/>
            <p:cNvSpPr/>
            <p:nvPr/>
          </p:nvSpPr>
          <p:spPr>
            <a:xfrm flipH="1" flipV="1">
              <a:off x="3673440" y="4100400"/>
              <a:ext cx="8380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22"/>
            <p:cNvSpPr/>
            <p:nvPr/>
          </p:nvSpPr>
          <p:spPr>
            <a:xfrm flipH="1" flipV="1">
              <a:off x="3597120" y="486216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24"/>
            <p:cNvSpPr/>
            <p:nvPr/>
          </p:nvSpPr>
          <p:spPr>
            <a:xfrm>
              <a:off x="1525320" y="358128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 T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25"/>
            <p:cNvSpPr/>
            <p:nvPr/>
          </p:nvSpPr>
          <p:spPr>
            <a:xfrm>
              <a:off x="4419720" y="31240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26"/>
            <p:cNvSpPr/>
            <p:nvPr/>
          </p:nvSpPr>
          <p:spPr>
            <a:xfrm flipH="1">
              <a:off x="4130280" y="333828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Text Box 28"/>
          <p:cNvSpPr/>
          <p:nvPr/>
        </p:nvSpPr>
        <p:spPr>
          <a:xfrm>
            <a:off x="1889640" y="57294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a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9"/>
          <p:cNvSpPr/>
          <p:nvPr/>
        </p:nvSpPr>
        <p:spPr>
          <a:xfrm flipV="1">
            <a:off x="2514600" y="5562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30"/>
          <p:cNvSpPr/>
          <p:nvPr/>
        </p:nvSpPr>
        <p:spPr>
          <a:xfrm flipV="1">
            <a:off x="2666880" y="5562720"/>
            <a:ext cx="8384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6BD2-3C50-43B1-8A34-5525B7243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s: Comparison with L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qu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 called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h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qu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 calle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a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element, other than the first and the last, has a unique predecessor and a unique suc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 first node calle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de has successors, called its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hildr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de has one predecessor, calle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par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Leaf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no child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s no pa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6D95-D6EF-47F8-91B1-111CADA72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s: Mor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mple pa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sequence of distinct nodes in the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ath 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number of nodes in a pa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blin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wo nodes that have the same pa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cesto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given a node A in a tree, the parent of the node A and the ancestors of the parent of A, are ancestors of 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E38F-676D-45FC-AB2F-114EE2CCB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s: Mor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a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parent of a node is it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redecess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hi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child of a node is it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uccess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o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unique node without any predecess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af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nodes without any child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Descenda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given a node A in a tree, the children of A and all descendents of the children of A are descendents of 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8136-3F25-47A3-9D8A-BC5016637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s: Mor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54"/>
          <p:cNvGrpSpPr/>
          <p:nvPr/>
        </p:nvGrpSpPr>
        <p:grpSpPr>
          <a:xfrm>
            <a:off x="913680" y="2133720"/>
            <a:ext cx="7383600" cy="3765960"/>
            <a:chOff x="913680" y="2133720"/>
            <a:chExt cx="7383600" cy="3765960"/>
          </a:xfrm>
        </p:grpSpPr>
        <p:grpSp>
          <p:nvGrpSpPr>
            <p:cNvPr id="96" name="Group 40"/>
            <p:cNvGrpSpPr/>
            <p:nvPr/>
          </p:nvGrpSpPr>
          <p:grpSpPr>
            <a:xfrm>
              <a:off x="2301840" y="2133720"/>
              <a:ext cx="4419720" cy="3276360"/>
              <a:chOff x="2301840" y="2133720"/>
              <a:chExt cx="4419720" cy="3276360"/>
            </a:xfrm>
          </p:grpSpPr>
          <p:sp>
            <p:nvSpPr>
              <p:cNvPr id="97" name="Oval 3"/>
              <p:cNvSpPr/>
              <p:nvPr/>
            </p:nvSpPr>
            <p:spPr>
              <a:xfrm>
                <a:off x="4511520" y="21337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Oval 4"/>
              <p:cNvSpPr/>
              <p:nvPr/>
            </p:nvSpPr>
            <p:spPr>
              <a:xfrm>
                <a:off x="4816440" y="40384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Oval 5"/>
              <p:cNvSpPr/>
              <p:nvPr/>
            </p:nvSpPr>
            <p:spPr>
              <a:xfrm>
                <a:off x="3673440" y="40384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Oval 6"/>
              <p:cNvSpPr/>
              <p:nvPr/>
            </p:nvSpPr>
            <p:spPr>
              <a:xfrm>
                <a:off x="2301840" y="40384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Oval 7"/>
              <p:cNvSpPr/>
              <p:nvPr/>
            </p:nvSpPr>
            <p:spPr>
              <a:xfrm>
                <a:off x="2987640" y="30481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Oval 8"/>
              <p:cNvSpPr/>
              <p:nvPr/>
            </p:nvSpPr>
            <p:spPr>
              <a:xfrm>
                <a:off x="4587840" y="30481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Oval 9"/>
              <p:cNvSpPr/>
              <p:nvPr/>
            </p:nvSpPr>
            <p:spPr>
              <a:xfrm>
                <a:off x="4206960" y="49528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Oval 10"/>
              <p:cNvSpPr/>
              <p:nvPr/>
            </p:nvSpPr>
            <p:spPr>
              <a:xfrm>
                <a:off x="6188040" y="30481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Oval 11"/>
              <p:cNvSpPr/>
              <p:nvPr/>
            </p:nvSpPr>
            <p:spPr>
              <a:xfrm>
                <a:off x="6264360" y="40384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Oval 12"/>
              <p:cNvSpPr/>
              <p:nvPr/>
            </p:nvSpPr>
            <p:spPr>
              <a:xfrm>
                <a:off x="5425920" y="49528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31"/>
              <p:cNvSpPr/>
              <p:nvPr/>
            </p:nvSpPr>
            <p:spPr>
              <a:xfrm>
                <a:off x="4740120" y="2590920"/>
                <a:ext cx="763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32"/>
              <p:cNvSpPr/>
              <p:nvPr/>
            </p:nvSpPr>
            <p:spPr>
              <a:xfrm flipH="1">
                <a:off x="3292200" y="2590920"/>
                <a:ext cx="14475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4740120" y="2590920"/>
                <a:ext cx="16002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 flipH="1">
                <a:off x="2530080" y="3505320"/>
                <a:ext cx="6858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3216240" y="3505320"/>
                <a:ext cx="6858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4816440" y="3505320"/>
                <a:ext cx="15228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37"/>
              <p:cNvSpPr/>
              <p:nvPr/>
            </p:nvSpPr>
            <p:spPr>
              <a:xfrm flipH="1">
                <a:off x="4511520" y="4495680"/>
                <a:ext cx="5335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38"/>
              <p:cNvSpPr/>
              <p:nvPr/>
            </p:nvSpPr>
            <p:spPr>
              <a:xfrm>
                <a:off x="5045040" y="4495680"/>
                <a:ext cx="6094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39"/>
              <p:cNvSpPr/>
              <p:nvPr/>
            </p:nvSpPr>
            <p:spPr>
              <a:xfrm>
                <a:off x="6416640" y="3505320"/>
                <a:ext cx="763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Oval 44"/>
            <p:cNvSpPr/>
            <p:nvPr/>
          </p:nvSpPr>
          <p:spPr>
            <a:xfrm>
              <a:off x="4054320" y="3733920"/>
              <a:ext cx="1981440" cy="213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45"/>
            <p:cNvSpPr/>
            <p:nvPr/>
          </p:nvSpPr>
          <p:spPr>
            <a:xfrm>
              <a:off x="6082200" y="5195880"/>
              <a:ext cx="1500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ub-T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ooted at 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46"/>
            <p:cNvSpPr/>
            <p:nvPr/>
          </p:nvSpPr>
          <p:spPr>
            <a:xfrm flipH="1" flipV="1">
              <a:off x="5959080" y="5257440"/>
              <a:ext cx="30492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47"/>
            <p:cNvSpPr/>
            <p:nvPr/>
          </p:nvSpPr>
          <p:spPr>
            <a:xfrm>
              <a:off x="1064520" y="4738680"/>
              <a:ext cx="186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-B-F is a Pa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49"/>
            <p:cNvSpPr/>
            <p:nvPr/>
          </p:nvSpPr>
          <p:spPr>
            <a:xfrm>
              <a:off x="7331760" y="2162160"/>
              <a:ext cx="96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vel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50"/>
            <p:cNvSpPr/>
            <p:nvPr/>
          </p:nvSpPr>
          <p:spPr>
            <a:xfrm>
              <a:off x="7331760" y="3076560"/>
              <a:ext cx="96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vel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51"/>
            <p:cNvSpPr/>
            <p:nvPr/>
          </p:nvSpPr>
          <p:spPr>
            <a:xfrm>
              <a:off x="7331760" y="4067280"/>
              <a:ext cx="96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vel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52"/>
            <p:cNvSpPr/>
            <p:nvPr/>
          </p:nvSpPr>
          <p:spPr>
            <a:xfrm>
              <a:off x="7315560" y="4967280"/>
              <a:ext cx="96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vel 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53"/>
            <p:cNvSpPr/>
            <p:nvPr/>
          </p:nvSpPr>
          <p:spPr>
            <a:xfrm>
              <a:off x="913680" y="2148120"/>
              <a:ext cx="104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eight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8979-6B7D-43BA-AA08-596D68A60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inary tree is a tree with the foll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node can hav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t 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ubtrees and therefor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t 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ubtree is identified as being either the left subtree or the right subtree of th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may be emp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s in a binary tree may be composite e.g. of variable type ‘Type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8T09:46:40Z</dcterms:created>
  <dc:creator>Inayat</dc:creator>
  <dc:description/>
  <dc:language>en-US</dc:language>
  <cp:lastModifiedBy>Sarona</cp:lastModifiedBy>
  <dcterms:modified xsi:type="dcterms:W3CDTF">2017-11-14T14:06:55Z</dcterms:modified>
  <cp:revision>78</cp:revision>
  <dc:subject/>
  <dc:title>Human-Machine Interaction and User-Interface Design</dc:title>
</cp:coreProperties>
</file>