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  <p:custShowLst>
    <p:custShow name="Custom Show 1" id="0">
      <p:sldLst>
        <p:sld r:id="rId15"/>
        <p:sld r:id="rId5"/>
        <p:sld r:id="rId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C9B2F3-C87D-4131-8D12-57EA2B7767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B23BD9-8F30-4F92-9FE7-97374751E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C38B95-DFCD-4977-82DA-69DF231B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99054F6-DDBE-46E8-914C-49016A44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150E5D-2678-4573-B36B-5124BDFDB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4AB4C2-671B-41FC-BA98-007A6E2E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406E23F-A832-4B1E-9BA6-9A8B1F371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076340-C790-4B41-A7F1-42592168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D3CEF4-ECAF-4BB5-ABF4-04DF038CD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ABAAF7-D4FF-41B6-BCC8-18F6B6353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F38318-154F-4462-A3BC-E868900A7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15EE0A-C2B5-4CDE-9A97-B8445D466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666A97-B3EB-42F0-A0F5-5034A844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C2D333D-48BF-40A2-88C5-17397B6CE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8C4420F-DFA5-48AD-9FA3-661A6436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7AEC-5631-4C64-A2C9-53DA073CD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9389-BEA7-499E-B76C-8074C0807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4E8C-66D2-461A-A703-F6669A28B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6C43-318E-4B19-A407-F12C0A950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636-E9A0-4D7B-A202-715A2CE266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CB7-C622-43FB-8CF0-A38006124F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6CD5-ADC6-4DF6-9551-1CEBACEC95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D46-EF33-4DF5-A6FF-92230AA8C2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EF6C-ADB0-4814-8DB1-11E7A0752D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9ACA-0B4B-4BE1-8985-39B919C506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84E-8D68-446A-A31F-A188BF31ED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238C-872F-4346-A880-A2A6ECB51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76F-76B5-4C61-8E34-4A06375989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A6E-1DB7-49D1-8E17-40BB1CEE69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63C-31D5-4FF1-A04E-BD307B8B1D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BEF-F6FC-47CE-B26C-F83547B92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048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5080" y="10936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1432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048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5080" y="3655080"/>
            <a:ext cx="24667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D65-9795-4E83-9DC2-92671F808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85EA-CE40-400C-8CFD-28D530930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BCA4-F573-49BD-98A3-DAABA5988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DCED-A425-48CA-B90A-962B29F53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7880" y="117360"/>
            <a:ext cx="80773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BE5F-E689-4ECA-9B91-A2B3B3600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DCD20-F2F9-40C3-872E-61E0A6771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6550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E7DC-A3B0-416B-8DA5-87B49BD54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43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093680"/>
            <a:ext cx="3738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4320" y="3655080"/>
            <a:ext cx="766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4A36-96F5-441B-88FD-A1164BE62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db-book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EFEB-1869-4B83-ADB8-B1905B70188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764760" y="661356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42552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2.</a:t>
            </a:r>
            <a:fld id="{A633A909-8AA2-4C2C-8183-CF3BC282C686}" type="slidenum">
              <a:rPr b="1" lang="en-US" sz="10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7560" y="6613560"/>
            <a:ext cx="25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Database System Concepts - 6</a:t>
            </a:r>
            <a:r>
              <a:rPr b="1" lang="en-US" sz="10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8916840" y="5445000"/>
            <a:ext cx="227160" cy="47880"/>
          </a:xfrm>
          <a:custGeom>
            <a:avLst/>
            <a:gdLst/>
            <a:ahLst/>
            <a:rect l="l" t="t" r="r" b="b"/>
            <a:pathLst>
              <a:path w="285" h="61">
                <a:moveTo>
                  <a:pt x="2" y="61"/>
                </a:moveTo>
                <a:lnTo>
                  <a:pt x="0" y="59"/>
                </a:lnTo>
                <a:lnTo>
                  <a:pt x="0" y="55"/>
                </a:lnTo>
                <a:lnTo>
                  <a:pt x="2" y="48"/>
                </a:lnTo>
                <a:lnTo>
                  <a:pt x="5" y="40"/>
                </a:lnTo>
                <a:lnTo>
                  <a:pt x="9" y="34"/>
                </a:lnTo>
                <a:lnTo>
                  <a:pt x="13" y="31"/>
                </a:lnTo>
                <a:lnTo>
                  <a:pt x="17" y="25"/>
                </a:lnTo>
                <a:lnTo>
                  <a:pt x="24" y="21"/>
                </a:lnTo>
                <a:lnTo>
                  <a:pt x="30" y="17"/>
                </a:lnTo>
                <a:lnTo>
                  <a:pt x="40" y="13"/>
                </a:lnTo>
                <a:lnTo>
                  <a:pt x="45" y="10"/>
                </a:lnTo>
                <a:lnTo>
                  <a:pt x="51" y="8"/>
                </a:lnTo>
                <a:lnTo>
                  <a:pt x="57" y="6"/>
                </a:lnTo>
                <a:lnTo>
                  <a:pt x="64" y="6"/>
                </a:lnTo>
                <a:lnTo>
                  <a:pt x="70" y="2"/>
                </a:lnTo>
                <a:lnTo>
                  <a:pt x="78" y="2"/>
                </a:lnTo>
                <a:lnTo>
                  <a:pt x="85" y="0"/>
                </a:lnTo>
                <a:lnTo>
                  <a:pt x="93" y="0"/>
                </a:lnTo>
                <a:lnTo>
                  <a:pt x="100" y="0"/>
                </a:lnTo>
                <a:lnTo>
                  <a:pt x="110" y="0"/>
                </a:lnTo>
                <a:lnTo>
                  <a:pt x="118" y="0"/>
                </a:lnTo>
                <a:lnTo>
                  <a:pt x="129" y="0"/>
                </a:lnTo>
                <a:lnTo>
                  <a:pt x="137" y="0"/>
                </a:lnTo>
                <a:lnTo>
                  <a:pt x="146" y="2"/>
                </a:lnTo>
                <a:lnTo>
                  <a:pt x="154" y="2"/>
                </a:lnTo>
                <a:lnTo>
                  <a:pt x="163" y="4"/>
                </a:lnTo>
                <a:lnTo>
                  <a:pt x="173" y="6"/>
                </a:lnTo>
                <a:lnTo>
                  <a:pt x="182" y="8"/>
                </a:lnTo>
                <a:lnTo>
                  <a:pt x="192" y="8"/>
                </a:lnTo>
                <a:lnTo>
                  <a:pt x="201" y="12"/>
                </a:lnTo>
                <a:lnTo>
                  <a:pt x="209" y="12"/>
                </a:lnTo>
                <a:lnTo>
                  <a:pt x="216" y="13"/>
                </a:lnTo>
                <a:lnTo>
                  <a:pt x="224" y="15"/>
                </a:lnTo>
                <a:lnTo>
                  <a:pt x="234" y="17"/>
                </a:lnTo>
                <a:lnTo>
                  <a:pt x="239" y="19"/>
                </a:lnTo>
                <a:lnTo>
                  <a:pt x="247" y="21"/>
                </a:lnTo>
                <a:lnTo>
                  <a:pt x="254" y="23"/>
                </a:lnTo>
                <a:lnTo>
                  <a:pt x="260" y="25"/>
                </a:lnTo>
                <a:lnTo>
                  <a:pt x="266" y="25"/>
                </a:lnTo>
                <a:lnTo>
                  <a:pt x="270" y="27"/>
                </a:lnTo>
                <a:lnTo>
                  <a:pt x="273" y="27"/>
                </a:lnTo>
                <a:lnTo>
                  <a:pt x="279" y="29"/>
                </a:lnTo>
                <a:lnTo>
                  <a:pt x="283" y="31"/>
                </a:lnTo>
                <a:lnTo>
                  <a:pt x="285" y="32"/>
                </a:lnTo>
                <a:lnTo>
                  <a:pt x="279" y="44"/>
                </a:lnTo>
                <a:lnTo>
                  <a:pt x="277" y="44"/>
                </a:lnTo>
                <a:lnTo>
                  <a:pt x="273" y="42"/>
                </a:lnTo>
                <a:lnTo>
                  <a:pt x="268" y="42"/>
                </a:lnTo>
                <a:lnTo>
                  <a:pt x="260" y="40"/>
                </a:lnTo>
                <a:lnTo>
                  <a:pt x="251" y="38"/>
                </a:lnTo>
                <a:lnTo>
                  <a:pt x="241" y="36"/>
                </a:lnTo>
                <a:lnTo>
                  <a:pt x="235" y="34"/>
                </a:lnTo>
                <a:lnTo>
                  <a:pt x="230" y="34"/>
                </a:lnTo>
                <a:lnTo>
                  <a:pt x="224" y="32"/>
                </a:lnTo>
                <a:lnTo>
                  <a:pt x="218" y="32"/>
                </a:lnTo>
                <a:lnTo>
                  <a:pt x="213" y="31"/>
                </a:lnTo>
                <a:lnTo>
                  <a:pt x="207" y="31"/>
                </a:lnTo>
                <a:lnTo>
                  <a:pt x="201" y="29"/>
                </a:lnTo>
                <a:lnTo>
                  <a:pt x="196" y="29"/>
                </a:lnTo>
                <a:lnTo>
                  <a:pt x="190" y="27"/>
                </a:lnTo>
                <a:lnTo>
                  <a:pt x="182" y="27"/>
                </a:lnTo>
                <a:lnTo>
                  <a:pt x="178" y="25"/>
                </a:lnTo>
                <a:lnTo>
                  <a:pt x="173" y="25"/>
                </a:lnTo>
                <a:lnTo>
                  <a:pt x="167" y="23"/>
                </a:lnTo>
                <a:lnTo>
                  <a:pt x="163" y="23"/>
                </a:lnTo>
                <a:lnTo>
                  <a:pt x="158" y="21"/>
                </a:lnTo>
                <a:lnTo>
                  <a:pt x="154" y="21"/>
                </a:lnTo>
                <a:lnTo>
                  <a:pt x="148" y="19"/>
                </a:lnTo>
                <a:lnTo>
                  <a:pt x="142" y="19"/>
                </a:lnTo>
                <a:lnTo>
                  <a:pt x="144" y="48"/>
                </a:lnTo>
                <a:lnTo>
                  <a:pt x="110" y="15"/>
                </a:lnTo>
                <a:lnTo>
                  <a:pt x="118" y="48"/>
                </a:lnTo>
                <a:lnTo>
                  <a:pt x="83" y="21"/>
                </a:lnTo>
                <a:lnTo>
                  <a:pt x="91" y="48"/>
                </a:lnTo>
                <a:lnTo>
                  <a:pt x="59" y="29"/>
                </a:lnTo>
                <a:lnTo>
                  <a:pt x="57" y="29"/>
                </a:lnTo>
                <a:lnTo>
                  <a:pt x="53" y="31"/>
                </a:lnTo>
                <a:lnTo>
                  <a:pt x="49" y="31"/>
                </a:lnTo>
                <a:lnTo>
                  <a:pt x="43" y="34"/>
                </a:lnTo>
                <a:lnTo>
                  <a:pt x="38" y="36"/>
                </a:lnTo>
                <a:lnTo>
                  <a:pt x="32" y="38"/>
                </a:lnTo>
                <a:lnTo>
                  <a:pt x="26" y="42"/>
                </a:lnTo>
                <a:lnTo>
                  <a:pt x="23" y="44"/>
                </a:lnTo>
                <a:lnTo>
                  <a:pt x="15" y="50"/>
                </a:lnTo>
                <a:lnTo>
                  <a:pt x="7" y="55"/>
                </a:lnTo>
                <a:lnTo>
                  <a:pt x="4" y="59"/>
                </a:lnTo>
                <a:lnTo>
                  <a:pt x="2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over-6Ed"/>
          <p:cNvPicPr/>
          <p:nvPr/>
        </p:nvPicPr>
        <p:blipFill>
          <a:blip r:embed="rId2"/>
          <a:stretch/>
        </p:blipFill>
        <p:spPr>
          <a:xfrm>
            <a:off x="-3240" y="0"/>
            <a:ext cx="668520" cy="81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2730240" y="5726160"/>
            <a:ext cx="358344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Database System Concepts, 6</a:t>
            </a:r>
            <a:r>
              <a:rPr b="1" lang="en-US" sz="1600" spc="-1" strike="noStrike" baseline="30000">
                <a:solidFill>
                  <a:srgbClr val="cc33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Ed</a:t>
            </a: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©Silberschatz, Korth and Sudarshan</a:t>
            </a:r>
            <a:br>
              <a:rPr sz="1200"/>
            </a:b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www.db-book.com</a:t>
            </a:r>
            <a:r>
              <a:rPr b="1" lang="en-US" sz="1200" spc="-1" strike="noStrike">
                <a:solidFill>
                  <a:srgbClr val="cc3300"/>
                </a:solidFill>
                <a:latin typeface="Arial"/>
              </a:rPr>
              <a:t> for conditions on re-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-6Ed"/>
          <p:cNvPicPr/>
          <p:nvPr/>
        </p:nvPicPr>
        <p:blipFill>
          <a:blip r:embed="rId3"/>
          <a:stretch/>
        </p:blipFill>
        <p:spPr>
          <a:xfrm>
            <a:off x="0" y="0"/>
            <a:ext cx="1392120" cy="1700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814320" y="1093680"/>
            <a:ext cx="766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cc33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2862360" y="57801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595920" y="6218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D608-CC53-447A-8B68-6957CEE8E13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60240" y="2662200"/>
            <a:ext cx="77724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hapter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Alg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548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artesian-product – naming issu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4357800" y="1162080"/>
            <a:ext cx="24912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638520" y="3135240"/>
            <a:ext cx="24768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3524400" y="306072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4308480" y="1036800"/>
            <a:ext cx="132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303720" y="3141720"/>
            <a:ext cx="247680" cy="231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3181320" y="305928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naming a Tab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5760" y="1060560"/>
            <a:ext cx="7848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us to refer to a relation, (say E) by more than one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s the express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der the nam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816120" y="273528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16120" y="40496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2828880" y="2538360"/>
            <a:ext cx="2559240" cy="3951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5"/>
          <p:cNvSpPr/>
          <p:nvPr/>
        </p:nvSpPr>
        <p:spPr>
          <a:xfrm>
            <a:off x="4270320" y="2503440"/>
            <a:ext cx="1208160" cy="18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6605640" y="3429000"/>
            <a:ext cx="2062080" cy="30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921040" y="3870360"/>
            <a:ext cx="1719360" cy="272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2743200" y="4216320"/>
            <a:ext cx="393840" cy="253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2435400" y="4305240"/>
            <a:ext cx="1487160" cy="1292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43"/>
          <p:cNvSpPr/>
          <p:nvPr/>
        </p:nvSpPr>
        <p:spPr>
          <a:xfrm>
            <a:off x="2803680" y="4305240"/>
            <a:ext cx="0" cy="12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44"/>
          <p:cNvSpPr/>
          <p:nvPr/>
        </p:nvSpPr>
        <p:spPr>
          <a:xfrm>
            <a:off x="3178080" y="431316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45"/>
          <p:cNvSpPr/>
          <p:nvPr/>
        </p:nvSpPr>
        <p:spPr>
          <a:xfrm>
            <a:off x="3562200" y="4313160"/>
            <a:ext cx="0" cy="12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6"/>
          <p:cNvSpPr/>
          <p:nvPr/>
        </p:nvSpPr>
        <p:spPr>
          <a:xfrm>
            <a:off x="2460600" y="4264200"/>
            <a:ext cx="53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2827440" y="4262400"/>
            <a:ext cx="53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3203640" y="4270320"/>
            <a:ext cx="53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9"/>
          <p:cNvSpPr/>
          <p:nvPr/>
        </p:nvSpPr>
        <p:spPr>
          <a:xfrm>
            <a:off x="3586320" y="4260960"/>
            <a:ext cx="5378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2435400" y="4027320"/>
            <a:ext cx="1487160" cy="243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0"/>
          <p:cNvSpPr/>
          <p:nvPr/>
        </p:nvSpPr>
        <p:spPr>
          <a:xfrm>
            <a:off x="2392200" y="3956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A  r.B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A  s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1"/>
          <p:cNvSpPr/>
          <p:nvPr/>
        </p:nvSpPr>
        <p:spPr>
          <a:xfrm flipV="1">
            <a:off x="2795760" y="4044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52"/>
          <p:cNvSpPr/>
          <p:nvPr/>
        </p:nvSpPr>
        <p:spPr>
          <a:xfrm flipV="1">
            <a:off x="3171960" y="4041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53"/>
          <p:cNvSpPr/>
          <p:nvPr/>
        </p:nvSpPr>
        <p:spPr>
          <a:xfrm flipV="1">
            <a:off x="3557520" y="404172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7880" y="522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omposition of Oper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90288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uild expressions using multipl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=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x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3451320" y="291636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1" name="Text Box 25"/>
          <p:cNvSpPr/>
          <p:nvPr/>
        </p:nvSpPr>
        <p:spPr>
          <a:xfrm>
            <a:off x="2438280" y="5610240"/>
            <a:ext cx="184320" cy="366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1" descr=""/>
          <p:cNvPicPr/>
          <p:nvPr/>
        </p:nvPicPr>
        <p:blipFill>
          <a:blip r:embed="rId1"/>
          <a:stretch/>
        </p:blipFill>
        <p:spPr>
          <a:xfrm>
            <a:off x="2544840" y="1949400"/>
            <a:ext cx="1757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– Natural Joi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98480" y="1138320"/>
            <a:ext cx="682632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relations on schem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ectively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 the “natural join”  of 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lation on schem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btain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each pair of tup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he same value on each of the attrib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dd a tup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the result,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33cc33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the same value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Natural Join Exampl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98480" y="1077480"/>
            <a:ext cx="6843600" cy="3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819000" y="3357720"/>
            <a:ext cx="7029360" cy="996120"/>
            <a:chOff x="819000" y="3357720"/>
            <a:chExt cx="7029360" cy="996120"/>
          </a:xfrm>
        </p:grpSpPr>
        <p:sp>
          <p:nvSpPr>
            <p:cNvPr id="178" name="Rectangle 5"/>
            <p:cNvSpPr/>
            <p:nvPr/>
          </p:nvSpPr>
          <p:spPr>
            <a:xfrm>
              <a:off x="819000" y="3357720"/>
              <a:ext cx="702936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88"/>
                </a:spcBef>
                <a:buClr>
                  <a:srgbClr val="c000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Jo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788"/>
                </a:spcBef>
                <a:buClr>
                  <a:srgbClr val="c00000"/>
                </a:buClr>
                <a:buSzPct val="90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    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V="1" rot="16200000">
              <a:off x="998640" y="3837600"/>
              <a:ext cx="370080" cy="152280"/>
            </a:xfrm>
            <a:prstGeom prst="flowChartCollat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7" descr=""/>
          <p:cNvPicPr/>
          <p:nvPr/>
        </p:nvPicPr>
        <p:blipFill>
          <a:blip r:embed="rId1"/>
          <a:stretch/>
        </p:blipFill>
        <p:spPr>
          <a:xfrm>
            <a:off x="3228840" y="1211400"/>
            <a:ext cx="3575160" cy="38797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1"/>
          <p:cNvSpPr/>
          <p:nvPr/>
        </p:nvSpPr>
        <p:spPr>
          <a:xfrm rot="5400000">
            <a:off x="1790280" y="3836880"/>
            <a:ext cx="189000" cy="173160"/>
          </a:xfrm>
          <a:prstGeom prst="flowChartCollat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42920" y="5500800"/>
            <a:ext cx="465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A, r.B, C, r.D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.B = s.B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˄ r.D = s.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ummary of Relational Algebra Operators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093680" y="803160"/>
            <a:ext cx="7247160" cy="3254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093680" y="1179360"/>
            <a:ext cx="7253280" cy="4896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5"/>
          <p:cNvSpPr/>
          <p:nvPr/>
        </p:nvSpPr>
        <p:spPr>
          <a:xfrm>
            <a:off x="2862360" y="1170000"/>
            <a:ext cx="0" cy="490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"/>
          <p:cNvSpPr/>
          <p:nvPr/>
        </p:nvSpPr>
        <p:spPr>
          <a:xfrm flipV="1">
            <a:off x="2862360" y="803160"/>
            <a:ext cx="0" cy="32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042920" y="846000"/>
            <a:ext cx="61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ymbol (Name)                  Exampl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1023840" y="13064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Select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                    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salary &gt; = 85000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1128600" y="1111320"/>
            <a:ext cx="88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1"/>
          <p:cNvSpPr/>
          <p:nvPr/>
        </p:nvSpPr>
        <p:spPr>
          <a:xfrm>
            <a:off x="2862360" y="1574640"/>
            <a:ext cx="547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2870280" y="1581120"/>
            <a:ext cx="54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Return rows of the input relation that satisfy the pr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6"/>
          <p:cNvSpPr/>
          <p:nvPr/>
        </p:nvSpPr>
        <p:spPr>
          <a:xfrm>
            <a:off x="1093680" y="190008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8"/>
          <p:cNvSpPr/>
          <p:nvPr/>
        </p:nvSpPr>
        <p:spPr>
          <a:xfrm>
            <a:off x="2870280" y="2335320"/>
            <a:ext cx="547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9"/>
          <p:cNvSpPr/>
          <p:nvPr/>
        </p:nvSpPr>
        <p:spPr>
          <a:xfrm>
            <a:off x="1101600" y="279576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0"/>
          <p:cNvSpPr/>
          <p:nvPr/>
        </p:nvSpPr>
        <p:spPr>
          <a:xfrm>
            <a:off x="1135080" y="1852560"/>
            <a:ext cx="88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1"/>
          <p:cNvSpPr/>
          <p:nvPr/>
        </p:nvSpPr>
        <p:spPr>
          <a:xfrm>
            <a:off x="1031760" y="2048040"/>
            <a:ext cx="648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Project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                      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D, salary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2"/>
          <p:cNvSpPr/>
          <p:nvPr/>
        </p:nvSpPr>
        <p:spPr>
          <a:xfrm>
            <a:off x="2870280" y="2322360"/>
            <a:ext cx="547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specified attributes from all rows of the input relation.  Remove duplicate tuples from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25"/>
          <p:cNvSpPr/>
          <p:nvPr/>
        </p:nvSpPr>
        <p:spPr>
          <a:xfrm>
            <a:off x="2868480" y="3205080"/>
            <a:ext cx="5478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26"/>
          <p:cNvSpPr/>
          <p:nvPr/>
        </p:nvSpPr>
        <p:spPr>
          <a:xfrm>
            <a:off x="1100160" y="367344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1"/>
          <p:cNvSpPr/>
          <p:nvPr/>
        </p:nvSpPr>
        <p:spPr>
          <a:xfrm>
            <a:off x="1057320" y="273528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2"/>
          <p:cNvSpPr/>
          <p:nvPr/>
        </p:nvSpPr>
        <p:spPr>
          <a:xfrm>
            <a:off x="1036800" y="29084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Cartesian Product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 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4"/>
          <p:cNvSpPr/>
          <p:nvPr/>
        </p:nvSpPr>
        <p:spPr>
          <a:xfrm>
            <a:off x="2874960" y="3209760"/>
            <a:ext cx="557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pairs of rows from the two input relations that have the same value on all attributes that have the same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35"/>
          <p:cNvSpPr/>
          <p:nvPr/>
        </p:nvSpPr>
        <p:spPr>
          <a:xfrm>
            <a:off x="1093680" y="4400640"/>
            <a:ext cx="7259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36"/>
          <p:cNvSpPr/>
          <p:nvPr/>
        </p:nvSpPr>
        <p:spPr>
          <a:xfrm>
            <a:off x="1106640" y="5108400"/>
            <a:ext cx="724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7"/>
          <p:cNvSpPr/>
          <p:nvPr/>
        </p:nvSpPr>
        <p:spPr>
          <a:xfrm>
            <a:off x="1055520" y="3622680"/>
            <a:ext cx="9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8"/>
          <p:cNvSpPr/>
          <p:nvPr/>
        </p:nvSpPr>
        <p:spPr>
          <a:xfrm>
            <a:off x="1035000" y="37958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Unio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) 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∪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39"/>
          <p:cNvSpPr/>
          <p:nvPr/>
        </p:nvSpPr>
        <p:spPr>
          <a:xfrm>
            <a:off x="2867040" y="4089240"/>
            <a:ext cx="55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the union of tuples from the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two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input re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42"/>
          <p:cNvSpPr/>
          <p:nvPr/>
        </p:nvSpPr>
        <p:spPr>
          <a:xfrm>
            <a:off x="2874960" y="4056120"/>
            <a:ext cx="547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>
            <a:off x="1038240" y="52592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Natural Join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instructor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⋈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 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7"/>
          <p:cNvSpPr/>
          <p:nvPr/>
        </p:nvSpPr>
        <p:spPr>
          <a:xfrm>
            <a:off x="2868480" y="5559480"/>
            <a:ext cx="557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pairs of rows from the two input relations that have the same value on all attributes that have the same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0"/>
          <p:cNvSpPr/>
          <p:nvPr/>
        </p:nvSpPr>
        <p:spPr>
          <a:xfrm>
            <a:off x="1049400" y="5078520"/>
            <a:ext cx="92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7"/>
          <p:cNvSpPr/>
          <p:nvPr/>
        </p:nvSpPr>
        <p:spPr>
          <a:xfrm>
            <a:off x="1046160" y="4348080"/>
            <a:ext cx="92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8"/>
          <p:cNvSpPr/>
          <p:nvPr/>
        </p:nvSpPr>
        <p:spPr>
          <a:xfrm>
            <a:off x="1025640" y="4521240"/>
            <a:ext cx="648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(Set Difference)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instructor)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--  </a:t>
            </a:r>
            <a:r>
              <a:rPr b="0" lang="el-GR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Palatino Linotype"/>
              </a:rPr>
              <a:t>name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Palatino Linotype"/>
              </a:rPr>
              <a:t>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9"/>
          <p:cNvSpPr/>
          <p:nvPr/>
        </p:nvSpPr>
        <p:spPr>
          <a:xfrm>
            <a:off x="2873520" y="4805280"/>
            <a:ext cx="557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Output the set difference of tuples from the two input re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42"/>
          <p:cNvSpPr/>
          <p:nvPr/>
        </p:nvSpPr>
        <p:spPr>
          <a:xfrm>
            <a:off x="2873520" y="4764240"/>
            <a:ext cx="547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35"/>
          <p:cNvSpPr/>
          <p:nvPr/>
        </p:nvSpPr>
        <p:spPr>
          <a:xfrm>
            <a:off x="2854440" y="5527800"/>
            <a:ext cx="549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xample of a Relation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95" name="Picture 3" descr="2"/>
          <p:cNvPicPr/>
          <p:nvPr/>
        </p:nvPicPr>
        <p:blipFill>
          <a:blip r:embed="rId1"/>
          <a:stretch/>
        </p:blipFill>
        <p:spPr>
          <a:xfrm>
            <a:off x="1442880" y="1927080"/>
            <a:ext cx="5291280" cy="3975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7043040" y="13334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colum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H="1">
            <a:off x="3238560" y="1538280"/>
            <a:ext cx="388944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4608360" y="1592280"/>
            <a:ext cx="255744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5819400" y="1565280"/>
            <a:ext cx="13208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990480" y="25225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r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 flipV="1">
            <a:off x="6742080" y="2487240"/>
            <a:ext cx="37008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6729120" y="2706840"/>
            <a:ext cx="36972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6717960" y="2717640"/>
            <a:ext cx="392040" cy="31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>
            <a:off x="6729480" y="2727360"/>
            <a:ext cx="38088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lational Query Languag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0774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al vs .non-procedural, or decla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” langu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ple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relational cal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ove 3 pure languages are equivalent in computing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concentrate in this chapter on relational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urning-machine equiva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ff99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6 basic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elect Operation – selection of rows (tuples)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38160" y="107784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3498840" y="1449360"/>
            <a:ext cx="1887480" cy="38768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046160" y="3721680"/>
            <a:ext cx="188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30040" indent="-230040" algn="ctr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=B ^ D &gt; 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040" y="9180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Project Operation – selection of columns (Attributes) 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8000" y="1077840"/>
            <a:ext cx="24415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9907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914400" y="3962520"/>
            <a:ext cx="7029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33520" y="4114800"/>
            <a:ext cx="7029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07880" y="4140360"/>
            <a:ext cx="7029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04640" y="3659040"/>
            <a:ext cx="2057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1"/>
          <a:stretch/>
        </p:blipFill>
        <p:spPr>
          <a:xfrm>
            <a:off x="2443320" y="1189080"/>
            <a:ext cx="2708280" cy="44305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0"/>
          <p:cNvSpPr/>
          <p:nvPr/>
        </p:nvSpPr>
        <p:spPr>
          <a:xfrm>
            <a:off x="723960" y="3597120"/>
            <a:ext cx="14684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,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7880" y="1173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Un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98480" y="3238560"/>
            <a:ext cx="7029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2986200" y="1138320"/>
            <a:ext cx="235728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4040" y="6660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difference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8120" y="1077480"/>
            <a:ext cx="68612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798480" y="3220920"/>
            <a:ext cx="70293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  – 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921040" y="1211400"/>
            <a:ext cx="255420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4040" y="234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et intersection of two relation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98480" y="119988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874960" y="1628640"/>
            <a:ext cx="2657520" cy="3495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8360" y="5346720"/>
            <a:ext cx="24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5480" y="1936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oining two relations -- Cartesian-produc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98480" y="10778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98480" y="3135240"/>
            <a:ext cx="7029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3300"/>
              </a:buClr>
              <a:buSzPct val="90000"/>
              <a:buFont typeface="Monotype Sorts" charset="2"/>
              <a:buChar char=""/>
              <a:tabLst>
                <a:tab algn="ctr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2913120" y="1076400"/>
            <a:ext cx="243216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0:50:09Z</dcterms:created>
  <dc:creator>Marilyn Turnamian</dc:creator>
  <dc:description/>
  <dc:language>en-US</dc:language>
  <cp:lastModifiedBy>Sara</cp:lastModifiedBy>
  <cp:lastPrinted>2005-01-10T21:51:57Z</cp:lastPrinted>
  <dcterms:modified xsi:type="dcterms:W3CDTF">2016-04-02T15:56:27Z</dcterms:modified>
  <cp:revision>203</cp:revision>
  <dc:subject/>
  <dc:title>Chapter 1:  Introduction</dc:title>
</cp:coreProperties>
</file>