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  <p:custShowLst>
    <p:custShow name="Custom Show 1" id="0">
      <p:sldLst>
        <p:sld r:id="rId15"/>
        <p:sld r:id="rId5"/>
        <p:sld r:id="rId8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64732BF-DC5B-4A83-98E7-6C43DD1F52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7DF0184-EB6D-479A-9028-E8ECC289E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A8590AB-76B8-437E-B37D-2A26398A6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1B0254-B20B-4300-BD0A-3DA7E2BAC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F403CF-EDEE-4485-9D78-BE0388D2F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B40D27C-1289-4552-975C-92C440109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FD5CF7-4AF9-446A-8B37-FDDAEE3D6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1F9CDCB-7612-4CFF-A479-E749E33BC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84E85FA-98EB-4D6F-9643-6DE39B1C4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695CD90-E20F-47CF-B6FC-DAD3A4697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539BF91-8BA1-4261-B0D4-24ADBED4C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0E82184-AFDB-4305-808D-FE33D69FA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982122-DF4E-4960-A951-1C5CAFB26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6AC0F43-A244-4F69-82AD-15A922294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184BDB8-74F9-43B2-8F9D-E814503E9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34F0-F360-4EFA-BF2D-3462826A8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6C8A-57D4-4F7C-8B07-FBBF3FB93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F8B5-6EE2-4713-B46F-6CA0973D1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AD40-6328-4072-A1F8-5F8F21217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A16-70B0-4787-A92C-1F4F1F67CD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551-0DC5-4024-B573-19BB5E4879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035-8DE0-4DFA-8A9C-A9D2D7B758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39EC-98D2-4322-9487-5E38EBE0EE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BE6-229C-476B-B0B9-04ADFE10A3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082-DC02-4FC2-9374-79CDA2BC54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8A9-91ED-4D10-8496-9BAF44FE7B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5E2B-E568-452C-AA07-019359E2D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2B2-DEBF-4CCF-B8C7-041DC88A52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389-3431-43F5-B3F4-794E98264D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314-F54D-47B8-9EDA-63F26FF432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3066-81EB-4B43-863B-2CE824EB73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C46B-9B28-427C-ABCD-2A7981AF2A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B2EA-B4AB-4B61-82C7-A5E248070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3082-FF15-4379-9251-D322F2C69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16A9E-576E-4F8B-A141-BCC0DD1D8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CF76-0067-4119-96F7-F114558E8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41B6-6CFD-4DE6-81CB-CBC8C948D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ECD5-1624-4A49-BAFA-480344A4A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4AAEA-477C-4AD3-8B25-BED3840A1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F5E9-FE37-4841-8D7B-7F61C9BA2995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42552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2.</a:t>
            </a:r>
            <a:fld id="{922D3017-E588-49DA-B962-2D1F495617B3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FAF6-D86F-48E3-A85B-03A944F1513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660240" y="2662200"/>
            <a:ext cx="777240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al Alg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5480" y="193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rtesian-product – naming issu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798480" y="107784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, 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798480" y="313524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2913120" y="1076400"/>
            <a:ext cx="2432160" cy="46641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4357800" y="1162080"/>
            <a:ext cx="249120" cy="231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638520" y="3135240"/>
            <a:ext cx="247680" cy="231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524400" y="3060720"/>
            <a:ext cx="13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4308480" y="1036800"/>
            <a:ext cx="132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303720" y="3141720"/>
            <a:ext cx="247680" cy="231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3181320" y="3059280"/>
            <a:ext cx="13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naming a Tab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15760" y="1060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us to refer to a relation, (say E) by more than one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s the express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nder the nam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16120" y="273528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816120" y="404964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2828880" y="2538360"/>
            <a:ext cx="2559240" cy="3951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5"/>
          <p:cNvSpPr/>
          <p:nvPr/>
        </p:nvSpPr>
        <p:spPr>
          <a:xfrm>
            <a:off x="4270320" y="2503440"/>
            <a:ext cx="1208160" cy="183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6605640" y="3429000"/>
            <a:ext cx="2062080" cy="30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2921040" y="3870360"/>
            <a:ext cx="1719360" cy="272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2743200" y="4216320"/>
            <a:ext cx="393840" cy="253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2435400" y="4305240"/>
            <a:ext cx="1487160" cy="1292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43"/>
          <p:cNvSpPr/>
          <p:nvPr/>
        </p:nvSpPr>
        <p:spPr>
          <a:xfrm>
            <a:off x="2803680" y="4305240"/>
            <a:ext cx="0" cy="12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44"/>
          <p:cNvSpPr/>
          <p:nvPr/>
        </p:nvSpPr>
        <p:spPr>
          <a:xfrm>
            <a:off x="3178080" y="4313160"/>
            <a:ext cx="0" cy="12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45"/>
          <p:cNvSpPr/>
          <p:nvPr/>
        </p:nvSpPr>
        <p:spPr>
          <a:xfrm>
            <a:off x="3562200" y="4313160"/>
            <a:ext cx="0" cy="12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6"/>
          <p:cNvSpPr/>
          <p:nvPr/>
        </p:nvSpPr>
        <p:spPr>
          <a:xfrm>
            <a:off x="2460600" y="4264200"/>
            <a:ext cx="53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7"/>
          <p:cNvSpPr/>
          <p:nvPr/>
        </p:nvSpPr>
        <p:spPr>
          <a:xfrm>
            <a:off x="2827440" y="4262400"/>
            <a:ext cx="53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8"/>
          <p:cNvSpPr/>
          <p:nvPr/>
        </p:nvSpPr>
        <p:spPr>
          <a:xfrm>
            <a:off x="3203640" y="4270320"/>
            <a:ext cx="53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9"/>
          <p:cNvSpPr/>
          <p:nvPr/>
        </p:nvSpPr>
        <p:spPr>
          <a:xfrm>
            <a:off x="3586320" y="4260960"/>
            <a:ext cx="5378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2435400" y="4027320"/>
            <a:ext cx="1487160" cy="243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0"/>
          <p:cNvSpPr/>
          <p:nvPr/>
        </p:nvSpPr>
        <p:spPr>
          <a:xfrm>
            <a:off x="2392200" y="3956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A  r.B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A  s.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1"/>
          <p:cNvSpPr/>
          <p:nvPr/>
        </p:nvSpPr>
        <p:spPr>
          <a:xfrm flipV="1">
            <a:off x="2795760" y="404496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52"/>
          <p:cNvSpPr/>
          <p:nvPr/>
        </p:nvSpPr>
        <p:spPr>
          <a:xfrm flipV="1">
            <a:off x="3171960" y="404172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53"/>
          <p:cNvSpPr/>
          <p:nvPr/>
        </p:nvSpPr>
        <p:spPr>
          <a:xfrm flipV="1">
            <a:off x="3557520" y="404172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7880" y="522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osition of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90288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uild expressions using multipl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=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x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x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=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x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3451320" y="291636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1" name="Text Box 25"/>
          <p:cNvSpPr/>
          <p:nvPr/>
        </p:nvSpPr>
        <p:spPr>
          <a:xfrm>
            <a:off x="2438280" y="5610240"/>
            <a:ext cx="184320" cy="3668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1" descr=""/>
          <p:cNvPicPr/>
          <p:nvPr/>
        </p:nvPicPr>
        <p:blipFill>
          <a:blip r:embed="rId1"/>
          <a:stretch/>
        </p:blipFill>
        <p:spPr>
          <a:xfrm>
            <a:off x="2544840" y="1949400"/>
            <a:ext cx="1757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ing two relations – Natural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8480" y="1138320"/>
            <a:ext cx="682632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relations on schem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ectively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 the “natural join”  of 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relation on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btained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each pair of tupl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the same value on each of the attribut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dd a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 the result,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he same value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he same value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atural Join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6843600" cy="3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 r, 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819000" y="3357720"/>
            <a:ext cx="7029360" cy="996120"/>
            <a:chOff x="819000" y="3357720"/>
            <a:chExt cx="7029360" cy="996120"/>
          </a:xfrm>
        </p:grpSpPr>
        <p:sp>
          <p:nvSpPr>
            <p:cNvPr id="178" name="Rectangle 5"/>
            <p:cNvSpPr/>
            <p:nvPr/>
          </p:nvSpPr>
          <p:spPr>
            <a:xfrm>
              <a:off x="819000" y="3357720"/>
              <a:ext cx="702936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88"/>
                </a:spcBef>
                <a:buClr>
                  <a:srgbClr val="c00000"/>
                </a:buClr>
                <a:buSzPct val="9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tural Jo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spcBef>
                  <a:spcPts val="788"/>
                </a:spcBef>
                <a:buClr>
                  <a:srgbClr val="c00000"/>
                </a:buClr>
                <a:buSzPct val="9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    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V="1" rot="16200000">
              <a:off x="998640" y="3837600"/>
              <a:ext cx="370080" cy="152280"/>
            </a:xfrm>
            <a:prstGeom prst="flowChartCollat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3228840" y="1211400"/>
            <a:ext cx="3575160" cy="38797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1"/>
          <p:cNvSpPr/>
          <p:nvPr/>
        </p:nvSpPr>
        <p:spPr>
          <a:xfrm rot="5400000">
            <a:off x="1790280" y="38368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042920" y="5500800"/>
            <a:ext cx="465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, r.B, C, r.D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.B = s.B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˄ r.D = s.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ummary of Relational Algebra Operato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093680" y="803160"/>
            <a:ext cx="7247160" cy="3254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093680" y="1179360"/>
            <a:ext cx="7253280" cy="489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5"/>
          <p:cNvSpPr/>
          <p:nvPr/>
        </p:nvSpPr>
        <p:spPr>
          <a:xfrm>
            <a:off x="2862360" y="1170000"/>
            <a:ext cx="0" cy="490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2"/>
          <p:cNvSpPr/>
          <p:nvPr/>
        </p:nvSpPr>
        <p:spPr>
          <a:xfrm flipV="1">
            <a:off x="2862360" y="803160"/>
            <a:ext cx="0" cy="32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1042920" y="846000"/>
            <a:ext cx="61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Symbol (Name)                  Example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1023840" y="1306440"/>
            <a:ext cx="64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(Selection)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                       </a:t>
            </a:r>
            <a:r>
              <a:rPr b="0" lang="el-GR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salary &gt; = 85000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Palatino Linotype"/>
              </a:rPr>
              <a:t>instructo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1128600" y="1111320"/>
            <a:ext cx="88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1"/>
          <p:cNvSpPr/>
          <p:nvPr/>
        </p:nvSpPr>
        <p:spPr>
          <a:xfrm>
            <a:off x="2862360" y="1574640"/>
            <a:ext cx="5478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2870280" y="1581120"/>
            <a:ext cx="54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Return rows of the input relation that satisfy the predic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16"/>
          <p:cNvSpPr/>
          <p:nvPr/>
        </p:nvSpPr>
        <p:spPr>
          <a:xfrm>
            <a:off x="1093680" y="1900080"/>
            <a:ext cx="724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8"/>
          <p:cNvSpPr/>
          <p:nvPr/>
        </p:nvSpPr>
        <p:spPr>
          <a:xfrm>
            <a:off x="2870280" y="2335320"/>
            <a:ext cx="547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9"/>
          <p:cNvSpPr/>
          <p:nvPr/>
        </p:nvSpPr>
        <p:spPr>
          <a:xfrm>
            <a:off x="1101600" y="2795760"/>
            <a:ext cx="724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0"/>
          <p:cNvSpPr/>
          <p:nvPr/>
        </p:nvSpPr>
        <p:spPr>
          <a:xfrm>
            <a:off x="1135080" y="1852560"/>
            <a:ext cx="88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1"/>
          <p:cNvSpPr/>
          <p:nvPr/>
        </p:nvSpPr>
        <p:spPr>
          <a:xfrm>
            <a:off x="1031760" y="2048040"/>
            <a:ext cx="648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(Projection)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                        </a:t>
            </a:r>
            <a:r>
              <a:rPr b="0" lang="el-GR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ID, salary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Palatino Linotype"/>
              </a:rPr>
              <a:t>instructo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2"/>
          <p:cNvSpPr/>
          <p:nvPr/>
        </p:nvSpPr>
        <p:spPr>
          <a:xfrm>
            <a:off x="2870280" y="2322360"/>
            <a:ext cx="547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Output specified attributes from all rows of the input relation.  Remove duplicate tuples from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5"/>
          <p:cNvSpPr/>
          <p:nvPr/>
        </p:nvSpPr>
        <p:spPr>
          <a:xfrm>
            <a:off x="2868480" y="3205080"/>
            <a:ext cx="5478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6"/>
          <p:cNvSpPr/>
          <p:nvPr/>
        </p:nvSpPr>
        <p:spPr>
          <a:xfrm>
            <a:off x="1100160" y="3673440"/>
            <a:ext cx="724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1"/>
          <p:cNvSpPr/>
          <p:nvPr/>
        </p:nvSpPr>
        <p:spPr>
          <a:xfrm>
            <a:off x="1057320" y="2735280"/>
            <a:ext cx="92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2"/>
          <p:cNvSpPr/>
          <p:nvPr/>
        </p:nvSpPr>
        <p:spPr>
          <a:xfrm>
            <a:off x="1036800" y="2908440"/>
            <a:ext cx="64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(Cartesian Product)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instructor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 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34"/>
          <p:cNvSpPr/>
          <p:nvPr/>
        </p:nvSpPr>
        <p:spPr>
          <a:xfrm>
            <a:off x="2874960" y="3209760"/>
            <a:ext cx="557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Output pairs of rows from the two input relations that have the same value on all attributes that have the same 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35"/>
          <p:cNvSpPr/>
          <p:nvPr/>
        </p:nvSpPr>
        <p:spPr>
          <a:xfrm>
            <a:off x="1093680" y="4400640"/>
            <a:ext cx="7259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36"/>
          <p:cNvSpPr/>
          <p:nvPr/>
        </p:nvSpPr>
        <p:spPr>
          <a:xfrm>
            <a:off x="1106640" y="5108400"/>
            <a:ext cx="724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7"/>
          <p:cNvSpPr/>
          <p:nvPr/>
        </p:nvSpPr>
        <p:spPr>
          <a:xfrm>
            <a:off x="1055520" y="3622680"/>
            <a:ext cx="92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8"/>
          <p:cNvSpPr/>
          <p:nvPr/>
        </p:nvSpPr>
        <p:spPr>
          <a:xfrm>
            <a:off x="1035000" y="3795840"/>
            <a:ext cx="64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(Union)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l-GR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name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Palatino Linotype"/>
              </a:rPr>
              <a:t>instructor) 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Palatino Linotype"/>
              </a:rPr>
              <a:t>∪  </a:t>
            </a:r>
            <a:r>
              <a:rPr b="0" lang="el-GR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name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Palatino Linotype"/>
              </a:rPr>
              <a:t>stu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9"/>
          <p:cNvSpPr/>
          <p:nvPr/>
        </p:nvSpPr>
        <p:spPr>
          <a:xfrm>
            <a:off x="2867040" y="4089240"/>
            <a:ext cx="557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Output the union of tuples from the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two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input re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42"/>
          <p:cNvSpPr/>
          <p:nvPr/>
        </p:nvSpPr>
        <p:spPr>
          <a:xfrm>
            <a:off x="2874960" y="4056120"/>
            <a:ext cx="547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4"/>
          <p:cNvSpPr/>
          <p:nvPr/>
        </p:nvSpPr>
        <p:spPr>
          <a:xfrm>
            <a:off x="1038240" y="5259240"/>
            <a:ext cx="64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(Natural Join)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instructor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⋈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 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7"/>
          <p:cNvSpPr/>
          <p:nvPr/>
        </p:nvSpPr>
        <p:spPr>
          <a:xfrm>
            <a:off x="2868480" y="5559480"/>
            <a:ext cx="557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Output pairs of rows from the two input relations that have the same value on all attributes that have the same 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0"/>
          <p:cNvSpPr/>
          <p:nvPr/>
        </p:nvSpPr>
        <p:spPr>
          <a:xfrm>
            <a:off x="1049400" y="5078520"/>
            <a:ext cx="92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7"/>
          <p:cNvSpPr/>
          <p:nvPr/>
        </p:nvSpPr>
        <p:spPr>
          <a:xfrm>
            <a:off x="1046160" y="4348080"/>
            <a:ext cx="92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8"/>
          <p:cNvSpPr/>
          <p:nvPr/>
        </p:nvSpPr>
        <p:spPr>
          <a:xfrm>
            <a:off x="1025640" y="4521240"/>
            <a:ext cx="64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(Set Difference)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l-GR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name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Palatino Linotype"/>
              </a:rPr>
              <a:t>instructor)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Palatino Linotype"/>
              </a:rPr>
              <a:t>--  </a:t>
            </a:r>
            <a:r>
              <a:rPr b="0" lang="el-GR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name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Palatino Linotype"/>
              </a:rPr>
              <a:t>stu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9"/>
          <p:cNvSpPr/>
          <p:nvPr/>
        </p:nvSpPr>
        <p:spPr>
          <a:xfrm>
            <a:off x="2873520" y="4805280"/>
            <a:ext cx="557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Output the set difference of tuples from the two input rel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42"/>
          <p:cNvSpPr/>
          <p:nvPr/>
        </p:nvSpPr>
        <p:spPr>
          <a:xfrm>
            <a:off x="2873520" y="4764240"/>
            <a:ext cx="547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35"/>
          <p:cNvSpPr/>
          <p:nvPr/>
        </p:nvSpPr>
        <p:spPr>
          <a:xfrm>
            <a:off x="2854440" y="5527800"/>
            <a:ext cx="5497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a Rel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5" name="Picture 3" descr="2"/>
          <p:cNvPicPr/>
          <p:nvPr/>
        </p:nvPicPr>
        <p:blipFill>
          <a:blip r:embed="rId1"/>
          <a:stretch/>
        </p:blipFill>
        <p:spPr>
          <a:xfrm>
            <a:off x="1442880" y="1927080"/>
            <a:ext cx="5291280" cy="3975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7043040" y="133344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colum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 flipH="1">
            <a:off x="3238560" y="1538280"/>
            <a:ext cx="388944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 flipH="1">
            <a:off x="4608360" y="1592280"/>
            <a:ext cx="255744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5819400" y="1565280"/>
            <a:ext cx="13208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990480" y="25225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r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H="1" flipV="1">
            <a:off x="6742080" y="2487240"/>
            <a:ext cx="37008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 flipH="1">
            <a:off x="6729120" y="2706840"/>
            <a:ext cx="369720" cy="1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>
            <a:off x="6717960" y="2717640"/>
            <a:ext cx="39204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 flipH="1">
            <a:off x="6729480" y="2727360"/>
            <a:ext cx="380880" cy="55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al Query Languag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al vs .non-procedural, or decla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” langu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ple relational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relational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3 pure languages are equivalent in computing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concentrate in this chapter on relational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urning-machine equiva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s of 6 basic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elect Operation – selection of rows (tuples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938160" y="107784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498840" y="1449360"/>
            <a:ext cx="1887480" cy="3876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1046160" y="3721680"/>
            <a:ext cx="188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30040" indent="-230040" algn="ctr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=B ^ D &gt; 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6040" y="918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oject Operation – selection of columns (Attributes) 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8000" y="1077840"/>
            <a:ext cx="244152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90720" y="4114800"/>
            <a:ext cx="7029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914400" y="3962520"/>
            <a:ext cx="7029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33520" y="4114800"/>
            <a:ext cx="7029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07880" y="4140360"/>
            <a:ext cx="7029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404640" y="365904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"/>
          <p:cNvPicPr/>
          <p:nvPr/>
        </p:nvPicPr>
        <p:blipFill>
          <a:blip r:embed="rId1"/>
          <a:stretch/>
        </p:blipFill>
        <p:spPr>
          <a:xfrm>
            <a:off x="2443320" y="1189080"/>
            <a:ext cx="2708280" cy="44305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0"/>
          <p:cNvSpPr/>
          <p:nvPr/>
        </p:nvSpPr>
        <p:spPr>
          <a:xfrm>
            <a:off x="723960" y="3597120"/>
            <a:ext cx="14684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nion of two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8120" y="1077480"/>
            <a:ext cx="6861240" cy="3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, 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98480" y="3238560"/>
            <a:ext cx="7029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2986200" y="1138320"/>
            <a:ext cx="235728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404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difference of two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8120" y="1077480"/>
            <a:ext cx="6861240" cy="3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798480" y="3220920"/>
            <a:ext cx="7029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  – 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921040" y="1211400"/>
            <a:ext cx="255420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4040" y="2340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intersection of two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98480" y="119988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,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874960" y="1628640"/>
            <a:ext cx="2657520" cy="3495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18360" y="5346720"/>
            <a:ext cx="24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5480" y="193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ing two relations -- Cartesian-produc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798480" y="107784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, 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798480" y="313524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2913120" y="1076400"/>
            <a:ext cx="24321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Sara</cp:lastModifiedBy>
  <cp:lastPrinted>2005-01-10T21:51:57Z</cp:lastPrinted>
  <dcterms:modified xsi:type="dcterms:W3CDTF">2016-04-02T15:56:27Z</dcterms:modified>
  <cp:revision>203</cp:revision>
  <dc:subject/>
  <dc:title>Chapter 1:  Introduction</dc:title>
</cp:coreProperties>
</file>