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</p:sldIdLst>
  <p:sldSz cx="9144000" cy="6858000"/>
  <p:notesSz cx="6616700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37124-1628-4893-B213-CC8AFC9408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C224A-448C-45D2-AE75-995708949A8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61567A-8315-40C3-A0E1-24F02EFC71C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78E5F0-CA5D-42BE-8304-51BCE512F27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59A812-DA85-40B4-8E6D-E4540F14BE2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1E22C8-D0D6-4667-B5A0-880D692F6D3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FDF493-CCB0-49FB-93AC-7289E89B48E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DDE2CC-52C9-40C5-B263-EE4300AF9F4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8E98BC-ABF1-4B3A-AA1B-09EB68FCA11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685BC3-FDF4-4E99-A818-01F614419C9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CBB82D-50EB-4D8A-B79B-E3BE6235B11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57EDFE-977A-431F-B19F-C4B438D33F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527C5-6F15-4ED8-9164-82CC548DE0F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5805BA-24C0-4658-972A-A5ABDD16D2B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08F0C9-6EAE-492D-B49E-6CFC080C651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D42628-70BC-4B47-8042-827944F0236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0E85A8-A839-4D82-A152-8FDAA41CB03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4A86C3-C622-40D5-AFCE-283EB5A56FC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0299FC-7B62-42FA-98CC-39B4A6FE91A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7DEB25-1825-4E57-909E-054FD0C0F69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00DA2A-D40C-4B91-B752-3527BF657EF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A28716-88E6-4E46-99E0-2B8C2BD93BF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5A356A-265B-4F3D-8289-C0AE032E8E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8B3E9-4231-4254-9F4F-4795C814993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7609E8-CF47-455D-BDDC-52F2F9DA0F7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79772-BC12-4546-823B-DBE36E9B53C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F3303-125B-4257-9130-F76AF28082C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A3402-D4E6-4066-9FC7-315D9272D04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61D05-C88A-4F48-8565-E380F6F3A86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67015-BE98-4610-B2EE-61137D63DDA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9455E-BF4C-44CB-9470-5553572E502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4B845-B1B1-4DC0-8BF5-FCFA88CC1F7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8ED9C-0591-4B21-B834-2C02A17A4FD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B01EF-58AA-4963-87DF-11F7686C69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6BCD-412F-4BF9-BCF9-3B5F4EFD9F6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1C0F5-4045-45DD-9864-0DD91F645EA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9A258-C589-4A4D-8E73-D5BEF48B3AD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A860D-2770-4A36-B855-1ECE81ECB94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B0D82B-C300-41CF-8807-BF00D3B4F5B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42E8F2-4571-4841-B82B-318569A4008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D63C45-C59F-4767-80FE-8DECA3B6AC2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F75076-A541-427A-9383-E816AFF0C21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DA36D7-9EE2-4E85-BC78-4865FB1647C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EE2C3C-C8B6-4AEF-9FB8-2F74AB74F59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BA4B53-2281-468D-883D-046BB568AE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A1CE-5DFE-4B6C-86D2-2A662D2124A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42A858-22D8-42A5-9AE1-8965838C5EE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516239-1CDE-4328-BD97-A02BC4A679B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55DB0A-5C3B-443A-89CD-B8E4FC87063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BCAB32-3BE6-4DF6-BAC4-3BD281391B4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11AAF8-06CA-4DB9-BCE1-AA501ABBDDC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08FF2C-4812-42BF-BFD0-3B1B5780B2A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92C3D8-3049-4294-A07B-9399CB1A09E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0EE31E-BC8F-458D-9B15-96C313D52F2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39428C-2820-49FF-9BF6-8423CA32412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7DA37D-D162-4297-B30F-F14F6EDDF7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0788-6725-4A2A-A3AE-F747703666F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4C842C-4AEF-412A-AE5F-96C9E356E05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E46514-750F-4177-98E5-1C950CAE269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1FF610-F595-4E05-B0F9-90569079B2F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A5F20E-3895-4982-AA0B-BE1D0830EC3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71BE59-49C4-420A-A6EC-5FD0BBC152C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02197E-D16A-4AA3-94B1-78CA802D98D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EA85FD-EFE8-4F8D-BF20-09A53681A7B3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A09A3-EF3A-4516-8E2F-BE3C5B9ED5F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DECB6-2D2D-4203-8649-DE9AAD9D9C6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C3868-33E1-4065-BA16-2606CE0C94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B322-EDC7-4EC0-B164-5FB936B8A583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B63FE-1D33-4790-B3D3-5085C7E1629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41874-9C4F-4FB2-A394-4622CB702B5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B29D4-6D34-452A-861E-36C3BE2EC73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FF394-7D84-4209-81C5-1F63A6D3FB4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6F0F8-189F-4C8E-BBC8-FC336F371CA6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8B0E5-D275-4BD6-89BC-306EB55C797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77BC5-1CB3-48B5-B3DF-EBB31D84D13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026D1-3E69-409A-9176-526BD75509F9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2B6D7-316A-4666-8F5D-C3C73D52797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1A7114-E116-459A-ABE3-824B9C0153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0166-69B1-4546-8A4F-1A2538A503B6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6B45D2-5D12-49BB-BD29-911546FF8962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107D94-5F43-47DB-98A7-E3D2E7143C6E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F8C011-BFF3-4E64-834D-BD5645AFB38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978D72-C890-4530-8E4C-37E11DE39F3A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372CA8-42BC-4040-82E0-3C183EE5268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827478-340E-4852-AFA6-AC166E76C154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75A8FC-3002-427E-9CAB-BEAA309B998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35DE66-D6C5-4A51-9D7B-EBA26EDA473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0680AA-E4E6-4508-A2D0-FB1DEE862F2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14FA36-F6BB-46A7-8CB2-134C0796D0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498E-55DA-4602-A28B-ABD93A89BBF7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FF3BF7-D6E3-4E10-B60F-2C9D319016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874C-B831-4E27-816B-5A0AF5A5F8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0929C-971F-4728-BAE1-BC67C744A0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A3C9-67D1-460C-A52B-5213B5ABCF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20B7-E906-42AE-A0AF-B5E11BD5A6C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B33D-1D7B-408F-98E2-54A8B5C5E9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F191-E992-4D81-BFE0-A8F8DF7773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5876-0F68-4963-B2D5-504EA8EC476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41C5D4-5F3B-41B7-9203-F7C677F747B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8912BD-BB84-4ECE-BD36-820CCDD19A0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9257B8-C9A1-4844-A241-AC29B1AD8A0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739F29-BD3A-46D7-8BD6-BC0BD81642D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5F5CA7-3212-46D0-A89F-4AFB57602E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5EB18-5560-4D91-87AA-59C2E45AB54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132F9A-4596-4DF3-993C-34D8D585D49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B3292-5142-400F-958F-BBAA6AD8FA5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B7BDD3-CF2F-4A28-8DA5-7E3BCF35251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581231-E2FB-49D0-8472-B17A1701225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079DC6-88E4-482C-81F9-7E8E7FC9876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55151-4C6D-4009-8365-298887C2AB3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83C16D-F4E4-43B2-8194-7D0129631D7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516B9-583F-4F85-9B56-5B39109DCD1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215F00-9F3E-4FF0-8801-FC0C7400656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A1A595-E4F7-43DC-94F5-C68CF99E1E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E340D-056E-4E05-8452-268ECC21725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B66EE-F1A1-425C-BD73-4BBF979755A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FDAADF-A404-4C35-8CFB-833DF699B11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FB0A2B-DD2C-4083-BE67-F65BBC01BE1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49CAFB-EC72-4591-911E-5E0A6AF8AE3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FEFF5B-555F-417C-A1FA-8B1AA8AD45A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A4C17-359C-4542-BEF1-BDD9D4695EF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49FD61-102F-4375-B5CF-3052AAC7096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FCA43D-B1A5-40AD-B9D8-40A459046A9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CC92D-4269-4456-B1F7-BA20458B29B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4BFBE-7115-4333-BADF-4F7359D2B8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7F595-969E-46AE-90CA-D3B2BE944CF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981A-CC3A-4109-96D4-A644404E879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9101-1A1F-47CB-9C68-9FF9261A4DF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74AB-E3FA-499A-8ED0-9EE97253B7D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1799-25C7-4A42-B9EA-45A87993421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7A9B-2E12-4DC6-A1B0-6C33DA1E738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AA949-9604-410D-8C0E-C497A70D160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C226-BFF2-4B5B-983D-47A3E895344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2A59-8FB4-45EE-990A-B9B31E928C6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7258-DF2D-4C1C-832D-CB0D7B51C07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6DB7-36C0-4576-AEC2-DEF794395F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1BB58-B7F9-4007-96D3-059B4C603B9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9389-7DA4-401A-9628-841C4AB5B69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5D117A-28DA-4655-B848-CD27BB6951C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23B830-1710-4D7A-83BE-DDE147964D4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A0460E-F132-4C34-B8D1-E16D6C673B8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3D947A-4650-4A41-A4CF-DE15C18E7EC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1E5D50-971A-4554-A187-2C655888D0B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69B62D-64EF-4E46-9073-15BF31A6ACF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BFB724-A0BA-4C1E-8051-A5144DD32FE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5D5B45-17F7-4A9E-8FED-884A8D694F2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93A54A-6840-400B-B3D9-EC7CA5CCBB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2C71B-950C-4878-8B8B-7E6A5B30503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5C598A-A59A-45DF-ABA3-A02EE95093A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E83335-73AC-4010-AE1D-40847500274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AC1F49-191E-4711-8E6A-4617A283F28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BFA27E-EB8E-422F-9B38-9C3CF635C4E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FCCD35-3495-4B0D-9DB9-C26B0829324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795EF1-69B0-41AD-871D-CF6DAA45F25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B6EC6C-A3F8-4AFA-BBCC-24D9D714CF6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9B5EF8-7462-424F-A075-5DCB62C9177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963468-D276-4BB1-BDD2-2C1F42B05EA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FF2828-524E-49EC-A08A-4E5B847E83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AA5FF-9782-4B08-A442-7A51BB025CB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34BA6B-00D7-43A1-A5FC-63FCBA23915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F65997-33BE-4C8D-8676-D9074C1BD36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CDCDFA-EB34-42F8-9AD0-4815A341608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05C545-3811-4EF2-896D-1420F0AB190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5F7A6A-7FCF-40F4-8B73-91D5D4C7002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66373-0DB0-47C7-9C33-76A74CAA53D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904AD-01C5-4E5D-B036-E1D1870527C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22050-8396-46A0-BB82-0506EE219D7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95A22-C9C3-443A-A166-7A2F38C6AC6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68F07-9D7E-41FA-9D8B-E258D25240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29C70-1B6F-4AC1-9A47-CA45EF8D635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191B5-A818-4552-AEAB-B58F5E84B7B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FD748-F87D-466C-9A0D-90BB99BCAF1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5F1F5-5AB5-473F-9B7B-91CE761956E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4F5F3-D58D-4F2A-A592-4B1CBABA6D2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0F24A-C23B-4861-A98D-559E6C5DCD7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16103-9BED-4C9D-B962-70AE3CC0143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94DD5-40EF-4754-A416-5803D21D1E1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1FE207-9766-47C7-8B8A-A555A3BD3F0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A857F0-AF1A-489C-B615-C4AE0B6D82E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4C07BC-899B-4231-8023-288C8C4109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C697-20E4-4AB7-960C-DA6C8662B6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364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a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a0"/>
                </a:solidFill>
                <a:latin typeface="Times New Roman"/>
              </a:rPr>
              <a:t>IT222 DataBase Princi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sldNum" idx="1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9AD8-4D87-4618-9A08-7C992CA12B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sldNum" idx="12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4E39-5F2B-4DE4-84A5-90A50F32BD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sldNum" idx="1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C559-CAA1-4BE1-A519-0BF6D8855C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Num" idx="14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56E2-8740-49A2-AE53-B6F236D1A4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sldNum" idx="15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C94D-EFB6-416F-8822-A20C6B0146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sldNum" idx="1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65D9-2885-4F9B-A007-05387412D3A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B29F-F819-4360-8959-C0AE10FBC48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99D0-3D76-4DC5-B92F-580FE67927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5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F549-00B3-4FF7-B266-67E9F71D3C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6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FC9D-5C21-439A-958C-EF00E3E68E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7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327A-5F44-4B62-94DF-31835EE9E3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8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A5D9-3BCC-4166-9F67-A32800BCF1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9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2FE6-8580-46AD-BECD-E42A650F7C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sldNum" idx="10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D456-5248-4127-BBBB-193DA5BB75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5D3F-4F49-41A4-83DC-B51928BA1261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Chapter 2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atabase Environme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21ef"/>
                </a:solidFill>
                <a:latin typeface="Times New Roman"/>
              </a:rPr>
              <a:t>Schemas, Mappings, and Instance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29" name="Slide Number Placeholder 4"/>
          <p:cNvSpPr/>
          <p:nvPr/>
        </p:nvSpPr>
        <p:spPr>
          <a:xfrm>
            <a:off x="65530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922D-0236-4E39-8224-04F7AF8ECB93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Rectangle 3"/>
          <p:cNvSpPr/>
          <p:nvPr/>
        </p:nvSpPr>
        <p:spPr>
          <a:xfrm>
            <a:off x="38088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Mapping 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is the process of transforming requests and results between  the Internal, Conceptual &amp; External level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lvl="1" marL="635040" indent="-17784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grams refer to an external schema, and are mapped by the DBMS to the internal schema for execu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35040" indent="-17784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lvl="1" marL="635040" indent="-17784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ata extracted from the internal DBMS level is reformatted to match the user’s external vie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66"/>
                </a:solidFill>
                <a:uFillTx/>
                <a:latin typeface="Times New Roman"/>
              </a:rPr>
              <a:t>Two types of mapping: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en-US" sz="1900" spc="-1" strike="noStrike">
                <a:solidFill>
                  <a:srgbClr val="000066"/>
                </a:solidFill>
                <a:latin typeface="Times New Roman"/>
              </a:rPr>
              <a:t>External / Conceptual mapping.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en-US" sz="1900" spc="-1" strike="noStrike">
                <a:solidFill>
                  <a:srgbClr val="000066"/>
                </a:solidFill>
                <a:latin typeface="Times New Roman"/>
              </a:rPr>
              <a:t>Conceptual / Internal mapping.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buClr>
                <a:srgbClr val="0000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21ef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lvl="2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33" name="Content Placeholder 13"/>
          <p:cNvGrpSpPr/>
          <p:nvPr/>
        </p:nvGrpSpPr>
        <p:grpSpPr>
          <a:xfrm>
            <a:off x="457200" y="2174760"/>
            <a:ext cx="4040280" cy="3311640"/>
            <a:chOff x="457200" y="2174760"/>
            <a:chExt cx="4040280" cy="3311640"/>
          </a:xfrm>
        </p:grpSpPr>
        <p:sp>
          <p:nvSpPr>
            <p:cNvPr id="634" name="Rectangle 15"/>
            <p:cNvSpPr/>
            <p:nvPr/>
          </p:nvSpPr>
          <p:spPr>
            <a:xfrm>
              <a:off x="3702240" y="2174760"/>
              <a:ext cx="795240" cy="7160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635" name="Picture 6" descr="fig02_01"/>
            <p:cNvPicPr/>
            <p:nvPr/>
          </p:nvPicPr>
          <p:blipFill>
            <a:blip r:embed="rId1"/>
            <a:srcRect l="0" t="18243" r="19610" b="0"/>
            <a:stretch/>
          </p:blipFill>
          <p:spPr>
            <a:xfrm>
              <a:off x="457200" y="2255400"/>
              <a:ext cx="3775320" cy="323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37" name="Content Placeholder 16" descr="fig01_02"/>
          <p:cNvPicPr/>
          <p:nvPr/>
        </p:nvPicPr>
        <p:blipFill>
          <a:blip r:embed="rId2"/>
          <a:stretch/>
        </p:blipFill>
        <p:spPr>
          <a:xfrm>
            <a:off x="4950000" y="2174760"/>
            <a:ext cx="3431880" cy="3951360"/>
          </a:xfrm>
          <a:prstGeom prst="rect">
            <a:avLst/>
          </a:prstGeom>
          <a:ln w="0">
            <a:noFill/>
          </a:ln>
        </p:spPr>
      </p:pic>
      <p:sp>
        <p:nvSpPr>
          <p:cNvPr id="638" name="Slide Number Placeholder 10"/>
          <p:cNvSpPr/>
          <p:nvPr/>
        </p:nvSpPr>
        <p:spPr>
          <a:xfrm>
            <a:off x="65530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63F8-CC1F-4E13-96CA-F7D159DF4568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5304-E6E0-4BFA-B3B4-264DE4773244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 Independenc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Logical Data Independen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Refers to immunity of external schemas to changes in conceptual schema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Conceptual schema changes (e.g. addition/removal of entities)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Should not require changes to external schema or rewrites of application programs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0606-423D-44DC-8D36-ED7051361B29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 Independenc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hysical Data Independen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Refers to immunity of conceptual schema to changes in the internal schema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Internal schema changes (e.g. using different file organizations, storage structures/devices)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Should not require change to conceptual or external schema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E56D-E732-4BEB-A05C-16F75F5F37A5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 Independence and the ANSI-SPARC Three-Level Architectur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pic>
        <p:nvPicPr>
          <p:cNvPr id="647" name="Picture 6" descr="C02NF03"/>
          <p:cNvPicPr/>
          <p:nvPr/>
        </p:nvPicPr>
        <p:blipFill>
          <a:blip r:embed="rId1"/>
          <a:stretch/>
        </p:blipFill>
        <p:spPr>
          <a:xfrm>
            <a:off x="539640" y="1557360"/>
            <a:ext cx="7993080" cy="4103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D594-5D47-440D-ADD6-32C7554735B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 Language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ata Definition Language (DDL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llows the DBA or user to describe and name entities, attributes, and relationships required for the application together with any associated integrity and security constraints.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DDL is a descriptive language for defining and constructing the database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llows users to specify the data types and structures and the constraints on the data to be stored in the DB. 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DDL compiler generates the meta-data that is stored in the data dictionar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DC23-044A-499B-9680-9749175513B1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 Language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728120" cy="463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ata Manipulation Language (DML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Provides basic data manipulation operations on data held in the database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DML is a language for retrieving and updating (insert, delete, &amp; modify) the data in the DB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Times New Roman"/>
              </a:rPr>
              <a:t>Types of DML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Procedural Language (3GL):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user specifies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what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data is required and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how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to get those data(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allows user to tell system exactly how to manipulate data.) Ex:Jav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4" marL="2343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Nonprocedural Language(4GL):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user specifies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what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data is required without specifying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how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to get those data(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allows user to state what data is needed rather than how it is to be retrieved.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) Ex:SQ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0077-5E5C-481E-BC7A-28C3B82FE5B3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 Languag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728120" cy="463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Both DDL and DML are usually not considered distinct languages. Rather, they are included in a comprehensive integrated langu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r example,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QL relational database language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s a comprehensive DB language which represents a combination of DDL and DM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3774-93D1-4F61-8467-AD409185E36E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 Language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728120" cy="463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BMS have a facility for embedding DDL &amp; DML (sub-languages) in a High-Level Language (COBOL, C, C++ or Java), which in this case is considered a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host languag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Rectangle 6"/>
          <p:cNvSpPr/>
          <p:nvPr/>
        </p:nvSpPr>
        <p:spPr>
          <a:xfrm>
            <a:off x="1752480" y="3887640"/>
            <a:ext cx="1524240" cy="14479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Rectangle 7"/>
          <p:cNvSpPr/>
          <p:nvPr/>
        </p:nvSpPr>
        <p:spPr>
          <a:xfrm>
            <a:off x="4876920" y="4497480"/>
            <a:ext cx="12189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M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Rectangle 8"/>
          <p:cNvSpPr/>
          <p:nvPr/>
        </p:nvSpPr>
        <p:spPr>
          <a:xfrm>
            <a:off x="1981080" y="4497480"/>
            <a:ext cx="990720" cy="38088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all to D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Text Box 9"/>
          <p:cNvSpPr/>
          <p:nvPr/>
        </p:nvSpPr>
        <p:spPr>
          <a:xfrm>
            <a:off x="1675080" y="350676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,C++,Lisp,.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Line 10"/>
          <p:cNvSpPr/>
          <p:nvPr/>
        </p:nvSpPr>
        <p:spPr>
          <a:xfrm>
            <a:off x="2971800" y="4649760"/>
            <a:ext cx="1905120" cy="2286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Line 12"/>
          <p:cNvSpPr/>
          <p:nvPr/>
        </p:nvSpPr>
        <p:spPr>
          <a:xfrm>
            <a:off x="1981080" y="426888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Line 14"/>
          <p:cNvSpPr/>
          <p:nvPr/>
        </p:nvSpPr>
        <p:spPr>
          <a:xfrm>
            <a:off x="1981080" y="503064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AutoShape 15"/>
          <p:cNvSpPr/>
          <p:nvPr/>
        </p:nvSpPr>
        <p:spPr>
          <a:xfrm>
            <a:off x="7086600" y="4421160"/>
            <a:ext cx="533520" cy="838080"/>
          </a:xfrm>
          <a:prstGeom prst="flowChartMagneticDisk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Rectangle 16"/>
          <p:cNvSpPr/>
          <p:nvPr/>
        </p:nvSpPr>
        <p:spPr>
          <a:xfrm>
            <a:off x="1752480" y="5335560"/>
            <a:ext cx="1524240" cy="685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al Va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memor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Line 17"/>
          <p:cNvSpPr/>
          <p:nvPr/>
        </p:nvSpPr>
        <p:spPr>
          <a:xfrm flipV="1">
            <a:off x="3276720" y="5106960"/>
            <a:ext cx="1600200" cy="45720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Line 18"/>
          <p:cNvSpPr/>
          <p:nvPr/>
        </p:nvSpPr>
        <p:spPr>
          <a:xfrm>
            <a:off x="6095880" y="487836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Text Box 19"/>
          <p:cNvSpPr/>
          <p:nvPr/>
        </p:nvSpPr>
        <p:spPr>
          <a:xfrm>
            <a:off x="1752480" y="3952800"/>
            <a:ext cx="1600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plication Program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Line 20"/>
          <p:cNvSpPr/>
          <p:nvPr/>
        </p:nvSpPr>
        <p:spPr>
          <a:xfrm>
            <a:off x="1981080" y="442116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Line 14"/>
          <p:cNvSpPr/>
          <p:nvPr/>
        </p:nvSpPr>
        <p:spPr>
          <a:xfrm>
            <a:off x="1981080" y="518328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7B03-0D75-4562-8180-EE237EDD017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 Model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42560" y="1676520"/>
            <a:ext cx="819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ntegrated collection of concepts for describing data, relationships between data, and constraints on the data in an organiz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315360" indent="-31536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o represent data in an understandable way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ata Model comprises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315360" indent="-31536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a structural part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315360" indent="-31536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a manipulative part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315360" indent="-31536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possibly a set of integrity rul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7078-2D7E-458D-9618-D8FED4D65B5F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Chapter 2 - Objective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Purpose of three-level database architectur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Contents of external, conceptual, and internal level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Purpose of external/conceptual and  conceptual/internal mapping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Meaning of logical and physical data independenc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Distinction between DDL and DM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A classification of data model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Purpose/importance of conceptual modelling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Typical functions and services a DBMS should provid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ategories of Data Model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nceptual data models (Object-based):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s the construction of an enterprise’s information that is independent of implementation details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320" indent="-2055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Also called entity-based or object-based data model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ogical data models (Record_based):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s the logical description of an enterprise’s information with  high level description of the implement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571320" indent="-2055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Also called record-based data model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hysical data models: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s the physical description of how data is stored in the computer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Slide Number Placeholder 4"/>
          <p:cNvSpPr/>
          <p:nvPr/>
        </p:nvSpPr>
        <p:spPr>
          <a:xfrm>
            <a:off x="65530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01AC-B746-44AB-83D0-DF67AA983614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ategories of Data Model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81" name="Slide Number Placeholder 3"/>
          <p:cNvSpPr/>
          <p:nvPr/>
        </p:nvSpPr>
        <p:spPr>
          <a:xfrm>
            <a:off x="65530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D145-073C-4569-9411-F73619A7AF79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AutoShape 3"/>
          <p:cNvSpPr/>
          <p:nvPr/>
        </p:nvSpPr>
        <p:spPr>
          <a:xfrm>
            <a:off x="4038480" y="4876920"/>
            <a:ext cx="1447920" cy="685800"/>
          </a:xfrm>
          <a:prstGeom prst="flowChart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Physical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mode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AutoShape 4"/>
          <p:cNvSpPr/>
          <p:nvPr/>
        </p:nvSpPr>
        <p:spPr>
          <a:xfrm>
            <a:off x="4038480" y="3429000"/>
            <a:ext cx="1447920" cy="685800"/>
          </a:xfrm>
          <a:prstGeom prst="flowChart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Logica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mode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Line 5"/>
          <p:cNvSpPr/>
          <p:nvPr/>
        </p:nvSpPr>
        <p:spPr>
          <a:xfrm>
            <a:off x="4724280" y="4114800"/>
            <a:ext cx="0" cy="7621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AutoShape 6"/>
          <p:cNvSpPr/>
          <p:nvPr/>
        </p:nvSpPr>
        <p:spPr>
          <a:xfrm>
            <a:off x="4038480" y="1752480"/>
            <a:ext cx="1447920" cy="685800"/>
          </a:xfrm>
          <a:prstGeom prst="flowChart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Conceptua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mode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Line 7"/>
          <p:cNvSpPr/>
          <p:nvPr/>
        </p:nvSpPr>
        <p:spPr>
          <a:xfrm>
            <a:off x="4800600" y="2438280"/>
            <a:ext cx="0" cy="9907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Text Box 19"/>
          <p:cNvSpPr/>
          <p:nvPr/>
        </p:nvSpPr>
        <p:spPr>
          <a:xfrm>
            <a:off x="814320" y="4846680"/>
            <a:ext cx="229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Hardware depende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Software depende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Text Box 20"/>
          <p:cNvSpPr/>
          <p:nvPr/>
        </p:nvSpPr>
        <p:spPr>
          <a:xfrm>
            <a:off x="792000" y="3352680"/>
            <a:ext cx="249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Hardware independe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Software depende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Text Box 21"/>
          <p:cNvSpPr/>
          <p:nvPr/>
        </p:nvSpPr>
        <p:spPr>
          <a:xfrm>
            <a:off x="792000" y="1752480"/>
            <a:ext cx="249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Hardware independe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Software independe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1493-1247-4722-8D8F-9D2F7336A01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 Model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728120" cy="470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onceptual data models (Object-based)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Entity-Relationship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Function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Object-Orien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14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Logical data models (Record_based):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 algn="just">
              <a:lnSpc>
                <a:spcPct val="14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Relational Data Mod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Network Data Mod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Hierarchical Data Mod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14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hysical Data Model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A70D-3731-4276-9E6D-BB5CA20A6955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cord-Based Data Models</a:t>
            </a:r>
            <a:br>
              <a:rPr sz="3200"/>
            </a:b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lational Data Model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pic>
        <p:nvPicPr>
          <p:cNvPr id="695" name="Picture 4" descr="C02NF04"/>
          <p:cNvPicPr/>
          <p:nvPr/>
        </p:nvPicPr>
        <p:blipFill>
          <a:blip r:embed="rId1"/>
          <a:stretch/>
        </p:blipFill>
        <p:spPr>
          <a:xfrm>
            <a:off x="755640" y="1557360"/>
            <a:ext cx="5832360" cy="4692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B7F2-F3F6-4633-80DD-8C26332C859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cord-Based Data Models</a:t>
            </a:r>
            <a:br>
              <a:rPr sz="3200"/>
            </a:b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Network Data Model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pic>
        <p:nvPicPr>
          <p:cNvPr id="698" name="Picture 5" descr="C02NF05"/>
          <p:cNvPicPr/>
          <p:nvPr/>
        </p:nvPicPr>
        <p:blipFill>
          <a:blip r:embed="rId1"/>
          <a:stretch/>
        </p:blipFill>
        <p:spPr>
          <a:xfrm>
            <a:off x="395280" y="1628640"/>
            <a:ext cx="8209080" cy="352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25F9-8EFF-4DBB-A666-A4C5773C102E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cord-Based Data Models</a:t>
            </a:r>
            <a:br>
              <a:rPr sz="3200"/>
            </a:b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Hierarchical Data Model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pic>
        <p:nvPicPr>
          <p:cNvPr id="701" name="Picture 5" descr="C02NF06"/>
          <p:cNvPicPr/>
          <p:nvPr/>
        </p:nvPicPr>
        <p:blipFill>
          <a:blip r:embed="rId1"/>
          <a:stretch/>
        </p:blipFill>
        <p:spPr>
          <a:xfrm>
            <a:off x="468360" y="1484280"/>
            <a:ext cx="7920000" cy="432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7CC9-3F46-4419-9C27-3BB79B6FF4D2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Functions of a DBM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ata Storage, Retrieval, and Updat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 User-Accessible Catalog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ransaction Support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ncurrency Control Servic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covery Servic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F0D4-6C27-4CDD-B18A-507E50A17D49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Functions of a DBM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uthorization Servic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upport for Data Communic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ntegrity Servic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ervices to Promote Data Independenc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Utility Servic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9DB5-07AC-48C3-BC89-5FFDC41D420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Objectives of Three-Level Architectur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ll users should be able to access same data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 change in a user</a:t>
            </a:r>
            <a:r>
              <a:rPr b="1" lang="ja-JP" sz="2800" spc="-1" strike="noStrike">
                <a:solidFill>
                  <a:srgbClr val="000066"/>
                </a:solidFill>
                <a:latin typeface="Times New Roman"/>
              </a:rPr>
              <a:t>’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 view should not affect other users’ view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Users should not need to know physical database storage detail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E9F4-0AEC-45E7-AEC1-22D161160D30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Objectives of Three-Level Architectur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BA should be able to change database storage structures without affecting the users</a:t>
            </a:r>
            <a:r>
              <a:rPr b="1" lang="ja-JP" sz="2800" spc="-1" strike="noStrike">
                <a:solidFill>
                  <a:srgbClr val="000066"/>
                </a:solidFill>
                <a:latin typeface="Times New Roman"/>
              </a:rPr>
              <a:t>’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view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nternal structure of database should be unaffected by changes to physical aspects of storag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BA should be able to change conceptual structure of database without affecting all user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7149-4900-4579-93C2-CDA954B4D351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NSI-SPARC Three-Level Architectur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pic>
        <p:nvPicPr>
          <p:cNvPr id="615" name="Picture 6" descr="C02NF01"/>
          <p:cNvPicPr/>
          <p:nvPr/>
        </p:nvPicPr>
        <p:blipFill>
          <a:blip r:embed="rId1"/>
          <a:stretch/>
        </p:blipFill>
        <p:spPr>
          <a:xfrm>
            <a:off x="971640" y="1484280"/>
            <a:ext cx="6192720" cy="4952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FA22-8ACC-435B-9B4A-57FBCC60CF6E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NSI-SPARC Three-Level Architectur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xternal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Users</a:t>
            </a:r>
            <a:r>
              <a:rPr b="0" lang="ja-JP" sz="2400" spc="-1" strike="noStrike">
                <a:solidFill>
                  <a:srgbClr val="000066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 view of the database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Describes that part of database that is relevant to a particular user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The way perceived by end user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nceptual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Community view of the database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Describes 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what </a:t>
            </a: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data is stored in database and relationships among the data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The way perceived by the DBA &amp; programmer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BC91-3624-400F-92C9-AB2663E6263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NSI-SPARC Three-Level Architectur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nternal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Physical representation of the database on the computer. 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Describes 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how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 the data is stored in the database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The way perceived by the DBMS &amp; O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9D9A-F94E-43F2-8B0E-14F4ACDAAD52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ifferences between Three Level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pic>
        <p:nvPicPr>
          <p:cNvPr id="624" name="Picture 1030" descr="C02NF02"/>
          <p:cNvPicPr/>
          <p:nvPr/>
        </p:nvPicPr>
        <p:blipFill>
          <a:blip r:embed="rId1"/>
          <a:stretch/>
        </p:blipFill>
        <p:spPr>
          <a:xfrm>
            <a:off x="468360" y="1484280"/>
            <a:ext cx="7848720" cy="4824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21ef"/>
                </a:solidFill>
                <a:latin typeface="Times New Roman"/>
              </a:rPr>
              <a:t>Schemas versus Instance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94920" y="162864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atabase Schema: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he description of the database.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It rarely change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Includes descriptions of the database structure, data types, and the constraints on the database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atabase Instance (snapshot):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he actual data stored in a database at a particular moment in time.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Changes rapidl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The concepts of Schema &amp; Instances corresponds to Types &amp; Values in programming languages, respectivel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Slide Number Placeholder 4"/>
          <p:cNvSpPr/>
          <p:nvPr/>
        </p:nvSpPr>
        <p:spPr>
          <a:xfrm>
            <a:off x="65530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77E8-8415-41AE-9033-593E109EAD84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09T10:09:10Z</dcterms:created>
  <dc:creator>Thomas Connolly and Carolyn Begg</dc:creator>
  <dc:description>Transparencies for Chapter 2 of textbook
Database Systems: A Practical Approach to Design, Implementation, and Management</dc:description>
  <dc:language>en-US</dc:language>
  <cp:lastModifiedBy>Mashael</cp:lastModifiedBy>
  <cp:lastPrinted>1997-01-27T16:12:02Z</cp:lastPrinted>
  <dcterms:modified xsi:type="dcterms:W3CDTF">2013-09-04T19:57:59Z</dcterms:modified>
  <cp:revision>100</cp:revision>
  <dc:subject>Database Systems</dc:subject>
  <dc:title>Chapter 2</dc:title>
</cp:coreProperties>
</file>