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</p:sldIdLst>
  <p:sldSz cx="9144000" cy="6858000"/>
  <p:notesSz cx="6616700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CCB73-C990-4AF8-BEC6-692680511A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0A0F3-B6CE-4E9F-ADE7-B8AB9AFE9CD0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2370FE-FFE1-4013-82ED-D5EF6AEEA0E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B2C828-72E3-4A58-AC07-881838AA2DC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DC006D-372B-44F1-82C1-2206E249561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AE9783-0D17-4E30-AA20-4884A0747B0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5590E5-72B9-4087-A15E-34B0F195C0A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DA4A19-F649-4723-86BB-AEC7C17761AA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333297-534D-4231-8CF6-D49D052FF6C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62956C-79C6-47CB-B522-16202599C1A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AF16DB-A1D8-4DA4-873F-B3B205BB209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F13B67-7329-4E72-AD0D-2277D85FE9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F1F38-0B3C-43D6-A6EB-BA41930EF046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7C6C0C-8A37-46B9-B979-C7CE2DAE2792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8994CE-A6C3-47C6-B014-F7FEE735F0C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76FEF0-1990-45EF-8E50-0D9B77A2DDD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8F80C1-5355-491A-B8B9-BAFB4E7C42A5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85410E-29B7-416C-BB75-70518EFBD306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FD0705-76BA-488F-B443-544E7BC9C14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8436C8-6C26-4CEB-A74D-3E9155720A5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4AD60F-5184-4163-BF82-874EBD05E6DB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754837-468B-4F1A-87C0-435B9847ED13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2492E7-6038-4833-9C65-90C016E56D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47222-BC21-4169-B00E-7AAD2EFDC519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08A295-BF2F-4DD2-883C-93B781811223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88978-78E2-448A-BEF7-94EE482428EE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FD1A9-4D0F-4509-B4F7-5624E7D29866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DE6B5-C386-42B4-8901-A49E6F017A3D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79D12-4997-459A-9087-0AC5080F070A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E1DB9-D31B-474C-85AD-9953401722D5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739F8-0386-44E9-B819-FC5E2549C231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6F96F-E3E6-418A-B224-C6728B91F71C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00C32-CE63-42A7-B978-21A8BF9436B1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88107-AEC3-4D49-8F30-86987ECD7E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E984-63D7-413D-BE8B-74D26E9F80ED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24369-8C37-4A82-BAA3-D835C002C490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2079A-AA1E-46CA-996D-F3554CE76612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65558-799B-4535-84F5-06AC21ABB8BB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229468-A1BC-4BC6-A10D-EC64495C472C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E80817F-4990-4479-B7BF-9EEEAB2ABAAD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290C3B6-B4E4-41E2-B8B4-F653EC04DE5A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BC04C47-DD52-40AF-AE8E-E25B1093927A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14F909B-2660-4321-9C03-5E04522BFC7C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150D34C-F555-4A34-B790-2B487123FE25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AA31600-E776-4F52-BCC6-A7D746071E9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D034-3852-4DFD-B44A-B4ED5D50C1BE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37BBDC8-4FF2-4583-A11C-163E6C126C0B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D2B11D-CDDD-47D5-A23C-74CA18731247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68FE92B-02A5-4B53-ABCA-207D11925B79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94FF6F0-CBD3-438D-94F5-EF716DAC2D58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F953075-67F9-4ED5-B4B0-312FA49B7821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D83A84-96CB-4A7B-B722-053369267F68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C64EFC-CAB1-4798-9EDE-1D80CE4F4BBE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F7C55F-3BC8-473E-9F5E-F03C21882E83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9F1DB2-9321-4FB4-B23D-933D12B9FFB9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8AFC85-67F1-451F-B407-36E16CE31EF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F2BC-E626-4EA2-B5E6-3C1FF3454361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4FF886-CA2B-4A60-A91A-EBD434D74670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8A3CEC-97EA-408B-942B-3BAAE3DCF8FC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11F1F7-DABE-4364-99B5-1D788BFACB93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E46D62-B5E4-42A8-AD40-BAAFDA7636B0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B8E2DD-CF5E-4FDA-81A9-762703C9C154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932F53-135D-4CD6-A63B-C1439C97B8C8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C5B9D7-D113-4177-8469-E97F5D3E0F02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5A607-ECB3-4020-9038-886C3E45FD8C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C38F94-1E2F-44FD-AE95-3D6EA16B9EBB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3D4237-ED75-4380-9145-8109731C0A1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4990-76CC-44D9-8087-D143C17E2A60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5729A-A522-4940-B2B4-9128278EBE16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4E72EB-C43E-4D94-947B-4787090D9C04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06467C-9CB8-4BBC-9BA4-EE836E153717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74424C-E1B2-4026-8B02-B1D8F1A42B2E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C2A73-32D1-401C-811E-C6FE8A078BDF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B7CE19-2427-494F-8A30-2F0A872A89FA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99E92D-C515-4B7A-B591-8D1AB526B707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88505-BC17-4962-B638-039303BE844B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48730-7456-487A-BB08-ED20FD6D5DAC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2F961A8-C89B-4DC1-BF3D-924E5E984FA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469D-057D-4DF5-86EF-A0BA6095F63D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A9CDB59-E383-4F7E-8EE2-F99DF828F784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693CBE0-B369-47CB-B861-FCF9ABC88B09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A2B9303-6306-46C1-98CB-4A63EEC3860A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21A793E-2D61-4F30-99F8-F605CBFB482B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3EBC060-2503-44BC-8E24-EB0D19144EE5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E0CADF2-7C6B-4B29-B1F0-08F33E3EF921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5D8E0A6-4782-4FDB-8B0A-084E9D1CF2C6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E0762B2-7BCF-4335-8210-376993B2F752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BA205B7-45A9-47EF-81C2-712BC35EBFA9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43D0E50-FC8D-458E-AF2F-81018E1CC36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059C-DB5B-4022-8B27-4D5207527EE1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889FAE2-BDBB-4088-971F-3030EAFAE2E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87C9-4994-425C-98C1-B8032F35D3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F31AA-B678-4A1F-8B0F-EE0C3B91E3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94AE-417B-49FB-A3D1-FC998677CF5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1E05-2FDA-44A9-ADA3-CFA0F6AC58E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367B-33FA-4496-AE92-F7071638FAC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9CED-393C-4E77-8123-A9DC4FE89BF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66B6-A1A8-46D0-BA01-EBD4D1A1941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3A1E91-E448-4CBC-8F2F-1F758DB3252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9E9377-1203-4E47-B1F4-136EF203578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4C1FE6-BCD8-48CA-9927-4B7A0005722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B4E9AD-BC75-49D3-B643-836DD7BFBEB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A87DCF-A6D6-4429-BCBC-945E502DC8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D4181-72CE-43E9-867D-E94B1FE281A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685DF5-3650-485E-A9AD-74B85213BF8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A6BA56-A5CC-4908-BC9F-1F8475B4583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D29019-4FBA-4F35-B263-D3868BE75C6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6C8DF3-AF6B-4FBC-90C9-6D509D5F401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B345A3-16FB-4ABB-9E45-B52E7D197AA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99EC93-3E0D-4250-B509-B30B9F6F2E7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DA70F1-44B4-4E37-894B-F6488D4464C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B129D6-F303-4AAE-A553-5B5866E29F1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90C98C-D636-4CFF-9D95-825495C2936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D1536D-DFB0-459C-B7B9-86DB8FD2E9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D3076-9639-44E9-8810-3B3C419B57E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8E84DE-082C-47F8-A0C5-963D0381F5A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211237-04CF-4588-8133-F1E93C08300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4C6EE8-6AC4-47FB-AD39-156C8CF8560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147734-B399-48B4-A332-2D58E14BC92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3C2938-BA41-478A-A336-EBFE42118E6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D718C4-4AD6-4E4B-823A-0C010489A34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F3961F-1351-4863-9B3A-197914531E5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0387C7-3895-4E20-BFA1-93A21E512ED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CC893E-2E72-4486-913B-FD18A66C078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88D12-B9D7-4B06-A8E2-FE35F46DD4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6DF83-687C-4367-A613-A61B9D1C39F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D18D3-6FD0-4AD6-BB73-B373F6B9D56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1CFA8-591C-49AD-A7FC-76C9315E47B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5AA6D-DECA-446F-8FDE-3020A37477C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E430C-68C2-4638-85F4-822F9F9E8FF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9D858-F6BA-4136-B78A-165E9AD33C4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B217A-4839-402A-A36A-38C4BA76E78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FBD0F-5EDA-4F47-A14C-42235A89EA7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EF13C-FABA-4623-91F7-BFDA4A94F27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7D01D-E6DD-4158-8B4E-790730DFB57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78E4B-13ED-4F55-9F88-F149D44F6C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711B6-DE4D-46FC-A009-C36160253CA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2D82B-1D8A-4A73-A3E6-2D09792617D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1EF7B6-2E4F-419C-A61B-8233B347FAD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1FAFD9-F429-4AFF-88FA-958F52BB5AE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403900-1E19-48A7-B743-AB0C6A6D4FC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7BC211-A4B6-4AC0-8F2C-FEC06C35A20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AB272F-1ECA-4D22-B932-1AD727A6168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6DE234-1972-4091-8289-D46CAC98638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95CC97-515E-4F3F-9D77-1F7CD10E5F7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64EF23-157B-4981-B094-4DEEA1085C5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827F83-A34C-4B63-9AAA-B70006D455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D217D-A404-4FCF-8AC8-82E5B39E72E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1387F0-68E9-4469-8EDB-B51C14E67BD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DBCC53-AC83-4060-8A30-A1878928E64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6D6C9D-48E2-466D-9DA7-3C3474672E2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D599E4-1FEC-4279-9962-9EDA1259E57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031BCD-F291-4A8B-ADA2-68632CC71ED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7DBF36-3989-4FA1-B7C3-1BB87CB5D7D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8DFDA5-AF51-46CB-92F3-5DD238BAA26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ADD916-EDA5-4E56-8C0C-71AB2507AD2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1DC4B0-57F3-4DDF-964B-C2C57575512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2E4CD3-A3DC-467E-8A8A-A28E298113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A2434-2058-4D63-A82F-1DEA79477F9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F5C7AE-CDB1-4B34-BE07-F4527C42701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D87026-F166-4C5E-8793-DDE85E83CD7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3E77C0-9088-4A1B-8E8D-3CBD0ADFBD1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D2B420-C0AC-4B51-85BA-9AA8F87573D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3DA722-1565-4E3F-BAF1-3EC2E175A45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404D5-71D6-431B-92C0-1DA2CC9F5DF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CCE6D-853C-4952-921A-FE68E9E9C43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A309F-367B-4A69-8B32-03C1EE925B6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67114-184A-44DD-B193-EDE750B2A35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06EAC-4960-4729-9248-B7BA2A3887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3224E-CB3C-476A-96B7-A37EFA3431A5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292B4-64DD-4B47-BDB1-946D7BCAFA8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B3C39-5F48-4562-84A6-C4C999EE605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FD4B0-7E53-4D3E-A19B-1F8A461E191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C3F92-6E5A-47E4-9F8F-672F7C64B5B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4004D-09A2-42CD-B440-DB4D36BB522C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47E1B-C4E3-413B-AFD8-3F23C6E6D73E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C3838-6A02-4C88-9183-141DDFF979B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7D171B-3AD5-4B7C-918B-C5DD3D1F902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9295F3-3781-43C9-8510-C9AE1C4432CC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79FE5A-6F68-49D5-96F0-BCA7229BBD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21ef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9108B-6897-41CE-B7B6-9B637750988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364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a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a0"/>
                </a:solidFill>
                <a:latin typeface="Times New Roman"/>
              </a:rPr>
              <a:t>IT222 DataBase Princi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21ef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sldNum" idx="11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7E9B9-326A-4203-B24C-79161DFA7F9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21ef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sldNum" idx="12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C1A9C-5D87-4B99-A3EC-5DA0521290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21ef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sldNum" idx="13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CB9A2-A950-4EA7-8A7E-83C3E75F500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21ef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sldNum" idx="14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81816-4DF8-4E0D-A707-CC908FE07CE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21ef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sldNum" idx="15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E4C62-3704-4223-8A6E-CEF07C22A86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sldNum" idx="1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E358B-83D9-4AB9-B1B7-4E823B8CDD5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541FA-B368-4B76-984F-7E451A5F6FA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21ef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2AB6E-608E-4369-B39F-629909BAEF5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21ef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5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9CB9E-14A5-49D9-A124-2415E2D02D7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21ef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Num" idx="6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5A4A2-3219-4D94-B0C5-FDC0536CCAE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21ef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sldNum" idx="7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DCE66-8A36-41F8-8DC7-036118DB440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21ef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Num" idx="8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6F211-D579-483F-9DD1-1D7748A5886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21ef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sldNum" idx="9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81A07-78F2-431F-A429-4CC5D38D357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21ef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sldNum" idx="10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7E7CF-9B04-45C4-86E3-209D2334E4C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CC49B-DBB5-4DB9-B3E7-31F9290356F5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Chapter 2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atabase Environmen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21ef"/>
                </a:solidFill>
                <a:latin typeface="Times New Roman"/>
              </a:rPr>
              <a:t>Schemas, Mappings, and Instances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29" name="Slide Number Placeholder 4"/>
          <p:cNvSpPr/>
          <p:nvPr/>
        </p:nvSpPr>
        <p:spPr>
          <a:xfrm>
            <a:off x="655308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D6274-1027-49DF-BD24-F8225C532A98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0" name="Rectangle 3"/>
          <p:cNvSpPr/>
          <p:nvPr/>
        </p:nvSpPr>
        <p:spPr>
          <a:xfrm>
            <a:off x="38088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Mapping 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is the process of transforming requests and results between  the Internal, Conceptual &amp; External levels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lvl="1" marL="635040" indent="-17784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ograms refer to an external schema, and are mapped by the DBMS to the internal schema for executio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35040" indent="-17784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lvl="1" marL="635040" indent="-17784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Data extracted from the internal DBMS level is reformatted to match the user’s external view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66"/>
                </a:solidFill>
                <a:uFillTx/>
                <a:latin typeface="Times New Roman"/>
              </a:rPr>
              <a:t>Two types of mapping: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000066"/>
                </a:solidFill>
                <a:latin typeface="Times New Roman"/>
              </a:rPr>
              <a:t>– </a:t>
            </a:r>
            <a:r>
              <a:rPr b="0" lang="en-US" sz="1900" spc="-1" strike="noStrike">
                <a:solidFill>
                  <a:srgbClr val="000066"/>
                </a:solidFill>
                <a:latin typeface="Times New Roman"/>
              </a:rPr>
              <a:t>External / Conceptual mapping.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000066"/>
                </a:solidFill>
                <a:latin typeface="Times New Roman"/>
              </a:rPr>
              <a:t>– </a:t>
            </a:r>
            <a:r>
              <a:rPr b="0" lang="en-US" sz="1900" spc="-1" strike="noStrike">
                <a:solidFill>
                  <a:srgbClr val="000066"/>
                </a:solidFill>
                <a:latin typeface="Times New Roman"/>
              </a:rPr>
              <a:t>Conceptual / Internal mapping.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76"/>
              </a:spcBef>
              <a:buClr>
                <a:srgbClr val="0000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21ef"/>
                </a:solidFill>
                <a:latin typeface="Times New Roman"/>
              </a:rPr>
              <a:t>Example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/>
          </a:bodyPr>
          <a:p>
            <a:pPr lvl="2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33" name="Content Placeholder 13"/>
          <p:cNvGrpSpPr/>
          <p:nvPr/>
        </p:nvGrpSpPr>
        <p:grpSpPr>
          <a:xfrm>
            <a:off x="457200" y="2174760"/>
            <a:ext cx="4040280" cy="3311640"/>
            <a:chOff x="457200" y="2174760"/>
            <a:chExt cx="4040280" cy="3311640"/>
          </a:xfrm>
        </p:grpSpPr>
        <p:sp>
          <p:nvSpPr>
            <p:cNvPr id="634" name="Rectangle 15"/>
            <p:cNvSpPr/>
            <p:nvPr/>
          </p:nvSpPr>
          <p:spPr>
            <a:xfrm>
              <a:off x="3702240" y="2174760"/>
              <a:ext cx="795240" cy="7160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635" name="Picture 6" descr="fig02_01"/>
            <p:cNvPicPr/>
            <p:nvPr/>
          </p:nvPicPr>
          <p:blipFill>
            <a:blip r:embed="rId1"/>
            <a:srcRect l="0" t="18243" r="19610" b="0"/>
            <a:stretch/>
          </p:blipFill>
          <p:spPr>
            <a:xfrm>
              <a:off x="457200" y="2255400"/>
              <a:ext cx="3775320" cy="3231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637" name="Content Placeholder 16" descr="fig01_02"/>
          <p:cNvPicPr/>
          <p:nvPr/>
        </p:nvPicPr>
        <p:blipFill>
          <a:blip r:embed="rId2"/>
          <a:stretch/>
        </p:blipFill>
        <p:spPr>
          <a:xfrm>
            <a:off x="4950000" y="2174760"/>
            <a:ext cx="3431880" cy="3951360"/>
          </a:xfrm>
          <a:prstGeom prst="rect">
            <a:avLst/>
          </a:prstGeom>
          <a:ln w="0">
            <a:noFill/>
          </a:ln>
        </p:spPr>
      </p:pic>
      <p:sp>
        <p:nvSpPr>
          <p:cNvPr id="638" name="Slide Number Placeholder 10"/>
          <p:cNvSpPr/>
          <p:nvPr/>
        </p:nvSpPr>
        <p:spPr>
          <a:xfrm>
            <a:off x="655308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F2B1C-9D23-40E2-BECF-04A816A92BD2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62950-B3A6-4080-8774-45D902E0848D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ata Independence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Logical Data Independenc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Refers to immunity of external schemas to changes in conceptual schema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Conceptual schema changes (e.g. addition/removal of entities)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Should not require changes to external schema or rewrites of application programs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5A043-DB19-4EAD-980C-8723DE12AC09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ata Independence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Physical Data Independenc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Refers to immunity of conceptual schema to changes in the internal schema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Internal schema changes (e.g. using different file organizations, storage structures/devices)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Should not require change to conceptual or external schema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28818-535D-4369-930A-45BD333F2E01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ata Independence and the ANSI-SPARC Three-Level Architecture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pic>
        <p:nvPicPr>
          <p:cNvPr id="647" name="Picture 6" descr="C02NF03"/>
          <p:cNvPicPr/>
          <p:nvPr/>
        </p:nvPicPr>
        <p:blipFill>
          <a:blip r:embed="rId1"/>
          <a:stretch/>
        </p:blipFill>
        <p:spPr>
          <a:xfrm>
            <a:off x="539640" y="1557360"/>
            <a:ext cx="7993080" cy="4103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3AAFB-97DD-4E6F-A509-5ABA3B778A87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atabase Languages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ata Definition Language (DDL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llows the DBA or user to describe and name entities, attributes, and relationships required for the application together with any associated integrity and security constraints.</a:t>
            </a: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DDL is a descriptive language for defining and constructing the database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Allows users to specify the data types and structures and the constraints on the data to be stored in the DB. 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DDL compiler generates the meta-data that is stored in the data dictionary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C6FF6-E464-447B-96FF-1A8C2C25B491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atabase Languages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728120" cy="463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ata Manipulation Language (DML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Provides basic data manipulation operations on data held in the database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DML is a language for retrieving and updating (insert, delete, &amp; modify) the data in the DB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Times New Roman"/>
              </a:rPr>
              <a:t>Types of DML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Procedural Language (3GL):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user specifies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what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data is required and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how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to get those data(</a:t>
            </a: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allows user to tell system exactly how to manipulate data.) Ex:Jav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4" marL="2343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Nonprocedural Language(4GL):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user specifies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what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data is required without specifying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how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to get those data(</a:t>
            </a: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allows user to state what data is needed rather than how it is to be retrieved.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) Ex:SQL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A43D9-5E89-4A67-BA17-E13D55F006ED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atabase Languag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728120" cy="463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Both DDL and DML are usually not considered distinct languages. Rather, they are included in a comprehensive integrated langua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r example,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QL relational database language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is a comprehensive DB language which represents a combination of DDL and DM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F888E-4B0E-4AA3-98C1-2B30BF888240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atabase Languages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728120" cy="463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DBMS have a facility for embedding DDL &amp; DML (sub-languages) in a High-Level Language (COBOL, C, C++ or Java), which in this case is considered a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host languag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0" name="Rectangle 6"/>
          <p:cNvSpPr/>
          <p:nvPr/>
        </p:nvSpPr>
        <p:spPr>
          <a:xfrm>
            <a:off x="1752480" y="3887640"/>
            <a:ext cx="1524240" cy="14479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Rectangle 7"/>
          <p:cNvSpPr/>
          <p:nvPr/>
        </p:nvSpPr>
        <p:spPr>
          <a:xfrm>
            <a:off x="4876920" y="4497480"/>
            <a:ext cx="121896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BM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" name="Rectangle 8"/>
          <p:cNvSpPr/>
          <p:nvPr/>
        </p:nvSpPr>
        <p:spPr>
          <a:xfrm>
            <a:off x="1981080" y="4497480"/>
            <a:ext cx="990720" cy="38088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all to D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3" name="Text Box 9"/>
          <p:cNvSpPr/>
          <p:nvPr/>
        </p:nvSpPr>
        <p:spPr>
          <a:xfrm>
            <a:off x="1675080" y="3506760"/>
            <a:ext cx="166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,C++,Lisp,.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4" name="Line 10"/>
          <p:cNvSpPr/>
          <p:nvPr/>
        </p:nvSpPr>
        <p:spPr>
          <a:xfrm>
            <a:off x="2971800" y="4649760"/>
            <a:ext cx="1905120" cy="2286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5" name="Line 12"/>
          <p:cNvSpPr/>
          <p:nvPr/>
        </p:nvSpPr>
        <p:spPr>
          <a:xfrm>
            <a:off x="1981080" y="4268880"/>
            <a:ext cx="990720" cy="0"/>
          </a:xfrm>
          <a:prstGeom prst="line">
            <a:avLst/>
          </a:prstGeom>
          <a:ln w="93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6" name="Line 14"/>
          <p:cNvSpPr/>
          <p:nvPr/>
        </p:nvSpPr>
        <p:spPr>
          <a:xfrm>
            <a:off x="1981080" y="5030640"/>
            <a:ext cx="990720" cy="0"/>
          </a:xfrm>
          <a:prstGeom prst="line">
            <a:avLst/>
          </a:prstGeom>
          <a:ln w="93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7" name="AutoShape 15"/>
          <p:cNvSpPr/>
          <p:nvPr/>
        </p:nvSpPr>
        <p:spPr>
          <a:xfrm>
            <a:off x="7086600" y="4421160"/>
            <a:ext cx="533520" cy="838080"/>
          </a:xfrm>
          <a:prstGeom prst="flowChartMagneticDisk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8" name="Rectangle 16"/>
          <p:cNvSpPr/>
          <p:nvPr/>
        </p:nvSpPr>
        <p:spPr>
          <a:xfrm>
            <a:off x="1752480" y="5335560"/>
            <a:ext cx="1524240" cy="6858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al Var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memory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9" name="Line 17"/>
          <p:cNvSpPr/>
          <p:nvPr/>
        </p:nvSpPr>
        <p:spPr>
          <a:xfrm flipV="1">
            <a:off x="3276720" y="5106960"/>
            <a:ext cx="1600200" cy="45720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0" name="Line 18"/>
          <p:cNvSpPr/>
          <p:nvPr/>
        </p:nvSpPr>
        <p:spPr>
          <a:xfrm>
            <a:off x="6095880" y="4878360"/>
            <a:ext cx="990720" cy="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1" name="Text Box 19"/>
          <p:cNvSpPr/>
          <p:nvPr/>
        </p:nvSpPr>
        <p:spPr>
          <a:xfrm>
            <a:off x="1752480" y="3952800"/>
            <a:ext cx="16002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pplication Program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2" name="Line 20"/>
          <p:cNvSpPr/>
          <p:nvPr/>
        </p:nvSpPr>
        <p:spPr>
          <a:xfrm>
            <a:off x="1981080" y="4421160"/>
            <a:ext cx="990720" cy="0"/>
          </a:xfrm>
          <a:prstGeom prst="line">
            <a:avLst/>
          </a:prstGeom>
          <a:ln w="93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3" name="Line 14"/>
          <p:cNvSpPr/>
          <p:nvPr/>
        </p:nvSpPr>
        <p:spPr>
          <a:xfrm>
            <a:off x="1981080" y="5183280"/>
            <a:ext cx="990720" cy="0"/>
          </a:xfrm>
          <a:prstGeom prst="line">
            <a:avLst/>
          </a:prstGeom>
          <a:ln w="93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41D77-5337-4033-A399-473674582973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ata Model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42560" y="1676520"/>
            <a:ext cx="819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Integrated collection of concepts for describing data, relationships between data, and constraints on the data in an organization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315360" indent="-31536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To represent data in an understandable way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ata Model comprises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315360" indent="-31536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a structural part;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315360" indent="-31536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a manipulative part;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315360" indent="-31536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possibly a set of integrity rule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CD8A3-883B-42CC-BF61-51A451C8EB22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Chapter 2 - Objectives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87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Purpose of three-level database architectur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Contents of external, conceptual, and internal level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Purpose of external/conceptual and  conceptual/internal mapping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Meaning of logical and physical data independenc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Distinction between DDL and DML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A classification of data model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Purpose/importance of conceptual modelling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Typical functions and services a DBMS should provid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21ef"/>
                </a:solidFill>
                <a:latin typeface="Times New Roman"/>
              </a:rPr>
              <a:t>Categories of Data Models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onceptual data models (Object-based):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s the construction of an enterprise’s information that is independent of implementation details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320" indent="-20556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Also called entity-based or object-based data model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3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Logical data models (Record_based):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s the logical description of an enterprise’s information with  high level description of the implementatio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571320" indent="-20556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Also called record-based data model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hysical data models: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s the physical description of how data is stored in the computer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9" name="Slide Number Placeholder 4"/>
          <p:cNvSpPr/>
          <p:nvPr/>
        </p:nvSpPr>
        <p:spPr>
          <a:xfrm>
            <a:off x="655308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F6D40-BE52-436A-BBD5-5246DDE669B2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21ef"/>
                </a:solidFill>
                <a:latin typeface="Times New Roman"/>
              </a:rPr>
              <a:t>Categories of Data Models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81" name="Slide Number Placeholder 3"/>
          <p:cNvSpPr/>
          <p:nvPr/>
        </p:nvSpPr>
        <p:spPr>
          <a:xfrm>
            <a:off x="655308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777BA-D73C-40A5-89F6-8B9C4CD1C87A}" type="slidenum">
              <a:rPr b="0" lang="ar-SA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2" name="AutoShape 3"/>
          <p:cNvSpPr/>
          <p:nvPr/>
        </p:nvSpPr>
        <p:spPr>
          <a:xfrm>
            <a:off x="4038480" y="4876920"/>
            <a:ext cx="1447920" cy="685800"/>
          </a:xfrm>
          <a:prstGeom prst="flowChartProcess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Physical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model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3" name="AutoShape 4"/>
          <p:cNvSpPr/>
          <p:nvPr/>
        </p:nvSpPr>
        <p:spPr>
          <a:xfrm>
            <a:off x="4038480" y="3429000"/>
            <a:ext cx="1447920" cy="685800"/>
          </a:xfrm>
          <a:prstGeom prst="flowChartProcess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Logical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model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4" name="Line 5"/>
          <p:cNvSpPr/>
          <p:nvPr/>
        </p:nvSpPr>
        <p:spPr>
          <a:xfrm>
            <a:off x="4724280" y="4114800"/>
            <a:ext cx="0" cy="7621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5" name="AutoShape 6"/>
          <p:cNvSpPr/>
          <p:nvPr/>
        </p:nvSpPr>
        <p:spPr>
          <a:xfrm>
            <a:off x="4038480" y="1752480"/>
            <a:ext cx="1447920" cy="685800"/>
          </a:xfrm>
          <a:prstGeom prst="flowChartProcess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Conceptual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model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6" name="Line 7"/>
          <p:cNvSpPr/>
          <p:nvPr/>
        </p:nvSpPr>
        <p:spPr>
          <a:xfrm>
            <a:off x="4800600" y="2438280"/>
            <a:ext cx="0" cy="9907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7" name="Text Box 19"/>
          <p:cNvSpPr/>
          <p:nvPr/>
        </p:nvSpPr>
        <p:spPr>
          <a:xfrm>
            <a:off x="814320" y="4846680"/>
            <a:ext cx="229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Hardware dependen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Software dependen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8" name="Text Box 20"/>
          <p:cNvSpPr/>
          <p:nvPr/>
        </p:nvSpPr>
        <p:spPr>
          <a:xfrm>
            <a:off x="792000" y="3352680"/>
            <a:ext cx="249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Hardware independen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Software dependen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9" name="Text Box 21"/>
          <p:cNvSpPr/>
          <p:nvPr/>
        </p:nvSpPr>
        <p:spPr>
          <a:xfrm>
            <a:off x="792000" y="1752480"/>
            <a:ext cx="249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Hardware independen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Software independen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F251B-2CA9-4B33-81E2-FDD152833EE8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ata Models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728120" cy="470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onceptual data models (Object-based)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Entity-Relationship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Semantic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Functiona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Object-Orient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 algn="just">
              <a:lnSpc>
                <a:spcPct val="14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Logical data models (Record_based):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13160" indent="-274320" algn="just">
              <a:lnSpc>
                <a:spcPct val="14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Relational Data Mod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Network Data Mod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Hierarchical Data Mod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 algn="just">
              <a:lnSpc>
                <a:spcPct val="14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Physical Data Model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8A341-78D3-4139-A232-E05801DCC346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Record-Based Data Models</a:t>
            </a:r>
            <a:br>
              <a:rPr sz="3200"/>
            </a:b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Relational Data Model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pic>
        <p:nvPicPr>
          <p:cNvPr id="695" name="Picture 4" descr="C02NF04"/>
          <p:cNvPicPr/>
          <p:nvPr/>
        </p:nvPicPr>
        <p:blipFill>
          <a:blip r:embed="rId1"/>
          <a:stretch/>
        </p:blipFill>
        <p:spPr>
          <a:xfrm>
            <a:off x="755640" y="1557360"/>
            <a:ext cx="5832360" cy="4692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53D35-239F-4AE8-9EC3-0A1B6A5D8768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Record-Based Data Models</a:t>
            </a:r>
            <a:br>
              <a:rPr sz="3200"/>
            </a:b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Network Data Model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pic>
        <p:nvPicPr>
          <p:cNvPr id="698" name="Picture 5" descr="C02NF05"/>
          <p:cNvPicPr/>
          <p:nvPr/>
        </p:nvPicPr>
        <p:blipFill>
          <a:blip r:embed="rId1"/>
          <a:stretch/>
        </p:blipFill>
        <p:spPr>
          <a:xfrm>
            <a:off x="395280" y="1628640"/>
            <a:ext cx="8209080" cy="3529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110EB-BD23-44F2-A84F-A0A8D0249DFD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Record-Based Data Models</a:t>
            </a:r>
            <a:br>
              <a:rPr sz="3200"/>
            </a:b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Hierarchical Data Model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pic>
        <p:nvPicPr>
          <p:cNvPr id="701" name="Picture 5" descr="C02NF06"/>
          <p:cNvPicPr/>
          <p:nvPr/>
        </p:nvPicPr>
        <p:blipFill>
          <a:blip r:embed="rId1"/>
          <a:stretch/>
        </p:blipFill>
        <p:spPr>
          <a:xfrm>
            <a:off x="468360" y="1484280"/>
            <a:ext cx="7920000" cy="4321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735BC-7D89-43F7-ADFD-3B1CC130939C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Functions of a DBMS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ata Storage, Retrieval, and Updat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 User-Accessible Catalog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Transaction Support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Concurrency Control Service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Recovery Service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0561E-D0FF-44DB-930E-9461975B786E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Functions of a DBMS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uthorization Service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Support for Data Communication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Integrity Service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Services to Promote Data Independenc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Utility Service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D336A-0513-45E4-BB88-183CFF4B4561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Objectives of Three-Level Architecture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ll users should be able to access same data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 change in a user</a:t>
            </a:r>
            <a:r>
              <a:rPr b="1" lang="ja-JP" sz="2800" spc="-1" strike="noStrike">
                <a:solidFill>
                  <a:srgbClr val="000066"/>
                </a:solidFill>
                <a:latin typeface="Times New Roman"/>
              </a:rPr>
              <a:t>’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s view should not affect other users’ view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Users should not need to know physical database storage detail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096D8-5780-4833-9619-20DC62482FFF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Objectives of Three-Level Architecture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BA should be able to change database storage structures without affecting the users</a:t>
            </a:r>
            <a:r>
              <a:rPr b="1" lang="ja-JP" sz="2800" spc="-1" strike="noStrike">
                <a:solidFill>
                  <a:srgbClr val="000066"/>
                </a:solidFill>
                <a:latin typeface="Times New Roman"/>
              </a:rPr>
              <a:t>’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view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Internal structure of database should be unaffected by changes to physical aspects of storag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BA should be able to change conceptual structure of database without affecting all user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20786-5297-4682-A4EC-4EE38D3251AD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ANSI-SPARC Three-Level Architecture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pic>
        <p:nvPicPr>
          <p:cNvPr id="615" name="Picture 6" descr="C02NF01"/>
          <p:cNvPicPr/>
          <p:nvPr/>
        </p:nvPicPr>
        <p:blipFill>
          <a:blip r:embed="rId1"/>
          <a:stretch/>
        </p:blipFill>
        <p:spPr>
          <a:xfrm>
            <a:off x="971640" y="1484280"/>
            <a:ext cx="6192720" cy="4952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21F33-4C58-4722-B9D4-4E24C72F4C8C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ANSI-SPARC Three-Level Architecture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External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Users</a:t>
            </a:r>
            <a:r>
              <a:rPr b="0" lang="ja-JP" sz="2400" spc="-1" strike="noStrike">
                <a:solidFill>
                  <a:srgbClr val="000066"/>
                </a:solidFill>
                <a:latin typeface="Times New Roman"/>
              </a:rPr>
              <a:t>’</a:t>
            </a: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 view of the database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Describes that part of database that is relevant to a particular user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The way perceived by end user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Conceptual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Community view of the database.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Describes </a:t>
            </a: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what </a:t>
            </a: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data is stored in database and relationships among the data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The way perceived by the DBA &amp; programmer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1708A-0A4A-43C0-881C-C0F675D40B79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ANSI-SPARC Three-Level Architecture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Internal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Physical representation of the database on the computer. 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Describes 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how</a:t>
            </a: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 the data is stored in the database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The way perceived by the DBMS &amp; O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2AEC1-5266-420D-8A4C-BE1A214F0C00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ifferences between Three Levels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pic>
        <p:nvPicPr>
          <p:cNvPr id="624" name="Picture 1030" descr="C02NF02"/>
          <p:cNvPicPr/>
          <p:nvPr/>
        </p:nvPicPr>
        <p:blipFill>
          <a:blip r:embed="rId1"/>
          <a:stretch/>
        </p:blipFill>
        <p:spPr>
          <a:xfrm>
            <a:off x="468360" y="1484280"/>
            <a:ext cx="7848720" cy="4824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21ef"/>
                </a:solidFill>
                <a:latin typeface="Times New Roman"/>
              </a:rPr>
              <a:t>Schemas versus Instances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394920" y="162864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atabase Schema: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The description of the database.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It rarely change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Includes descriptions of the database structure, data types, and the constraints on the database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atabase Instance (snapshot):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The actual data stored in a database at a particular moment in time.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Changes rapidly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The concepts of Schema &amp; Instances corresponds to Types &amp; Values in programming languages, respectively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7" name="Slide Number Placeholder 4"/>
          <p:cNvSpPr/>
          <p:nvPr/>
        </p:nvSpPr>
        <p:spPr>
          <a:xfrm>
            <a:off x="655308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B2ED9-E463-47FF-91FA-A01CEDF76ED6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2-09T10:09:10Z</dcterms:created>
  <dc:creator>Thomas Connolly and Carolyn Begg</dc:creator>
  <dc:description>Transparencies for Chapter 2 of textbook
Database Systems: A Practical Approach to Design, Implementation, and Management</dc:description>
  <dc:language>en-US</dc:language>
  <cp:lastModifiedBy>Mashael</cp:lastModifiedBy>
  <cp:lastPrinted>1997-01-27T16:12:02Z</cp:lastPrinted>
  <dcterms:modified xsi:type="dcterms:W3CDTF">2013-09-04T19:57:59Z</dcterms:modified>
  <cp:revision>100</cp:revision>
  <dc:subject>Database Systems</dc:subject>
  <dc:title>Chapter 2</dc:title>
</cp:coreProperties>
</file>