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2382-DA29-4986-94B7-BD8D45C4D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BD9E-F9E3-4409-B005-F519BD448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2BD6-09EA-4672-9B88-5B8137BAD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7B70-33AB-4975-BFDA-5ED152508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F589-7054-48EC-91F1-305184BCC7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8849-BC7A-47C6-ADB3-9C265A4246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94D4-791A-48CC-AD40-F54C423889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8588-A604-4AAC-88BD-F01CB31FE0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87BC-5732-45EC-90FA-6979A00E44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1FB6-4091-4E00-9965-E373C5ECB3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AD48-C824-4868-B87E-052BF9B7F8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6162-C20F-47D7-90B2-8C86CA2A9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0046-5648-43C0-B858-B2AE4ED62B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BCC1-D34B-49C8-898C-4F121064BD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50D8-3232-41F5-8483-EF6BB00F87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707A-5AF0-4FD1-9661-EEFC5BBB78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C11E-96D3-45D5-B20D-FB278A65F5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FF2-FB90-49A4-8CD9-5987B29E49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D93-2697-4054-B671-736955CED9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4BA-81BF-44F8-87A9-CD3750AD24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444-CB9A-4136-AD35-393A678E7E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963-D8B6-4D46-AC65-49FA17506A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C4E7-6A80-4E53-BC0D-33C0A73ADC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353-CE86-4DF8-B94D-EBEBE4C3BB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039-25CE-4930-B0F0-7EC0949155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37A-F552-4F79-A8D5-AD2300F9B0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C43-4046-4783-868C-3B47BF80CF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27C-87FE-4270-811A-54F938FFCF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953-A37D-4484-A8DF-5399794A7F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0CF-9791-49CB-9823-B43E16CE23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4B2C8-0C93-4F5D-9E85-0E34489B0F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2E630-1D62-4541-84C7-5C4104A5A4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3B12D-553B-432E-8B05-382AAF709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0687-C228-41BD-982E-AE1767640D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6DC04-E1BA-45C6-BB3C-B8CBCF2B79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07EF5-1470-43B5-902E-63E98130D5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83C2C-F3D1-45C2-861C-3DB56EC6F0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99CC2-6388-4436-8951-DC8BA67C91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68D03-90E9-4412-BA2D-429D14446A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634B8-ABF0-4FB5-8E6C-9C68D2C93C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15AFF-FA11-48BF-8343-FA3DBD7DD8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DDEDC-A747-4F93-9803-C3741DDC19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12497-E87E-47F1-A280-5EEEA8359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F98F-54B0-447C-B347-45202AE79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9167-F595-41ED-8421-8946E7255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ACAB-13DC-4328-81B2-AB4F4F880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F2B2-BD5D-409A-9B92-1B7FFE437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9793-57F1-40A4-A842-664155617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CF65-1650-4FC4-BC43-D6C1168464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C784-00E6-43A0-B209-4607BA95B6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F70-DE91-481C-87AF-5B89DF77C25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167D-7C67-44A4-A583-45E2FAA11F7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Relational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D0C7-77B4-449B-8072-23E1E2684BD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tuple is distinct; there are no duplicate tup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attributes has no significa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tuples has no significance, theoreticall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731E-13CD-4D01-A26C-63476C6E636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57000"/>
            <a:ext cx="815328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n attribute, or set of attributes, that uniquely identifies a tuple within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n each tuple of R, values of K uniquely identify that tuple (uniquenes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 proper subset of K has the uniqueness property (irreducibility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29DB-47C5-4BFE-9E2D-568698DD18C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277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 selected to identify tuples uniquely within 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ternate Key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s that are not selected to be primary key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oreign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ttribute, or set of attributes, within one relation that matches candidate key of some (possibly same)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5C99-C9BA-47DC-9254-C80C1F5AA56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484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value for an attribute that is currently unknown or not applicable for tupl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Deals with incomplete or exceptional dat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the absence of a value and is not the same as zero or spaces, which are value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7892-FE39-4D5A-A1ED-D43BE08DB06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4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erminology of relational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ables are used to represent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nection between mathematical relations and relations in the relational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ies of database rel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o identify CK, PK, and FK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1E01-3CCC-4B8A-BB45-3311DBCDE37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18920"/>
            <a:ext cx="772776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is a table with columns and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Only applies to logical structure of the database, not the physical structur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is a named column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omain is the set of allowable values for one or more attribut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C1E4-1BBD-4607-8470-CF9DE6A7796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uple is a row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is the number of attribut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is the number of tupl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al Database is a collection of normalized relations with distinct relation nam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5A71-AB3A-448D-AE36-2A80528C67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stances of  Branch and Staf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8" name="Picture 4" descr="C03NF01"/>
          <p:cNvPicPr/>
          <p:nvPr/>
        </p:nvPicPr>
        <p:blipFill>
          <a:blip r:embed="rId1"/>
          <a:stretch/>
        </p:blipFill>
        <p:spPr>
          <a:xfrm>
            <a:off x="611280" y="1484280"/>
            <a:ext cx="5761080" cy="5037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D828-3BA6-479A-BA2C-8CE9347C721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Attribute Domai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2" name="Picture 5" descr="C03NF02"/>
          <p:cNvPicPr/>
          <p:nvPr/>
        </p:nvPicPr>
        <p:blipFill>
          <a:blip r:embed="rId1"/>
          <a:stretch/>
        </p:blipFill>
        <p:spPr>
          <a:xfrm>
            <a:off x="539640" y="1700280"/>
            <a:ext cx="7728120" cy="3168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FC3B-6374-44B9-B7FF-34DB4488CBA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lternative Terminology for Relational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8" descr="C03NT01"/>
          <p:cNvPicPr/>
          <p:nvPr/>
        </p:nvPicPr>
        <p:blipFill>
          <a:blip r:embed="rId1"/>
          <a:stretch/>
        </p:blipFill>
        <p:spPr>
          <a:xfrm>
            <a:off x="539640" y="1916280"/>
            <a:ext cx="7728120" cy="2641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CBD1-A28C-4953-85C9-80E1908E88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46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amed relation defined by a set of attribute and domain name pai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1(A1,A2,A3,....,A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al database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t of relation schemas, each with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{R1,R2,R3, ... , R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5E0-3F21-4E21-ADA5-C3CBE182AF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 name is distinct from all other relation names in relatio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cell of relation contains exactly one atomic (single) valu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attribute has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alues of an attribute are all from the same domai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3 of textbook
Database Systems: A Practical Approach to Design, Implementation and Management</dc:description>
  <dc:language>en-US</dc:language>
  <cp:lastModifiedBy>Sara</cp:lastModifiedBy>
  <cp:lastPrinted>1998-07-28T13:47:34Z</cp:lastPrinted>
  <dcterms:modified xsi:type="dcterms:W3CDTF">2016-02-07T16:04:54Z</dcterms:modified>
  <cp:revision>54</cp:revision>
  <dc:subject>Database Systems</dc:subject>
  <dc:title>Chapter 3</dc:title>
</cp:coreProperties>
</file>