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A627-88D8-4157-8836-47FCE50F6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EE13-A80F-4E49-AFC4-5388FBA30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BA532-599C-4A2A-ACA7-87E6F7498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4287-DC96-4BAB-914D-310ADB08D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D7B0-FD50-47CD-AFF5-82CB0F074F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A05E-BF5A-45A3-B48A-66F99DF185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CD22-EF99-4EAA-B09C-D9FC85052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1684-F00E-4313-90EF-B823D823A3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8B142-2EA9-4483-8398-6DADC5ADAE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ABFD4-540B-4786-A065-D1D2689F27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EC96D-C92D-48C9-B105-E27689EDC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0A36-785D-4C98-A24C-464BE5DCD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1645-A2C4-45C0-B1A6-DC5C8EC672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0680-620D-4800-A9BE-35D10D31E6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97AD-0B62-4D77-81B6-F9EF913317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963E0-3220-45F5-8302-74767F4018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B339E-486F-4828-B176-9F74198DE6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8BF-2D62-4C30-A9F5-2D4527BEB5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B25-69BA-42EE-8CFA-F84AC70704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AB5-D3B5-447D-A71D-BB8AFA6259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2A5-F217-4AE1-BBF7-170CB27D46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D08-1835-4B21-842C-25F9E9D45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2F6E-7DEF-49D2-AEFA-B0D39E9D59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7E2-C173-4625-9134-9A051CB4E6B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C16-5AE0-4CAD-B28A-206972B5CF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953-D825-465A-9F81-A7DCA7A9A7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35F2-21F2-47F4-9D05-409C917DA1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C90-41C6-444A-9949-DAFF98BC90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837-D850-4553-8111-D7AC473436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6CF-FC55-4871-9785-045B5B7820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C8ABA-472A-46F2-82B8-BF24840673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F9FBA-D6DE-4FF4-A96C-EE2053FC78B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77F0-FBA8-492D-AB05-364491FAD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235D-12AA-4CE8-AAE1-A23C96A445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801C3-5872-40C0-8913-AF46F6963F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8168-3DAE-49C4-85B4-7E7927AFCC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AAA2B-1F66-4429-988A-C56E0FD226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5D975-6664-459C-9B02-727696A2EFA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FAE2E-2871-4BB0-98B8-B472A7EDDC2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69D7-DAC7-4A9C-A216-ADA0E40387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3E1CF-C22C-40C3-8B15-6D395DF30B5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43CCF-85F5-4F91-98B7-0E7A6587EF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ED72-0A4A-4AF4-8D7F-EC14FC1CAA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21CC-FC77-40BF-A157-3E66D04F1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BFE1-B9E5-493B-B423-916D63159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0B44-9996-43FA-8F58-0CD1E9D32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D30A-9684-484E-A87D-1C0D4D7F3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1B6EB-F298-4DCC-AFC7-6EED22E4B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D0BF-E7F1-4AE1-9727-19E26A23125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555E-ADD2-40ED-8785-11CC6BC9E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9106-C47E-4602-A504-5180E1F48E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1DA-0792-4D33-9279-CE06BE891FD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he Relation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448-5CF2-46F9-9C58-EDFEA8CC11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tuple is distinct; there are no duplicate tup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attributes has no significa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rder of tuples has no significance, theoreticall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60B-52DD-4C61-A4E3-F149C028D93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57000"/>
            <a:ext cx="815328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n attribute, or set of attributes, that uniquely identifies a tuple with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In each tuple of R, values of K uniquely identify that tuple (uniqueness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No proper subset of K has the uniqueness property (irreducibility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481E-B146-4AD1-A04F-1A4AD2E145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277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 selected to identify tuples uniquely within 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ternate Key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andidate keys that are not selected to be primary key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oreign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ttribute, or set of attributes, within one relation that matches candidate key of some (possibly same)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AB63-1DD9-4E32-A0EB-A8EC00060E8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tegr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484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l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value for an attribute that is currently unknown or not applicable for tupl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Deals with incomplete or exceptional data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Represents the absence of a value and is not the same as zero or spaces, which are valu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4CC4-D36F-4532-992D-9F4BEF6CD5C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4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erminology of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ables are used to represent dat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nection between mathematical relations and relations in the relational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ies of database relation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 to identify CK, PK, and FK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A6A3-AA5D-46CA-9547-F01E5B3ABF3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18920"/>
            <a:ext cx="7727760" cy="38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relation is a table with columns and ro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Only applies to logical structure of the database, not the physical structur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is a named column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omain is the set of allowable values for one or more attribut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803-F144-4799-8DC0-2CEBC5A548F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Model Terminolog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uple is a row of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is the number of attribut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is the number of tuples in a rel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al Database is a collection of normalized relations with distinct relation nam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ADF-D434-4AF4-BDF3-42A2BCF9FF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Instances of  Branch and Staf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8" name="Picture 4" descr="C03NF01"/>
          <p:cNvPicPr/>
          <p:nvPr/>
        </p:nvPicPr>
        <p:blipFill>
          <a:blip r:embed="rId1"/>
          <a:stretch/>
        </p:blipFill>
        <p:spPr>
          <a:xfrm>
            <a:off x="611280" y="1484280"/>
            <a:ext cx="5761080" cy="5037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BA3C-7651-4F5C-A5C8-817088E3F8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Attribute Domai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2" name="Picture 5" descr="C03NF02"/>
          <p:cNvPicPr/>
          <p:nvPr/>
        </p:nvPicPr>
        <p:blipFill>
          <a:blip r:embed="rId1"/>
          <a:stretch/>
        </p:blipFill>
        <p:spPr>
          <a:xfrm>
            <a:off x="539640" y="1700280"/>
            <a:ext cx="7728120" cy="3168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10DB-C0B9-4120-8019-4CAFE4DC4B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2947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lternative Terminology for Relational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8" descr="C03NT01"/>
          <p:cNvPicPr/>
          <p:nvPr/>
        </p:nvPicPr>
        <p:blipFill>
          <a:blip r:embed="rId1"/>
          <a:stretch/>
        </p:blipFill>
        <p:spPr>
          <a:xfrm>
            <a:off x="539640" y="1916280"/>
            <a:ext cx="772812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C1B0-DAEB-4A45-BE4B-416AFBA0F74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446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amed relation defined by a set of attribute and domain name pai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1(A1,A2,A3,....,A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imes New Roman"/>
              </a:rPr>
              <a:t>Relational database schem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t of relation schemas, each with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{R1,R2,R3, ... , Rn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EF2F-622D-423C-AC12-1D081013F3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perties of Rela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 name is distinct from all other relation names in relatio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cell of relation contains exactly one atomic (single) valu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ach attribute has a distinct na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Values of an attribute are all from the same domai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3 of textbook
Database Systems: A Practical Approach to Design, Implementation and Management</dc:description>
  <dc:language>en-US</dc:language>
  <cp:lastModifiedBy>Sara</cp:lastModifiedBy>
  <cp:lastPrinted>1998-07-28T13:47:34Z</cp:lastPrinted>
  <dcterms:modified xsi:type="dcterms:W3CDTF">2016-02-07T16:04:54Z</dcterms:modified>
  <cp:revision>54</cp:revision>
  <dc:subject>Database Systems</dc:subject>
  <dc:title>Chapter 3</dc:title>
</cp:coreProperties>
</file>