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chimes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CFB-C415-46ED-A4D5-2485AD24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D83-80A5-4A08-B589-3B981D94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756-C0FF-4A46-9324-687D91CE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47A-2710-4F8F-8CCB-C92D3F92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62BD-2A7E-416C-91A5-D2997E57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0318-1E9C-4F15-9ADE-11E716AF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0D78-3C58-4A40-B0A2-E2454B4C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3B3A-3CA2-498B-ACBD-3DA155CB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B03D-DD52-45AF-97FF-D4ACB2D5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FA8B-0A5D-4D94-84A2-CBC50EAC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D94E-300D-4B2E-90A4-DAEDA37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E6F-8C5E-4A29-836C-1A4FFD56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86D9-71F4-420E-848C-2602A0F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D83D-804F-4B27-B53A-6CB74829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94D7-AAB2-4E95-B972-371D645C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0887-64FC-4603-A333-C7BEA9C0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18F-0DC3-4B11-87E3-248D4555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110-C5FA-4FA3-A45B-E47956F5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486-0BC7-462B-AE8A-E8A81846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EE2-A4EC-4330-AD12-32048B9D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B1F-07A8-456B-BAC6-F9F715F9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3A6-1D8B-490A-ACD8-3501390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CBA-9150-46B7-8A2D-B3723885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0C8-699D-4A95-A058-128054C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76E2-8FBB-47CD-8EE4-B5B36BAD33B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CFC4-F005-499F-A1E3-B29A7F2F7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25C-92F4-4965-952B-A61F083570D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5365-B618-44B0-BAB7-E2A2D1BC8B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23AD-D95C-4D12-A2A2-9E09996493C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75DB-EBDA-44C0-BBD0-6FF0BB8A37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GEOLOGICAL FEATUR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9000" y="19807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C:\Program Files\Common Files\Microsoft Shared\Clipart\cagcat50\BD05219_.WMF"/>
          <p:cNvPicPr/>
          <p:nvPr/>
        </p:nvPicPr>
        <p:blipFill>
          <a:blip r:embed="rId1"/>
          <a:stretch/>
        </p:blipFill>
        <p:spPr>
          <a:xfrm>
            <a:off x="1905120" y="6858000"/>
            <a:ext cx="5257800" cy="651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Program Files\Common Files\Microsoft Shared\Clipart\cagcat50\BD05219_.WMF"/>
          <p:cNvPicPr/>
          <p:nvPr/>
        </p:nvPicPr>
        <p:blipFill>
          <a:blip r:embed="rId2"/>
          <a:stretch/>
        </p:blipFill>
        <p:spPr>
          <a:xfrm>
            <a:off x="457200" y="2514600"/>
            <a:ext cx="3660840" cy="3390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6616-9643-4485-86F3-5D13EAC7F2C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743D-143B-40E0-A352-369CB46CB3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udents will recognize various geological featur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228564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a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s and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C:\Program Files\Common Files\Microsoft Shared\Clipart\cagcat50\NA01062_.wmf"/>
          <p:cNvPicPr/>
          <p:nvPr/>
        </p:nvPicPr>
        <p:blipFill>
          <a:blip r:embed="rId1"/>
          <a:stretch/>
        </p:blipFill>
        <p:spPr>
          <a:xfrm>
            <a:off x="6248520" y="2438280"/>
            <a:ext cx="2635200" cy="3645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5CAA-763A-47EE-B44B-B057A366FF9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8E62-F8F7-49AF-B612-337C7FFEEF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udent Activiti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a variety of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topographic maps to identify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 model of a geological feature (landform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0" y="2325600"/>
            <a:ext cx="3048120" cy="239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0AFD-5DD0-4275-ACC6-422B57A367B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89BB-C837-4521-92EF-515DFB484A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dentify processes that form geological featur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effects of 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effects of earthquakes on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relationship between active volcanoes and related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C:\Program Files\Common Files\Microsoft Shared\Clipart\cagcat50\NA00826_.wmf"/>
          <p:cNvPicPr/>
          <p:nvPr/>
        </p:nvPicPr>
        <p:blipFill>
          <a:blip r:embed="rId1"/>
          <a:stretch/>
        </p:blipFill>
        <p:spPr>
          <a:xfrm>
            <a:off x="258840" y="1295280"/>
            <a:ext cx="2625480" cy="4419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4351-34E1-404E-89E9-418D92EBA21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1CA0-3AD8-40ED-BD88-3E52DF75F6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nal Projec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uild a model of a geological landform a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can be in the form of a diorama, sculpture, relief map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may use clay, papier mache or other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creative and have fu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ring their landform models to class to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8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0" y="1523880"/>
            <a:ext cx="290988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0BDE-EB02-4531-A772-CB9C75C881B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4CCE-3FE9-43CE-BCFF-D694214BB8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al Lif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 is in a constant state of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logical landforms are affected by erosion, earthquakes, and other forces of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recognize these changes in the earth’s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C:\Program Files\Common Files\Microsoft Shared\Clipart\cagcat50\MP00640_.wmf"/>
          <p:cNvPicPr/>
          <p:nvPr/>
        </p:nvPicPr>
        <p:blipFill>
          <a:blip r:embed="rId1"/>
          <a:stretch/>
        </p:blipFill>
        <p:spPr>
          <a:xfrm>
            <a:off x="0" y="1957320"/>
            <a:ext cx="2820960" cy="3605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B77F-7CE1-459B-9492-20ECB3B587B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647D-9679-4CFE-9B01-2836DCD10F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 Summar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be able to identify various geological land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 topographic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effects of er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effects of earthquakes and volcanoes on geological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a model of a geological feature (landform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1" descr="C:\Program Files\Common Files\Microsoft Shared\Clipart\cagcat50\PE01562_.wmf"/>
          <p:cNvPicPr/>
          <p:nvPr/>
        </p:nvPicPr>
        <p:blipFill>
          <a:blip r:embed="rId1"/>
          <a:stretch/>
        </p:blipFill>
        <p:spPr>
          <a:xfrm>
            <a:off x="0" y="167652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Bar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Bassam Abuamarah</cp:lastModifiedBy>
  <dcterms:modified xsi:type="dcterms:W3CDTF">2011-03-03T16:03:55Z</dcterms:modified>
  <cp:revision>9</cp:revision>
  <dc:subject/>
  <dc:title>PowerPoint Presentation</dc:title>
</cp:coreProperties>
</file>