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026-F1B6-444E-B67E-E4F5BE1C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202-56F0-4CAD-A030-1C87001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D12-098F-404E-941C-87CFCA8E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833-430A-4702-9C49-0439349A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A676-FB84-4425-98CA-7F3B071A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7982-4227-4D58-8C3E-0F3E62DA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9D11-2F40-4909-BAF2-90A936F2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7B32-1322-4880-9D44-B6A64EF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4283-3928-45F2-9D5E-4D7598B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8957-8AE5-49CA-A709-6FF0600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A229-646B-4F88-A1AE-4B3169E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512-D34C-4973-9BE7-FE684B8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7288-7FE5-45F2-B896-6A84575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AED0-A6ED-4376-A0F0-46BF5108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B03-0DDA-4205-B31F-999C5432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0214-E469-44DA-890F-DDA3E4B1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4E4-9AD9-43C0-B2F2-13BBA8A4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50B-6761-4E4B-8B77-1E294096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E4C-357E-4442-A369-A6F08CE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EBB-4610-4655-B559-2C02229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C63-8C29-46DD-90D3-ECAC34D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91D-E2E8-4ACB-BED7-EBA0818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460-991C-4B5B-BE06-7CFE635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457-AD99-41CF-9DA5-301A268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67EA-CFA5-4DB3-8B40-8A8F616C4DA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7269-3A10-486C-8F07-77564F957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DD31-E586-483A-9C39-D8111E862D8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E06-A011-488F-9F9D-DB5E83F85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312-22D4-4693-9622-D37134F0211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CC88-8378-4CA7-B646-C48360D3CD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GEOLOGICAL FEATUR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19807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C:\Program Files\Common Files\Microsoft Shared\Clipart\cagcat50\BD05219_.WMF"/>
          <p:cNvPicPr/>
          <p:nvPr/>
        </p:nvPicPr>
        <p:blipFill>
          <a:blip r:embed="rId1"/>
          <a:stretch/>
        </p:blipFill>
        <p:spPr>
          <a:xfrm>
            <a:off x="1905120" y="6858000"/>
            <a:ext cx="5257800" cy="651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Program Files\Common Files\Microsoft Shared\Clipart\cagcat50\BD05219_.WMF"/>
          <p:cNvPicPr/>
          <p:nvPr/>
        </p:nvPicPr>
        <p:blipFill>
          <a:blip r:embed="rId2"/>
          <a:stretch/>
        </p:blipFill>
        <p:spPr>
          <a:xfrm>
            <a:off x="457200" y="2514600"/>
            <a:ext cx="36608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66F-2743-48B9-9232-2EEB963C35C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0A9-0680-4195-9AD2-465F7E3A06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s will recognize various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 an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6248520" y="2438280"/>
            <a:ext cx="26352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45E-9E72-4779-9F86-5AB8910EB9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1B8C-5901-4144-8CC3-240920F98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 Activit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variety of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pographic maps to identify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2325600"/>
            <a:ext cx="3048120" cy="23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2E16-4815-404B-854F-927E323FF3C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716C-2BF4-4418-91AA-B15107B7B2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dentify processes that form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relationship between active volcanoes and related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C:\Program Files\Common Files\Microsoft Shared\Clipart\cagcat50\NA00826_.wmf"/>
          <p:cNvPicPr/>
          <p:nvPr/>
        </p:nvPicPr>
        <p:blipFill>
          <a:blip r:embed="rId1"/>
          <a:stretch/>
        </p:blipFill>
        <p:spPr>
          <a:xfrm>
            <a:off x="258840" y="1295280"/>
            <a:ext cx="262548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97B-00B5-48D1-9E73-38B070E8F40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DB47-9951-43A7-BB93-A5F60A7E2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 Proj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uild a model of a geological landform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can be in the form of a diorama, sculpture, relief map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use clay, papier mache or oth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ring their landform models to class to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0" y="1523880"/>
            <a:ext cx="290988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275-EFA0-477B-988A-38E71259EFF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A83-B0A2-4071-81C0-3B2EADA495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is in a constant stat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logical landforms are affected by erosion, earthquakes, and other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recognize these changes in the earth’s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957320"/>
            <a:ext cx="2820960" cy="360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9EE9-65FA-43A8-B22B-6D06E1AB569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35E-BCF1-4E4E-815D-7D487D18A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 Summ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e able to identify various geological land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 topograph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and volcano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0" y="167652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Bassam Abuamarah</cp:lastModifiedBy>
  <dcterms:modified xsi:type="dcterms:W3CDTF">2011-03-03T16:03:55Z</dcterms:modified>
  <cp:revision>9</cp:revision>
  <dc:subject/>
  <dc:title>PowerPoint Presentation</dc:title>
</cp:coreProperties>
</file>