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chimes.wav" ContentType="audio/x-wav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C3BA-B3D8-43C5-9808-8E8A22311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7D80-5400-4C95-B582-B382DC7DA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CE3C-B36E-4E0A-90FB-FC75DDCDF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9CE5-5CA5-49F3-BD0F-44AA58A4A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C333A-7AD1-4638-A9EB-533D6D1DE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04946-4DF0-44D7-9813-D4ED7A6F2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3502A-73AF-4FE7-8A38-E8BFDB98D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6249E-1C86-4867-974B-39BD4EAFE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76701-DFB6-45AE-9D6B-F046AE3DE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BD078-4422-47AF-B7CF-3395C426B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AC344-C4C4-4DEA-8C5B-E3B8293C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6CC5-1764-416F-B1E8-B6C0F10D0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2F58E-D603-48D8-85B2-C5E24FC8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68FCF-A11F-4B29-83FD-69F06105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71B6B-3FAC-47EC-A28F-CB52F7DE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3A6BE-3033-4B4C-9FEE-B95726AF6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129B7-71B4-4004-AD9A-E3D993425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83CA-1D51-4507-A8CF-9EE147AC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70D5-E850-4EEC-92C1-909500CC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391B-31E0-48EB-97D5-F6E5D798F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A0D9-73C9-41BB-9903-6B7CA62AB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91AF-658C-4252-85EA-E3743124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0DAE-E04A-4828-919D-11D62CB1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7AB2-6E9E-472F-A9B4-0FDD6289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>
              <a:gd name="textAreaLeft" fmla="*/ 0 w 2897280"/>
              <a:gd name="textAreaRight" fmla="*/ 2897640 w 2897280"/>
              <a:gd name="textAreaTop" fmla="*/ 0 h 6014880"/>
              <a:gd name="textAreaBottom" fmla="*/ 6015240 h 6014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1A854-BE84-43F4-AC18-487DE678AD38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90DC1-5F3F-453D-A4F5-E5719E2139C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7280" cy="6014880"/>
          </a:xfrm>
          <a:custGeom>
            <a:avLst/>
            <a:gdLst>
              <a:gd name="textAreaLeft" fmla="*/ 0 w 2897280"/>
              <a:gd name="textAreaRight" fmla="*/ 2897640 w 2897280"/>
              <a:gd name="textAreaTop" fmla="*/ 0 h 6014880"/>
              <a:gd name="textAreaBottom" fmla="*/ 6015240 h 6014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6A488-8C13-40DE-9C5E-59008B0F98B2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997E8-4DA2-492F-B228-A63916737EF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1CD4C-C917-4FB8-96F5-84ECD5F8F20A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0329E-A3D8-4C04-B0D0-F4E620198E1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GEOLOGICAL FEATURES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429000" y="19807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8" descr="C:\Program Files\Common Files\Microsoft Shared\Clipart\cagcat50\BD05219_.WMF"/>
          <p:cNvPicPr/>
          <p:nvPr/>
        </p:nvPicPr>
        <p:blipFill>
          <a:blip r:embed="rId1"/>
          <a:stretch/>
        </p:blipFill>
        <p:spPr>
          <a:xfrm>
            <a:off x="1905120" y="6858000"/>
            <a:ext cx="5257800" cy="6515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C:\Program Files\Common Files\Microsoft Shared\Clipart\cagcat50\BD05219_.WMF"/>
          <p:cNvPicPr/>
          <p:nvPr/>
        </p:nvPicPr>
        <p:blipFill>
          <a:blip r:embed="rId2"/>
          <a:stretch/>
        </p:blipFill>
        <p:spPr>
          <a:xfrm>
            <a:off x="457200" y="2514600"/>
            <a:ext cx="3660840" cy="33908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BF90A-2035-4641-92D2-7499831E1F84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B5765-0833-4579-A26A-03C37327760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Students will recognize various geological feature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2285640"/>
            <a:ext cx="609588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s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tea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unta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vers and Stre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e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e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l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8" descr="C:\Program Files\Common Files\Microsoft Shared\Clipart\cagcat50\NA01062_.wmf"/>
          <p:cNvPicPr/>
          <p:nvPr/>
        </p:nvPicPr>
        <p:blipFill>
          <a:blip r:embed="rId1"/>
          <a:stretch/>
        </p:blipFill>
        <p:spPr>
          <a:xfrm>
            <a:off x="6248520" y="2438280"/>
            <a:ext cx="2635200" cy="3645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750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9000"/>
                            </p:stCondLst>
                            <p:childTnLst>
                              <p:par>
                                <p:cTn id="3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500"/>
                            </p:stCondLst>
                            <p:childTnLst>
                              <p:par>
                                <p:cTn id="4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20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350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5784F-E6A1-4072-BC92-58CDF392A20E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231D2-DA54-4FCF-A151-72B1B5FB9CB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Student Activitie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a variety of geological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 topographic maps to identify geological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ild a model of a geological feature (landform mode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8" descr="C:\Program Files\Common Files\Microsoft Shared\Clipart\cagcat50\MP00640_.wmf"/>
          <p:cNvPicPr/>
          <p:nvPr/>
        </p:nvPicPr>
        <p:blipFill>
          <a:blip r:embed="rId1"/>
          <a:stretch/>
        </p:blipFill>
        <p:spPr>
          <a:xfrm>
            <a:off x="0" y="2325600"/>
            <a:ext cx="3048120" cy="23986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80E1A-8986-465F-A5CA-7EBCE67E3E99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5F822-3659-41AD-A4D0-DDA4C07C3F5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Identify processes that form geological feature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effects of ero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the effects of earthquakes on geological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the relationship between active volcanoes and related geological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8" descr="C:\Program Files\Common Files\Microsoft Shared\Clipart\cagcat50\NA00826_.wmf"/>
          <p:cNvPicPr/>
          <p:nvPr/>
        </p:nvPicPr>
        <p:blipFill>
          <a:blip r:embed="rId1"/>
          <a:stretch/>
        </p:blipFill>
        <p:spPr>
          <a:xfrm>
            <a:off x="258840" y="1295280"/>
            <a:ext cx="2625480" cy="44197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u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66349-7718-4FD8-9E08-53F0E9BB922A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61034-3E38-4BF4-97AE-9D09C40BA3C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Final Projec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s will build a model of a geological landform at h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model can be in the form of a diorama, sculpture, relief map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s may use clay, papier mache or other materi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creative and have fu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s will bring their landform models to class to displ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8" descr="C:\Program Files\Common Files\Microsoft Shared\Clipart\cagcat50\BD06662_.WMF"/>
          <p:cNvPicPr/>
          <p:nvPr/>
        </p:nvPicPr>
        <p:blipFill>
          <a:blip r:embed="rId1"/>
          <a:stretch/>
        </p:blipFill>
        <p:spPr>
          <a:xfrm>
            <a:off x="0" y="1523880"/>
            <a:ext cx="2909880" cy="39625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ssolv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BB0F9-D5AE-4311-B496-ACEA61A5BCE6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97053-4351-48B4-B63A-82CE9F096D9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Real Lif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arth is in a constant state of ch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ological landforms are affected by erosion, earthquakes, and other forces of n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important to recognize these changes in the earth’s geological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8" descr="C:\Program Files\Common Files\Microsoft Shared\Clipart\cagcat50\MP00640_.wmf"/>
          <p:cNvPicPr/>
          <p:nvPr/>
        </p:nvPicPr>
        <p:blipFill>
          <a:blip r:embed="rId1"/>
          <a:stretch/>
        </p:blipFill>
        <p:spPr>
          <a:xfrm>
            <a:off x="0" y="1957320"/>
            <a:ext cx="2820960" cy="36054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Bar dir="horz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02C36-2465-4297-A297-6D4894F05BC8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655B5-8C55-4E05-AC0C-334E7A4E74F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In Summary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123720" y="198108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s will be able to identify various geological landf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pret topographic ma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effects of ero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the effects of earthquakes and volcanoes on geological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ild a model of a geological feature (landform mode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11" descr="C:\Program Files\Common Files\Microsoft Shared\Clipart\cagcat50\PE01562_.wmf"/>
          <p:cNvPicPr/>
          <p:nvPr/>
        </p:nvPicPr>
        <p:blipFill>
          <a:blip r:embed="rId1"/>
          <a:stretch/>
        </p:blipFill>
        <p:spPr>
          <a:xfrm>
            <a:off x="0" y="1676520"/>
            <a:ext cx="3294000" cy="34686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Bar dir="vert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8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0"/>
                            </p:stCondLst>
                            <p:childTnLst>
                              <p:par>
                                <p:cTn id="193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7500"/>
                            </p:stCondLst>
                            <p:childTnLst>
                              <p:par>
                                <p:cTn id="198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r.Bassam Abuamarah</cp:lastModifiedBy>
  <dcterms:modified xsi:type="dcterms:W3CDTF">2011-03-03T16:03:55Z</dcterms:modified>
  <cp:revision>9</cp:revision>
  <dc:subject/>
  <dc:title>PowerPoint Presentation</dc:title>
</cp:coreProperties>
</file>