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FC6-C6EA-4F2A-A474-247951A8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687-BDD9-4546-86AA-68A3A46F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ABD-42AC-4B52-BB62-E91DA89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A7F-A9FC-45F0-BBBC-FCCB874E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4AF-07A8-4101-845A-559FD0C9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1768-4CA3-4D0C-BF30-F55C93ED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B5C-D849-45E4-838D-734F700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8D52-B5B3-4FF4-8C11-34D58AC6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5B2-C35E-4372-B689-047405C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6612-557F-4114-BEEB-7FD8D36D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5470-B609-4BB4-A561-75DF9E5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B9B-FADB-46D1-8428-18A628F9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EE2D-4FEE-4F68-BA80-DE1D7850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2D89-25C0-4905-AA8C-8B73642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6DAB-AC8F-477A-9F87-F54CAE9C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165D-73A1-4C8B-8296-A694447C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3972-EBE5-4C99-B37F-E4FC59DD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708-312B-4622-B0D1-B74DD2A3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43F-16EB-41F9-93B0-622C6CC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6EB-0CFF-4081-B9F2-8F00FE33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B13-802D-4A03-9734-2438BE68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960-0750-49B6-89F0-A6A0D09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668-483F-4F7F-B9A1-1F0923A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71A-4AF1-4F03-8D9C-4E01198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7140-8846-419F-863E-20B7BA247BF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5509-D703-4B32-AD6A-A87C0C8BB0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F44-B6E4-4596-8F27-D823475B7EC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4E3E-2F88-446A-8A66-24D91D2B0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9FC-A4D8-4E90-8241-5ECBD3727E1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2DE3-F060-4F62-8F8A-6B1A12B838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GEOLOGICAL FEATUR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9000" y="19807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C:\Program Files\Common Files\Microsoft Shared\Clipart\cagcat50\BD05219_.WMF"/>
          <p:cNvPicPr/>
          <p:nvPr/>
        </p:nvPicPr>
        <p:blipFill>
          <a:blip r:embed="rId1"/>
          <a:stretch/>
        </p:blipFill>
        <p:spPr>
          <a:xfrm>
            <a:off x="1905120" y="6858000"/>
            <a:ext cx="5257800" cy="651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Program Files\Common Files\Microsoft Shared\Clipart\cagcat50\BD05219_.WMF"/>
          <p:cNvPicPr/>
          <p:nvPr/>
        </p:nvPicPr>
        <p:blipFill>
          <a:blip r:embed="rId2"/>
          <a:stretch/>
        </p:blipFill>
        <p:spPr>
          <a:xfrm>
            <a:off x="457200" y="2514600"/>
            <a:ext cx="36608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A68D-AEC0-4066-B084-75E55BB0E2F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72E-1155-4669-8283-A02580C837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s will recognize various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s and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6248520" y="2438280"/>
            <a:ext cx="263520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7C90-F4D1-4A32-9BED-61CB2766D72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4244-E487-420F-AB1C-131EC09CA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 Activit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a variety of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opographic maps to identify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2325600"/>
            <a:ext cx="3048120" cy="239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6BC4-A8CF-4F3F-93C7-E3AD530FB5C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A3C-5EE3-4B3E-94C2-3ACC49B887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dentify processes that form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relationship between active volcanoes and related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C:\Program Files\Common Files\Microsoft Shared\Clipart\cagcat50\NA00826_.wmf"/>
          <p:cNvPicPr/>
          <p:nvPr/>
        </p:nvPicPr>
        <p:blipFill>
          <a:blip r:embed="rId1"/>
          <a:stretch/>
        </p:blipFill>
        <p:spPr>
          <a:xfrm>
            <a:off x="258840" y="1295280"/>
            <a:ext cx="262548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9C2-3866-4B2C-9810-040F20D83BB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4D60-8568-4EB3-B569-8B5AAE52D6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nal Proj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uild a model of a geological landform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can be in the form of a diorama, sculpture, relief map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use clay, papier mache or othe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reative and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ring their landform models to class to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0" y="1523880"/>
            <a:ext cx="290988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259-3D15-4476-8E7F-288E9B405EE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97E-B6DA-4441-A202-CB9F409D13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is in a constant state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logical landforms are affected by erosion, earthquakes, and other forces of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recognize these changes in the earth’s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1957320"/>
            <a:ext cx="2820960" cy="360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A2D8-BADB-4B13-9DB0-A50BD58F029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0D1-7E85-426F-9A09-0191DCD68B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 Summ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e able to identify various geological land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 topographic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and volcano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0" y="167652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Bassam Abuamarah</cp:lastModifiedBy>
  <dcterms:modified xsi:type="dcterms:W3CDTF">2011-03-03T16:03:55Z</dcterms:modified>
  <cp:revision>9</cp:revision>
  <dc:subject/>
  <dc:title>PowerPoint Presentation</dc:title>
</cp:coreProperties>
</file>