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616E-270A-4D8F-ABF5-601F6617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0B4B-FA62-4C00-8DC7-88982260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316-3165-4AF1-88AA-A9B876A7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9F6A-D8AB-4C91-AD91-DA7A0AB5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BF75-866F-4C77-93F1-30A78D42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8F38-4153-4590-82E7-2F3C449E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E890-0CD0-4355-BCEE-CA3D9743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DB7A-3152-4E8A-9AFE-950A0F7C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8AEE-2980-4723-AFAA-3BCDD155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9CAE-0F77-4B29-868C-F205C02D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0F36-82BB-4076-8E58-74309E61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3689-AA0D-49E3-BCCF-F0EA7D83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2D97-F2E5-4019-B617-B9374671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2C60-70DD-4D3F-92D6-8682DA0F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1600-0AF9-4142-8D34-83C53368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C3B7-1D5F-42E5-A63B-D80FE79E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6012-84AE-4D36-A298-D75E3840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A52E-635C-4628-9687-65B41B95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11D5C2-1633-495F-A22D-5BEB94C2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AF6D10-731D-4445-A0A8-EC3CC575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EC0D00-70B6-4DD2-888B-46D8D264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074D-B61F-4CAC-B5A4-8A6D51BB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4FF261-E91B-40E4-90D4-719A7568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E0999A-F9E7-4DD4-8DCD-6FB98A6C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2AF851-E114-478B-8C2C-BB6B07E6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F7DD93-0AAA-4F9A-ABB5-2EF58C6B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EC8645-57C5-4CBE-91A0-8A4A878F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EADB97-0F32-4E3E-A1B5-09F643AC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51BCE9-DBB2-44DF-8943-2F760EC6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F6078-E591-4E8D-AFD8-EAED3A34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9E98AA-6E13-4B6E-AE04-D7A5B3A5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91882B-73AE-48B0-9946-079BA1A6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C58F-F9FC-4998-A146-4984D30B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8D215B-8164-47FD-BB3A-57C8BC31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AB8125-3615-4B00-ADFA-121B5F9D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2CE500-B816-4109-BA8B-24DD22E4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232D48-0FB3-4667-BBDE-845816E5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E5F9CE-DBCF-4DDB-B69D-8E531CBD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44C7FE-F5DE-4F2D-BEDB-99222929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E529FB-5FE6-43F9-BE7A-BA555F5F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0B72EF-2676-48D4-8499-6699A843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35891E-7D4E-4CD1-A760-67D66CDA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290FF2-5E24-450D-BFDC-BABAD7F7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BF6E-3455-478A-93D8-30B15204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5F845A-B00B-4FC9-8B77-2D37B6CC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4CC0-6E64-4669-A960-83E11229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AA13-9F08-4285-8BD5-92495289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8541-0093-4324-B1B3-9C4ED568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1E5D-5CFE-4345-9B56-72A1CF44C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1993-41ED-4EDB-865C-C3428CBB4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1904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 rot="16200000">
            <a:off x="-1028520" y="499104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e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ochemist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John Wiley &amp; Sons, Inc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7FC8-F48B-4D12-8F22-9339541D5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FF10-97FB-4D14-9237-2D5B2E327A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66320" y="4349520"/>
            <a:ext cx="71629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piratory  Block  |  1 Lec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193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etal hemoglobin (HbF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jor hemoglobin found in the fetus and newbor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etramer with two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and two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er affinity for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han Hb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ransfers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from maternal to fetal circulation across placen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ppears ~12 weeks after bir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onstitutes ~2% of tot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osed of tw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tw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globin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  <a:ea typeface="ＭＳ Ｐゴシック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1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 undergoes non-enzymatic glycosyl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Glycosylation depends on plasma glucose leve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1c levels are high in patients with diabetes mellit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Picture 2" descr="C:\Documents and Settings\Fatma\Desktop\chapter03\jpg\0315_Formation_HbA1C.jpg"/>
          <p:cNvPicPr/>
          <p:nvPr/>
        </p:nvPicPr>
        <p:blipFill>
          <a:blip r:embed="rId1"/>
          <a:stretch/>
        </p:blipFill>
        <p:spPr>
          <a:xfrm>
            <a:off x="5857920" y="1371600"/>
            <a:ext cx="290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Abnormal Hb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able to transport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due to abnormal structur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arboxy-Hb: CO replaces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and binds 200X tighter than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(in smoker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-Hb: Contains oxidized F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~2%) that cannot carry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Sulf-HB: Forms due to high sulfur levels in blood (irreversible reac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Disorders of hemoglobin caused b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structurally abnorm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insufficient quantities of norm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ombination of bo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Sickle cell (HbS)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used by a single mutation i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globin ge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lutamic acid at position 6 in HbA is replaced by val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e mutant HbS contain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  <a:ea typeface="ＭＳ Ｐゴシック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ch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e shape of RBCs become sickl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uses sickle cell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0" name="Picture 4" descr="tumblr_lbwj8cQJ7M1qaqphpo1_400"/>
          <p:cNvPicPr/>
          <p:nvPr/>
        </p:nvPicPr>
        <p:blipFill>
          <a:blip r:embed="rId1"/>
          <a:stretch/>
        </p:blipFill>
        <p:spPr>
          <a:xfrm>
            <a:off x="6705720" y="39625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Hemoglobin C diseas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used by a single mutation i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globin ge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lutamic acid at position 6 in HbA is replaced by lys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uses a mild form of hemolytic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Methemoglobin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d by oxidation of Hb to ferric (F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 st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hemoglobin cannot bind oxy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d by certain drugs, reactive oxygen species and NADH-cytochrome b5 reductase deficie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ocolate cyanosis: brownish-blue color of the skin and blo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ective synthesis of ei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globin chain due to gene mu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-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-globin chain is decreased or abs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Causes mild to moderate hemolytic anem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-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-globin chain is decreased or abs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Causes severe anem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Patients need regular blood transfu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o describe the globular proteins using common examples like hemoglobin and myoglobi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o study the structure and functions of globular proteins like-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Hemoglobin (a major globular protein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Myoglobin, and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-globulins (immunoglobulins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o know the different types of hemoglobin and difference between normal and abnormal hemoglobi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o understand the diseases associated with globular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7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 globular hemeprotein in heart and musc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Stores and supplies oxygen to the heart and muscle on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tains a single polypeptide chain forming a single subunit with eigh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helix struct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The interior of the subunit is composed of nonpolar amino aci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971800" y="579096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ucture of myoglob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2009880" y="419040"/>
            <a:ext cx="5122800" cy="51055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 rot="16200000">
            <a:off x="-145440" y="4760280"/>
            <a:ext cx="83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328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harged amino acids are located on the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he heme group is present at the center of the molecu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oglobin gives red color to skeletal musc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Supplies oxygen during aerobic exerci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 in diseas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oglobinuria: Myoglobin is excreted in urine due to muscle damage (rhabdomyolys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May cause acute renal fail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cific marker for muscle inju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Less specific marker for heart attac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Immunoglobul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219320"/>
            <a:ext cx="44956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ensive proteins produced by the B-cells of the immune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Y-shaped structure with 2 heavy and 2 light polypeptide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utralize bacteria and viru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ypes: IgA, IgD, IgE, IgG, Ig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5278320" y="1511280"/>
            <a:ext cx="357372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ake Home Messag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mino acid chains fold into shapes that resemble spheres are called globular protein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Fibrous proteins are mainly insoluble, while globular proteins are soluble structural protein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b, Myoglobin, globulines and enzymes are examples of globular protein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Functionally, Hb is for 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and C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transpor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bA, HbA2 and HbF are examples of normal Hb, in which the tetrameric structure is composed of 2α constant subunits with 2 changeable </a:t>
            </a: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ubunits according to Hb typ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ake Home Messag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bA1C is a HbA which undergoes non-enzymatic glycosylation, depending on plasma glucose level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Carboxy-Hb, Met-Hb and Sulf-Hb are examples of abnormal Hb, in which 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molecules are not transported due to abnormal Hb structu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orders of Hb caused by synthesis of structurally abnormal Hb and/or insufficient quantities of normal Hb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Sickle cell (HbS) and HbC diseases are caused by a single mutation in β-globin gen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ake Home Messag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lu6 in HbS is replaced by Val, while it is replaced by Lys in Hb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Methemoglobinemia is caused by oxidation of Hb, inhibiting 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binding leading to chocolate cyanosi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alassemia is caused by a defect in synthesis of either α- or β-globulin chain, as a result of gene mut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α-Thalassemia causes less sever anemia than β-Thalassemi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oglobin is a globular hemeprotein, which stores and supplies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o the heart and muscle onl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ake Home Messag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Hb is composed of 4 chains (subunits), while Myoglobin is composed of a single chai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oglobinuria is a specific marker for muscle injury and may cause acute renal failu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Immunoglobulins are defensive proteins produced by the B-cell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mmunoglobulins consist of 5 types: IgA, IgD, IgE, IgG and Ig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llustrations in Biochemistry by Lippincott 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edition, Unit I, Chapter 3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mino acid chains fold into shapes that resemble spheres are called globular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his type of folding increases solubility of proteins in wa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Polar groups on the protein</a:t>
            </a:r>
            <a:r>
              <a:rPr b="0" lang="ja-JP" sz="2600" spc="-1" strike="noStrike">
                <a:solidFill>
                  <a:srgbClr val="ffcc00"/>
                </a:solidFill>
                <a:latin typeface="Arial"/>
                <a:ea typeface="MS PGothic"/>
              </a:rPr>
              <a:t>’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  <a:ea typeface="MS PGothic"/>
              </a:rPr>
              <a:t>s surfac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Hydrophobic groups in the interio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brous proteins are mainly insoluble structural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emoglobin: oxygen transport func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Myoglobin: oxygen storage/supply function in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                          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heart and muscl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-globulins: various functio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-globulins (immunoglobulins): immune func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zymes: catalysis of biochemical reactio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 major globular protein in huma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Composed of four polypeptide chains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Two </a:t>
            </a: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 and two </a:t>
            </a: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 chai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tains two dimers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subuni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Held together by non-covalent interac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ach chain is a subunit with a heme group in the center that carries oxy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A Hb molecule contains 4 heme groups and carries 4 molecules of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  <a:ea typeface="ＭＳ Ｐゴシック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Figure3-8.jpg"/>
          <p:cNvPicPr/>
          <p:nvPr/>
        </p:nvPicPr>
        <p:blipFill>
          <a:blip r:embed="rId1"/>
          <a:stretch/>
        </p:blipFill>
        <p:spPr>
          <a:xfrm>
            <a:off x="1295280" y="228600"/>
            <a:ext cx="6324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b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600200" y="1541520"/>
          <a:ext cx="6095880" cy="4479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Calibri"/>
                        </a:rPr>
                        <a:t>Normal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bA (97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HbA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2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 (2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F (1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HbA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1c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Calibri"/>
                        </a:rPr>
                        <a:t>Abnormal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xy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f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bA structur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37717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262800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Calibri"/>
              </a:rPr>
              <a:t>Oxygen binding to hemoglob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 functio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ries oxygen from the lungs to tiss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arries carbon dioxide from tissues back to the lun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rmal level (g/dL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les: 14-1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males: 13-1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1:27:42Z</dcterms:created>
  <dc:creator>Usman Ghani</dc:creator>
  <dc:description/>
  <dc:language>en-US</dc:language>
  <cp:lastModifiedBy>PKU</cp:lastModifiedBy>
  <dcterms:modified xsi:type="dcterms:W3CDTF">2017-02-07T04:18:52Z</dcterms:modified>
  <cp:revision>164</cp:revision>
  <dc:subject/>
  <dc:title>Globular Proteins</dc:title>
</cp:coreProperties>
</file>