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0CF-E305-4D10-8A90-DB22C294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1C5-E889-4EB1-AC82-EF93EA70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063-03F5-478E-A55F-1F4B690D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BD4-4CA3-45F3-9A6C-382B2C71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60C7-4974-4AAE-A38D-1111F750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1C4F-834A-4A4C-98F0-B85403B3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8804-AF53-47BE-B411-08CD4956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A6BC-8561-4F2A-AFE1-5FE6C110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3CB0-DD5B-4E52-9B27-1371EBFF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C09A-69B9-4D16-9E9E-768134F8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05A5-81C7-4100-8E86-B2D05045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345-EC48-4412-8187-8C2F61E7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3A87-02F1-4D89-B3DA-DA4C3195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29D-1011-4F5B-869C-8160884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AC4E-4712-49FD-8CA0-A0AC55B0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A233-6FFD-4E19-B45D-C18F6C59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3D2E-6900-4EA5-9CAC-DE62F7BD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AE1-AC5B-437A-B21A-168E81D6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A340B-785C-4F3A-918C-455B9202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A2E67-B41D-44D9-8885-F73AD3DA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BCB0E-9329-4EF4-BCB8-2C007286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3B5-16B0-4785-80D8-A3DAE51D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8DCEF-9CF8-461F-BF59-2A3AA18A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2E15B-434C-4CF7-8C1F-9B412E51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D2814-804D-4E3F-AE10-EC777E2D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6F109-F37D-4E9C-8B20-27A2F1B7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059B8-B25E-4176-A744-D4F2A30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0199A6-AF1C-40F5-B83E-0EA28E1A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340D8-AC3D-4AA4-A771-5F4F6B78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70B79F-E577-4515-B906-5CC1EB7C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22A13-2BFB-407A-8737-18937559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2B2C5-EF63-495C-9FFA-D56A9FF5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8E7-0BF7-4651-8CCF-E9C6D08E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744BF3-1EB7-425A-AB85-791B94F5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C6ED98-0C7B-4DE5-B7C8-F503B89F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9ABD97-4891-4207-891B-4D252A1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58CE9F-3BA2-4CDE-B027-96677F69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89DA4F-2573-4E89-AE1E-F8382FC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EBE5D-703C-4523-9B19-29A83089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5BBF0D-44DD-4CD4-B04C-F0E679E8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D56A14-DBF2-46C7-9004-333A363F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F231A-D728-469F-9BDE-4ACC9788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B30DD3-AD04-4763-AE4D-36F439A6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261-3A17-4F45-AC18-BA7EA67A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5D66B9-7C1E-499A-8A52-94BFD5B2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C55-B454-4943-8500-BD1E6C6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D47-8B1A-49A2-8FAA-5FA9DB2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027-645D-4302-B5FC-59670877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C3FD-5E8E-4172-AF01-7DA41D7DC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4BDE-6289-4696-817C-4A562830A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A878-9E23-46A4-90D1-96C21150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5F4D-6B65-41DB-9EDE-2AA4AE6323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434952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 Block  |  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  <a:ea typeface="ＭＳ Ｐゴシック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describe the globular proteins using common examples like hemoglobin and my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study the structure and functions of globular proteins like-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Myoglobin, an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know the different types of hemoglobin and difference between normal and abnormal hemoglob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understand the diseases associated with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ibrous proteins are mainly insoluble, while globular proteins are soluble structural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, Myoglobin, globulines and enzymes are examples of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unctionally, Hb is for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and C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trans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, HbA2 and HbF are examples of normal Hb, in which the tetrameric structure is composed of 2α constant subunits with 2 changeable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ubunits according to Hb typ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1C is a HbA which undergoes non-enzymatic glycosylation, depending on plasma glucose leve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Carboxy-Hb, Met-Hb and Sulf-Hb are examples of abnormal Hb, in which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molecules are not transported due to abnormal Hb struct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Hb caused by synthesis of structurally abnormal Hb and/or insufficient quantities of normal H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Sickle cell (HbS) and HbC diseases are caused by a single mutation in β-globin ge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lu6 in HbS is replaced by Val, while it is replaced by Lys in Hb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Methemoglobinemia is caused by oxidation of Hb, inhibiting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binding leading to chocolate cyanosi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lassemia is caused by a defect in synthesis of either α- or β-globulin chain, as a result of gene mut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α-Thalassemia causes less sever anemia than β-Thalassem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 is a globular hemeprotein, which stores and supplies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the heart and muscle onl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Hb is composed of 4 chains (subunits), while Myoglobin is composed of a single chai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uria is a specific marker for muscle injury and may cause acute renal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Immunoglobulins are defensive proteins produced by the B-cel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munoglobulins consist of 5 types: IgA, IgD, IgE, IgG and Ig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ustrations in Biochemistry by Lippincott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dition, Unit I, Chapter 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PKU</cp:lastModifiedBy>
  <dcterms:modified xsi:type="dcterms:W3CDTF">2017-02-07T04:18:52Z</dcterms:modified>
  <cp:revision>164</cp:revision>
  <dc:subject/>
  <dc:title>Globular Proteins</dc:title>
</cp:coreProperties>
</file>