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19B-E1F6-4984-B876-3E93948C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BC9-DA44-4888-B8F2-D173526E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6DDDF-78E3-4192-B3DD-E5992E62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57966-E4CC-4ACB-A3C8-E50E294B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8850C-C111-402E-B418-F2A41E92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8CD86-A06B-4286-BF14-B64F5FDF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7813A-4800-454B-933A-B0B9085A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B480A-2BA5-4369-BA14-DAC1F0D6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90483-333C-4224-BE7F-A5B2A623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D7788-D353-4A0F-9831-DA7F5254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DD170-9B30-4833-AF85-32170785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58A7F-FB70-4CDD-93A6-C7053D13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0F2-0C7D-47C5-9C88-3B16B7A9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5C7E8-FFE9-4FAA-A102-70D60E32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7CABE-D260-4430-83D9-16EA077D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213AF-8B5E-46A6-9C91-2103D317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FEC8C-23B8-4176-B520-6850099A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22C13-F592-44E1-A9EF-DB2D438F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5C87D-618E-491D-98DD-6DC53E29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1EB95-7AA3-4F57-AA6B-9EFA5DA5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25665-A21A-4E73-B41A-5873BE71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8555B-02D6-4350-9933-F6A38A44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CB92F-8ECF-4E2E-9993-68D10D20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EBE-DFB4-4A33-9AAC-36904B06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43B03-D31A-46B3-BE6B-41C4357E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1B4AE-D336-4A94-8549-358AB702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5409C-44B8-4485-8E90-68CE7823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FF071-D5F7-406D-AC6C-893C25D0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2FE82-8478-4057-B467-2357D321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B789E-D0F4-4DEA-A698-C4F2655C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D0C93-34FD-44EF-8B5E-3907BA50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33F92-9780-4C54-A804-B68A36B1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BD0EB-4F5D-4FB3-AA49-FCB8744A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228AE-AD15-4F15-9B68-E7231A04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8A25-A5DF-4052-A0B3-8E34B2CE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8CA19-E3EB-4214-B8A2-428DF8F9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F0053-F53A-412D-9C02-545E184B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CC92A-3557-4668-BEF2-D41B8BEE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FD9DF-466A-497F-95B9-DAA9967D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9FA89-68C2-4707-8CBE-E942473A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5B460-1F03-4481-A1AD-8218810D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672FF-5588-4251-8648-D1EEEAD4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69931-95F2-4D2F-B558-A1BAF1B4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69D2A-7F0C-4112-AA70-B8DE305E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65366-D5A7-4CDD-8DEB-619C3DB8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4739-7403-4DCB-8E2A-D41D9697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F1978-66A4-4D31-9350-356376F2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D96F2-E472-4E32-9DB5-A2B77ADE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A2628-6224-4309-9AF0-2298FAF6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FCF68-8DC8-4997-97F8-85040FC1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09001-B4EB-43BB-B5A6-9E7ABC33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861E5-BAEC-48D0-9D99-454DF706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6F708-2EEF-4378-B747-9AA686AE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061D9-A58B-4FE0-BD84-4C211202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A91C6-44E4-425E-8B8E-8A666009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E3A71-2A6E-44E5-BB35-41C20990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C80A-2933-4262-98BE-5FF82F84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949D1-BDA0-41C6-BE42-E2871A66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BF55D-D39C-4E6E-9700-0CADB982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ECDA5-29B1-4EF4-909F-96FE815C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5423D-A451-41CF-AC98-ABC934A9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708E8-09D4-4C06-9277-05987AF0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93715-42CB-45B2-A1A5-B822BE43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FE3C0-1034-44B4-B997-49A7E0CB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20AF9-EBA5-48F1-B12A-5C290B83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9A8F4-907C-424A-9D6C-2E51AD90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1222B-8861-4093-8F6A-56159777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AA6F-5DFF-4256-A13F-DE1C3426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EEB6B-0C56-4271-A695-D1DF8C58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F0A59-0AFE-478A-BF22-1FC32A29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24AA1-610C-45D3-99E4-A267504A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F351F-F810-49A4-A500-07FD12B7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18D8C4-4315-4418-963E-E729DA41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FFD00-2E0F-4C8F-90DC-224E35D7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366BA-4443-45D6-92E1-993F2580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65B28A-838B-4AED-AB10-43D56A32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28EE2-367A-4627-BC2B-70C24992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D0762-B881-4B57-939B-7E9EC86D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8BC2-972A-41A4-BAAB-8F43955D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2516A-06B0-4726-836D-45271356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909A9C-67A1-4913-8DD3-CF2561C6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46C752-39B6-43F3-8600-C6B6D466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90D776-6280-42C8-AE65-E08EFDA9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11696-ADF4-4682-8723-9F7EA64A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21C29-BE5E-40E7-87FF-DBA3570B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4E5C4B-7E33-4EF8-8309-8670E182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A8BF15-3640-47A6-B78B-8540CC87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C147A-C287-4C06-9FC1-8781B9E0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245134-7B78-4577-ACB6-8EF5E428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3D11-15AF-4A90-992B-1D011D38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69533-DEC5-489C-A358-3DEDC97D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1FDCCD-C90A-47C7-BEDB-4A815887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8207E-BA3A-463D-AC17-AD5DC9F1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CD4A8-307D-4B30-8087-C189C72C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1ADFCD-909F-4B0A-BBDF-D8EC8056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167D7-BD85-44E6-A0B9-2CECE202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61C38-FBD1-4F3B-81E0-C9DA4C1E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CC668-9F2C-4D3F-BAF0-944B6FAE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7A17F9-BC26-41A2-990B-1CCCB646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3F51F2-AF2C-44F0-A2C4-6EBEA4EC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DA4E-0B7F-44B5-8D8D-B117B2ED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460ECA-74C1-4D0F-8317-1ED559D8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CACF8E-9B03-4ABC-95BA-5F97A463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D12199-CCAA-424E-9151-C2C75249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4879CA-B471-417F-B1A0-E4FD8C1D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68A2B-A5EF-4519-83FC-F8FB1E9F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CDFC65-7903-4731-96E0-9F5799E1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587D3-16C7-478D-9454-E34C410B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F6D62E-1116-429A-8736-4085E309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AE28C-18E4-479C-8D3C-2CD5ADAD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3EBFE-9607-471C-A8F9-327783AC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C21-A4C1-4A48-9220-A83D4095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3AC5-1ED7-4DAF-95C2-60D5CCD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A25262-B5C9-4B32-9F36-6BCBC38C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7AB4DF-484C-4C02-B4BB-13B4F55D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99134-D740-4AC8-A278-A8CC3761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CE8A7-C628-469F-B64F-C1298C5C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24ABA-0E0D-45BB-835C-D8EE2F5E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2E9C50-80B5-42B2-BEB0-34855717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83EECA-E456-4409-8A87-F5ADFA44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CDE8A7-B66B-46DE-B299-B9763991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41F8E2-89F7-40FF-B1F9-287F78EB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FD2283-3B5D-463D-B170-D76B8405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EA77-9DB9-489C-95A7-A39EFAD8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6A138-D779-4A5A-A6BD-B3728067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768C58-83B7-47A1-A180-98B1863E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2DDA43-1DB5-432F-9C44-84EE49CD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59C8AC-40E0-47E1-AA69-5594EB24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EFAA0F-8DCA-4D4B-A12F-B980BDF9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1C4100-FC13-4DB5-B85A-4CB6B668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12941F-D19D-4F19-9100-B84A3F4E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89B405-BF0C-4495-B152-D4AE4D7B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E27D6-8A6E-4A5B-91CE-9F5F95CA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ADDF4B-E1E3-40F2-8C4C-4C7DBA75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F350-FB3F-4CBC-8AF8-58447A3E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DBED2A-B0B8-4A75-81A3-A605FE88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C76991-F5D8-49F4-B7CD-3968E4BC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C3C922-0AB0-42A3-A216-CA60BBC9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5DC7AA-D312-4B75-ADBF-AAACDF3D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39E309-3868-4974-B094-C194C9B2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0E0FC8-ACA6-49E6-94C7-4E07C346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22DE7E-A2ED-4335-B00C-F6F8C4B0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CF0393-875C-41AB-851A-9E91B214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3CF8DD-DABD-4453-9D98-8CF9125B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9E15E2-6611-411A-802A-ACBE19A8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B6FB-5890-4B74-BE56-DBFB23CB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3DC212-2737-487B-961F-89289A72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99B357-DA3F-455E-B46D-C2AB7FAC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AB98F6-D972-4CAC-876E-A3CD36F1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757D61-80FB-4B95-BD22-3B81FDF2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788D04-9DE2-46D0-8DA3-316B986A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5DCDC9-2CBC-4180-9384-E304ED1D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A55892-1DA1-449D-9E86-B41D18DA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C922B6-4ABA-4FEF-BB4D-B524411D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5575C4-4FE6-445F-9945-A305575F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492A8-770D-4A8E-B282-8A658E9A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4BB8-6998-4C0A-BACD-591C9A1D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49F44C-3746-4473-A66F-5697EFE8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49E698-7792-4C40-9DE2-ECFA07BE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9AB4B9-9E6D-4A0C-B985-1895157E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38771B-C743-4269-9564-5287C36D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B0F92D-1766-4A2F-9697-317BCC85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48698E-A7CD-4ACC-8DCB-2F3AA61A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024556-BE42-4F9F-A8B0-83109BAB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F804DA-A562-4F28-B37B-95FDDBA7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D75254-B339-482E-BAC4-737B83BC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3953E9-3C01-457A-9677-65F25DAB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EF6B9-A694-4EE1-B3E9-F369C95C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04FAF5-1A94-454E-88A9-88556649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21694E-84B9-42D8-8C21-6D395EA9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500412-5E99-4985-AAB5-6A41B4BA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4F68B4-2405-4401-9CF6-119A8DF1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EF5E6F-3E75-4ED0-9930-017D5C97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BB98EC-44C2-4E83-AE50-B1843ABD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B0688B-BCAE-48FA-B387-FDD887C9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BD33E6-6012-4E38-AAFA-5EEC1CC6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8DCDEC-590F-49DC-A3DF-975BB30D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D097FD-861C-498E-BE8F-73227493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554EE-627C-4070-9454-FB99F0E9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EDC235-1CFD-40EF-A547-F4FC18A1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0E5F02-920B-4B46-8589-BDFEBC99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A699FB-4D26-4B70-9452-8911D88D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F6470F-993B-409E-AFE4-39C24544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87334C-D0BC-42C8-A4A5-B6EF67D3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C65A14-AA2C-48B2-9691-D4C5C955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7B6D5B-C3EC-42BA-A141-246131AB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3CBA17-1664-4613-8550-69D97E37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E3D4C5-970A-4DDB-BDC9-0FE94D39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1FC61F-2B76-41CF-8384-04702D50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8D5E1-9EA4-4EC7-A991-6634654C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286AA3-A18B-4664-AB5B-3BFDFC1B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D36203-7FCB-43D5-9749-64FBE332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2CBE04-5614-487F-933B-4CA45FF6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DB0163-1E93-4235-98E2-D998ECAC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AF52CF-0459-4104-9DC8-AEEC4698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337CEB-79D5-4B98-9DE1-9E96C146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2AB679-8E50-43B1-A74C-D72FAA31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934DC4-EE7C-48A4-A6A4-00523AE2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7DF616-5290-46A0-B181-F4CC1CAF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601912-3D88-49AF-8225-9C993E34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DD73-4488-4CF3-8536-F1060325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FAA413-4F03-44B0-A324-8ED05B7A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2A5FAE-C4C3-43A8-98B8-596FBBFD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3C93CF-D73F-44E9-9BF4-04FE47ED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204084-B5E0-46EE-B2AC-CE795488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FD9928-DB63-49C1-9F50-FA8665F2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4BD793-8581-48C0-896E-E0D98EDA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3D2BC8-5F81-4BD4-BBB5-3C1C6216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E2F974-74AA-437D-A653-083532AE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D2051E-5EDE-40C5-AEB6-E9A08E82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837321-6845-43BE-A66B-963A1A4C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51F92-7CC6-4FB9-B121-F28130F5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841C13-D09B-4D41-A012-DA3E9925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03D571-7F0E-443C-8ADF-9C91A647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C7C2E2-C797-4696-864B-57605A2D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583F10-D051-4E0D-9D1D-FEBC26EF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B826D7-A020-4794-A3B0-A520AF05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EAAB87-623C-49CB-A5A4-FBA05C37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1A7AAA-3B85-499B-8EFB-E8BDC50D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0BA841-DD07-4768-B9E3-BB5EF601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9EEB19-4911-4509-BCDF-45FB26D9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003EDA-81BB-4DBF-8D5A-DC75A059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D38-053B-4400-9D03-CD7BFF24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D29A-7EAF-43E7-B2C7-26156AEC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B394BE-6F88-4B22-A83C-043A7AE3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A4EC01-412C-4A14-9FC8-34B17EC6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C6A7C7-D5D4-4577-AB7D-5F865A51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E9E7A1-0708-4C4C-B4AE-86182E99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ECA721-95A0-4DC7-82D9-63601FD4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7962BD-D3B9-4E87-959A-17064B8A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71613D-E966-4FEE-B0D3-F290107C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08E76D-E922-421D-AA74-C8C157A1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D495D4-31CD-4884-9E38-7C63B1FB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DA856D-1067-49D4-A70B-2D76C6A3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FBB60-8980-4FAB-88F1-2E3AF221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5ADB4E-A8E0-43FD-8F09-DC902677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2099B3-6294-4530-932A-C8FE606C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8E6A3B-348C-44BC-9FAD-49F1D5E0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44013B-D9BC-40B9-A85D-D9A3378E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20BD2A-48D2-4386-A862-26B98704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7DB4C4-3C7E-42F0-899C-92F2EE72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CE69D8-518F-4271-AE89-6CAA552F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D78162-45D9-4423-A4A1-E8F7A72B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C111F3-68BF-4747-9CB4-6D551A21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E2A48F-7DFD-4652-BE6B-4A314B21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C1502-25BF-4629-BEB3-37F51EAA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32FD14-63B6-4A09-B6F1-76FE2E02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B6C6FA-319B-4804-9EB4-9B94A727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22F2F3-9E14-4760-AF4E-9BC6FF50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3794A7-E5C3-4C15-BD22-E78CA8DF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B1F549-D7C7-4322-BD6E-3B9A52B5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F66723-C8D8-4C6C-82A7-A2ACBA5B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A66F4B-3DB7-457C-9D76-2EB69F2C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854CFB-B220-4CCB-830A-A76D0CBE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A03FC7-6F5A-4DAB-8336-9910A692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8140B5-FF66-4CA2-849C-B6CF03D9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F0259-3A9F-4507-A4CB-0059B2AA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4522FF-F000-4417-9FBE-4E2D35FC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2C05AF-79CF-4983-BE7B-B9783B59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43394B-9E69-47D4-A3A8-B0285A54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F1CB04-630D-4158-8526-089FF613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A76C5C-5685-4224-95E8-12E774E4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89DF09-4C98-41B3-BF10-9FA4933B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58B07C-B37F-41E7-86F0-C8F2C873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864010-01C7-4DAB-9622-D891C041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02844D-59CD-4BEB-9E1F-E035F9D0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2B6860-1B2B-4447-A8DF-9DD7EB02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8CB65-2FAF-473B-A37F-6E1220DC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56DB79-DD08-4614-81C2-35701F99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318000-6983-4479-8AE1-A8A01C16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2D9302-43C4-4452-AAB7-3F122589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758D30-5018-4974-8320-6928C60F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0747D7-3692-4CC5-95DA-DF03E45C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E970E2-755D-4BD0-8D50-EFF3BFDB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00BE83-FA31-47CA-A760-5623416F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4B44AF-05AF-4A36-B7F3-C91D6452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545758-63DE-4D98-9A6F-C95A9380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7F8E0B-D474-4884-B719-5F4055F8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D6C48-E1E7-465D-BCA6-EECDE3EF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5EC4B8-D610-4D9F-A30E-6FA75549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CBECA4-B2B6-4E73-B835-8F3F48F3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5E4CA9-6101-4B21-A4F0-889781A8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685E90-D86C-4E96-A136-DB19ED7D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E29EF1-C073-495A-BF90-418B71CB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1A4C56-5BA6-4487-B879-5125220F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E442F2-4894-47CB-A136-395A9B2B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D34D50-8700-4994-9DDA-2E67D060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BB3C11-F539-421D-9F36-0B9513CA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3DC336-E463-4309-8081-66A83FEB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AFA94-2ED1-4795-9ECE-293E1F70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997927-F0FD-4BCD-A059-9177D832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E8F09C-010F-4868-98A7-43E369D4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4D4268-9A48-469E-B017-8CFE7586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B351AB-F5A3-4DDE-A4DB-E07A2B96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5632F0-180A-4F89-B22C-1BA6CD41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57EBDD-A0E7-4728-BC02-26371EF9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EC7C68-D352-46BE-B8D5-2F761761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8A64CD-BCDA-4640-A329-17ACEA23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5BBCE0-43C9-48BF-8B0C-7EDC9863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0F03F0-06BD-4EBD-96FA-2654D0CD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C4418-29EC-4F07-A560-F60AED16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7151B8-F047-4DA3-B859-3B9C94B9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E0DB7B-EA75-40B4-9DE3-19945C15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EDE302-05FD-4B3C-900B-24BC806A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43D0D8-534B-46AC-9019-B92EBB10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A5877C-9F5D-4AA6-84E4-C62A1965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0715A7-F2AA-4E47-9E94-DC8094F2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61CA0E-82C4-4445-BC1F-1E90D025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E39602-6BC2-4E52-8BF3-039EE724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385EB8-EB57-4D98-AC26-FCCB26E1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C560D2-20E9-4698-B47C-5E3D0FC3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ECA8C-A156-405C-81E8-35FF5B43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38B97A-3ABD-4FDC-8CA7-996E1841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39E2DB-9371-4BAB-9B9B-7E974306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F78B8C-AF93-4C28-B323-B5A4FD76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452567-E45F-4B9E-B6A7-E392ECA7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84A829-142C-4550-AF94-383C5163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698F89-663B-41D8-A734-B063D505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AE4927-9124-487F-84DB-455DAF0A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75B0E7-F8D3-4C14-B950-98C83E78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71D69B-2AB4-4C91-BD14-C9A70A93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738C81-85CB-4EC7-8B41-D1475C6A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B90CB-B2E6-4F2A-BE41-AAC4277B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8239AF-3A0D-4610-8C78-B009D4DA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927645-45B5-403E-8590-2130DDDC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1467A6F-3911-4A1A-B7F1-AF1DFE19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99083C-88F9-4830-B768-77F02052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8B5EDF-7448-4419-9BA0-88104181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FFEE50-8267-47BA-BA80-34182922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B3A898-F53A-419E-B356-7CEF9B81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78887A-F0C5-4701-83EC-C3E4194B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2CCA62-8D2B-4BBB-B17A-D386FFA8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F8BFB0-330E-4F67-A688-CB0E8791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A9B-C6A5-42F8-88AD-505800A8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7C17C-984C-461B-AF59-FACAFB3A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DE7D35-316D-4167-9406-93708104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ABFFA7-3CFF-4B41-AD6B-6F7177AB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F0759C-584E-4932-82FC-182EDAE8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A9A907-2E5A-4D7A-AFE1-79C61346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B104FD-749E-4095-A5A8-F05FAD99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143D28-54BE-49BD-9015-4E1AB4FD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C2CB5D-BAEF-486D-9188-10AEBEE4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58A8F6-D50B-4460-A1F8-F26AA5E0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03463B-E314-4683-B85D-3DAA86AC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20604B-E31D-4C19-A069-3E7A561B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214A1-BB15-4709-BF79-451CAA55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6C02DE-D145-4EB7-BE2D-B621003D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D65005A-DF87-4152-9242-F165473C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97BB3F-C26B-4951-B34A-51ABEC01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88499E-A48A-4523-B721-F55950F4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413FD1-8CD6-468C-B2AB-D0C32272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27E4A7-5505-42B3-8A89-9BEB5838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3DCAB9-0F32-4CC3-80A9-89474567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6CB449-FEB2-4ACD-95C6-366F4485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C43EFE-E35A-4373-BFC5-30DE9B4B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45B527-F2FF-4641-B608-FBC80B07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0D98C-E8E0-40FD-8BFD-1CCD8818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87C63C-B578-409A-8F37-AA587D99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598798-9650-473F-B35C-AE5EA6A3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8940C8-8605-45FD-9672-1CBF9B6A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B2275A-8827-4922-83DE-99CE71B1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AA73E6-4441-4E14-8E85-0D6E51CC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49D1DE-E778-408E-B20B-65967146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1E7BF9-3162-4CE0-9EEC-5079CBF6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12236F-F8F1-469F-9D35-C5E31F2A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6071FA-A0B7-4516-BB00-433A86E3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E4C870-10C1-4A8F-BAFA-80AC8A7A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97AB-1202-4103-8B00-C7ED4BC8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6A38B4-273D-44D7-AA43-F7EAE401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1628C7-3BB2-439E-BA77-5E77BBB3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07BF32-38E4-449E-ADFD-FCD22ED5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8FC5721-0D5D-46FA-9223-F19B6992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4CE3A9-6029-4266-952E-C349B2A0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C82E13-636A-4AE4-9297-71DEC949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B5BAFD-B1BE-40F3-B7DD-1305AC86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8B714A-624E-4F7F-AD63-B50521EF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F7A9B5-90EC-44CC-A2B5-004AE591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6C1B98-AF4E-4312-B40D-4000DE56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71BFE-4530-46E0-A552-B266FFAA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9F41C4-E94F-4042-B757-7C9FF580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C52122-9A71-43FE-8199-7EDE2D3C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C0AEB34-6DE4-4ADB-83CD-9C10D790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9807F0-60FC-48EC-9A4C-BD2A0420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23D7F0-19CA-4BCA-9B9D-69771BEA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0C875DA-0C42-43D4-B02E-BA841BBB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0EECFA-5249-4D2D-B9CF-59A132FB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B04DE2-214D-4AD9-BC48-D8DE213D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768A57-4B29-491D-99B0-1082DA3A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67E5586-40F7-4151-AAA8-41D23B92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AAAF5-4F10-408F-AD2A-A68E5BF9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E2BD87A-02E7-4FAD-B592-6125462C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7DF300C-5EFE-4465-B6AB-F2C2CD5A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7A8C64A-E3DE-4A74-ADD4-5A088FD3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F85FE9F-8D2E-4252-9C60-FDF75A39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A1628A-A82B-406F-A566-D382E2FD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6119440-6654-4C6D-B622-C37A08A1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6A1B06-3C1B-4B29-B8E7-F4FF42DD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D7EA176-9749-4511-9DB8-39690565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C72851C-B62B-4852-AD69-83C2D40C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DE1864C-4566-49B8-B237-4E2BFE55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FBBF1-6D9B-4609-8C8B-870F8E0B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E1BD6A-00BC-4F21-A8F8-7CC625F0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6A48E74-D3EF-46CA-B618-0D92129D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04D053A-C63D-4672-A79C-EFA70E1B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622CA1-4A24-498C-9CE4-9ED3BAAE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BF2BC2C-9F28-4DCB-8453-C838C18B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E4759D-1B51-4E67-A096-B46D3F84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4E89EB2-2A70-41B7-A304-89A9A3B0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0C74C01-6950-47A9-AC41-98F11096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323899E-F7F6-4231-A8E9-B84FB7BA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074882E-F40F-49D9-BB7F-8CD3C590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2BF04-A7A2-4787-9999-9B569333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733EE6-B287-48EB-83E7-B3CE45D9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F45220E-5FCC-41D2-9F4F-7C09B3E6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3491ADE-D05F-4CD3-8539-53D3B262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E62D265-F84F-46E3-A33F-01E36D05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FB34FED-EE85-4FB5-879A-928D1F57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19A022E-F02D-400F-82AD-2ADFD976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6FF93B5-E385-4D85-A7F7-0DAD2E08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B5F9D50-C463-45C7-84B2-30BB33A4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BC77D52-39E2-4CF3-9CCD-A55B8689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2497210-C20B-48D5-A08C-721715DC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D1F13-FD10-42E2-B176-217DD009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EC09B69-5F3A-4357-8E1A-57CC35BF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6390C1-5D9D-46F2-B12F-049EC290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CF7A475-8456-4FA7-8062-7ECFD648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A7CAA7E-3435-4FB0-A31E-000BBB8B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397D6D-E592-431E-91B4-3AC357B8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CEC1D1B-2561-43C8-8FC3-F19521A9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D519880-4C43-41BC-B4BA-14B53F81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4C972A7-3F3C-46EC-9DEB-431000E1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3AE228-6C19-4570-A42A-52A831F5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3ADB7C-D905-4522-8C8B-6E023228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13749-36EA-453D-82AD-4EF86997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8B4B70A-CA1B-4F70-A4B7-5E0C559B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1ABEFBE-E25A-4E2E-B6C4-CA432A6C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5130250-67E8-4738-B913-09441D4D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7D58DBF-E8AD-4DC4-A26A-7EC0DF27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CD70E58-45E0-4E92-B66F-CCCD8352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FDE7A9C-EB06-49D7-A0D1-41EBF180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3C4C8D3-E7E7-4418-BED8-BA2FDD1D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C44EB97-1655-4450-A2BC-89085225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15AB43-E007-4115-AE08-008084F8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59102F-15B8-48C8-BA9C-4DE1F9E7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875-70A3-40D5-AB27-7EC614E9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A4B9C-7C8C-45C8-8D8E-2B034847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D597E9-3C95-4CB4-BADE-1864673B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D06D0B-BE2D-4D12-86AF-7D9103D8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2FB3BF7-B254-4643-8862-ABE2DBF3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1F5E82F-E6CB-4E82-A7AA-9A674B3D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8E9A0F7-9F1D-4740-ADD6-97F7F629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085CE7E-AF48-4A2C-BDA1-4FAA980B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2232E3A-4E04-47AF-818C-45066EF5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4811B02-197D-490F-842A-A98F121C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1840EB0-2D74-4C79-BBF2-4298BC39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A58FDF8-6FC8-4DC5-AF0E-88A12D47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958D1-05DE-489D-B7FB-F3896490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3F83936-38B1-453E-8E2B-C8DC4D95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F08BEBF-735A-4F97-A480-71B0A8C1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F19FD4C-B5F3-4C8F-B5F6-E4DE8804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716F46E-EDE7-4E4C-8A90-5A26D9C4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937F173-8DA1-4CB8-B698-125FC295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B32B07B-3687-4F38-960A-39331D66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59E6080-55E7-4EB3-BB0E-2D2E2145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20310B1-552A-47D0-ADBB-4BFCC46E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CD86421-D586-47EE-A3CA-650ACA2E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CFDB3C2-3DF6-423F-AE28-5F150B0B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32A08-D6BA-45CA-AFD4-44865051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F4ECC0A-3ADF-48B5-B4EA-F3025B74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CCDD8B7-D2B8-43F9-87C6-CAB5C00F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97A7A20-AECC-46F5-9F42-2A2DAFAF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3EC2171-5BD0-4415-9327-9D808447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EA80C15-4FFB-4B7C-8009-A5B5E325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E6DEBCB-08BF-414E-8DC3-D5561396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B2C12A3-D217-4BC3-B644-545341A2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E2A4BAE-5FCA-4822-9070-0DFCF197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C977C9-862C-4F87-9CD0-C92564C5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46CFDC5-CAA2-4E3A-A9DA-E5CCC532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9F02F-83D1-49C0-8FA9-B642AA35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62E66C0-1B50-41CE-B6A7-E24D76EE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533FAFD-57A1-4B47-8593-8DE3F981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5F34967-3874-4EEE-AD25-BAC69399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FBDF717-11B9-45AC-AF97-FE9806EF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13A183E-1F60-4BA0-AD97-BD95A07C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825E50D-1C10-4A2F-ADF7-43D3FB8D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81AEAD1-754D-47AB-B0EF-0C85136A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D777FE9-A385-49EE-8985-13AA9AF6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6FC7E11-7061-4D0D-8DEB-A7DD17A9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CAF6B3-AE58-4CDF-A015-7444A74E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1E7AE-7E49-4F82-96E4-E5577856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D769B42-CB00-4A47-9F10-CAEAA9F4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1C04513-2D82-44BA-939B-10B61718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606499B-7040-4EC5-9CF0-36E3F0AF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3E3D075-C996-421A-8E60-5D352A88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BA283B-9262-4D1B-9C6B-30F51BF2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BAD9421-33B7-4681-938D-82A0F78C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776C432-B573-4FC1-A953-DEEBD2CE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4C239FD-FFCF-4429-9089-0CCF960C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8C2F084-ACBA-48E5-88D7-2C1A37E8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C423502-1281-4929-BFC9-27A05548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DA21E-B528-42FB-9BE8-CBE6C56F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5C3C218-7E34-4A1B-AFE3-59A4ECB1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A0FE41D-7BAF-4E5E-8EA0-186730B4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CBFD6B4-7F6D-40AF-9B77-76C5F0B5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5DA42CE-C21B-47A6-8065-9C6162BC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3766A0C-0D69-4D3A-9608-A00F281A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D3983B0-35C5-45F3-A688-87CA91A3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6639533-0F75-48A0-9DDB-B52530A8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089E728-1C3B-4964-818E-34644685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15A30A5-EACB-44A2-8553-7D1A28E7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9E8FD81-5530-41F8-8A7D-A3E0A093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80EEC-0173-4F31-9B45-1C169FC5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0753053-3E76-42F1-A52B-9B27E1B7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AC44966-9CB7-494F-A2A6-944FC813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C4C57FA-BC04-4B2E-9D89-2D3A0049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E24FBB6-B023-4B32-8C99-312AEC1A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7F88660-0856-4F3C-95D7-D30D93BD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ED5CE42-A770-4563-9E62-F3510B11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4B6AB42-F52F-420C-8737-4572E85A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60458BD-B1A3-4D5F-87D8-2D36F31E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9F772A6-4820-4416-9654-7AF18C30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3DE9224-43E0-4970-9717-5C295C2C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426A0-B8E5-407A-86C2-88A6D9D4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0006932-38AF-44DE-85A7-AAFB3A07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A91A230-3A8B-4B27-9F1D-2B0BA399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BABD341-847C-4DF0-B850-38DFA01B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35657FA-761E-41F0-96A5-01D9F3B0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DE288B4-10EE-4B3D-B9C4-1B9E4912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0FD59F5-9B51-4A35-9542-55D03C38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870A9E-A2B6-4169-AF82-B8C372AA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38B497D-98A6-4F69-8C96-F0E541BB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C190095-57C1-41A9-8AF5-F55F91C0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9807FD0-5F7F-4E9C-9D2D-D42587B8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153B5-FD2C-46FC-A2F7-BB73CD1A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4F0FA70-FBB6-4635-85C1-7492B40D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2114DE0-4C2A-48EF-AD71-1946C3EF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BB9ABB3-367C-47D1-835F-1AEC5D0F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2BF7A8B-960E-40D5-985C-CFF316D9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CC8AC4D-B279-43B9-9E4F-88CFC7F9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88C666E-1A3B-442E-8DA4-48D2560B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CE52133-B2FE-461E-8B5B-C92F5A9B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03E867E-3C08-4CA0-92BC-3E58561D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E0F9396-7ADC-4149-9AAA-037EBC5F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5830547-71BC-4D6C-9C13-238225DF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52583-AAD3-43E4-BF95-E7DD620A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F257DF3-BE68-4C51-B1D8-20B223E2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C0700AC-C77A-47F0-8AB9-9AAE7F46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C6CA636-D660-4586-83F6-07A43F3D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2A32ABB-E2CF-471B-8AA1-F7F536AC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68457AE-F2E9-4B61-8E1D-C8167CCA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66D372E-CC1D-4E5F-B7EE-3FDD8F41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8C3E7AA-24BA-4E1D-B12C-1555757B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6DD48FE-6231-4942-9058-1C8A3113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FF8A333-E42F-4A72-912E-9138DF79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49B2973-153B-46F7-9284-53F4031A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534-7835-4926-8462-63A14116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06227-210E-45D9-905D-7B2A63E2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D834D44-15A4-4EC5-A9A1-0919829E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A79B2-BAB7-4AA3-865B-22E93039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46308-D0AC-44D1-B3EA-669C4C55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5F95B-B368-449A-AF39-6C8C3D69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194BC-9A95-449C-A34E-BC33B327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06C12-2B52-489F-A688-C35FFA5F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E9EC5-D6B9-44D3-9E10-33A104D8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3DA55-5BB5-4CFF-9D57-AE7B746B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C636F-8D7A-4473-8953-37A3571B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D08AE-444E-4C15-980E-02565B97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C2BE-A5CD-4337-A1BF-4BEAE2FD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EC079-C36E-4A7B-8C4A-9EC35369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7E439-D4CC-4C24-A6EF-01CFA0D3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773B2-CC6E-43AB-BFF1-AF594FD0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584BC-5614-4EF9-BBA9-EE008B45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30730-F5E1-4E1F-A4FA-AFA8334B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54DC5-3EDD-47CC-8BC5-7507FDCF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390CB-E32E-4691-9B24-9D58BF71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389F4-0DD9-45DD-9607-08873598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FE6A4-7B38-4194-B6BB-0221B2C1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F5700-76B1-448D-812A-A012EB98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A34-019A-4444-AFB0-63ABD802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03E06-E658-4BB0-8CBC-801CE125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CCFB9-87F2-43EC-BD35-28270091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B4170-515F-467B-A73E-C9D05FD9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A812C-BC13-41EC-A0BD-76E01F76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CE9E4-E627-40D1-A693-CBA5D721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E272F-6CA7-414D-92B1-774769B2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54B24-D48F-4F59-A0EA-04C24B35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B0ED7-A08C-43ED-BF84-0F5C6B09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039C9-0DE3-4873-94A9-98D8768D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C4224-CE9B-4FA8-9C7F-A635EE3A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903-846E-4E02-A0AA-D4F064EA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1E2F1-EB7D-4294-9A22-96E2FB9C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1E5B6-E201-4D13-ACCC-74245DC3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E90E5-906A-4286-9D9A-E0FE23EC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B6590-5C9D-4EB6-904F-066C8A8D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7DC59-705B-4458-A5C1-E4FCA32D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A51E5-9219-4264-A98E-A1599E2D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C2FC3-B87B-4694-BA40-EED3C435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1D622-0DFE-4D40-BD6F-33A05FBE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AAA02-802D-44E5-92A2-1A30F6E3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B7186-3FEE-46A5-8BF5-BFC5DD5A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2DE86B-EC83-4AFD-9C9B-B72283BA716B}" type="slidenum">
              <a:rPr b="0" lang="en-US" sz="3600" spc="-1" strike="noStrike">
                <a:solidFill>
                  <a:srgbClr val="ffffff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B92D1-64B0-4FB1-8495-DA90C4E68AA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53471-841C-465F-84B0-AE683B5E7FC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2A7A5-EE01-49EC-8712-E769950A601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DFF23-D04B-4E41-A71C-5E36E0F5B7A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74FD0-E1C9-4032-860D-550B9668856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79E0A-C1F6-4AA5-8588-4232DCF9686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BCD76-7C8B-4764-B594-1D1BB133BC0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5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5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6EF43-FB85-4CD3-B449-0AA4CF78BBD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5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5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5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78B09-E9E0-4AED-A649-9B719B82E0C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D45D3-2E38-4EAB-ADB9-9598DFDE6F4C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6348-A125-4C8A-817A-A1F5D3E6645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81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5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9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6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4E8DD-8076-428E-AFE6-305B06F00B1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6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6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0769A-F3BD-46E9-AD6C-C6BBF779CD4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6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DF958-D875-4EF1-B4A4-D905F18F419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5CC77-7727-459A-8B81-D330B1945D7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7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7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7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6B852-528E-476A-84F1-9270F05F28A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7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7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E24AB-6B8B-491A-9377-0AFCB311170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7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A0FAA-E6E4-47EB-8E44-F0080725DA4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7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9A10D-70F3-4CBE-A50B-77DE127E9D5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F55A0-CEF5-478D-A58F-849B5E60F15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 type="dt" idx="8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 type="ftr" idx="8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 type="sldNum" idx="8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E1998-B088-4F82-81B4-F819A5C4760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B74E-C6E6-41C2-B468-0C955F9FAD7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dt" idx="8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 type="ftr" idx="8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 type="sldNum" idx="9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71E56-EA5B-4348-A616-EF531B76652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28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1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 type="dt" idx="9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 type="ftr" idx="9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 type="sldNum" idx="9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24325-1887-4FCE-A4C9-14DB5327AC2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9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ftr" idx="9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sldNum" idx="9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80301-8DDB-4050-BDD6-AA07E8F7AC7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dt" idx="9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 type="ftr" idx="9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 type="sldNum" idx="9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2B106-F2E1-4A25-AA9D-C098B231DD8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 type="dt" idx="10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 type="ftr" idx="10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 type="sldNum" idx="10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143C2-554D-45F7-8B33-87A30BF16DD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dt" idx="10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ftr" idx="10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 type="sldNum" idx="10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741D2-BE0F-4B75-945E-EA9A033C7BC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10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10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10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772CD-D003-4F9E-80D5-34953FEEEC5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dt" idx="10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ftr" idx="110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 type="sldNum" idx="11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8648B-BA22-460B-B497-917F34AAD6A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 type="dt" idx="1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 type="ftr" idx="11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 type="sldNum" idx="11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BEA76-FADC-4F34-9C3F-09B2ACE85F1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 type="dt" idx="11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 type="ftr" idx="11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 type="sldNum" idx="11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55316-197C-4FC9-93AB-6C8FB7E622D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0D93-6C6C-4A61-A1BE-23716B5240B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dt" idx="11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 type="ftr" idx="11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 type="sldNum" idx="12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CED3C-EB5E-411D-8A03-FDAE85A49D7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 type="dt" idx="1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 type="ftr" idx="12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 type="sldNum" idx="12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51776-E39C-4077-AE06-A43DE70A39B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748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0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 type="dt" idx="12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 type="ftr" idx="125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 type="sldNum" idx="12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1048A-624F-4400-B93C-383AFD2B347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 type="dt" idx="12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 type="ftr" idx="12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 type="sldNum" idx="12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6D7DB-93FD-4C2E-B4A2-28029DDB23A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 type="dt" idx="13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 type="ftr" idx="13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 type="sldNum" idx="13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DF6DD-6C0A-44B9-8730-D20AEAE5487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dt" idx="13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 type="ftr" idx="13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 type="sldNum" idx="13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A01C1-8345-49A0-B94F-1AD4264A4FC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 type="dt" idx="13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 type="ftr" idx="13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 type="sldNum" idx="13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5C11F-EF64-49B4-9B6E-21E472F10E9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 type="dt" idx="13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 type="ftr" idx="14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 type="sldNum" idx="14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321B6-DEE5-458A-8D12-11782F872B7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 type="dt" idx="14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 type="ftr" idx="143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 type="sldNum" idx="14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2ED47-CB4A-4D06-88EC-0B06BE04CF5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 type="dt" idx="14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 type="ftr" idx="14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5"/>
          <p:cNvSpPr>
            <a:spLocks noGrp="1"/>
          </p:cNvSpPr>
          <p:nvPr>
            <p:ph type="sldNum" idx="14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15A20-9157-4D5D-9C55-6BC3FD13CCA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98C9-5E89-49AF-A487-BEAAF1A75B6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 type="dt" idx="14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 type="ftr" idx="14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5"/>
          <p:cNvSpPr>
            <a:spLocks noGrp="1"/>
          </p:cNvSpPr>
          <p:nvPr>
            <p:ph type="sldNum" idx="15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73821-5081-4DBA-B095-DC06841369D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050BC-3F30-49D8-A2F0-74B55F176B93}" type="slidenum">
              <a:rPr b="0" lang="en-US" sz="3600" spc="-1" strike="noStrike">
                <a:solidFill>
                  <a:srgbClr val="ffffff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D2470-043A-4B2D-A663-5512714FE3C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5475E-9BBD-4BB1-952B-EAB14C18DE8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344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23566-54E5-4A79-B629-46A226BDFBB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868320" y="1573200"/>
            <a:ext cx="7367760" cy="22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27c4"/>
                </a:solidFill>
                <a:latin typeface="Cambria"/>
              </a:rPr>
              <a:t>Gluconeogenesis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28" name="TextBox 3"/>
          <p:cNvSpPr/>
          <p:nvPr/>
        </p:nvSpPr>
        <p:spPr>
          <a:xfrm>
            <a:off x="2595600" y="5089680"/>
            <a:ext cx="39034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84b5b"/>
                </a:solidFill>
                <a:latin typeface="Cambria"/>
              </a:rPr>
              <a:t>Dr. Sooad Al-Dai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84b5b"/>
                </a:solidFill>
                <a:latin typeface="Cambria"/>
              </a:rPr>
              <a:t>Biochemistry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9" name="Picture 4" descr="BioLogo2small"/>
          <p:cNvPicPr/>
          <p:nvPr/>
        </p:nvPicPr>
        <p:blipFill>
          <a:blip r:embed="rId1"/>
          <a:stretch/>
        </p:blipFill>
        <p:spPr>
          <a:xfrm>
            <a:off x="7245360" y="0"/>
            <a:ext cx="179532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25160" y="241200"/>
            <a:ext cx="804204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  <a:ea typeface="ＭＳ Ｐゴシック"/>
              </a:rPr>
              <a:t>Precursors  for Gluconeogenesi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-360" y="1141200"/>
            <a:ext cx="528156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e169e"/>
                </a:solidFill>
                <a:uFillTx/>
                <a:latin typeface="Times New Roman"/>
                <a:ea typeface="ＭＳ Ｐゴシック"/>
              </a:rPr>
              <a:t>i- Cori Cycl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ctate released by active skeletal muscle or red blood cells is carried to the liver where it is converted to glucose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uconeogenic pathwa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Cori cycle) and released for reuptake by skeletal muscle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e169e"/>
                </a:solidFill>
                <a:uFillTx/>
                <a:latin typeface="Times New Roman"/>
                <a:ea typeface="ＭＳ Ｐゴシック"/>
              </a:rPr>
              <a:t>ii- Glucose-Alanine Cycl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tein broken down in skeletal muscle during exercise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mino acids converted to alanine and released by skeletal muscle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ken up by liver and converted to glucose and released for reuptake by skeletal muscle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149" name="Picture 2" descr="Screen Shot 2012-03-13 at 8.28.54 PM.png"/>
          <p:cNvPicPr/>
          <p:nvPr/>
        </p:nvPicPr>
        <p:blipFill>
          <a:blip r:embed="rId1"/>
          <a:stretch/>
        </p:blipFill>
        <p:spPr>
          <a:xfrm>
            <a:off x="5567400" y="1268280"/>
            <a:ext cx="3281400" cy="200196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2150" name="Picture 4" descr="Screen Shot 2012-03-13 at 8.29.21 PM.png"/>
          <p:cNvPicPr/>
          <p:nvPr/>
        </p:nvPicPr>
        <p:blipFill>
          <a:blip r:embed="rId2"/>
          <a:stretch/>
        </p:blipFill>
        <p:spPr>
          <a:xfrm>
            <a:off x="5567400" y="3767040"/>
            <a:ext cx="3281400" cy="234000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"/>
          <p:cNvSpPr txBox="1"/>
          <p:nvPr/>
        </p:nvSpPr>
        <p:spPr>
          <a:xfrm>
            <a:off x="220320" y="574200"/>
            <a:ext cx="84675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e169e"/>
                </a:solidFill>
                <a:uFillTx/>
                <a:latin typeface="Times New Roman"/>
                <a:ea typeface="Times New Roman"/>
              </a:rPr>
              <a:t>iii- Glycero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ol released from adipocytes and skeletal muscle during lipolysi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ol enters gluconeogenic pathway as dihydroxyacetone phosphate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form of glycero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glycerol required to make one glucose in liver and kidney in fasting or low CHO diet 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ol cannot be utilized in adipose tissue due to the lack of glycerol kinase in the adipose tissue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152" name="Picture 2" descr="Screen Shot 2012-03-13 at 8.33.29 PM.png"/>
          <p:cNvPicPr/>
          <p:nvPr/>
        </p:nvPicPr>
        <p:blipFill>
          <a:blip r:embed="rId1"/>
          <a:stretch/>
        </p:blipFill>
        <p:spPr>
          <a:xfrm>
            <a:off x="939960" y="4329000"/>
            <a:ext cx="7392960" cy="2411640"/>
          </a:xfrm>
          <a:prstGeom prst="rect">
            <a:avLst/>
          </a:prstGeom>
          <a:ln w="19080">
            <a:solidFill>
              <a:srgbClr val="6fb7d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"/>
          <p:cNvSpPr txBox="1"/>
          <p:nvPr/>
        </p:nvSpPr>
        <p:spPr>
          <a:xfrm>
            <a:off x="284040" y="678960"/>
            <a:ext cx="838512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e169e"/>
                </a:solidFill>
                <a:uFillTx/>
                <a:latin typeface="Times New Roman"/>
                <a:ea typeface="ＭＳ Ｐゴシック"/>
              </a:rPr>
              <a:t>iv- Propionat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ionyl‐CoA is converted to the TCA intermediat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ccinylCoA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conversion is carried out by the ATP‐requiring enzyme, propionyl‐CoA carboxylase then methylmalonyl‐CoA epimerase and finally the vitamin B12 requiring enzyme, methylmalonyl‐CoA mutase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utilization of propionate in gluconeogenesis only has quantitative significance in ruminants.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154" name="Picture 2" descr="Screen Shot 2012-03-13 at 8.39.27 PM.png"/>
          <p:cNvPicPr/>
          <p:nvPr/>
        </p:nvPicPr>
        <p:blipFill>
          <a:blip r:embed="rId1"/>
          <a:stretch/>
        </p:blipFill>
        <p:spPr>
          <a:xfrm>
            <a:off x="284040" y="4302000"/>
            <a:ext cx="8537760" cy="228132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96920" y="-111600"/>
            <a:ext cx="839448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Regulation of Gluconeogenesi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56" name=""/>
          <p:cNvSpPr txBox="1"/>
          <p:nvPr/>
        </p:nvSpPr>
        <p:spPr>
          <a:xfrm>
            <a:off x="342720" y="1536840"/>
            <a:ext cx="859284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rol of glycolysis and gluconeogenesis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ciprocal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uconeogenesis and Glycolysis are regulated by similar effector molecul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t in the opposite direction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one pathway is activated , the other is inhibited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uconeogenesis is subject to both: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ec46c1"/>
                </a:solidFill>
                <a:latin typeface="Times New Roman"/>
                <a:ea typeface="ＭＳ Ｐゴシック"/>
              </a:rPr>
              <a:t>- </a:t>
            </a:r>
            <a:r>
              <a:rPr b="0" lang="en-US" sz="2400" spc="-1" strike="noStrike">
                <a:solidFill>
                  <a:srgbClr val="ec46c1"/>
                </a:solidFill>
                <a:latin typeface="Times New Roman"/>
                <a:ea typeface="ＭＳ Ｐゴシック"/>
              </a:rPr>
              <a:t>Hormonal control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 Glucagon, Cortisol, Adrenaline and  Insulin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46c1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ec46c1"/>
                </a:solidFill>
                <a:latin typeface="Times New Roman"/>
                <a:ea typeface="ＭＳ Ｐゴシック"/>
              </a:rPr>
              <a:t>- Allosteric regul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f gluconeogenic enzym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60200" y="272880"/>
            <a:ext cx="8042400" cy="5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Hormonal Regulation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160200" y="1197000"/>
            <a:ext cx="4716720" cy="33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e169e"/>
                </a:solidFill>
                <a:uFillTx/>
                <a:latin typeface="Times New Roman"/>
                <a:ea typeface="ＭＳ Ｐゴシック"/>
              </a:rPr>
              <a:t>Glucagon, Cortisol, Adrenalin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e secreted during fasting, stress and sever muscular exercis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Induce</a:t>
            </a:r>
            <a:r>
              <a:rPr b="1" lang="en-US" sz="18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uconeogenic enzymes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Repres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ycolytic enzymes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e169e"/>
                </a:solidFill>
                <a:uFillTx/>
                <a:latin typeface="Times New Roman"/>
                <a:ea typeface="ＭＳ Ｐゴシック"/>
              </a:rPr>
              <a:t>Insuli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creted after CHO meal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Induce</a:t>
            </a:r>
            <a:r>
              <a:rPr b="1" lang="en-US" sz="18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ycolytic enzymes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Repres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uconeogenic enzymes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159" name="Picture 3" descr="Screen Shot 2012-03-13 at 8.52.18 PM.png"/>
          <p:cNvPicPr/>
          <p:nvPr/>
        </p:nvPicPr>
        <p:blipFill>
          <a:blip r:embed="rId1"/>
          <a:stretch/>
        </p:blipFill>
        <p:spPr>
          <a:xfrm>
            <a:off x="6276960" y="1058760"/>
            <a:ext cx="2550960" cy="338796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2160" name="Picture 2" descr="http://gettingstronger.org/wp-content/uploads/2010/02/pancreas1.gif"/>
          <p:cNvPicPr/>
          <p:nvPr/>
        </p:nvPicPr>
        <p:blipFill>
          <a:blip r:embed="rId2"/>
          <a:stretch/>
        </p:blipFill>
        <p:spPr>
          <a:xfrm>
            <a:off x="3724200" y="3206880"/>
            <a:ext cx="2305080" cy="34653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549000" y="277560"/>
            <a:ext cx="8042040" cy="6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mbria"/>
              </a:rPr>
              <a:t>Allosteric regulation 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162" name="Picture 5" descr="Screen Shot 2012-03-13 at 8.50.23 PM.png"/>
          <p:cNvPicPr/>
          <p:nvPr/>
        </p:nvPicPr>
        <p:blipFill>
          <a:blip r:embed="rId1"/>
          <a:stretch/>
        </p:blipFill>
        <p:spPr>
          <a:xfrm>
            <a:off x="1511280" y="1106640"/>
            <a:ext cx="6143760" cy="5060880"/>
          </a:xfrm>
          <a:prstGeom prst="rect">
            <a:avLst/>
          </a:prstGeom>
          <a:ln w="9360">
            <a:solidFill>
              <a:srgbClr val="18579b"/>
            </a:solidFill>
            <a:miter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Uronic Acid Pathw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4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ＭＳ Ｐゴシック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ＭＳ Ｐゴシック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5" name="Picture 2" descr="BioLogo2small"/>
          <p:cNvPicPr/>
          <p:nvPr/>
        </p:nvPicPr>
        <p:blipFill>
          <a:blip r:embed="rId1"/>
          <a:stretch/>
        </p:blipFill>
        <p:spPr>
          <a:xfrm>
            <a:off x="6934320" y="1764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Overview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304920" y="18284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t is an alternative oxidative pathway for glucose that doesn’t lead to ATP generation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t includes oxidation of glucose to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 algn="just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ucuronic aci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 algn="just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scorbic aci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t occurs mainly in the liver cytoplasm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8" name="Picture 1" descr="Screen Shot 2012-03-18 at 7.39.19 PM.png"/>
          <p:cNvPicPr/>
          <p:nvPr/>
        </p:nvPicPr>
        <p:blipFill>
          <a:blip r:embed="rId1"/>
          <a:stretch/>
        </p:blipFill>
        <p:spPr>
          <a:xfrm>
            <a:off x="304920" y="4038480"/>
            <a:ext cx="8534160" cy="1911600"/>
          </a:xfrm>
          <a:prstGeom prst="rect">
            <a:avLst/>
          </a:prstGeom>
          <a:ln w="28440">
            <a:solidFill>
              <a:srgbClr val="d34817"/>
            </a:solidFill>
            <a:miter/>
          </a:ln>
        </p:spPr>
      </p:pic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Cambria"/>
              </a:rPr>
              <a:t>Metabolic reaction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304920" y="106668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 rtl="1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lucose 6-phosphate is isomerized to glucose 1-phosph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5880" indent="-335880" algn="just" rtl="1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lucose 1-phosphate reacts with uridine triphosphate (UTP) to form uridine diphosphate glucose (UDPGlc) in a reaction catalyzed by UDPGlc pyrophosphorylas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5880" indent="-335880" algn="just" rtl="1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DPGlc is oxidized at carbon 6 by NAD-dependent UDPGlc dehydrogenase in a two-step reaction to yield UDP-glucuronat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5880" indent="-335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1" name="TextBox 3"/>
          <p:cNvSpPr/>
          <p:nvPr/>
        </p:nvSpPr>
        <p:spPr>
          <a:xfrm>
            <a:off x="28195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TextBox 6"/>
          <p:cNvSpPr/>
          <p:nvPr/>
        </p:nvSpPr>
        <p:spPr>
          <a:xfrm>
            <a:off x="502920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TextBox 7"/>
          <p:cNvSpPr/>
          <p:nvPr/>
        </p:nvSpPr>
        <p:spPr>
          <a:xfrm>
            <a:off x="601992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Perpetua"/>
              </a:rPr>
              <a:t>UDP Glucuronic acid (active form) is needed in</a:t>
            </a:r>
            <a:r>
              <a:rPr b="1" lang="en-US" sz="3200" spc="-1" strike="noStrike">
                <a:solidFill>
                  <a:srgbClr val="0000ff"/>
                </a:solidFill>
                <a:latin typeface="Perpetua"/>
              </a:rPr>
              <a:t>: </a:t>
            </a:r>
            <a:br>
              <a:rPr sz="44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Conjugation to less polar compounds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bilirubin, steroids and some drugs making them more water soluble (detoxicated)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Synthesis of glycosaminoglycans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(mucopolysaccharide) as heparin, hyaluronic aci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plants and some animals (not Human) glucuronic acid serves as a </a:t>
            </a: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precursor of L-ascorbic acid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uronic acid pathway also provides a mechanism by which dietary </a:t>
            </a: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D-xylulos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ter the central pathwa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47840" y="667800"/>
            <a:ext cx="7975440" cy="39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27c4"/>
                </a:solidFill>
                <a:latin typeface="Cambria"/>
                <a:ea typeface="ＭＳ Ｐゴシック"/>
              </a:rPr>
              <a:t>Introduction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31" name=""/>
          <p:cNvSpPr txBox="1"/>
          <p:nvPr/>
        </p:nvSpPr>
        <p:spPr>
          <a:xfrm>
            <a:off x="380880" y="1054080"/>
            <a:ext cx="804240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2" name="Content Placeholder 1"/>
          <p:cNvSpPr/>
          <p:nvPr/>
        </p:nvSpPr>
        <p:spPr>
          <a:xfrm>
            <a:off x="380880" y="1434960"/>
            <a:ext cx="80424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tissues, such as the brain, and red blood cells require a continuous supply of glucose as a metabolic fu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a prolonged fast, hepatic glycogen stores are depleted, and glucose is formed from precursors such as </a:t>
            </a:r>
            <a:r>
              <a:rPr b="0" lang="en-US" sz="28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lactate</a:t>
            </a:r>
            <a:r>
              <a:rPr b="0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pyruvate</a:t>
            </a:r>
            <a:r>
              <a:rPr b="0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glycerol</a:t>
            </a:r>
            <a:r>
              <a:rPr b="0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α-ketoacids</a:t>
            </a:r>
            <a:r>
              <a:rPr b="0" lang="en-US" sz="28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 special pathway, </a:t>
            </a:r>
            <a:r>
              <a:rPr b="0" lang="en-US" sz="2800" spc="-1" strike="noStrike">
                <a:solidFill>
                  <a:srgbClr val="339f15"/>
                </a:solidFill>
                <a:latin typeface="Times New Roman"/>
                <a:ea typeface="Times New Roman"/>
              </a:rPr>
              <a:t>gluconeogenesis</a:t>
            </a:r>
            <a:r>
              <a:rPr b="0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requires both mitochondrial and cytosolic enzy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3" name="Picture 2" descr="http://www.diapedia.org/img_cache/markdown_thumbnail_1949d70233a0f27ca8d1afd11af1226dbf6e14f3-ad0c7.jpg"/>
          <p:cNvPicPr/>
          <p:nvPr/>
        </p:nvPicPr>
        <p:blipFill>
          <a:blip r:embed="rId1"/>
          <a:stretch/>
        </p:blipFill>
        <p:spPr>
          <a:xfrm>
            <a:off x="409680" y="1689120"/>
            <a:ext cx="3676680" cy="2763720"/>
          </a:xfrm>
          <a:prstGeom prst="rect">
            <a:avLst/>
          </a:prstGeom>
          <a:ln w="9360">
            <a:solidFill>
              <a:srgbClr val="18579b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34" name="Picture 4" descr="http://www.diapedia.org/img_cache/markdown_thumbnail_a330589ea526d3278b435fc2b7429fb351a7d157-6e793.jpg"/>
          <p:cNvPicPr/>
          <p:nvPr/>
        </p:nvPicPr>
        <p:blipFill>
          <a:blip r:embed="rId2"/>
          <a:stretch/>
        </p:blipFill>
        <p:spPr>
          <a:xfrm>
            <a:off x="5124600" y="1689120"/>
            <a:ext cx="3657600" cy="2749680"/>
          </a:xfrm>
          <a:prstGeom prst="rect">
            <a:avLst/>
          </a:prstGeom>
          <a:ln w="9360">
            <a:solidFill>
              <a:srgbClr val="18579b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2135" name="Straight Arrow Connector 7"/>
          <p:cNvCxnSpPr/>
          <p:nvPr/>
        </p:nvCxnSpPr>
        <p:spPr>
          <a:xfrm flipV="1">
            <a:off x="4086360" y="2956680"/>
            <a:ext cx="1038600" cy="1080"/>
          </a:xfrm>
          <a:prstGeom prst="straightConnector1">
            <a:avLst/>
          </a:prstGeom>
          <a:ln w="5724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 txBox="1"/>
          <p:nvPr/>
        </p:nvSpPr>
        <p:spPr>
          <a:xfrm>
            <a:off x="0" y="1060200"/>
            <a:ext cx="5254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7080" indent="-307080" algn="just">
              <a:lnSpc>
                <a:spcPct val="95000"/>
              </a:lnSpc>
              <a:spcAft>
                <a:spcPts val="1100"/>
              </a:spcAft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Gluconeogenesis</a:t>
            </a:r>
            <a:r>
              <a:rPr b="0" lang="en-US" sz="22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mainly in </a:t>
            </a:r>
            <a:r>
              <a:rPr b="0" lang="en-US" sz="2200" spc="-1" strike="noStrike">
                <a:solidFill>
                  <a:srgbClr val="339f15"/>
                </a:solidFill>
                <a:latin typeface="Times New Roman"/>
                <a:ea typeface="Times New Roman"/>
              </a:rPr>
              <a:t>liver</a:t>
            </a:r>
            <a:r>
              <a:rPr b="0" lang="en-US" sz="22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07080" indent="-307080" algn="just">
              <a:lnSpc>
                <a:spcPct val="95000"/>
              </a:lnSpc>
              <a:spcAft>
                <a:spcPts val="1100"/>
              </a:spcAft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lso occurs to a more limited extent in  kidney &amp; small intestine under some conditions. 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07080" indent="-307080" algn="just">
              <a:lnSpc>
                <a:spcPct val="95000"/>
              </a:lnSpc>
              <a:spcAft>
                <a:spcPts val="1100"/>
              </a:spcAft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s of glucose from pyruvate utilizes many of the same enzymes as </a:t>
            </a:r>
            <a:r>
              <a:rPr b="0" lang="en-US" sz="22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Glycolysis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07080" indent="-307080" algn="just">
              <a:lnSpc>
                <a:spcPct val="95000"/>
              </a:lnSpc>
              <a:spcAft>
                <a:spcPts val="414"/>
              </a:spcAft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most reverse of glycolysis </a:t>
            </a:r>
            <a:r>
              <a:rPr b="0" lang="en-US" sz="22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except</a:t>
            </a:r>
            <a:r>
              <a:rPr b="0" lang="en-US" sz="22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3 reactions ,which are essentially </a:t>
            </a:r>
            <a:r>
              <a:rPr b="0" lang="en-US" sz="22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irreversible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650880" indent="-301680" algn="just">
              <a:lnSpc>
                <a:spcPct val="95000"/>
              </a:lnSpc>
              <a:spcAft>
                <a:spcPts val="414"/>
              </a:spcAft>
              <a:buClr>
                <a:srgbClr val="660066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Hexokinase (or Glucokinase)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650880" indent="-301680" algn="just">
              <a:lnSpc>
                <a:spcPct val="95000"/>
              </a:lnSpc>
              <a:spcAft>
                <a:spcPts val="414"/>
              </a:spcAft>
              <a:buClr>
                <a:srgbClr val="660066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Phosphofructokinas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650880" indent="-301680" algn="just">
              <a:lnSpc>
                <a:spcPct val="95000"/>
              </a:lnSpc>
              <a:spcAft>
                <a:spcPts val="1100"/>
              </a:spcAft>
              <a:buClr>
                <a:srgbClr val="660066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Pyruvate Kinase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07080" indent="-307080" algn="just">
              <a:lnSpc>
                <a:spcPct val="95000"/>
              </a:lnSpc>
              <a:spcAft>
                <a:spcPts val="550"/>
              </a:spcAft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steps must be bypassed in Gluconeogenesi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07080" indent="-307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137" name="Picture 5" descr="Screen Shot 2012-03-13 at 6.46.54 PM.png"/>
          <p:cNvPicPr/>
          <p:nvPr/>
        </p:nvPicPr>
        <p:blipFill>
          <a:blip r:embed="rId1"/>
          <a:stretch/>
        </p:blipFill>
        <p:spPr>
          <a:xfrm>
            <a:off x="5372280" y="927000"/>
            <a:ext cx="3670200" cy="5753160"/>
          </a:xfrm>
          <a:prstGeom prst="rect">
            <a:avLst/>
          </a:prstGeom>
          <a:ln w="38160">
            <a:solidFill>
              <a:srgbClr val="5711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 txBox="1"/>
          <p:nvPr/>
        </p:nvSpPr>
        <p:spPr>
          <a:xfrm>
            <a:off x="396360" y="1142640"/>
            <a:ext cx="834084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Four enzymes are needed to reverse the 3 irreversible steps of glycolysi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Mitochondrial </a:t>
            </a:r>
            <a:r>
              <a:rPr b="0" lang="en-US" sz="24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uvate Carboxylase (liver, kidne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uscle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Cytoplasmic </a:t>
            </a:r>
            <a:r>
              <a:rPr b="0" lang="en-US" sz="24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oenolpyruvate (PEP) Carboxykinas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Cytoplasmic </a:t>
            </a:r>
            <a:r>
              <a:rPr b="0" lang="en-US" sz="24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uctose‐1,6,‐Bisphosphata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Cytoplasmic </a:t>
            </a:r>
            <a:r>
              <a:rPr b="0" lang="en-US" sz="24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e 6‐Phosphatas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231480" y="213840"/>
            <a:ext cx="804204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1-Bypass of Pyruvate Kinase: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231840" y="1108080"/>
            <a:ext cx="86788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gluconeogenesis PK is bypassed by 2 enzyme catalyzed reactions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ec46c1"/>
                </a:solidFill>
                <a:uFillTx/>
                <a:latin typeface="Times New Roman"/>
                <a:ea typeface="ＭＳ Ｐゴシック"/>
              </a:rPr>
              <a:t>1- Pyruvate Carboxylase</a:t>
            </a:r>
            <a:r>
              <a:rPr b="0" lang="en-US" sz="2200" spc="-1" strike="noStrike" u="sng">
                <a:solidFill>
                  <a:srgbClr val="ec46c1"/>
                </a:solidFill>
                <a:uFillTx/>
                <a:latin typeface="Times New Roman"/>
                <a:ea typeface="ＭＳ Ｐゴシック"/>
              </a:rPr>
              <a:t> 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yruvate is carboxylated to oxaloacetate in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tochondria 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pyruvate + HCO</a:t>
            </a:r>
            <a:r>
              <a:rPr b="1" lang="en-US" sz="2200" spc="-1" strike="noStrike" baseline="-30000">
                <a:solidFill>
                  <a:srgbClr val="000080"/>
                </a:solidFill>
                <a:latin typeface="Times New Roman"/>
                <a:ea typeface="ＭＳ Ｐゴシック"/>
              </a:rPr>
              <a:t>3</a:t>
            </a:r>
            <a:r>
              <a:rPr b="1" lang="en-US" sz="2200" spc="-1" strike="noStrike" baseline="30000">
                <a:solidFill>
                  <a:srgbClr val="000080"/>
                </a:solidFill>
                <a:latin typeface="Times New Roman"/>
                <a:ea typeface="ＭＳ Ｐゴシック"/>
              </a:rPr>
              <a:t>-</a:t>
            </a:r>
            <a:r>
              <a:rPr b="1" lang="en-US" sz="22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 + ATP 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 oxaloacetate + ADP + P</a:t>
            </a:r>
            <a:r>
              <a:rPr b="1" lang="en-US" sz="2200" spc="-1" strike="noStrike" baseline="-30000">
                <a:solidFill>
                  <a:srgbClr val="000080"/>
                </a:solidFill>
                <a:latin typeface="Times New Roman"/>
                <a:ea typeface="ＭＳ Ｐゴシック"/>
              </a:rPr>
              <a:t>i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ec46c1"/>
                </a:solidFill>
                <a:uFillTx/>
                <a:latin typeface="Times New Roman"/>
                <a:ea typeface="ＭＳ Ｐゴシック"/>
              </a:rPr>
              <a:t>2- PEP Carboxykinase</a:t>
            </a:r>
            <a:r>
              <a:rPr b="0" lang="en-US" sz="2200" spc="-1" strike="noStrike" u="sng">
                <a:solidFill>
                  <a:srgbClr val="ec46c1"/>
                </a:solidFill>
                <a:uFillTx/>
                <a:latin typeface="Times New Roman"/>
                <a:ea typeface="ＭＳ Ｐゴシック"/>
              </a:rPr>
              <a:t> 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xaloacetate is decarboxylated and phosphorylated to yield PEP in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ytosol 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oxaloacetate + GTP 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 PEP + GDP + CO</a:t>
            </a:r>
            <a:r>
              <a:rPr b="1" lang="en-US" sz="2200" spc="-1" strike="noStrike" baseline="-30000">
                <a:solidFill>
                  <a:srgbClr val="000080"/>
                </a:solidFill>
                <a:latin typeface="Times New Roman"/>
                <a:ea typeface="ＭＳ Ｐゴシック"/>
              </a:rPr>
              <a:t>2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Aft>
                <a:spcPts val="1400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220680" y="-393840"/>
            <a:ext cx="8764560" cy="109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mbria"/>
              </a:rPr>
              <a:t>Transport of oxaloacetate to the cytosol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142" name="Content Placeholder 1" descr="Screen Shot 2012-03-13 at 7.36.33 PM.png"/>
          <p:cNvPicPr/>
          <p:nvPr/>
        </p:nvPicPr>
        <p:blipFill>
          <a:blip r:embed="rId1"/>
          <a:srcRect l="0" t="-11782" r="0" b="-11782"/>
          <a:stretch/>
        </p:blipFill>
        <p:spPr>
          <a:xfrm>
            <a:off x="824040" y="1020600"/>
            <a:ext cx="7286400" cy="5086440"/>
          </a:xfrm>
          <a:prstGeom prst="rect">
            <a:avLst/>
          </a:prstGeom>
          <a:ln w="9360">
            <a:solidFill>
              <a:srgbClr val="1b374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"/>
          <p:cNvSpPr txBox="1"/>
          <p:nvPr/>
        </p:nvSpPr>
        <p:spPr>
          <a:xfrm>
            <a:off x="242640" y="147600"/>
            <a:ext cx="8699400" cy="60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  <a:ea typeface="ＭＳ Ｐゴシック"/>
              </a:rPr>
              <a:t>2- Bypass of </a:t>
            </a:r>
            <a:r>
              <a:rPr b="0" lang="es-ES_tradnl" sz="2800" spc="-1" strike="noStrike">
                <a:solidFill>
                  <a:srgbClr val="0000ff"/>
                </a:solidFill>
                <a:latin typeface="Cambria"/>
                <a:ea typeface="ＭＳ Ｐゴシック"/>
              </a:rPr>
              <a:t>Phosphofructokinase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  <a:ea typeface="ＭＳ Ｐゴシック"/>
              </a:rPr>
              <a:t>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gluconeogenes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FK bypassed by </a:t>
            </a:r>
            <a:r>
              <a:rPr b="1" lang="en-US" sz="2000" spc="-1" strike="noStrike" u="sng">
                <a:solidFill>
                  <a:srgbClr val="000090"/>
                </a:solidFill>
                <a:uFillTx/>
                <a:latin typeface="Times New Roman"/>
                <a:ea typeface="ＭＳ Ｐゴシック"/>
              </a:rPr>
              <a:t>Fructose 1,6 ‐ bisphosphata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action (Removes phosphate group)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uctose‐1,6‐bisP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uctose‐6‐P + Pi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  <a:ea typeface="ＭＳ Ｐゴシック"/>
              </a:rPr>
              <a:t>3- Bypass of  Hexokinase (or Glucokinase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gluconeogenes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reaction bypassed by </a:t>
            </a:r>
            <a:r>
              <a:rPr b="1" lang="en-US" sz="2000" spc="-1" strike="noStrike" u="sng">
                <a:solidFill>
                  <a:srgbClr val="000090"/>
                </a:solidFill>
                <a:uFillTx/>
                <a:latin typeface="Times New Roman"/>
                <a:ea typeface="ＭＳ Ｐゴシック"/>
              </a:rPr>
              <a:t>glucose 6‐phosphata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action (Removes phosphate group) :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ucose-6‐P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ucose+ Pi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e glucose is formed by the action of glucose‐6‐ phosphatase in liver and kidney while it is absent in muscles and adipose tissues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e169e"/>
                </a:solidFill>
                <a:latin typeface="Times New Roman"/>
                <a:ea typeface="ＭＳ Ｐゴシック"/>
              </a:rPr>
              <a:t>Glucose can not be formed by these organs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"/>
          <p:cNvSpPr txBox="1"/>
          <p:nvPr/>
        </p:nvSpPr>
        <p:spPr>
          <a:xfrm>
            <a:off x="209520" y="529920"/>
            <a:ext cx="871848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97b5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145" name="Diagram 2" descr=""/>
          <p:cNvPicPr/>
          <p:nvPr/>
        </p:nvPicPr>
        <p:blipFill>
          <a:blip r:embed="rId1"/>
          <a:stretch/>
        </p:blipFill>
        <p:spPr>
          <a:xfrm>
            <a:off x="457200" y="1279440"/>
            <a:ext cx="8394840" cy="4067280"/>
          </a:xfrm>
          <a:prstGeom prst="rect">
            <a:avLst/>
          </a:prstGeom>
          <a:ln w="0">
            <a:noFill/>
          </a:ln>
        </p:spPr>
      </p:pic>
      <p:sp>
        <p:nvSpPr>
          <p:cNvPr id="2146" name="TextBox 4"/>
          <p:cNvSpPr/>
          <p:nvPr/>
        </p:nvSpPr>
        <p:spPr>
          <a:xfrm>
            <a:off x="1693800" y="468360"/>
            <a:ext cx="570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mbria"/>
              </a:rPr>
              <a:t>Total Energy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4:40:06Z</dcterms:created>
  <dc:creator>i Mac</dc:creator>
  <dc:description/>
  <dc:language>en-US</dc:language>
  <cp:lastModifiedBy>i Mac </cp:lastModifiedBy>
  <dcterms:modified xsi:type="dcterms:W3CDTF">2012-05-12T19:24:03Z</dcterms:modified>
  <cp:revision>41</cp:revision>
  <dc:subject/>
  <dc:title>Digestion and Absorption  of Nutrients</dc:title>
</cp:coreProperties>
</file>