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CDE-3667-41AD-BB05-C5542652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888-E78D-408F-BDFE-06F2860D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B86-6A55-451F-9253-93865071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8BA-8FBB-42E2-AA49-013ECB48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D0A-5E49-406F-81EE-D8D55D1A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53F-500C-44DE-B08E-D832F234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B7D-6925-40D8-AC03-9FE952CC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169-9715-42DD-8BA1-93403187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77E-8EE5-4219-B97A-6FE02AF1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1BC-7345-4564-BDAF-E820035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68E-1398-4FB9-AD9B-6C267000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EE0-8DAC-4688-90FA-1812A079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DAC1-1836-4F10-81B7-04E945D17C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865160" y="548640"/>
            <a:ext cx="45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ungsuh"/>
              </a:rPr>
              <a:t>THE GRAM STAIN</a:t>
            </a:r>
            <a:r>
              <a:rPr b="0" lang="ar-SA" sz="1800" spc="-1" strike="noStrike">
                <a:solidFill>
                  <a:srgbClr val="000000"/>
                </a:solidFill>
                <a:latin typeface="Gungsu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r-mix"/>
          <p:cNvPicPr/>
          <p:nvPr/>
        </p:nvPicPr>
        <p:blipFill>
          <a:blip r:embed="rId1"/>
          <a:stretch/>
        </p:blipFill>
        <p:spPr>
          <a:xfrm>
            <a:off x="2843280" y="184464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 with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rystal viol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water    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ly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Gramstainstep1"/>
          <p:cNvPicPr/>
          <p:nvPr/>
        </p:nvPicPr>
        <p:blipFill>
          <a:blip r:embed="rId1"/>
          <a:stretch/>
        </p:blipFill>
        <p:spPr>
          <a:xfrm>
            <a:off x="2195640" y="2924280"/>
            <a:ext cx="4762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Stain with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gram's iodine 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minute then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h with water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Gramstainstep3"/>
          <p:cNvPicPr/>
          <p:nvPr/>
        </p:nvPicPr>
        <p:blipFill>
          <a:blip r:embed="rId1"/>
          <a:stretch/>
        </p:blipFill>
        <p:spPr>
          <a:xfrm>
            <a:off x="2771640" y="2997360"/>
            <a:ext cx="3875400" cy="28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lorize by ad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's decolorizer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(alch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700360" y="4868280"/>
            <a:ext cx="33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h immediately with wate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Gramstainstep5"/>
          <p:cNvPicPr/>
          <p:nvPr/>
        </p:nvPicPr>
        <p:blipFill>
          <a:blip r:embed="rId1"/>
          <a:stretch/>
        </p:blipFill>
        <p:spPr>
          <a:xfrm>
            <a:off x="2484360" y="1773360"/>
            <a:ext cx="38419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 wi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fran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wo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411280" y="2621520"/>
            <a:ext cx="33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 with wate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Gramstainstep6"/>
          <p:cNvPicPr/>
          <p:nvPr/>
        </p:nvPicPr>
        <p:blipFill>
          <a:blip r:embed="rId1"/>
          <a:stretch/>
        </p:blipFill>
        <p:spPr>
          <a:xfrm>
            <a:off x="2700360" y="3645000"/>
            <a:ext cx="38415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y and obse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ab 06-15"/>
          <p:cNvPicPr/>
          <p:nvPr/>
        </p:nvPicPr>
        <p:blipFill>
          <a:blip r:embed="rId1"/>
          <a:stretch/>
        </p:blipFill>
        <p:spPr>
          <a:xfrm>
            <a:off x="1476360" y="836640"/>
            <a:ext cx="60660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487960" y="5300640"/>
            <a:ext cx="39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Gram-positive strept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Lab 06-16"/>
          <p:cNvPicPr/>
          <p:nvPr/>
        </p:nvPicPr>
        <p:blipFill>
          <a:blip r:embed="rId1"/>
          <a:stretch/>
        </p:blipFill>
        <p:spPr>
          <a:xfrm>
            <a:off x="971640" y="692280"/>
            <a:ext cx="6748200" cy="4525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2847600" y="558972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Gram-negative baci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06360" y="109440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am st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most widely used staining procedure in bacteriology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6640" y="2743200"/>
            <a:ext cx="835560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 is calle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fferential s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t differentiates between gram-positive and gram-negative bac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acteria that s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th the gram staining procedure are te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ram-positive.and those that st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 said to be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ram-negative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am-positive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am-negative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e bacteria are stained with the basic dye </a:t>
            </a:r>
            <a:r>
              <a:rPr b="0" lang="ar-SA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rystal violet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oth gram-positive and gram-negative bacteria become directly stained and appear purple after this step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98240" y="763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gram staining procedure</a:t>
            </a:r>
            <a:r>
              <a:rPr b="1" lang="ar-SA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bacteria are treated wit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gram's iodine solution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oth gram-positive and gram-negative        bacteria remain purple after this ste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dded     ( 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Gram's decolorizer )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yl alcoh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differential step. Gram-positive bacteria retain the crystal violet-iodine complex while gram-negative are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decolor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the counters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    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franin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gram-positive bacteria are already stained purple, they are not affected by the counterstain. Gram- negative bacteria are now colorless, become directly stained by the safran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-positive appear pur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-negative appear p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158760" y="333360"/>
            <a:ext cx="8985240" cy="5958360"/>
            <a:chOff x="158760" y="333360"/>
            <a:chExt cx="8985240" cy="5958360"/>
          </a:xfrm>
        </p:grpSpPr>
        <p:sp>
          <p:nvSpPr>
            <p:cNvPr id="60" name="Rectangle 5"/>
            <p:cNvSpPr/>
            <p:nvPr/>
          </p:nvSpPr>
          <p:spPr>
            <a:xfrm>
              <a:off x="2023920" y="5986440"/>
              <a:ext cx="88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ryst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3449880" y="5945400"/>
              <a:ext cx="67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4099320" y="5945400"/>
              <a:ext cx="4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149000" y="5945400"/>
              <a:ext cx="188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9" descr="Gram Stain Kits"/>
            <p:cNvPicPr/>
            <p:nvPr/>
          </p:nvPicPr>
          <p:blipFill>
            <a:blip r:embed="rId1"/>
            <a:stretch/>
          </p:blipFill>
          <p:spPr>
            <a:xfrm>
              <a:off x="1941480" y="2957760"/>
              <a:ext cx="355284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"/>
            <p:cNvPicPr/>
            <p:nvPr/>
          </p:nvPicPr>
          <p:blipFill>
            <a:blip r:embed="rId2"/>
            <a:stretch/>
          </p:blipFill>
          <p:spPr>
            <a:xfrm>
              <a:off x="158760" y="333360"/>
              <a:ext cx="898524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11"/>
            <p:cNvSpPr/>
            <p:nvPr/>
          </p:nvSpPr>
          <p:spPr>
            <a:xfrm>
              <a:off x="570240" y="3367080"/>
              <a:ext cx="132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(Primary stai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2"/>
            <p:cNvSpPr/>
            <p:nvPr/>
          </p:nvSpPr>
          <p:spPr>
            <a:xfrm>
              <a:off x="2180880" y="313560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G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3"/>
            <p:cNvSpPr/>
            <p:nvPr/>
          </p:nvSpPr>
          <p:spPr>
            <a:xfrm>
              <a:off x="2645280" y="3135600"/>
              <a:ext cx="3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4"/>
            <p:cNvSpPr/>
            <p:nvPr/>
          </p:nvSpPr>
          <p:spPr>
            <a:xfrm>
              <a:off x="2682720" y="31356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5"/>
            <p:cNvSpPr/>
            <p:nvPr/>
          </p:nvSpPr>
          <p:spPr>
            <a:xfrm>
              <a:off x="158760" y="3198960"/>
              <a:ext cx="1602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6" descr=""/>
            <p:cNvPicPr/>
            <p:nvPr/>
          </p:nvPicPr>
          <p:blipFill>
            <a:blip r:embed="rId3"/>
            <a:stretch/>
          </p:blipFill>
          <p:spPr>
            <a:xfrm>
              <a:off x="158760" y="333360"/>
              <a:ext cx="898524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17"/>
            <p:cNvSpPr/>
            <p:nvPr/>
          </p:nvSpPr>
          <p:spPr>
            <a:xfrm>
              <a:off x="570240" y="3367080"/>
              <a:ext cx="132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(Primary stai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8"/>
            <p:cNvSpPr/>
            <p:nvPr/>
          </p:nvSpPr>
          <p:spPr>
            <a:xfrm>
              <a:off x="2181240" y="3184560"/>
              <a:ext cx="6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Gram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9"/>
            <p:cNvSpPr/>
            <p:nvPr/>
          </p:nvSpPr>
          <p:spPr>
            <a:xfrm>
              <a:off x="158760" y="3198960"/>
              <a:ext cx="1602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0"/>
            <p:cNvSpPr/>
            <p:nvPr/>
          </p:nvSpPr>
          <p:spPr>
            <a:xfrm>
              <a:off x="1924560" y="5677200"/>
              <a:ext cx="9500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rystal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2038680" y="5980320"/>
              <a:ext cx="649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iol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2"/>
            <p:cNvSpPr/>
            <p:nvPr/>
          </p:nvSpPr>
          <p:spPr>
            <a:xfrm>
              <a:off x="2878200" y="5688000"/>
              <a:ext cx="9698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ram’s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3"/>
            <p:cNvSpPr/>
            <p:nvPr/>
          </p:nvSpPr>
          <p:spPr>
            <a:xfrm>
              <a:off x="2935440" y="5975640"/>
              <a:ext cx="74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4"/>
            <p:cNvSpPr/>
            <p:nvPr/>
          </p:nvSpPr>
          <p:spPr>
            <a:xfrm>
              <a:off x="4759920" y="5686560"/>
              <a:ext cx="9990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afran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5"/>
            <p:cNvSpPr/>
            <p:nvPr/>
          </p:nvSpPr>
          <p:spPr>
            <a:xfrm>
              <a:off x="3813480" y="5685120"/>
              <a:ext cx="9471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lcoho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Preparing the Slide for Staining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fix a smear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heat the slide to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it does not wash off during the              staining process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slidesmear"/>
          <p:cNvPicPr/>
          <p:nvPr/>
        </p:nvPicPr>
        <p:blipFill>
          <a:blip r:embed="rId1"/>
          <a:stretch/>
        </p:blipFill>
        <p:spPr>
          <a:xfrm>
            <a:off x="4211640" y="2924280"/>
            <a:ext cx="1905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7:31:38Z</dcterms:created>
  <dc:creator>User</dc:creator>
  <dc:description/>
  <dc:language>en-US</dc:language>
  <cp:lastModifiedBy>najla</cp:lastModifiedBy>
  <dcterms:modified xsi:type="dcterms:W3CDTF">2014-11-19T06:31:39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