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E38-3A99-4077-AD7C-BB14965C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E9F-E352-41E3-A68A-232A12E2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33B-BADF-4167-AC80-FD118EEF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B23-821D-4266-B2F9-1DFF9842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B9F-207B-482C-84E0-A198202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4D8-DC92-4CB5-9F9F-23561E2C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ACD-CE25-4E5E-B2D0-915574F7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30A-B10D-4441-954D-EBA7E4F1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410-C315-4C9B-A7C2-0B9F7A64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242-B757-4B4D-ADA0-1422055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93B-E5C4-40A2-881D-2E996684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4E4-D586-49AD-9912-EA26E665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2673-5AD3-457A-8448-94F4F152F6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865160" y="548640"/>
            <a:ext cx="45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ungsuh"/>
              </a:rPr>
              <a:t>THE GRAM STAIN</a:t>
            </a:r>
            <a:r>
              <a:rPr b="0" lang="ar-SA" sz="1800" spc="-1" strike="noStrike">
                <a:solidFill>
                  <a:srgbClr val="000000"/>
                </a:solidFill>
                <a:latin typeface="Gungsu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r-mix"/>
          <p:cNvPicPr/>
          <p:nvPr/>
        </p:nvPicPr>
        <p:blipFill>
          <a:blip r:embed="rId1"/>
          <a:stretch/>
        </p:blipFill>
        <p:spPr>
          <a:xfrm>
            <a:off x="2843280" y="184464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 with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rystal viol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water    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ly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Gramstainstep1"/>
          <p:cNvPicPr/>
          <p:nvPr/>
        </p:nvPicPr>
        <p:blipFill>
          <a:blip r:embed="rId1"/>
          <a:stretch/>
        </p:blipFill>
        <p:spPr>
          <a:xfrm>
            <a:off x="2195640" y="2924280"/>
            <a:ext cx="476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Stain with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gram's iodine 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minute then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 with water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Gramstainstep3"/>
          <p:cNvPicPr/>
          <p:nvPr/>
        </p:nvPicPr>
        <p:blipFill>
          <a:blip r:embed="rId1"/>
          <a:stretch/>
        </p:blipFill>
        <p:spPr>
          <a:xfrm>
            <a:off x="2771640" y="2997360"/>
            <a:ext cx="3875400" cy="28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lorize by ad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's decolorizer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(alc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700360" y="4868280"/>
            <a:ext cx="33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h immediately with wate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Gramstainstep5"/>
          <p:cNvPicPr/>
          <p:nvPr/>
        </p:nvPicPr>
        <p:blipFill>
          <a:blip r:embed="rId1"/>
          <a:stretch/>
        </p:blipFill>
        <p:spPr>
          <a:xfrm>
            <a:off x="2484360" y="1773360"/>
            <a:ext cx="38419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 wi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ran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wo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411280" y="2621520"/>
            <a:ext cx="33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 with wate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Gramstainstep6"/>
          <p:cNvPicPr/>
          <p:nvPr/>
        </p:nvPicPr>
        <p:blipFill>
          <a:blip r:embed="rId1"/>
          <a:stretch/>
        </p:blipFill>
        <p:spPr>
          <a:xfrm>
            <a:off x="2700360" y="3645000"/>
            <a:ext cx="38415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y and obse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ab 06-15"/>
          <p:cNvPicPr/>
          <p:nvPr/>
        </p:nvPicPr>
        <p:blipFill>
          <a:blip r:embed="rId1"/>
          <a:stretch/>
        </p:blipFill>
        <p:spPr>
          <a:xfrm>
            <a:off x="1476360" y="836640"/>
            <a:ext cx="60660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487960" y="530064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Gram-positive strept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Lab 06-16"/>
          <p:cNvPicPr/>
          <p:nvPr/>
        </p:nvPicPr>
        <p:blipFill>
          <a:blip r:embed="rId1"/>
          <a:stretch/>
        </p:blipFill>
        <p:spPr>
          <a:xfrm>
            <a:off x="971640" y="692280"/>
            <a:ext cx="674820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2847600" y="558972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Gram-negative baci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06360" y="109440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am st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most widely used staining procedure in bacteriology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6640" y="2743200"/>
            <a:ext cx="835560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calle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fferential s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t differentiates between gram-positive and gram-negative bac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acteria that s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th the gram staining procedure are te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ram-positive.and those that st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 said to be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ram-negative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m-positive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m-negative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e bacteria are stained with the basic dye </a:t>
            </a:r>
            <a:r>
              <a:rPr b="0" lang="ar-SA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rystal violet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oth gram-positive and gram-negative bacteria become directly stained and appear purple after this step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98240" y="763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ram staining procedure</a:t>
            </a:r>
            <a:r>
              <a:rPr b="1" lang="ar-SA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bacteria are treated wit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gram's iodine solution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oth gram-positive and gram-negative        bacteria remain purple after this ste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dded     ( 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Gram's decolorizer )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yl alcoh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differential step. Gram-positive bacteria retain the crystal violet-iodine complex while gram-negative are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decolor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the counters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franin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gram-positive bacteria are already stained purple, they are not affected by the counterstain. Gram- negative bacteria are now colorless, become directly stained by the safran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-positive appear pur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-negative appear p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158760" y="333360"/>
            <a:ext cx="8985240" cy="5958360"/>
            <a:chOff x="158760" y="333360"/>
            <a:chExt cx="8985240" cy="5958360"/>
          </a:xfrm>
        </p:grpSpPr>
        <p:sp>
          <p:nvSpPr>
            <p:cNvPr id="60" name="Rectangle 5"/>
            <p:cNvSpPr/>
            <p:nvPr/>
          </p:nvSpPr>
          <p:spPr>
            <a:xfrm>
              <a:off x="2023920" y="5986440"/>
              <a:ext cx="88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ryst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3449880" y="5945400"/>
              <a:ext cx="67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4099320" y="5945400"/>
              <a:ext cx="4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149000" y="5945400"/>
              <a:ext cx="188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9" descr="Gram Stain Kits"/>
            <p:cNvPicPr/>
            <p:nvPr/>
          </p:nvPicPr>
          <p:blipFill>
            <a:blip r:embed="rId1"/>
            <a:stretch/>
          </p:blipFill>
          <p:spPr>
            <a:xfrm>
              <a:off x="1941480" y="2957760"/>
              <a:ext cx="355284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"/>
            <p:cNvPicPr/>
            <p:nvPr/>
          </p:nvPicPr>
          <p:blipFill>
            <a:blip r:embed="rId2"/>
            <a:stretch/>
          </p:blipFill>
          <p:spPr>
            <a:xfrm>
              <a:off x="158760" y="333360"/>
              <a:ext cx="898524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11"/>
            <p:cNvSpPr/>
            <p:nvPr/>
          </p:nvSpPr>
          <p:spPr>
            <a:xfrm>
              <a:off x="570240" y="336708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(Primary stai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>
              <a:off x="2180880" y="313560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G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3"/>
            <p:cNvSpPr/>
            <p:nvPr/>
          </p:nvSpPr>
          <p:spPr>
            <a:xfrm>
              <a:off x="2645280" y="3135600"/>
              <a:ext cx="3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4"/>
            <p:cNvSpPr/>
            <p:nvPr/>
          </p:nvSpPr>
          <p:spPr>
            <a:xfrm>
              <a:off x="2682720" y="31356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5"/>
            <p:cNvSpPr/>
            <p:nvPr/>
          </p:nvSpPr>
          <p:spPr>
            <a:xfrm>
              <a:off x="158760" y="3198960"/>
              <a:ext cx="1602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6" descr=""/>
            <p:cNvPicPr/>
            <p:nvPr/>
          </p:nvPicPr>
          <p:blipFill>
            <a:blip r:embed="rId3"/>
            <a:stretch/>
          </p:blipFill>
          <p:spPr>
            <a:xfrm>
              <a:off x="158760" y="333360"/>
              <a:ext cx="898524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17"/>
            <p:cNvSpPr/>
            <p:nvPr/>
          </p:nvSpPr>
          <p:spPr>
            <a:xfrm>
              <a:off x="570240" y="336708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(Primary stai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8"/>
            <p:cNvSpPr/>
            <p:nvPr/>
          </p:nvSpPr>
          <p:spPr>
            <a:xfrm>
              <a:off x="2181240" y="3184560"/>
              <a:ext cx="6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Gram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9"/>
            <p:cNvSpPr/>
            <p:nvPr/>
          </p:nvSpPr>
          <p:spPr>
            <a:xfrm>
              <a:off x="158760" y="3198960"/>
              <a:ext cx="1602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0"/>
            <p:cNvSpPr/>
            <p:nvPr/>
          </p:nvSpPr>
          <p:spPr>
            <a:xfrm>
              <a:off x="1924560" y="5677200"/>
              <a:ext cx="9500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rystal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2038680" y="5980320"/>
              <a:ext cx="649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iol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2"/>
            <p:cNvSpPr/>
            <p:nvPr/>
          </p:nvSpPr>
          <p:spPr>
            <a:xfrm>
              <a:off x="2878200" y="5688000"/>
              <a:ext cx="9698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ram’s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3"/>
            <p:cNvSpPr/>
            <p:nvPr/>
          </p:nvSpPr>
          <p:spPr>
            <a:xfrm>
              <a:off x="2935440" y="5975640"/>
              <a:ext cx="74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4"/>
            <p:cNvSpPr/>
            <p:nvPr/>
          </p:nvSpPr>
          <p:spPr>
            <a:xfrm>
              <a:off x="4759920" y="5686560"/>
              <a:ext cx="9990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afran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5"/>
            <p:cNvSpPr/>
            <p:nvPr/>
          </p:nvSpPr>
          <p:spPr>
            <a:xfrm>
              <a:off x="3813480" y="5685120"/>
              <a:ext cx="9471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lcoho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Preparing the Slide for Staining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fix a smear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heat the slide to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it does not wash off during the              staining process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slidesmear"/>
          <p:cNvPicPr/>
          <p:nvPr/>
        </p:nvPicPr>
        <p:blipFill>
          <a:blip r:embed="rId1"/>
          <a:stretch/>
        </p:blipFill>
        <p:spPr>
          <a:xfrm>
            <a:off x="4211640" y="2924280"/>
            <a:ext cx="190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7:31:38Z</dcterms:created>
  <dc:creator>User</dc:creator>
  <dc:description/>
  <dc:language>en-US</dc:language>
  <cp:lastModifiedBy>najla</cp:lastModifiedBy>
  <dcterms:modified xsi:type="dcterms:W3CDTF">2014-11-19T06:31:39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