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7B3-0915-4E9D-890D-A5974A83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B09-2739-4F7E-B944-95342932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7F9-4780-476A-BB22-E92D7B20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B4E-4AD4-4B1A-894E-557204D1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51C5-DFF2-4EA1-9BD0-92E10D1F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1D66-B27D-46CF-9EA0-B1B93000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C66E-3D35-4CEB-8CF3-CC2A4521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6C4B-77C4-4E58-A2EB-46F9960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2577-B712-471F-BB03-4D7F76A3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A6A3-065F-4A35-ADA3-432CE5C7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01E7-84EF-4427-8BEC-3310502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D6A-9588-4201-80A5-6D0DE01E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F17E-6B2F-4987-BCBE-15BE514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A040-F374-4D59-85BF-E1F68117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2D46-CEA0-42C9-9269-D2121566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7999-BD19-420F-823E-EC910969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31C5-FF75-43F7-A2E4-4D710309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55EB-2333-4BCE-BD23-AB0289F0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6F7C-89D8-4CB4-B9F0-A073DBBB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BCE5-8ADF-489F-9EC1-0D8F0124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F75C8-650B-437D-987C-0F06EDA3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4047-AEE4-4590-9608-7EDF685A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110-479D-49BA-BC03-24E63AE1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D586-447E-4E83-8620-53D459BB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682A-3CED-4C1F-8844-2CA14511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7B0B-C36B-4DDD-B205-D9A0EA0C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99F17-6147-47E5-9566-A92D7DA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0E99-A797-49DA-A9C8-AD2D16CA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3958-8F21-47C0-964A-D5F208D0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7AA2A-6A23-4E29-96BC-09356FA2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C8BFE-B60D-4808-8236-D0AAD4CF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055A-764D-4661-B540-D4D91014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D8F64-54D1-4875-9202-902AC4E7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2C1-3DD3-477D-803E-70AD22CD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A97B-6FFA-4392-8E6C-59A95865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8534-3D33-4A69-AC32-E9D60204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B5B99-D0C6-4A99-BA4B-E11FB7E5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98A5-AB8C-4E77-8902-6CE1B008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B65D-9CEA-40F7-9853-733B8980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CDCC-BFC7-49FD-B2FD-6C4E1A3D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3B75-FFB9-4074-BC55-35D7881C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8BF7-F81B-4783-B902-50C61989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B22A-84F9-4FA3-9F0E-30A84C68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67E22-B5B7-4ADF-89A1-BD57FACB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0BC-5A6D-4EB0-888F-8DD77711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1A4F0-1193-4875-A03C-20CD4959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B09A2-F824-4211-B308-C11A190F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4081-FE69-4AE3-AF5C-436E2525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0923-C0E7-4986-B98C-6D05DC87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2829-B8D6-41F6-8049-47A2BFE6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7319C-DD53-45C8-8610-6BCA84FC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63F4A-168D-4D81-8D65-27173E90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EC98-B9EA-474E-B16A-F80CCADE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6B6E-52C0-495F-9C5F-4522574A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0A53-F359-4510-9997-E937B77D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357-2375-49D4-85FC-D3C62CD9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A8613-2596-4059-950D-AACB53D7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06CF-163A-4A7C-8512-C6F8AA44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6330-9AA5-49DB-AD4E-93889A6D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FACF8-1B3C-47A1-A8AC-80C39161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6BB17-CDAD-4D3A-BFA3-9C05704A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FA45-80B2-4FD9-932F-99807B78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0FBA-5435-44B1-A0A2-50013B5F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04B59-3B53-40F8-AB75-FFC4EAE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5C51C-D721-40BB-8BEB-C23AE3F4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FB21E-7175-4FF4-96F1-BD3B8F86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66C-758E-4A62-978A-F60268C0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4E8C5-ACFF-450C-9981-C5EA15CC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1CC5C-C0FB-41C9-AC9F-BCA42E86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1CC4C-8132-4DD3-A233-CA8B7911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7BD57-75BF-4B07-8268-1D2FD05D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50361-5CFB-49C8-B6DA-BCAD81FE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18E71-F68E-4C0E-9CD9-8C99EDB9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52464-A1CD-45CD-9809-23E66C7B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8E5C1-42BB-480E-B60B-B0280887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0457F-C738-43F6-AE19-587FE171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7B933-2B52-498B-81C5-86DEED9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3AA-C90D-4CEA-9D62-0CA6232F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42A44-4BDC-47E7-9222-2F8A9B7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28B46-133A-48F4-81A2-8CD296FE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59165-9ECF-4227-937A-2253034B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26F65-ED59-4C93-9AE3-AE54490B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36CB0-8B8A-47A8-BE69-CC4DAD49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0B797-E17F-4091-9EEF-71488D2F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38AFC-7E68-44D3-831D-EE9B2048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F11E5-6EDD-4843-A9ED-09489E8A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19FD8-2012-4798-A04E-8EDBC076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44B33-7664-4EB3-9157-FF91687B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E14-8FA6-420E-BF55-26B43568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1A4CC-1DDC-4CE5-9CBB-A06DC8EA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DE9FD-F664-4A3F-B80D-C3F6B07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BA1B6-2346-49CF-AFE6-51471D58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20981-3004-401F-B15F-64DEF42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95881-52CB-4F56-94B9-C1C0EA1E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331D1-1137-4A1B-8878-3ED77A5D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DA3B0-FDFA-4F5F-883D-4D5DDBD0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E6C0-9F16-43C2-AA0C-8356B111632B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422D-E5D1-4D04-BD4E-32F5D3F69971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C21F-A5DD-4CDA-AC8F-F51F437B4469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3DFC-30AE-48F5-AA0A-0F729CD36D40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8D6E-8136-477F-95BA-FD041713AF27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36C9-9331-456B-8E87-221B3F358C90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DB39-9F5F-4D7C-B9BA-72713082F148}" type="slidenum">
              <a:rPr b="0" lang="he-I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6566-A4E5-4B05-9824-E727947FD7DC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solidFill>
            <a:srgbClr val="ffe39d"/>
          </a:solidFill>
          <a:ln w="9360">
            <a:solidFill>
              <a:srgbClr val="c0654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cc"/>
                </a:solidFill>
                <a:latin typeface="Script MT Bold"/>
              </a:rPr>
              <a:t>The Past Simple Ten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2979720" y="3143160"/>
            <a:ext cx="3635280" cy="25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72314"/>
                </a:solidFill>
                <a:latin typeface="Gill Sans MT"/>
              </a:rPr>
              <a:t>We use the past continuous to describe a longer action.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1195560" y="1600200"/>
            <a:ext cx="6752880" cy="2189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 spoke to Tom yesterday.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 was speaking to Tom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44"/>
          <p:cNvGrpSpPr/>
          <p:nvPr/>
        </p:nvGrpSpPr>
        <p:grpSpPr>
          <a:xfrm>
            <a:off x="0" y="1197000"/>
            <a:ext cx="7921440" cy="5184000"/>
            <a:chOff x="0" y="1197000"/>
            <a:chExt cx="7921440" cy="5184000"/>
          </a:xfrm>
        </p:grpSpPr>
        <p:sp>
          <p:nvSpPr>
            <p:cNvPr id="372" name="Rectangle 5"/>
            <p:cNvSpPr/>
            <p:nvPr/>
          </p:nvSpPr>
          <p:spPr>
            <a:xfrm>
              <a:off x="1207440" y="1197000"/>
              <a:ext cx="2215440" cy="897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ffirm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1207440" y="2094120"/>
              <a:ext cx="221544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I wrote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0" y="2094120"/>
              <a:ext cx="120888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66cc"/>
                  </a:solidFill>
                  <a:latin typeface="Arial"/>
                </a:rPr>
                <a:t>Simple</a:t>
              </a:r>
              <a:r>
                <a:rPr b="0" lang="es-ES_tradnl" sz="2000" spc="-1" strike="noStrike">
                  <a:solidFill>
                    <a:srgbClr val="ff66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66cc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6"/>
            <p:cNvSpPr/>
            <p:nvPr/>
          </p:nvSpPr>
          <p:spPr>
            <a:xfrm>
              <a:off x="3423240" y="2094120"/>
              <a:ext cx="241272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I didn’t  write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"/>
            <p:cNvSpPr/>
            <p:nvPr/>
          </p:nvSpPr>
          <p:spPr>
            <a:xfrm>
              <a:off x="5840640" y="2094120"/>
              <a:ext cx="208080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Did you write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8"/>
            <p:cNvSpPr/>
            <p:nvPr/>
          </p:nvSpPr>
          <p:spPr>
            <a:xfrm>
              <a:off x="3423240" y="1197000"/>
              <a:ext cx="2412720" cy="90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eg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9"/>
            <p:cNvSpPr/>
            <p:nvPr/>
          </p:nvSpPr>
          <p:spPr>
            <a:xfrm>
              <a:off x="5840640" y="1197000"/>
              <a:ext cx="2080800" cy="90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Yes/No-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1"/>
            <p:cNvSpPr/>
            <p:nvPr/>
          </p:nvSpPr>
          <p:spPr>
            <a:xfrm>
              <a:off x="1207440" y="4235760"/>
              <a:ext cx="221544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 was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They 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were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2"/>
            <p:cNvSpPr/>
            <p:nvPr/>
          </p:nvSpPr>
          <p:spPr>
            <a:xfrm>
              <a:off x="0" y="4235760"/>
              <a:ext cx="1208880" cy="21416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66cc"/>
                  </a:solidFill>
                  <a:latin typeface="Arial"/>
                </a:rPr>
                <a:t>Past</a:t>
              </a:r>
              <a:r>
                <a:rPr b="0" lang="es-ES" sz="2000" spc="-1" strike="noStrike">
                  <a:solidFill>
                    <a:srgbClr val="ff66cc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66cc"/>
                  </a:solidFill>
                  <a:latin typeface="Arial"/>
                </a:rPr>
                <a:t>continuo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3"/>
            <p:cNvSpPr/>
            <p:nvPr/>
          </p:nvSpPr>
          <p:spPr>
            <a:xfrm>
              <a:off x="3423240" y="4235760"/>
              <a:ext cx="241272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He 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wasn’t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They 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weren’t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4"/>
            <p:cNvSpPr/>
            <p:nvPr/>
          </p:nvSpPr>
          <p:spPr>
            <a:xfrm>
              <a:off x="5840640" y="4235760"/>
              <a:ext cx="2080800" cy="2145240"/>
            </a:xfrm>
            <a:prstGeom prst="rect">
              <a:avLst/>
            </a:prstGeom>
            <a:noFill/>
            <a:ln w="284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Was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he 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Were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they writ</a:t>
              </a: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ing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a poe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?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16"/>
          <p:cNvSpPr/>
          <p:nvPr/>
        </p:nvSpPr>
        <p:spPr>
          <a:xfrm>
            <a:off x="7956720" y="1197000"/>
            <a:ext cx="1187280" cy="936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h-Q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7956720" y="2133720"/>
            <a:ext cx="1187280" cy="2087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hat did you writ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7956720" y="4221000"/>
            <a:ext cx="1187280" cy="2160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hat  was h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riting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hat were t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riting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cc"/>
                </a:solidFill>
                <a:latin typeface="Script MT Bold"/>
              </a:rPr>
              <a:t>Time Express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מלבן מעוגל 3" descr=""/>
          <p:cNvPicPr/>
          <p:nvPr/>
        </p:nvPicPr>
        <p:blipFill>
          <a:blip r:embed="rId1"/>
          <a:stretch/>
        </p:blipFill>
        <p:spPr>
          <a:xfrm>
            <a:off x="590400" y="1828800"/>
            <a:ext cx="3610080" cy="950760"/>
          </a:xfrm>
          <a:prstGeom prst="rect">
            <a:avLst/>
          </a:prstGeom>
          <a:ln w="0">
            <a:noFill/>
          </a:ln>
        </p:spPr>
      </p:pic>
      <p:pic>
        <p:nvPicPr>
          <p:cNvPr id="389" name="מלבן מעוגל 4" descr=""/>
          <p:cNvPicPr/>
          <p:nvPr/>
        </p:nvPicPr>
        <p:blipFill>
          <a:blip r:embed="rId2"/>
          <a:stretch/>
        </p:blipFill>
        <p:spPr>
          <a:xfrm>
            <a:off x="480960" y="2968560"/>
            <a:ext cx="361008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מלבן מעוגל 5" descr=""/>
          <p:cNvPicPr/>
          <p:nvPr/>
        </p:nvPicPr>
        <p:blipFill>
          <a:blip r:embed="rId3"/>
          <a:stretch/>
        </p:blipFill>
        <p:spPr>
          <a:xfrm>
            <a:off x="4913280" y="1841400"/>
            <a:ext cx="3608280" cy="951120"/>
          </a:xfrm>
          <a:prstGeom prst="rect">
            <a:avLst/>
          </a:prstGeom>
          <a:ln w="0">
            <a:noFill/>
          </a:ln>
        </p:spPr>
      </p:pic>
      <p:pic>
        <p:nvPicPr>
          <p:cNvPr id="391" name="מלבן מעוגל 7" descr=""/>
          <p:cNvPicPr/>
          <p:nvPr/>
        </p:nvPicPr>
        <p:blipFill>
          <a:blip r:embed="rId4"/>
          <a:stretch/>
        </p:blipFill>
        <p:spPr>
          <a:xfrm>
            <a:off x="3187800" y="4260960"/>
            <a:ext cx="3609720" cy="963360"/>
          </a:xfrm>
          <a:prstGeom prst="rect">
            <a:avLst/>
          </a:prstGeom>
          <a:ln w="0">
            <a:noFill/>
          </a:ln>
        </p:spPr>
      </p:pic>
      <p:pic>
        <p:nvPicPr>
          <p:cNvPr id="392" name="מלבן מעוגל 8" descr=""/>
          <p:cNvPicPr/>
          <p:nvPr/>
        </p:nvPicPr>
        <p:blipFill>
          <a:blip r:embed="rId5"/>
          <a:stretch/>
        </p:blipFill>
        <p:spPr>
          <a:xfrm>
            <a:off x="4986360" y="2981160"/>
            <a:ext cx="3608280" cy="95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7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8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8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9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9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cc"/>
                </a:solidFill>
                <a:latin typeface="Script MT Bold"/>
              </a:rPr>
              <a:t>Past Simple: Regular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The Past Simple tense of the most English verbs 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(regular verbs)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 is formed by adding "-</a:t>
            </a:r>
            <a:r>
              <a:rPr b="1" lang="en-US" sz="2000" spc="-1" strike="noStrike">
                <a:solidFill>
                  <a:srgbClr val="ff33cc"/>
                </a:solidFill>
                <a:latin typeface="Comic Sans MS"/>
                <a:ea typeface="David"/>
              </a:rPr>
              <a:t>ed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"/"-</a:t>
            </a:r>
            <a:r>
              <a:rPr b="1" lang="en-US" sz="2000" spc="-1" strike="noStrike">
                <a:solidFill>
                  <a:srgbClr val="ff33cc"/>
                </a:solidFill>
                <a:latin typeface="Comic Sans MS"/>
                <a:ea typeface="David"/>
              </a:rPr>
              <a:t>d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" to their base form. 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(If the verb ends in "-</a:t>
            </a:r>
            <a:r>
              <a:rPr b="1" i="1" lang="en-US" sz="2000" spc="-1" strike="noStrike">
                <a:solidFill>
                  <a:srgbClr val="ff33cc"/>
                </a:solidFill>
                <a:latin typeface="Comic Sans MS"/>
                <a:ea typeface="David"/>
              </a:rPr>
              <a:t>e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", we add "-</a:t>
            </a:r>
            <a:r>
              <a:rPr b="1" i="1" lang="en-US" sz="2000" spc="-1" strike="noStrike">
                <a:solidFill>
                  <a:srgbClr val="ff33cc"/>
                </a:solidFill>
                <a:latin typeface="Comic Sans MS"/>
                <a:ea typeface="David"/>
              </a:rPr>
              <a:t>d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" to form the past simp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Script MT Bold"/>
                <a:ea typeface="David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We arrived at 9:00 o'clock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My brother lived in London four years ag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When she was young, she danced beautifully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4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45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48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51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54" dur="2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cc"/>
                </a:solidFill>
                <a:latin typeface="Script MT Bold"/>
              </a:rPr>
              <a:t>Irregular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There are also some verbs called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irregular verbs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David"/>
              </a:rPr>
              <a:t> that have special past tense form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David"/>
              </a:rPr>
              <a:t>See list of irregular verb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We went </a:t>
            </a:r>
            <a:r>
              <a:rPr b="1" lang="en-US" sz="1800" spc="-1" strike="noStrike">
                <a:solidFill>
                  <a:srgbClr val="ff33cc"/>
                </a:solidFill>
                <a:latin typeface="Comic Sans MS"/>
                <a:ea typeface="David"/>
              </a:rPr>
              <a:t>(go)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o school yesterday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he children read </a:t>
            </a:r>
            <a:r>
              <a:rPr b="1" lang="en-US" sz="1800" spc="-1" strike="noStrike">
                <a:solidFill>
                  <a:srgbClr val="ff33cc"/>
                </a:solidFill>
                <a:latin typeface="Comic Sans MS"/>
                <a:ea typeface="David"/>
              </a:rPr>
              <a:t>(read)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hat story last yea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amar wrote </a:t>
            </a:r>
            <a:r>
              <a:rPr b="1" lang="en-US" sz="1800" spc="-1" strike="noStrike">
                <a:solidFill>
                  <a:srgbClr val="ff33cc"/>
                </a:solidFill>
                <a:latin typeface="Comic Sans MS"/>
                <a:ea typeface="David"/>
              </a:rPr>
              <a:t>(write)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he letter to her friend on Sunday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50000"/>
              </a:lnSpc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The students forgot </a:t>
            </a:r>
            <a:r>
              <a:rPr b="1" lang="en-US" sz="1800" spc="-1" strike="noStrike">
                <a:solidFill>
                  <a:srgbClr val="ff33cc"/>
                </a:solidFill>
                <a:latin typeface="Comic Sans MS"/>
                <a:ea typeface="David"/>
              </a:rPr>
              <a:t>(forget)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David"/>
              </a:rPr>
              <a:t> to do the homework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pull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1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15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18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21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24" dur="2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27" dur="2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30" dur="20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572314"/>
                </a:solidFill>
                <a:latin typeface="Gill Sans MT"/>
              </a:rPr>
              <a:t>Past Simple or Past Continuous?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)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esterda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vening I  . . .  </a:t>
            </a: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work) hard till late because I    . . . . .(have) a difficult task to d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teacher </a:t>
            </a: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 . . . . 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not talk)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ary arriv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 . . . . . 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not watch) TV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ir parents arri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mother </a:t>
            </a: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 . . . .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give) me a new CD and my sister and I </a:t>
            </a: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 . . . . . . 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listen) to it immediate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nge into negativ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ristopher Columbus discovered Indi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ristopher Columbus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idn’t discover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ma was reading a boo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ma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wasn’t read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bo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hmed won the football cup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hmed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idn’t wi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football cup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n and Chris were eating lu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n and Chris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weren’t eat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unc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4:29:13Z</dcterms:created>
  <dc:creator>user</dc:creator>
  <dc:description/>
  <dc:language>en-US</dc:language>
  <cp:lastModifiedBy>win8</cp:lastModifiedBy>
  <dcterms:modified xsi:type="dcterms:W3CDTF">2014-10-21T16:16:38Z</dcterms:modified>
  <cp:revision>57</cp:revision>
  <dc:subject/>
  <dc:title>The Past Simple Tense</dc:title>
</cp:coreProperties>
</file>