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B3DC-1C2C-4B4C-B7E4-8F50B94C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78AD-8323-49E0-87F0-65DEC547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D8C7-D560-47F8-A724-4D1B5DD1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6F58-1E92-4C1C-AD78-AD63EF67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0923-DF31-4D70-AA8B-54BC6409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48E6-4E7A-4B6C-8A58-D1316AD4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B08C-6545-49D0-A968-021A0912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65EE-2182-4967-909A-0A58E0D9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E25C-857A-452C-B67B-D4675853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6933-3597-47C2-ABB7-0260BB81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FE90-EF9D-405A-8855-F4F13C6A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83AE-5FD4-434C-9DBB-E95F369C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0199-A3B7-48A5-8C11-C3C5B3E0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7C47-425F-41E3-B29C-BBB73C78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46A2-E256-4468-998D-EAF418D2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AB2A-7160-482A-931B-D9F8527F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05EC-F294-42C5-9291-3331FB43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4BCF4-07E8-4C08-8A58-49CD4E24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99E4A-EE92-4723-9095-7655742D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55660-B74B-4467-8B2F-363C3547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89C3A-96E3-4574-B9A6-FECBDC42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975FA-6883-4343-9312-0C19264E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F40D-B8B9-46E2-B518-D7D192A8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84B3D-50B9-4A8B-A533-E5970CBC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2A888-5D0D-4E1D-85C7-D38F4C13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2AD7D-40A9-41A2-B43F-1CEF7F64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B20B9-5D46-4313-9103-1D1BC48B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8DF5E-BFFC-44C9-AE78-18E700B3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4BA9A-4C6D-48A2-85D3-B9C9D0DC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B2B2D-F3FE-40C0-A9D6-83BCB073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CACB3-994B-49A1-8AC2-55E49CB9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E9DD2-B4FE-41ED-A3F8-41D3E1E5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1DCC1-3E3E-4682-A2AE-28449CD0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46CA-C49D-4916-AAE5-1D3E10F2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5300B-EDCF-4415-B746-33BA6D8E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77C1A-F1C8-44C9-9470-DA411F52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CFB0B-928F-4CF0-B65C-893430DB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35556-25B0-4060-AB12-F0A546FA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8E54F-6E2F-4187-9B1D-73536E46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22524-87D5-42A5-8944-715984AC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A2AD7-6E56-4F55-A24A-6173DABE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A7A0C-13F5-495D-BD36-5AAA84FD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B0E19-A75B-40E0-A1FB-F208B8B9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A5394-6D49-4749-B5D4-92800740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3891-7DA3-4D3C-BC82-8C4A30A7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E26D7-75EE-41B7-AD0E-B0DD47F2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1ACDD-07A8-42BA-A8A9-F8C72752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12DAF-075B-47CA-A297-E0714A9F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23EF7-14D7-4025-9FEF-1519280D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686CB-99FC-4ED9-8FCF-124ED449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184DC-09A7-482D-B263-752261F6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94A50-6BD4-446D-8EA0-C2BEA791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8DABC-F32D-4530-B68F-89F2C127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8F84E-A986-4368-A6B1-8C21D283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C3961-2D19-4F8C-B1AA-5D6D26D3B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9AD8-92A9-4B33-9D67-8713DB91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8A352-0BD1-443D-A22D-0E509FE4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3898D-A1EA-459E-A2B6-7825F609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E2D7E-173F-4163-B046-132B25FC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4228E-7B8A-4974-870C-432A3BFE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B9C0C-3A59-4ADE-97B7-24F22AB0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F12DB-448B-4124-915C-B2BB8070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FACA5-9116-41A6-BC27-1539FD75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EDECF-285E-44FC-BE17-A7EC0E93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30891-77F3-4EEA-B30B-C3F09C6A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5BD10-1289-4905-B4C4-7EDB86E0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04F0-00A7-42CC-A603-DF8A8445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D6CDF-F4D0-42DF-B57D-DD8F3631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2F3C1-E6DF-4BF2-A074-2BF29CA7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BBDE3-32B5-48D8-BE66-82B068AA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9C5C6-7FB0-44BE-935E-CBF3991C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2845A-8F8B-449B-9841-2C093272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9BFAF-FEAB-4088-9257-4C5B307E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82280-E6A3-441E-8332-F2A1BBF5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824F8-BB7F-4487-A11E-205AB7F8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9922B-B2D4-485B-863C-C09B14A7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DBF0B-DD1D-42E0-A407-1E739714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32CA-1F24-4789-B2AC-4C1E51CD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E98A7-3AE6-4750-B074-9CE5B972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550D8-7135-4FAC-941C-FA9C498D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E1074-1351-4BEA-9124-D5EE02E7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F7428-53FB-471F-BE64-D33CAA04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6A454-78C0-4EBC-91FB-6CFB19F0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1C4CF-D268-4B73-B680-3A12DE48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3EC43-A785-49BA-97CC-9A4D98F4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69DE4-CE26-475A-912A-842A90EB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06124-DC14-4180-BF2D-0EC18387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36270-354A-4AA2-8AC7-E16C4EAD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5697-26C6-4B36-900A-60A48A3A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802C5-DE79-44F9-A380-2D683917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0B3E9-07F7-408F-B50D-E0189B5C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45361-4B97-4B70-9CAC-11112641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6CB64-B158-457A-9715-44E791FF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709EA-D1ED-499D-9CE7-D16DD212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0B596-2F9A-46F0-99DE-BAC5E7C2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5C613-3B1B-43A3-BD99-55A01283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1B01-CBF2-43FD-A7E5-0776F3430237}" type="slidenum">
              <a:rPr b="0" lang="he-I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3E1B-4FA0-468C-8C62-365B22F1725E}" type="slidenum">
              <a:rPr b="0" lang="he-I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8381-DB86-441A-B9A1-A0948AAA1A3B}" type="slidenum">
              <a:rPr b="0" lang="he-I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B113-A45F-4C2A-A4A7-920DDA8E8100}" type="slidenum">
              <a:rPr b="0" lang="he-I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CFB6-AF38-45D3-AB7A-B2C89F604C6D}" type="slidenum">
              <a:rPr b="0" lang="he-I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FA2A-AF59-4689-BE57-3C47ED672557}" type="slidenum">
              <a:rPr b="0" lang="he-I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151C-D79D-4911-B223-D80DA50E9308}" type="slidenum">
              <a:rPr b="0" lang="he-I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C7C3-00D1-4452-8919-E2E6FF9FFAD0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470240"/>
          </a:xfrm>
          <a:prstGeom prst="rect">
            <a:avLst/>
          </a:prstGeom>
          <a:solidFill>
            <a:srgbClr val="ffe39d"/>
          </a:solidFill>
          <a:ln w="9360">
            <a:solidFill>
              <a:srgbClr val="c0654c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33cc"/>
                </a:solidFill>
                <a:latin typeface="Script MT Bold"/>
              </a:rPr>
              <a:t>The Past Simple Ten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2979720" y="3143160"/>
            <a:ext cx="3635280" cy="258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9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24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72314"/>
                </a:solidFill>
                <a:latin typeface="Gill Sans MT"/>
              </a:rPr>
              <a:t>We use the past continuous to describe a longer action.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9" name="Picture 5" descr=""/>
          <p:cNvPicPr/>
          <p:nvPr/>
        </p:nvPicPr>
        <p:blipFill>
          <a:blip r:embed="rId1"/>
          <a:stretch/>
        </p:blipFill>
        <p:spPr>
          <a:xfrm>
            <a:off x="1195560" y="1600200"/>
            <a:ext cx="6752880" cy="2189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4495680"/>
            <a:ext cx="914400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I spoke to Tom yesterday.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I was speaking to Tom 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yesterda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44"/>
          <p:cNvGrpSpPr/>
          <p:nvPr/>
        </p:nvGrpSpPr>
        <p:grpSpPr>
          <a:xfrm>
            <a:off x="0" y="1197000"/>
            <a:ext cx="7921440" cy="5184000"/>
            <a:chOff x="0" y="1197000"/>
            <a:chExt cx="7921440" cy="5184000"/>
          </a:xfrm>
        </p:grpSpPr>
        <p:sp>
          <p:nvSpPr>
            <p:cNvPr id="372" name="Rectangle 5"/>
            <p:cNvSpPr/>
            <p:nvPr/>
          </p:nvSpPr>
          <p:spPr>
            <a:xfrm>
              <a:off x="1207440" y="1197000"/>
              <a:ext cx="2215440" cy="897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ffirma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7"/>
            <p:cNvSpPr/>
            <p:nvPr/>
          </p:nvSpPr>
          <p:spPr>
            <a:xfrm>
              <a:off x="1207440" y="2094120"/>
              <a:ext cx="2215440" cy="2141640"/>
            </a:xfrm>
            <a:prstGeom prst="rect">
              <a:avLst/>
            </a:prstGeom>
            <a:noFill/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I wrote a poem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1"/>
            <p:cNvSpPr/>
            <p:nvPr/>
          </p:nvSpPr>
          <p:spPr>
            <a:xfrm>
              <a:off x="0" y="2094120"/>
              <a:ext cx="1208880" cy="2141640"/>
            </a:xfrm>
            <a:prstGeom prst="rect">
              <a:avLst/>
            </a:prstGeom>
            <a:noFill/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66cc"/>
                  </a:solidFill>
                  <a:latin typeface="Arial"/>
                </a:rPr>
                <a:t>Simple</a:t>
              </a:r>
              <a:r>
                <a:rPr b="0" lang="es-ES_tradnl" sz="2000" spc="-1" strike="noStrike">
                  <a:solidFill>
                    <a:srgbClr val="ff66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66cc"/>
                  </a:solidFill>
                  <a:latin typeface="Arial"/>
                </a:rPr>
                <a:t>pa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6"/>
            <p:cNvSpPr/>
            <p:nvPr/>
          </p:nvSpPr>
          <p:spPr>
            <a:xfrm>
              <a:off x="3423240" y="2094120"/>
              <a:ext cx="2412720" cy="2145240"/>
            </a:xfrm>
            <a:prstGeom prst="rect">
              <a:avLst/>
            </a:prstGeom>
            <a:noFill/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I didn’t  write a poem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7"/>
            <p:cNvSpPr/>
            <p:nvPr/>
          </p:nvSpPr>
          <p:spPr>
            <a:xfrm>
              <a:off x="5840640" y="2094120"/>
              <a:ext cx="2080800" cy="2145240"/>
            </a:xfrm>
            <a:prstGeom prst="rect">
              <a:avLst/>
            </a:prstGeom>
            <a:noFill/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Did you write a poem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8"/>
            <p:cNvSpPr/>
            <p:nvPr/>
          </p:nvSpPr>
          <p:spPr>
            <a:xfrm>
              <a:off x="3423240" y="1197000"/>
              <a:ext cx="2412720" cy="900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ega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9"/>
            <p:cNvSpPr/>
            <p:nvPr/>
          </p:nvSpPr>
          <p:spPr>
            <a:xfrm>
              <a:off x="5840640" y="1197000"/>
              <a:ext cx="2080800" cy="900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Yes/No-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21"/>
            <p:cNvSpPr/>
            <p:nvPr/>
          </p:nvSpPr>
          <p:spPr>
            <a:xfrm>
              <a:off x="1207440" y="4235760"/>
              <a:ext cx="2215440" cy="2141640"/>
            </a:xfrm>
            <a:prstGeom prst="rect">
              <a:avLst/>
            </a:prstGeom>
            <a:noFill/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 was 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writ</a:t>
              </a: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ing 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a poem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They </a:t>
              </a: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were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writ</a:t>
              </a: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ing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a poem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2"/>
            <p:cNvSpPr/>
            <p:nvPr/>
          </p:nvSpPr>
          <p:spPr>
            <a:xfrm>
              <a:off x="0" y="4235760"/>
              <a:ext cx="1208880" cy="2141640"/>
            </a:xfrm>
            <a:prstGeom prst="rect">
              <a:avLst/>
            </a:prstGeom>
            <a:noFill/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66cc"/>
                  </a:solidFill>
                  <a:latin typeface="Arial"/>
                </a:rPr>
                <a:t>Past</a:t>
              </a:r>
              <a:r>
                <a:rPr b="0" lang="es-ES" sz="2000" spc="-1" strike="noStrike">
                  <a:solidFill>
                    <a:srgbClr val="ff66cc"/>
                  </a:solidFill>
                  <a:latin typeface="Arial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66cc"/>
                  </a:solidFill>
                  <a:latin typeface="Arial"/>
                </a:rPr>
                <a:t>continuo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3"/>
            <p:cNvSpPr/>
            <p:nvPr/>
          </p:nvSpPr>
          <p:spPr>
            <a:xfrm>
              <a:off x="3423240" y="4235760"/>
              <a:ext cx="2412720" cy="2145240"/>
            </a:xfrm>
            <a:prstGeom prst="rect">
              <a:avLst/>
            </a:prstGeom>
            <a:noFill/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He </a:t>
              </a: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wasn’t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writ</a:t>
              </a: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ing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a poem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They </a:t>
              </a: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weren’t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writ</a:t>
              </a: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ing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a poem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4"/>
            <p:cNvSpPr/>
            <p:nvPr/>
          </p:nvSpPr>
          <p:spPr>
            <a:xfrm>
              <a:off x="5840640" y="4235760"/>
              <a:ext cx="2080800" cy="2145240"/>
            </a:xfrm>
            <a:prstGeom prst="rect">
              <a:avLst/>
            </a:prstGeom>
            <a:noFill/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Was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he writ</a:t>
              </a: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ing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a poem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Were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they writ</a:t>
              </a: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ing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a poem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?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Rectangle 16"/>
          <p:cNvSpPr/>
          <p:nvPr/>
        </p:nvSpPr>
        <p:spPr>
          <a:xfrm>
            <a:off x="7956720" y="1197000"/>
            <a:ext cx="1187280" cy="9367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h-Q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7956720" y="2133720"/>
            <a:ext cx="1187280" cy="20872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What did you write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?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8"/>
          <p:cNvSpPr/>
          <p:nvPr/>
        </p:nvSpPr>
        <p:spPr>
          <a:xfrm>
            <a:off x="7956720" y="4221000"/>
            <a:ext cx="1187280" cy="21607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What  was he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writing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What were th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writing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33cc"/>
                </a:solidFill>
                <a:latin typeface="Script MT Bold"/>
              </a:rPr>
              <a:t>Time Express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8" name="מלבן מעוגל 3" descr=""/>
          <p:cNvPicPr/>
          <p:nvPr/>
        </p:nvPicPr>
        <p:blipFill>
          <a:blip r:embed="rId1"/>
          <a:stretch/>
        </p:blipFill>
        <p:spPr>
          <a:xfrm>
            <a:off x="590400" y="1828800"/>
            <a:ext cx="3610080" cy="950760"/>
          </a:xfrm>
          <a:prstGeom prst="rect">
            <a:avLst/>
          </a:prstGeom>
          <a:ln w="0">
            <a:noFill/>
          </a:ln>
        </p:spPr>
      </p:pic>
      <p:pic>
        <p:nvPicPr>
          <p:cNvPr id="389" name="מלבן מעוגל 4" descr=""/>
          <p:cNvPicPr/>
          <p:nvPr/>
        </p:nvPicPr>
        <p:blipFill>
          <a:blip r:embed="rId2"/>
          <a:stretch/>
        </p:blipFill>
        <p:spPr>
          <a:xfrm>
            <a:off x="480960" y="2968560"/>
            <a:ext cx="3610080" cy="963720"/>
          </a:xfrm>
          <a:prstGeom prst="rect">
            <a:avLst/>
          </a:prstGeom>
          <a:ln w="0">
            <a:noFill/>
          </a:ln>
        </p:spPr>
      </p:pic>
      <p:pic>
        <p:nvPicPr>
          <p:cNvPr id="390" name="מלבן מעוגל 5" descr=""/>
          <p:cNvPicPr/>
          <p:nvPr/>
        </p:nvPicPr>
        <p:blipFill>
          <a:blip r:embed="rId3"/>
          <a:stretch/>
        </p:blipFill>
        <p:spPr>
          <a:xfrm>
            <a:off x="4913280" y="1841400"/>
            <a:ext cx="3608280" cy="951120"/>
          </a:xfrm>
          <a:prstGeom prst="rect">
            <a:avLst/>
          </a:prstGeom>
          <a:ln w="0">
            <a:noFill/>
          </a:ln>
        </p:spPr>
      </p:pic>
      <p:pic>
        <p:nvPicPr>
          <p:cNvPr id="391" name="מלבן מעוגל 7" descr=""/>
          <p:cNvPicPr/>
          <p:nvPr/>
        </p:nvPicPr>
        <p:blipFill>
          <a:blip r:embed="rId4"/>
          <a:stretch/>
        </p:blipFill>
        <p:spPr>
          <a:xfrm>
            <a:off x="3187800" y="4260960"/>
            <a:ext cx="3609720" cy="963360"/>
          </a:xfrm>
          <a:prstGeom prst="rect">
            <a:avLst/>
          </a:prstGeom>
          <a:ln w="0">
            <a:noFill/>
          </a:ln>
        </p:spPr>
      </p:pic>
      <p:pic>
        <p:nvPicPr>
          <p:cNvPr id="392" name="מלבן מעוגל 8" descr=""/>
          <p:cNvPicPr/>
          <p:nvPr/>
        </p:nvPicPr>
        <p:blipFill>
          <a:blip r:embed="rId5"/>
          <a:stretch/>
        </p:blipFill>
        <p:spPr>
          <a:xfrm>
            <a:off x="4986360" y="2981160"/>
            <a:ext cx="3608280" cy="95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7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7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82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8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9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9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33cc"/>
                </a:solidFill>
                <a:latin typeface="Script MT Bold"/>
              </a:rPr>
              <a:t>Past Simple: Regular Verb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David"/>
              </a:rPr>
              <a:t>The Past Simple tense of the most English verbs 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  <a:ea typeface="David"/>
              </a:rPr>
              <a:t>(regular verbs)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David"/>
              </a:rPr>
              <a:t> is formed by adding "-</a:t>
            </a:r>
            <a:r>
              <a:rPr b="1" lang="en-US" sz="2000" spc="-1" strike="noStrike">
                <a:solidFill>
                  <a:srgbClr val="ff33cc"/>
                </a:solidFill>
                <a:latin typeface="Comic Sans MS"/>
                <a:ea typeface="David"/>
              </a:rPr>
              <a:t>ed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David"/>
              </a:rPr>
              <a:t>"/"-</a:t>
            </a:r>
            <a:r>
              <a:rPr b="1" lang="en-US" sz="2000" spc="-1" strike="noStrike">
                <a:solidFill>
                  <a:srgbClr val="ff33cc"/>
                </a:solidFill>
                <a:latin typeface="Comic Sans MS"/>
                <a:ea typeface="David"/>
              </a:rPr>
              <a:t>d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David"/>
              </a:rPr>
              <a:t>" to their base form. 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  <a:ea typeface="David"/>
              </a:rPr>
              <a:t>(If the verb ends in "-</a:t>
            </a:r>
            <a:r>
              <a:rPr b="1" i="1" lang="en-US" sz="2000" spc="-1" strike="noStrike">
                <a:solidFill>
                  <a:srgbClr val="ff33cc"/>
                </a:solidFill>
                <a:latin typeface="Comic Sans MS"/>
                <a:ea typeface="David"/>
              </a:rPr>
              <a:t>e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  <a:ea typeface="David"/>
              </a:rPr>
              <a:t>", we add "-</a:t>
            </a:r>
            <a:r>
              <a:rPr b="1" i="1" lang="en-US" sz="2000" spc="-1" strike="noStrike">
                <a:solidFill>
                  <a:srgbClr val="ff33cc"/>
                </a:solidFill>
                <a:latin typeface="Comic Sans MS"/>
                <a:ea typeface="David"/>
              </a:rPr>
              <a:t>d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  <a:ea typeface="David"/>
              </a:rPr>
              <a:t>" to form the past simpl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Script MT Bold"/>
                <a:ea typeface="David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David"/>
              </a:rPr>
              <a:t>We arrived at 9:00 o'clock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David"/>
              </a:rPr>
              <a:t>My brother lived in London four years ago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David"/>
              </a:rPr>
              <a:t>When she was young, she danced beautifully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142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45" dur="2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148" dur="20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151" dur="20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154" dur="20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33cc"/>
                </a:solidFill>
                <a:latin typeface="Script MT Bold"/>
              </a:rPr>
              <a:t>Irregular Verb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David"/>
              </a:rPr>
              <a:t>There are also some verbs called 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  <a:ea typeface="David"/>
              </a:rPr>
              <a:t>irregular verbs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David"/>
              </a:rPr>
              <a:t> that have special past tense form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David"/>
              </a:rPr>
              <a:t>See list of irregular verb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50000"/>
              </a:lnSpc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David"/>
              </a:rPr>
              <a:t>We went </a:t>
            </a:r>
            <a:r>
              <a:rPr b="1" lang="en-US" sz="1800" spc="-1" strike="noStrike">
                <a:solidFill>
                  <a:srgbClr val="ff33cc"/>
                </a:solidFill>
                <a:latin typeface="Comic Sans MS"/>
                <a:ea typeface="David"/>
              </a:rPr>
              <a:t>(go)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David"/>
              </a:rPr>
              <a:t>to school yesterday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50000"/>
              </a:lnSpc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David"/>
              </a:rPr>
              <a:t>The children read </a:t>
            </a:r>
            <a:r>
              <a:rPr b="1" lang="en-US" sz="1800" spc="-1" strike="noStrike">
                <a:solidFill>
                  <a:srgbClr val="ff33cc"/>
                </a:solidFill>
                <a:latin typeface="Comic Sans MS"/>
                <a:ea typeface="David"/>
              </a:rPr>
              <a:t>(read)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David"/>
              </a:rPr>
              <a:t>that story last year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50000"/>
              </a:lnSpc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David"/>
              </a:rPr>
              <a:t>Tamar wrote </a:t>
            </a:r>
            <a:r>
              <a:rPr b="1" lang="en-US" sz="1800" spc="-1" strike="noStrike">
                <a:solidFill>
                  <a:srgbClr val="ff33cc"/>
                </a:solidFill>
                <a:latin typeface="Comic Sans MS"/>
                <a:ea typeface="David"/>
              </a:rPr>
              <a:t>(write)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David"/>
              </a:rPr>
              <a:t>the letter to her friend on Sunday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50000"/>
              </a:lnSpc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David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David"/>
              </a:rPr>
              <a:t>The students forgot </a:t>
            </a:r>
            <a:r>
              <a:rPr b="1" lang="en-US" sz="1800" spc="-1" strike="noStrike">
                <a:solidFill>
                  <a:srgbClr val="ff33cc"/>
                </a:solidFill>
                <a:latin typeface="Comic Sans MS"/>
                <a:ea typeface="David"/>
              </a:rPr>
              <a:t>(forget)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David"/>
              </a:rPr>
              <a:t> to do the homework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ll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21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215" dur="2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218" dur="2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221" dur="20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224" dur="20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227" dur="20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230" dur="20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572314"/>
                </a:solidFill>
                <a:latin typeface="Gill Sans MT"/>
              </a:rPr>
              <a:t>Past Simple or Past Continuous?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)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Yesterda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evening I  . . .  </a:t>
            </a:r>
            <a:r>
              <a:rPr b="0" lang="en-US" sz="3200" spc="-1" strike="noStrike">
                <a:solidFill>
                  <a:srgbClr val="2a6d7d"/>
                </a:solidFill>
                <a:latin typeface="Gill Sans MT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work) hard till late because I    . . . . .(have) a difficult task to do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teacher </a:t>
            </a:r>
            <a:r>
              <a:rPr b="0" lang="en-US" sz="3200" spc="-1" strike="noStrike">
                <a:solidFill>
                  <a:srgbClr val="2a6d7d"/>
                </a:solidFill>
                <a:latin typeface="Gill Sans MT"/>
              </a:rPr>
              <a:t> . . . . 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not talk)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Mary arrive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</a:t>
            </a:r>
            <a:r>
              <a:rPr b="0" lang="en-US" sz="3200" spc="-1" strike="noStrike">
                <a:solidFill>
                  <a:srgbClr val="2a6d7d"/>
                </a:solidFill>
                <a:latin typeface="Gill Sans MT"/>
              </a:rPr>
              <a:t> . . . . . 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not watch) TV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ir parents arriv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y mother </a:t>
            </a:r>
            <a:r>
              <a:rPr b="0" lang="en-US" sz="3200" spc="-1" strike="noStrike">
                <a:solidFill>
                  <a:srgbClr val="2a6d7d"/>
                </a:solidFill>
                <a:latin typeface="Gill Sans MT"/>
              </a:rPr>
              <a:t> . . . .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(give) me a new CD and my sister and I </a:t>
            </a:r>
            <a:r>
              <a:rPr b="0" lang="en-US" sz="3200" spc="-1" strike="noStrike">
                <a:solidFill>
                  <a:srgbClr val="2a6d7d"/>
                </a:solidFill>
                <a:latin typeface="Gill Sans MT"/>
              </a:rPr>
              <a:t> . . . . . . 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(listen) to it immediatel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ange into negativ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ristopher Columbus discovered Indi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ristopher Columbus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didn’t discover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d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mma was reading a book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mma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wasn’t reading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bo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hmed won the football cup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hmed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didn’t win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football cup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n and Chris were eating lun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n and Chris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weren’t eating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unch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14:29:13Z</dcterms:created>
  <dc:creator>user</dc:creator>
  <dc:description/>
  <dc:language>en-US</dc:language>
  <cp:lastModifiedBy>win8</cp:lastModifiedBy>
  <dcterms:modified xsi:type="dcterms:W3CDTF">2014-10-21T16:16:38Z</dcterms:modified>
  <cp:revision>57</cp:revision>
  <dc:subject/>
  <dc:title>The Past Simple Tense</dc:title>
</cp:coreProperties>
</file>