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D1AA-CE3E-454E-BEA7-A6168F38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4E8-0BE7-4DAF-84F4-2D8FE490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76B7-2F3F-4E34-A9C8-41DE7FB5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7AD-9EAD-4EDD-B757-D302FA5D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3A51-2CDC-4EF3-98F7-FAB65073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ED9A-DFCA-4466-BEA8-E6CEBABB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B905-5391-4600-BA83-C51806F1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F06-8B62-4BE6-BEB9-F01B1ED5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4822-6BD0-4C8F-A916-44A17A5D5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prstGeom prst="pie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4912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" name="Text Box 95"/>
          <p:cNvSpPr/>
          <p:nvPr/>
        </p:nvSpPr>
        <p:spPr>
          <a:xfrm>
            <a:off x="853272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423B-2C55-4680-893B-43BE8BA78A39}" type="slidenum"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0" y="304956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85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214280"/>
          <a:ext cx="5715000" cy="289584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273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8628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9"/>
          <p:cNvSpPr/>
          <p:nvPr/>
        </p:nvSpPr>
        <p:spPr>
          <a:xfrm flipH="1">
            <a:off x="2028960" y="1682640"/>
            <a:ext cx="1690560" cy="25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740040" y="121428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ABC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 represents the feasible spac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7212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>
            <a:off x="30240" y="395928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642960" y="4317840"/>
            <a:ext cx="255600" cy="2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571680" y="4429080"/>
            <a:ext cx="201600" cy="11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2920" y="5572080"/>
            <a:ext cx="1500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Direction of the max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642960" y="342900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8760" y="37861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"/>
          <p:cNvSpPr/>
          <p:nvPr/>
        </p:nvSpPr>
        <p:spPr>
          <a:xfrm>
            <a:off x="1285920" y="257184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1714680" y="2357280"/>
            <a:ext cx="254124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214720" y="2500200"/>
            <a:ext cx="679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4403880" y="4462560"/>
            <a:ext cx="57456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000760" y="4143240"/>
            <a:ext cx="839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4011480" y="46195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H="1">
            <a:off x="1184040" y="4608360"/>
            <a:ext cx="282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3852720" y="5078520"/>
            <a:ext cx="446400" cy="415800"/>
            <a:chOff x="3852720" y="5078520"/>
            <a:chExt cx="446400" cy="415800"/>
          </a:xfrm>
        </p:grpSpPr>
        <p:sp>
          <p:nvSpPr>
            <p:cNvPr id="207" name="Text Box 13"/>
            <p:cNvSpPr/>
            <p:nvPr/>
          </p:nvSpPr>
          <p:spPr>
            <a:xfrm>
              <a:off x="3852720" y="5122800"/>
              <a:ext cx="383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3938400" y="5078520"/>
              <a:ext cx="360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5"/>
          <p:cNvGrpSpPr/>
          <p:nvPr/>
        </p:nvGrpSpPr>
        <p:grpSpPr>
          <a:xfrm>
            <a:off x="857160" y="4357800"/>
            <a:ext cx="446040" cy="416880"/>
            <a:chOff x="857160" y="4357800"/>
            <a:chExt cx="446040" cy="416880"/>
          </a:xfrm>
        </p:grpSpPr>
        <p:sp>
          <p:nvSpPr>
            <p:cNvPr id="210" name="Text Box 16"/>
            <p:cNvSpPr/>
            <p:nvPr/>
          </p:nvSpPr>
          <p:spPr>
            <a:xfrm>
              <a:off x="857160" y="4402080"/>
              <a:ext cx="3826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942840" y="4357800"/>
              <a:ext cx="360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3"/>
          <p:cNvGrpSpPr/>
          <p:nvPr/>
        </p:nvGrpSpPr>
        <p:grpSpPr>
          <a:xfrm>
            <a:off x="6170760" y="4286160"/>
            <a:ext cx="3187440" cy="1219320"/>
            <a:chOff x="6170760" y="4286160"/>
            <a:chExt cx="3187440" cy="1219320"/>
          </a:xfrm>
        </p:grpSpPr>
        <p:sp>
          <p:nvSpPr>
            <p:cNvPr id="213" name="Text Box 34"/>
            <p:cNvSpPr/>
            <p:nvPr/>
          </p:nvSpPr>
          <p:spPr>
            <a:xfrm>
              <a:off x="6215040" y="4286160"/>
              <a:ext cx="31431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3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5"/>
            <p:cNvSpPr/>
            <p:nvPr/>
          </p:nvSpPr>
          <p:spPr>
            <a:xfrm>
              <a:off x="6170760" y="4357080"/>
              <a:ext cx="115920" cy="832320"/>
            </a:xfrm>
            <a:custGeom>
              <a:avLst/>
              <a:gdLst>
                <a:gd name="textAreaLeft" fmla="*/ 74160 w 115920"/>
                <a:gd name="textAreaRight" fmla="*/ 116280 w 115920"/>
                <a:gd name="textAreaTop" fmla="*/ 21600 h 832320"/>
                <a:gd name="textAreaBottom" fmla="*/ 81072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40"/>
          <p:cNvSpPr/>
          <p:nvPr/>
        </p:nvSpPr>
        <p:spPr>
          <a:xfrm>
            <a:off x="6143760" y="5429160"/>
            <a:ext cx="2423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2.4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x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= 0.4 Z* 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2</a:t>
            </a:r>
            <a:r>
              <a:rPr b="1" lang="fr-FR" sz="3200" spc="-1" strike="noStrike" baseline="30000">
                <a:solidFill>
                  <a:srgbClr val="1d1f6f"/>
                </a:solidFill>
                <a:latin typeface="Times New Roman"/>
              </a:rPr>
              <a:t>nd</a:t>
            </a: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1499760" y="2357280"/>
            <a:ext cx="716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28800" y="185724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n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 flipH="1">
            <a:off x="642960" y="2357280"/>
            <a:ext cx="92880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1571760" y="2357280"/>
            <a:ext cx="1857240" cy="21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1571760" y="2357280"/>
            <a:ext cx="1285920" cy="26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9"/>
          <p:cNvSpPr/>
          <p:nvPr/>
        </p:nvSpPr>
        <p:spPr>
          <a:xfrm flipH="1">
            <a:off x="642960" y="2357280"/>
            <a:ext cx="928800" cy="264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786040" y="1143000"/>
            <a:ext cx="62787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n optimal solution of a LP exists, then at least one of the corner points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857920" y="2805120"/>
            <a:ext cx="32860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0"/>
          <p:cNvSpPr/>
          <p:nvPr/>
        </p:nvSpPr>
        <p:spPr>
          <a:xfrm>
            <a:off x="5857920" y="3857760"/>
            <a:ext cx="264312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72120" y="142884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V="1">
            <a:off x="642960" y="4500360"/>
            <a:ext cx="14292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14200" y="378612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786200" y="450072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 flipH="1">
            <a:off x="2286000" y="3000240"/>
            <a:ext cx="5716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786040" y="2714760"/>
            <a:ext cx="839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85840" y="407196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0" y="450072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857160" y="3071880"/>
            <a:ext cx="428652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1000080" y="285768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6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V="1">
            <a:off x="642960" y="4500360"/>
            <a:ext cx="21420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78000" y="35719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643280" y="46990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1214280" y="2786040"/>
            <a:ext cx="392940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-71280" y="428616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57120" y="378612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"/>
          <p:cNvSpPr/>
          <p:nvPr/>
        </p:nvSpPr>
        <p:spPr>
          <a:xfrm rot="7365600">
            <a:off x="3056040" y="2537640"/>
            <a:ext cx="471600" cy="2260440"/>
          </a:xfrm>
          <a:custGeom>
            <a:avLst/>
            <a:gdLst>
              <a:gd name="textAreaLeft" fmla="*/ 301320 w 471600"/>
              <a:gd name="textAreaRight" fmla="*/ 471960 w 471600"/>
              <a:gd name="textAreaTop" fmla="*/ 58680 h 2260440"/>
              <a:gd name="textAreaBottom" fmla="*/ 2201760 h 22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71880" y="2000160"/>
            <a:ext cx="177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points of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] are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3382920" y="2679840"/>
            <a:ext cx="40320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49"/>
          <p:cNvSpPr/>
          <p:nvPr/>
        </p:nvSpPr>
        <p:spPr>
          <a:xfrm>
            <a:off x="5857920" y="500076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214200" y="928800"/>
            <a:ext cx="850104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 LP has more than one optimal solution, then there is an infinite number of optimal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754200" y="1849320"/>
            <a:ext cx="382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1162080" y="1963800"/>
            <a:ext cx="0" cy="345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073160" y="42400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073160" y="307332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 flipH="1">
            <a:off x="1149120" y="5405400"/>
            <a:ext cx="44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32884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349560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467532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849240" y="4079880"/>
            <a:ext cx="43070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5400720" y="536724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874800" y="544500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4595400" y="6037200"/>
            <a:ext cx="12708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649760" y="610380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642960" y="1535040"/>
            <a:ext cx="384984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4066920" y="1428840"/>
            <a:ext cx="13788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173480" y="1214280"/>
            <a:ext cx="54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572000" y="3429000"/>
            <a:ext cx="4214880" cy="13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asible Linea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solution that satisfi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              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601640" y="3341520"/>
            <a:ext cx="3542040" cy="11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 flipH="1">
            <a:off x="1646280" y="1724040"/>
            <a:ext cx="3510000" cy="16272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93760" y="21304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1603440" y="224460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512720" y="45212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1512720" y="33544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 flipH="1">
            <a:off x="1590480" y="56865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276876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393552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1076400" y="4521240"/>
            <a:ext cx="40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4861080" y="5670720"/>
            <a:ext cx="384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314360" y="57261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4541760" y="41432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1082160" y="1698480"/>
            <a:ext cx="4094280" cy="189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4645080" y="1943280"/>
            <a:ext cx="11736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V="1">
            <a:off x="4995720" y="42541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4743360" y="18511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725400" y="361152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228600" y="4317840"/>
            <a:ext cx="2541600" cy="254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V="1">
            <a:off x="663480" y="4492440"/>
            <a:ext cx="255600" cy="25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71280" y="474336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312840" y="3794040"/>
            <a:ext cx="744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3143160" y="2071800"/>
            <a:ext cx="1011240" cy="13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2357280" y="1285920"/>
            <a:ext cx="192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Unbounded feasib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5214960" y="3500280"/>
            <a:ext cx="3786120" cy="18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bounded Linear 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bjective function  can always increase (maximization) without violating any constra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500800" y="5500800"/>
            <a:ext cx="34290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optim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49:04Z</dcterms:created>
  <dc:creator>KHARBECHE</dc:creator>
  <dc:description/>
  <dc:language>en-US</dc:language>
  <cp:lastModifiedBy>Dr</cp:lastModifiedBy>
  <dcterms:modified xsi:type="dcterms:W3CDTF">2010-10-27T06:04:44Z</dcterms:modified>
  <cp:revision>358</cp:revision>
  <dc:subject/>
  <dc:title>ThemeGallery PowerTemplate</dc:title>
</cp:coreProperties>
</file>