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64EF-74E8-4A9E-8AC0-129C2DE03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2057-1EDC-4631-B9CC-1F38C7FE5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5646-9AC0-4042-AE3F-43954669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2F8E-4643-4096-B7A3-438CBD127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B28C-9FCB-4088-8A95-B73C70A0B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6A6B-30A5-4AD8-B9C6-D42467AC2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089B-AE46-4530-B1E5-EEFD95F31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F4C0-D1F6-418A-A70F-A6AB1094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42FF-DF64-491C-8E3B-FACBB05E7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prstGeom prst="pie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49120"/>
            <a:ext cx="7848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" name="Text Box 95"/>
          <p:cNvSpPr/>
          <p:nvPr/>
        </p:nvSpPr>
        <p:spPr>
          <a:xfrm>
            <a:off x="8532720" y="645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72DE-FA50-4E6D-9A0B-3DAE42A47AFD}" type="slidenum"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9296280" y="130320"/>
            <a:ext cx="241560" cy="24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0" y="3049560"/>
            <a:ext cx="91440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85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214280"/>
          <a:ext cx="5715000" cy="289584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273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786280" y="214308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89000" y="15717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 rot="5470200">
            <a:off x="288684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440000" y="4648320"/>
            <a:ext cx="148896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475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55260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4618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618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5392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17193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28843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40654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824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4255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 flipH="1">
            <a:off x="27860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144000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7894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635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28083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23920" y="30495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1335240" y="3043080"/>
            <a:ext cx="382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4336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 flipH="1" flipV="1">
            <a:off x="46112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8672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 flipH="1">
            <a:off x="42624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42940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46465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514368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9"/>
          <p:cNvSpPr/>
          <p:nvPr/>
        </p:nvSpPr>
        <p:spPr>
          <a:xfrm flipH="1">
            <a:off x="2028960" y="1682640"/>
            <a:ext cx="1690560" cy="25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740040" y="1214280"/>
            <a:ext cx="199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ABC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 represents the feasible spac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72120" y="214308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"/>
          <p:cNvSpPr/>
          <p:nvPr/>
        </p:nvSpPr>
        <p:spPr>
          <a:xfrm>
            <a:off x="30240" y="395928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642960" y="4317840"/>
            <a:ext cx="255600" cy="254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571680" y="4429080"/>
            <a:ext cx="201600" cy="11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42920" y="5572080"/>
            <a:ext cx="1500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Direction of the maxim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642960" y="342900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28760" y="378612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"/>
          <p:cNvSpPr/>
          <p:nvPr/>
        </p:nvSpPr>
        <p:spPr>
          <a:xfrm>
            <a:off x="1285920" y="257184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1714680" y="2357280"/>
            <a:ext cx="254124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214720" y="2500200"/>
            <a:ext cx="679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4403880" y="4462560"/>
            <a:ext cx="574560" cy="9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5000760" y="4143240"/>
            <a:ext cx="839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ptimal P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4011480" y="461952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 flipH="1">
            <a:off x="1184040" y="4608360"/>
            <a:ext cx="282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2"/>
          <p:cNvGrpSpPr/>
          <p:nvPr/>
        </p:nvGrpSpPr>
        <p:grpSpPr>
          <a:xfrm>
            <a:off x="3852720" y="5078520"/>
            <a:ext cx="446400" cy="415800"/>
            <a:chOff x="3852720" y="5078520"/>
            <a:chExt cx="446400" cy="415800"/>
          </a:xfrm>
        </p:grpSpPr>
        <p:sp>
          <p:nvSpPr>
            <p:cNvPr id="207" name="Text Box 13"/>
            <p:cNvSpPr/>
            <p:nvPr/>
          </p:nvSpPr>
          <p:spPr>
            <a:xfrm>
              <a:off x="3852720" y="5122800"/>
              <a:ext cx="383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4"/>
            <p:cNvSpPr/>
            <p:nvPr/>
          </p:nvSpPr>
          <p:spPr>
            <a:xfrm>
              <a:off x="3938400" y="5078520"/>
              <a:ext cx="360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5"/>
          <p:cNvGrpSpPr/>
          <p:nvPr/>
        </p:nvGrpSpPr>
        <p:grpSpPr>
          <a:xfrm>
            <a:off x="857160" y="4357800"/>
            <a:ext cx="446040" cy="416880"/>
            <a:chOff x="857160" y="4357800"/>
            <a:chExt cx="446040" cy="416880"/>
          </a:xfrm>
        </p:grpSpPr>
        <p:sp>
          <p:nvSpPr>
            <p:cNvPr id="210" name="Text Box 16"/>
            <p:cNvSpPr/>
            <p:nvPr/>
          </p:nvSpPr>
          <p:spPr>
            <a:xfrm>
              <a:off x="857160" y="4402080"/>
              <a:ext cx="3826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942840" y="4357800"/>
              <a:ext cx="3603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33"/>
          <p:cNvGrpSpPr/>
          <p:nvPr/>
        </p:nvGrpSpPr>
        <p:grpSpPr>
          <a:xfrm>
            <a:off x="6170760" y="4286160"/>
            <a:ext cx="3187440" cy="1219320"/>
            <a:chOff x="6170760" y="4286160"/>
            <a:chExt cx="3187440" cy="1219320"/>
          </a:xfrm>
        </p:grpSpPr>
        <p:sp>
          <p:nvSpPr>
            <p:cNvPr id="213" name="Text Box 34"/>
            <p:cNvSpPr/>
            <p:nvPr/>
          </p:nvSpPr>
          <p:spPr>
            <a:xfrm>
              <a:off x="6215040" y="4286160"/>
              <a:ext cx="31431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3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x*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5"/>
            <p:cNvSpPr/>
            <p:nvPr/>
          </p:nvSpPr>
          <p:spPr>
            <a:xfrm>
              <a:off x="6170760" y="4357080"/>
              <a:ext cx="115920" cy="832320"/>
            </a:xfrm>
            <a:custGeom>
              <a:avLst/>
              <a:gdLst>
                <a:gd name="textAreaLeft" fmla="*/ 74160 w 115920"/>
                <a:gd name="textAreaRight" fmla="*/ 116280 w 115920"/>
                <a:gd name="textAreaTop" fmla="*/ 21600 h 832320"/>
                <a:gd name="textAreaBottom" fmla="*/ 810720 h 8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40"/>
          <p:cNvSpPr/>
          <p:nvPr/>
        </p:nvSpPr>
        <p:spPr>
          <a:xfrm>
            <a:off x="6143760" y="5429160"/>
            <a:ext cx="2423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= 2.4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x*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= 0.4 Z* = 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2</a:t>
            </a:r>
            <a:r>
              <a:rPr b="1" lang="fr-FR" sz="3200" spc="-1" strike="noStrike" baseline="30000">
                <a:solidFill>
                  <a:srgbClr val="1d1f6f"/>
                </a:solidFill>
                <a:latin typeface="Times New Roman"/>
              </a:rPr>
              <a:t>nd</a:t>
            </a: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189000" y="15717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 rot="5470200">
            <a:off x="288684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440000" y="4648320"/>
            <a:ext cx="148896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5475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55260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4618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4618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H="1">
            <a:off x="5392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17193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28843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40654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5824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4255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27860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144000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7894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2635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28083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223920" y="30495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1335240" y="3043080"/>
            <a:ext cx="382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34336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 flipH="1" flipV="1">
            <a:off x="46112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48672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 flipH="1">
            <a:off x="42624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42940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46465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514368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 flipH="1">
            <a:off x="1499760" y="2357280"/>
            <a:ext cx="7164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28800" y="1857240"/>
            <a:ext cx="199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rn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 flipH="1">
            <a:off x="642960" y="2357280"/>
            <a:ext cx="928800" cy="81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1571760" y="2357280"/>
            <a:ext cx="1857240" cy="21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>
            <a:off x="1571760" y="2357280"/>
            <a:ext cx="1285920" cy="26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9"/>
          <p:cNvSpPr/>
          <p:nvPr/>
        </p:nvSpPr>
        <p:spPr>
          <a:xfrm flipH="1">
            <a:off x="642960" y="2357280"/>
            <a:ext cx="928800" cy="264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786040" y="1143000"/>
            <a:ext cx="627876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an optimal solution of a LP exists, then at least one of the corner points is opt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857920" y="2805120"/>
            <a:ext cx="32860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0"/>
          <p:cNvSpPr/>
          <p:nvPr/>
        </p:nvSpPr>
        <p:spPr>
          <a:xfrm>
            <a:off x="5857920" y="3857760"/>
            <a:ext cx="2643120" cy="42840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072120" y="142884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 flipV="1">
            <a:off x="642960" y="4500360"/>
            <a:ext cx="14292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214200" y="3786120"/>
            <a:ext cx="765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4786200" y="4500720"/>
            <a:ext cx="67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 flipH="1">
            <a:off x="2286000" y="3000240"/>
            <a:ext cx="57168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2786040" y="2714760"/>
            <a:ext cx="839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ptimal P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285840" y="407196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0" y="450072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857160" y="3071880"/>
            <a:ext cx="428652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1000080" y="285768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857920" y="3929040"/>
            <a:ext cx="3286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65"/>
          <p:cNvSpPr/>
          <p:nvPr/>
        </p:nvSpPr>
        <p:spPr>
          <a:xfrm>
            <a:off x="5857920" y="457200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6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 flipV="1">
            <a:off x="642960" y="4500360"/>
            <a:ext cx="21420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78000" y="357192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643280" y="4699080"/>
            <a:ext cx="67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1214280" y="2786040"/>
            <a:ext cx="392940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5857920" y="3929040"/>
            <a:ext cx="3286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5"/>
          <p:cNvSpPr/>
          <p:nvPr/>
        </p:nvSpPr>
        <p:spPr>
          <a:xfrm>
            <a:off x="5857920" y="457200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-71280" y="4286160"/>
            <a:ext cx="392904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357120" y="3786120"/>
            <a:ext cx="392904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"/>
          <p:cNvSpPr/>
          <p:nvPr/>
        </p:nvSpPr>
        <p:spPr>
          <a:xfrm rot="7365600">
            <a:off x="3056040" y="2537640"/>
            <a:ext cx="471600" cy="2260440"/>
          </a:xfrm>
          <a:custGeom>
            <a:avLst/>
            <a:gdLst>
              <a:gd name="textAreaLeft" fmla="*/ 301320 w 471600"/>
              <a:gd name="textAreaRight" fmla="*/ 471960 w 471600"/>
              <a:gd name="textAreaTop" fmla="*/ 58680 h 2260440"/>
              <a:gd name="textAreaBottom" fmla="*/ 2201760 h 22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71880" y="2000160"/>
            <a:ext cx="1776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points of 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] are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3382920" y="2679840"/>
            <a:ext cx="40320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49"/>
          <p:cNvSpPr/>
          <p:nvPr/>
        </p:nvSpPr>
        <p:spPr>
          <a:xfrm>
            <a:off x="5857920" y="500076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214200" y="928800"/>
            <a:ext cx="850104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a LP has more than one optimal solution, then there is an infinite number of optimal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143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 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754200" y="1849320"/>
            <a:ext cx="382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1162080" y="1963800"/>
            <a:ext cx="0" cy="345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073160" y="424008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073160" y="307332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 flipH="1">
            <a:off x="1149120" y="5405400"/>
            <a:ext cx="449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32884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349560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467532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849240" y="4079880"/>
            <a:ext cx="43070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5400720" y="536724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874800" y="544500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4595400" y="6037200"/>
            <a:ext cx="12708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649760" y="610380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642960" y="1535040"/>
            <a:ext cx="384984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 flipH="1" flipV="1">
            <a:off x="4066920" y="1428840"/>
            <a:ext cx="13788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173480" y="1214280"/>
            <a:ext cx="54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4572000" y="3429000"/>
            <a:ext cx="4214880" cy="13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easible Linear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solution that satisfi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143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                 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601640" y="3341520"/>
            <a:ext cx="3542040" cy="117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 flipH="1">
            <a:off x="1646280" y="1724040"/>
            <a:ext cx="3510000" cy="16272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193760" y="21304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1603440" y="2244600"/>
            <a:ext cx="0" cy="345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1512720" y="45212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>
            <a:off x="1512720" y="335448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 flipH="1">
            <a:off x="1590480" y="568656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2768760" y="55951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3935520" y="55951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>
            <a:off x="1076400" y="4521240"/>
            <a:ext cx="409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4861080" y="5670720"/>
            <a:ext cx="3841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1314360" y="57261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4541760" y="41432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1082160" y="1698480"/>
            <a:ext cx="4094280" cy="189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4645080" y="1943280"/>
            <a:ext cx="11736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7"/>
          <p:cNvSpPr/>
          <p:nvPr/>
        </p:nvSpPr>
        <p:spPr>
          <a:xfrm flipV="1">
            <a:off x="4995720" y="42541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4743360" y="18511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725400" y="361152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228600" y="4317840"/>
            <a:ext cx="2541600" cy="254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V="1">
            <a:off x="663480" y="4492440"/>
            <a:ext cx="255600" cy="255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71280" y="4743360"/>
            <a:ext cx="765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312840" y="3794040"/>
            <a:ext cx="7444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4"/>
          <p:cNvSpPr/>
          <p:nvPr/>
        </p:nvSpPr>
        <p:spPr>
          <a:xfrm>
            <a:off x="3143160" y="2071800"/>
            <a:ext cx="1011240" cy="13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2357280" y="1285920"/>
            <a:ext cx="1928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Unbounded feasib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5214960" y="3500280"/>
            <a:ext cx="3786120" cy="18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nbounded Linear Prog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bjective function  can always increase (maximization) without violating any constra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5500800" y="5500800"/>
            <a:ext cx="34290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optim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4:49:04Z</dcterms:created>
  <dc:creator>KHARBECHE</dc:creator>
  <dc:description/>
  <dc:language>en-US</dc:language>
  <cp:lastModifiedBy>Dr</cp:lastModifiedBy>
  <dcterms:modified xsi:type="dcterms:W3CDTF">2010-10-27T06:04:44Z</dcterms:modified>
  <cp:revision>358</cp:revision>
  <dc:subject/>
  <dc:title>ThemeGallery PowerTemplate</dc:title>
</cp:coreProperties>
</file>