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0551-2564-4F2B-8921-00DA50F44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BD62-5F66-4A6D-A1B9-5C3A8EBC7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93760" y="693720"/>
            <a:ext cx="4497480" cy="33735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5040" y="4319640"/>
            <a:ext cx="50479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638-655C-4D3B-9F0C-4818175E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DAA-D904-42F5-9B30-CF1B10AE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C17-45A2-440B-9560-841C47AD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52D-4913-4F0A-9D80-DD2A2DA0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4E2-6A4E-40EB-9A18-D133F3D0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E7C-D3A7-4384-86E2-B6290D40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314-805F-42C1-936D-B05AAE82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E1C-1ABE-445A-9986-7D6B08DD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D6F-1A57-4E81-B043-87999435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8F5-8A04-4430-983D-D9CF4519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60C-CA61-4C0C-BCFC-E01CA9BE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82F-A01C-4334-878F-0B31C62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798D-7174-4EA0-B843-CA55B413C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pacep.org/" TargetMode="External"/><Relationship Id="rId2" Type="http://schemas.openxmlformats.org/officeDocument/2006/relationships/hyperlink" Target="http://www.pacep.org/" TargetMode="External"/><Relationship Id="rId3" Type="http://schemas.openxmlformats.org/officeDocument/2006/relationships/hyperlink" Target="http://www.edwards.com/" TargetMode="External"/><Relationship Id="rId4" Type="http://schemas.openxmlformats.org/officeDocument/2006/relationships/hyperlink" Target="http://www.vanderbiltmicu.com/" TargetMode="External"/><Relationship Id="rId5" Type="http://schemas.openxmlformats.org/officeDocument/2006/relationships/hyperlink" Target="http://vumcpolicies.mc.vanderbilt.edu/" TargetMode="External"/><Relationship Id="rId6" Type="http://schemas.openxmlformats.org/officeDocument/2006/relationships/hyperlink" Target="http://vumcpolicies.mc.vanderbilt.edu/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361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dynamic Monito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2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C insertion &amp; measur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, wedge, &amp; cardiac output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U Competenc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6 -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602-CFED-4069-84D2-FED0AEADAC1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Measurement of Pre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5760" y="1371240"/>
            <a:ext cx="895824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ventricular end diastolic pressure = LVEDP; measures preload in left ventri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artery wedge pressure (PAWP) reflects LVEDP; normal =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8 - 12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nable to wedge PAC, use PA diast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 diastolic (PAD); normal =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 - 15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rec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lects left atrial pressure, whi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rec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lects LVE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723-AAC5-44B3-9C07-2829770DBE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Measurement of Pre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venous pressure = CVP; measures preload in the right ventr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CVP =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2 – 8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8B3-9BF6-4F2C-8E8B-4D28AFBA57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Affect Pre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ything that alters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ting bloo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returning to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ricular fill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69F-28B1-44BA-B94B-4FBAFE7E5EC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Decrease Pre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fect right &amp; left ventricles (CVP &amp; We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vol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position reducing venous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ation causing blood to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venous return due to mechanical ventilation - high PIP, high levels of P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pneumotho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lood is not returning to the heart to fill the ventr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F7A-34EE-4BFE-BA28-CB299C33526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Increase Pre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4080" y="1523880"/>
            <a:ext cx="8989920" cy="51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vascular volume over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tampon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ve cardiomyopath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ventricular dysfunction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↑ PCWP &amp; C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ght ventricular dysfunction (↑ C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A1F-F495-49B5-8E30-97948F0BE8D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load is any resistance against which the ventricle must pump in order to eject its volu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ic Vascular Resistance (SVR) reflects LV aft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Range =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800-1200 dynes/sec/cm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Vascular Resistance (PVR) reflects RV aft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Range =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0-250 dynes/sec/cm-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E74-3377-4ABC-B9CC-1A9997B17E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Affect After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&amp; mass of blood ejected from the ventr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relationship between afterload and CO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↑CO = ↓afterload;                     ↓CO = ↑afterl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 &amp; diameter of the vessels into which the blood is 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rtic impedance, peripheral vascular resistance, and blood visc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33A-7D99-426E-A488-A79664A2A8A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reased Afterload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↓ SV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al dilatation from drugs such as nitroprusside, nitroglycerin, calcium channel blockers, beta blo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(septic, anaphylactic, neuroge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hermia (fe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727-7A91-493B-887C-630CF626113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ed Afterload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↑SV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plished by vasoconstr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agonists (press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ophed, Dopamine, Phenylephrine, Epineph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O with hypovolemic or cardiogenic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ffect of ob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ic/pulmonic ste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2CF-E0B6-48B3-9F90-CAF0C7F2AC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ed Afterload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↑ PV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 exhibiting increased P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stage COPD (Cor pulmon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emb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4F1-A5DB-4274-A76C-235BBAC66C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lmonary Artery Pressure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oon tip, indwelling catheter with several lumens &amp; thermistor placed in the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 (distal) &amp; CVP (proximal) ports are connected to a hemodynamic monitor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monitoring &amp; measurement of the pulmonary artery wedge pressures (PAWP), cardiac outputs, &amp; cardiopulmonary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F39-FD1A-4891-B849-EA01B046AEB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ctility = Inotro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ent ability of cardiac muscle to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ed indirectly by stroke volume index (SVI) and the stroke work index for each ventricle (LVSWI &amp; RVSW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myocardial oxygenation &amp; functionality;  electrolyte balance; +/- inotropes; amounts of preload and after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2D3-D958-484E-A835-0510181AD56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/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s Increasing Contractil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itive Inotr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athic stimulation – “fight or fligh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uta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nephrine (Adrenal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epinephrine (Levop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rinone (Inoc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amine (5 – 10 mcg/kg/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um; glucagon; caff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oxin (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otro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B5D-461C-4660-8815-8A2EEB1A862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Decreasing Contrac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gative inotr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emi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x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arrhyth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1A5-E00C-44B1-A48C-99815A96D1D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Cs in the MI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6, Dr. Wheeler presented the findings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i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tm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al (FACTT) to nurses in our MICU. Data from this study indicates a preference for using the CVP to monitor fluid status and conservative fluid management of the patient. Therefore, we do not frequently see or manage patients with PAC’s in our MIC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676160" cy="109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838-281B-4341-B818-160E04B4BC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 Catheter Inser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 sterile technique; threaded through an introdu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ites are subclavian &amp; jugular (occasionally femo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 balloon is inflated &amp; floated through the 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cuspid val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ulmonic val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wedged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a continuous strip of the insertion hemodynamic waveforms at the bed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3F6-C4DE-4BE4-986E-7CC355D1951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2286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C Insertion Wave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6172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WP=PAOP=PCWP=w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B70-6C29-4354-B748-998C7BE6FD3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ual CVP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/level CVP stopcock at the phlebostatic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duel channel strip with CVP and Ao wavefo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all waveforms at end-expiration (See slides #30 &amp; 3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E72-FEF3-453C-A964-B8BFAA1E49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ual PA/PCWP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/level PA stopcock at phlebostatic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duel channel strip with PA and 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A systolic = 20-30; PA diastolic = 10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ly inflate balloon with 1.0 – 1.5 ml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EYES ON MONI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flated 5 – 10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ly def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return of PA wav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7CA-B5B4-49F2-9AD3-F6F36963AE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diac Output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ml syringe of room temperature D5W injected quickly &amp; smoothly via the proximal 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istor at the tip of the catheter senses the change in tempe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of change in blood temperature generates a cardiac outpu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of 3 measurements within 10% of each other averaged for a mean cardiac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on the moni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286-EB45-4E6D-99E0-3703AE48815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tenance, Care &amp; Measur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echnique during tubing &amp; dressing cha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leveling &amp; measurement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CVP, PAP, and PCWP at end-ex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over-inflate balloon (only 1.5 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balloon to deflate passiv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MDs advance PAC when necessary (i.e. PAC not w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F8C-696A-4838-9596-A982999D3CF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PA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tions in cardiac output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ck [cardiogenic, hypovolemic, septic]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tion in fluid volume [preloa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tion in tissue per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 cardiac &amp;/or pulmonary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output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4E0-3A2E-4170-8F48-1E221B0E0E5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End-expiration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t least 2 vertic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= Ao tracing deviates from bas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up 200 msec (one large box) to draw second vertica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horizontal line to the left of the second line ind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olic and diastolic values for P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of the CVP; mean of the PAW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e next slide 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15F-1058-41A4-A143-9DDA87C83D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15600" cy="1257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320040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3295800"/>
            <a:ext cx="10058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vertical line would be drawn where the Ao tra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es from bas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vertical line would be drawn where th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he horizontal line to the left of the ar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ng the PA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PAOP = PAWP; Paw = A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7A4-9824-418D-922E-8676BC7D52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s to Excellent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the Ao as a reference for end-expiration. The respiratory waveform is not accu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determine end-expiration for a non-ventilated patient,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 = valley” (lower portion of wavefo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= peak” (higher portion of wavefo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 mean =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AS + 2(PAD)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8C1-C0A4-4EDF-A271-D42900687E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ications from PA cath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295280"/>
          <a:ext cx="8763120" cy="5262840"/>
        </p:xfrm>
        <a:graphic>
          <a:graphicData uri="http://schemas.openxmlformats.org/drawingml/2006/table">
            <a:tbl>
              <a:tblPr/>
              <a:tblGrid>
                <a:gridCol w="3733920"/>
                <a:gridCol w="5029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bl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escription/Trea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thor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vian insertion/chest tu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complication/antibioti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mbophleb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red, tender/remove PA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embo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insertion; loose connections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; L lateral T-berg 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dysrhythm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h tip in RV/remove; def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heter knotting/kin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ing insertion/pull back; may repeat attempt to flo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perforation or infar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onged or frequent wedging/watch for bright red blood return/surgical or no trea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037-4C77-4B4B-808C-97DC5283A68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umentation for P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on hemocalculations sheet: HOB; PEEP; drips; position of PAC (in cm); scale; interpretation of CVP, PAP, &amp; PCWP;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mp sheet “Permanent Chart Docu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constant in HED as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 calibration every four hours in 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dditional data to chart on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F7B-05CE-486C-A794-3410A3FB277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umentation for P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78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34A-2318-4583-BA04-0162A015E3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 &amp;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s, S. M. (2004). Continuous airway pressure monitorin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itical Care Nurse, 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, 70-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lay, M., &amp; Burns, S. M. (2006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ACN Essentials of critical ca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Graw-Hill: New Y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ards. (2006). Pulmonary Artery Catheter Educational Project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acep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ards Lifesciences. (n.d.) Educational videos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dwards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U Routine Practice Guidelines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vanderbiltmicu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U Bedside Resource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U Education Kits – Pulmonary Artery Catheter (Red cart in conference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U Preceptors, Help All Nurses, &amp; Charge N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MC policies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vumcpolicies.mc.vanderbilt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360-E5C6-40DD-943B-CD9178B19B7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diac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pumped by ventricles each minu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=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4 - 8 liters/min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Output = Heart Rate x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 = HR X S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 = amount of blood ejected from each ventricle with each contrac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SV =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50 - 100 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con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8C6-BDD3-4485-87C2-2189AC1D4D0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diac I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output (CO) adjusted to bod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index (CI) = CO / body surfac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CI range =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2.5 to 4.3 L/min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B6A-E7BF-4481-A32A-C1DE35D38E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 Cardiac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ventricul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vol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ac tampon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ral or tricuspid ste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ictive pericard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ve cardiomy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15A-720C-4BA5-A449-53E08C40DD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 Cardiac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ventricul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pt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ral/tricuspid insu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ocardial infarction &amp;/o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fterload (hyperten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disorders (acidosis, hypox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inotropic drugs (beta-blocker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77D-6DE7-4472-9805-F49BFB4B87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Cardiac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HR and/or contractility and/or decreased after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hyroid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A78-A1FA-47EF-A305-B7812F68D3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diac Output &amp; Stroke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oad - Volume or pressure generated in the ventricles at end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load – Resistance to ejection of blood from the ventr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ility – Force of ventricular ejection; difficult to measure clin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8E7-A942-4B6C-8008-742E0FDE116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04:49:07Z</dcterms:created>
  <dc:creator>Kristin Hyatt</dc:creator>
  <dc:description/>
  <dc:language>en-US</dc:language>
  <cp:lastModifiedBy>gamarydm</cp:lastModifiedBy>
  <cp:lastPrinted>2002-01-23T05:50:36Z</cp:lastPrinted>
  <dcterms:modified xsi:type="dcterms:W3CDTF">2007-01-05T17:24:36Z</dcterms:modified>
  <cp:revision>12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23760230</vt:r8>
  </property>
  <property fmtid="{D5CDD505-2E9C-101B-9397-08002B2CF9AE}" pid="3" name="_AuthorEmail">
    <vt:lpwstr>denise.gamary@Vanderbilt.Edu</vt:lpwstr>
  </property>
  <property fmtid="{D5CDD505-2E9C-101B-9397-08002B2CF9AE}" pid="4" name="_AuthorEmailDisplayName">
    <vt:lpwstr>Gamary, Denise</vt:lpwstr>
  </property>
  <property fmtid="{D5CDD505-2E9C-101B-9397-08002B2CF9AE}" pid="5" name="_EmailSubject">
    <vt:lpwstr>PPT on MICU website please</vt:lpwstr>
  </property>
</Properties>
</file>