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DDEB-16EA-4D8D-BCB6-92200871F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083E-7635-47D5-A39D-25CE102E5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93760" y="693720"/>
            <a:ext cx="4497480" cy="33735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5040" y="4319640"/>
            <a:ext cx="50479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D22-E616-45CF-AE1A-4F5D5592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0E7-53CE-4B61-BBCE-A33DD29E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34D-819E-4480-A1BA-F674B2A1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51E-5D4B-46CA-82B5-34BEABE5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4BF-BA6F-4ED6-9660-0A3C07A6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6BA-F681-45B8-A87B-0CAAF5EB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412-884F-4FAF-A3F4-B95EE0C7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D21-F7B1-4A9F-AFF5-A400F2F3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236-1A01-4013-BD92-6E42CDB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F63-0046-412B-B179-3B5F6FF5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D2B-1271-4F9E-B6F1-5C5C0E2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118-4017-4132-A2AD-78934EB5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7D15-C14A-493B-8899-957D403DD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pacep.org/" TargetMode="External"/><Relationship Id="rId2" Type="http://schemas.openxmlformats.org/officeDocument/2006/relationships/hyperlink" Target="http://www.pacep.org/" TargetMode="External"/><Relationship Id="rId3" Type="http://schemas.openxmlformats.org/officeDocument/2006/relationships/hyperlink" Target="http://www.edwards.com/" TargetMode="External"/><Relationship Id="rId4" Type="http://schemas.openxmlformats.org/officeDocument/2006/relationships/hyperlink" Target="http://www.vanderbiltmicu.com/" TargetMode="External"/><Relationship Id="rId5" Type="http://schemas.openxmlformats.org/officeDocument/2006/relationships/hyperlink" Target="http://vumcpolicies.mc.vanderbilt.edu/" TargetMode="External"/><Relationship Id="rId6" Type="http://schemas.openxmlformats.org/officeDocument/2006/relationships/hyperlink" Target="http://vumcpolicies.mc.vanderbilt.edu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361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dynamic Monito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 insertion &amp; measur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, wedge, &amp; cardiac outpu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U Competenc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6 -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B3E-B647-49A5-9B34-69F05B104FE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Measurement of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5760" y="1371240"/>
            <a:ext cx="895824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ventricular end diastolic pressure = LVEDP; measures preload in left ventri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artery wedge pressure (PAWP) reflects LVEDP; normal =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8 - 12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nable to wedge PAC, use PA diast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diastolic (PAD); normal =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- 15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re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s left atrial pressure, whi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re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s LVE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537-04E8-4DF3-8E82-DF0D3FA9B6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Measurement of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venous pressure = CVP; measures preload in the right ventr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CVP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2 – 8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069-FEB9-46CB-9B66-B083A79024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ything that alters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ing bloo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returning to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ricular fill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C26-067F-4142-BA9A-8BFC55630E7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Decrease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fect right &amp; left ventricles (CVP &amp; We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vo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position reducing venous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ation causing blood to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enous return due to mechanical ventilation - high PIP, high levels of P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pneumoth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lood is not returning to the heart to fill the ventr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01A-9915-48E4-BFE3-F7950313DA6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Increase Pre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4080" y="1523880"/>
            <a:ext cx="8989920" cy="51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vascular volume ov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tampon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ve cardiomyopath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ventricular dysfunctio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 PCWP &amp; C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ght ventricular dysfunction (↑ C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E7B-7B4B-4E1C-B9D7-9D0C013EFB1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load is any resistance against which the ventricle must pump in order to eject its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ic Vascular Resistance (SVR) reflects LV aft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Range =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800-1200 dynes/sec/cm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Vascular Resistance (PVR) reflects RV aft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Range =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-250 dynes/sec/cm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61D-0D0A-4FF2-A8C3-57F8CB842F4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Afterl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&amp; mass of blood ejected from the ventr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relationship between afterload and C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CO = ↓afterload;                     ↓CO = ↑after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&amp; diameter of the vessels into which the blood is 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tic impedance, peripheral vascular resistance, and blood visc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837-F6BD-4AFB-B0D9-419F2495000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eased Afterload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↓ SV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al dilatation from drugs such as nitroprusside, nitroglycerin, calcium channel blockers, beta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(septic, anaphylactic, neuroge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hermia (fe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531-741B-4F83-B7AE-74FA490A0E1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d Afterload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↑SV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ed by vasoconstr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agonists (press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ophed, Dopamine, Phenylephrine, Epineph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 with hypovolemic or cardiogenic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ffect of ob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/pulmonic ste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F4E-ED35-4FB8-99EA-1D308B131E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d Afterload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↑ PV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exhibiting increased P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stage COPD (Cor pulmon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emb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5F1-2695-4F71-8D97-E2A00EAA26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monary Artery Pressure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oon tip, indwelling catheter with several lumens &amp; thermistor placed in th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 (distal) &amp; CVP (proximal) ports are connected to a hemodynamic monitor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monitoring &amp; measurement of the pulmonary artery wedge pressures (PAWP), cardiac outputs, &amp; cardiopulmonary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49E-6E57-444C-9C43-B9681274740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ctility = Inotro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ent ability of cardiac muscle to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ed indirectly by stroke volume index (SVI) and the stroke work index for each ventricle (LVSWI &amp; RVSW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myocardial oxygenation &amp; functionality;  electrolyte balance; +/- inotropes; amounts of preload and aft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CBD-322E-4868-B7F2-7F21EC3A593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/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s Increasing Contractil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itive Inotr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athic stimulation – “fight or fligh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uta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nephrine (Adrenal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epinephrine (Levop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rinone (Inoc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amine (5 – 10 mcg/kg/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; glucagon; caff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oxin (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otro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CE6-B0ED-45C8-AD89-08BB63D1CE3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Decreasing Contrac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gative inotr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emi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x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arrhyth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56D-3F52-4C92-AF32-55C3463A0E9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s in the MI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6, Dr. Wheeler presented the finding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i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tm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al (FACTT) to nurses in our MICU. Data from this study indicates a preference for using the CVP to monitor fluid status and conservative fluid management of the patient. Therefore, we do not frequently see or manage patients with PAC’s in our MIC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76160" cy="109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D98-7E01-4B6D-A84C-1C99310B26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 Catheter Inser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sterile technique; threaded through an int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ites are subclavian &amp; jugular (occasionally femo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balloon is inflated &amp; floated through the 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cuspid val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ulmonic val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wedged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a continuous strip of the insertion hemodynamic waveforms at the bed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59A-4844-423C-8B5B-62271CF8D71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2286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 Insertion Wave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WP=PAOP=PCWP=w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709-2EEE-4898-B13B-B90906B7A1C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ual CVP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/level CVP stopcock at the phlebostatic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duel channel strip with CVP and Ao wavef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ll waveforms at end-expiration (See slides #30 &amp; 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BCA-D17B-4C26-8273-6E147EFA6E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ual PA/PCWP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/level PA stopcock at phlebostatic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duel channel strip with PA and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A systolic = 20-30; PA diastolic = 10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ly inflate balloon with 1.0 – 1.5 ml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EYES ON MONI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flated 5 – 10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ly def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return of PA wav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F84-D9E3-492F-A0D5-8090521E91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ac Output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ml syringe of room temperature D5W injected quickly &amp; smoothly via the proximal 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istor at the tip of the catheter senses the change in temp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change in blood temperature generates a cardiac output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of 3 measurements within 10% of each other averaged for a mean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on the moni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812-88D9-4DA1-97EF-0EFCD740EFE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tenance, Care &amp; Measur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echnique during tubing &amp; dressing 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leveling &amp; measurement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CVP, PAP, and PCWP at end-ex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over-inflate balloon (only 1.5 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balloon to deflate passiv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MDs advance PAC when necessary (i.e. PAC not w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349-2849-4608-A997-5974DB50ADD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PA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s in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 [cardiogenic, hypovolemic, septic]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 in fluid volume [preloa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 in tissue per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cardiac &amp;/or pulmonary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205-A4FD-44B9-86F5-CD27B535E18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End-expir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t least 2 vertic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= Ao tracing deviates from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up 200 msec (one large box) to draw second vertica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horizontal line to the left of the second line ind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olic and diastolic values for P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of the CVP; mean of the PAW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e next slide 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27E-40AE-4C3A-967E-196D75D5C6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1257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320040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295800"/>
            <a:ext cx="10058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vertical line would be drawn where the Ao tra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es from bas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vertical line would be drawn where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horizontal line to the left of the a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ing the PA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PAOP = PAWP; Paw = A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5A3-0A49-4AAC-883C-E0095075C5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s to Excellent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the Ao as a reference for end-expiration. The respiratory waveform is not accu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determine end-expiration for a non-ventilated patient,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 = valley” (lower portion of wave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= peak” (higher portion of wave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mean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AS + 2(PAD)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E57-399B-47D9-8CE4-50FAC13AB2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ications from PA cath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295280"/>
          <a:ext cx="8763120" cy="5262840"/>
        </p:xfrm>
        <a:graphic>
          <a:graphicData uri="http://schemas.openxmlformats.org/drawingml/2006/table">
            <a:tbl>
              <a:tblPr/>
              <a:tblGrid>
                <a:gridCol w="3733920"/>
                <a:gridCol w="502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bl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scription/Trea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thor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vian insertion/chest tu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complication/antibioti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mbophleb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red, tender/remove P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embo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insertion; loose connection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; L lateral T-berg 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dysrhythm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 tip in RV/remove; def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eter knotting/kin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insertion/pull back; may repeat attempt to flo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perforation or infar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nged or frequent wedging/watch for bright red blood return/surgical or no trea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3A7-D824-41CB-ACFC-774F286631F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ation for P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n hemocalculations sheet: HOB; PEEP; drips; position of PAC (in cm); scale; interpretation of CVP, PAP, &amp; PCWP;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mp sheet “Permanent Chart Docu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 constant in HED as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calibration every four hours in 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dditional data to chart on nex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2C7-A44D-4536-B2F6-AB0F5E346F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ation for P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78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A1A-6E3C-4173-88AE-DAAD09A52D7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 &amp;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s, S. M. (2004). Continuous airway pressure monitor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itical Care Nurse, 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, 70-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lay, M., &amp; Burns, S. M. (2006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CN Essentials of critical ca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Graw-Hill: New Y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s. (2006). Pulmonary Artery Catheter Educational Project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acep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s Lifesciences. (n.d.) Educational video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dward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U Routine Practice Guideline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vanderbiltmicu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U Bedside Resource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U Education Kits – Pulmonary Artery Catheter (Red cart in conference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U Preceptors, Help All Nurses, &amp; Charge N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MC policie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umcpolicies.mc.vanderbilt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02A-B9FA-498D-97B2-4FE066B4BE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pumped by ventricles each minu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4 - 8 liters/min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= Heart Rate x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 = HR X S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 = amount of blood ejected from each ventricle with each contrac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SV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50 - 100 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con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86B-45D3-4BF7-A510-2137F2D433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ac 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(CO) adjusted to bod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index (CI) = CO / body 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CI range =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2.5 to 4.3 L/min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0BB-954A-4E9F-81AD-6D7CF27AC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Cardiac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ventr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vo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ac tampon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ral or tricuspid ste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ictive pericar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ve cardiomy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931-265B-4C61-9CA4-64ECD396E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Cardiac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ventr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pt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ral/tricuspid insu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cardial infarction &amp;/o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fterload (hypert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disorders (acidosis, hypox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inotropic drugs (beta-blocker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756-B43D-410F-97F5-C3380A1016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Cardiac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HR and/or contractility and/or decreased after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hyroid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468-2EE1-4ED3-9A3E-9EBFA583E6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ac Output &amp; Stroke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oad - Volume or pressure generated in the ventricles at end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load – Resistance to ejection of blood from the ventr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ility – Force of ventricular ejection; difficult to measure clin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32A-DDD2-460B-A7E2-C726F3D567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4:49:07Z</dcterms:created>
  <dc:creator>Kristin Hyatt</dc:creator>
  <dc:description/>
  <dc:language>en-US</dc:language>
  <cp:lastModifiedBy>gamarydm</cp:lastModifiedBy>
  <cp:lastPrinted>2002-01-23T05:50:36Z</cp:lastPrinted>
  <dcterms:modified xsi:type="dcterms:W3CDTF">2007-01-05T17:24:36Z</dcterms:modified>
  <cp:revision>12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23760230</vt:r8>
  </property>
  <property fmtid="{D5CDD505-2E9C-101B-9397-08002B2CF9AE}" pid="3" name="_AuthorEmail">
    <vt:lpwstr>denise.gamary@Vanderbilt.Edu</vt:lpwstr>
  </property>
  <property fmtid="{D5CDD505-2E9C-101B-9397-08002B2CF9AE}" pid="4" name="_AuthorEmailDisplayName">
    <vt:lpwstr>Gamary, Denise</vt:lpwstr>
  </property>
  <property fmtid="{D5CDD505-2E9C-101B-9397-08002B2CF9AE}" pid="5" name="_EmailSubject">
    <vt:lpwstr>PPT on MICU website please</vt:lpwstr>
  </property>
</Properties>
</file>