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376-81A5-4FF8-8FDC-B406EAD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9F6-8C25-4E57-B0ED-84C0867A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575-D151-45D7-85A4-884371E5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23E-EE21-40B0-92B5-69CD0376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4BB0-A0D7-438D-9A68-336095D6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4495-C4EC-426B-AC50-7F69D1B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2FD5-9857-4B4B-90F3-63A6AC7D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66EF-F3A1-4936-B3D9-49507009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15B7-47A6-4375-83CF-CB296CBD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C76B-FDE9-4774-BE39-45BF064C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411C-8230-410A-BC63-B6BEC1C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842-94C6-4F08-9433-154391C6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298C-5469-443C-998F-5A68E2BA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76A3-7D5A-4EF3-A546-B84880A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7E30-FD8E-4835-B39A-A42C971E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4F1E-AC77-4F26-B0A4-609C8819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1FCB-1088-41C6-ADDF-4C4EE32E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E10-0D14-4FF3-A98E-A943B4B1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EB1-7260-4FB8-A8A9-443E9B91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632-A165-4300-8A8F-3FA9E929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1F7-AE08-4D78-99F4-08486DCC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B04-81AE-4D19-A3FB-B511DECE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2A7-A817-4404-BF70-396B1A47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E71-3AD6-4305-BCFE-4D7D4C0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7173-8252-40B7-9FD9-D0D7D52A9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09AC-D73C-47D4-8347-294397325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aemoglobin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209680"/>
            <a:ext cx="1600200" cy="1524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ph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962520"/>
            <a:ext cx="1600200" cy="1523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ph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057400"/>
            <a:ext cx="1600200" cy="1523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t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962520"/>
            <a:ext cx="1600200" cy="1523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t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429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Beta thalassaemi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coded by a single gene 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utosomal recessive (but not total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terozygotes have beta thalassaemia tra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mozygotes have beta thalassaemia (thalassaemia MAJ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t they are ALIVE at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iable clinical severity - 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Inheritance of bet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2680" y="16416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ually due to point mu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286000"/>
            <a:ext cx="228600" cy="40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286000"/>
            <a:ext cx="228600" cy="40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962520"/>
            <a:ext cx="228600" cy="5331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653200">
            <a:off x="4168440" y="2511000"/>
            <a:ext cx="2109600" cy="167652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72" stAng="10800000" swAng="5400000"/>
                <a:lnTo>
                  <a:pt x="13432" y="2888"/>
                </a:lnTo>
                <a:lnTo>
                  <a:pt x="13432" y="0"/>
                </a:lnTo>
                <a:lnTo>
                  <a:pt x="21600" y="6079"/>
                </a:lnTo>
                <a:lnTo>
                  <a:pt x="13432" y="12158"/>
                </a:lnTo>
                <a:lnTo>
                  <a:pt x="13432" y="9270"/>
                </a:lnTo>
                <a:lnTo>
                  <a:pt x="12427" y="9270"/>
                </a:lnTo>
                <a:arcTo wR="6045" hR="2890" stAng="16200000" swAng="-5400000"/>
                <a:lnTo>
                  <a:pt x="6382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9840" y="331776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ffect on B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in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Beta plus thalassaemia ge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mutation causes total shutdown of the beta chain g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beta chain produ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ta nought thalassa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mutation reduces beta chain production (but does not shut it dow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 beta chain produ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ta plus thalassa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ombin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/beta plus heterozyg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crocytosis, Hb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ised A2 and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/beta nought heterozyg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severe microcytosis, Hb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ised A2 and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ombin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plus/beta p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crocytosis, +/- ana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nought/beta n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crocytosis, red cell changes, transfusion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plus/beta n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crocytosis, variably anae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Inheritance of alph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re complex as encoded by 2 gene pairs (so four genes per person, not tw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ever, usually due to whole gene deletions, so total gene loss/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ematology and clinical presentation depends on how many genes are 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Gene deletions in alph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43828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43828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8195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28195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5640" y="247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7339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411480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11480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50160" y="3774960"/>
            <a:ext cx="24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e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lpha/alpha 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Gene deletions in alph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43828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195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44197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44197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50160" y="2479680"/>
            <a:ext cx="24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wo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lpha +/alpha 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6480" y="4232160"/>
            <a:ext cx="24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wo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lpha/alpha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Gene deletions in alph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8195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96440" y="247968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lpha +/alpha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26480" y="43084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ur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linical disor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/alpha 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pha thalassaemia trait, normal Hb, normal or slightly reduced MC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 +/Alpha + 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alpha/alpha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 Hb, microcy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Normal Haemoglob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ways 2 Beta-type and 2 Alpha-type globin chains carrying haem molec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-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psilon, gamma, beta, the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-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zeta, alp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linical disor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 +/alpha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bH disease, reduced Hb, splenomegaly, may or may not be transfusion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sence of beta tetramers (HbH) on film (“golf ball” ce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like in beta thalassaemia, there is no substitute for alp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ydrops fetal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ur gene de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alpha chain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compatible with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tus dies in ut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mma tetramers instead - Hb B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bH and Hb B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2860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28600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320040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2004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82520" y="28605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49960" y="239724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64360" y="239724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49960" y="331164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64360" y="331164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6120" y="2971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b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44956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4956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4100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54100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58840" y="5070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b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49960" y="45306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64360" y="45306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49960" y="5445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64360" y="5445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5040" y="5105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bB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Laboratory diagn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thalassa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lies on raised F and 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 thalassa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 and A2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see “golf balls” on HbH pr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aemoglobin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functional Hb is always a heterotetra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must be 2 Beta and 2 Alpha for oxygen carrying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types at different stages of fetal and early neonatal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y 6 months we have adult propor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b develop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p to 8/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zeta2/epsilon2, alpha2/epsilon2, zeta2/ga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om 8/40 to bi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85% alpha2/gamma2 (Hb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5-10% alpha2/beta2 (Hb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mainder alpha2/theta2 (HbA2) +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y 6/12, adult proportions of A, A2, 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Normal adult H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bA (alpha2/beta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97%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bA2 (alpha2/theta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-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bF (alpha2/gamma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0.5% or l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E ALL NEED ALPHA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aemoglobin abnorma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emoglobinopath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 amounts of abnormal beta ch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ystalline disorders (S, C, D, 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milial polycythaemia, M Hb, unstable Hb, HPF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alassaem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duced amounts of normal alpha or beta ch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BOT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Thalassaemias (simplistic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d production of BETA ch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TA thalassaem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d production of ALPHA ch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PHA thalassaem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severe clinic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Beta thalassaemi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chain de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reduced H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T retained production of other beta-type chains, so incr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ta production (HbA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mma production (Hb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Dr.abdel-hamid</cp:lastModifiedBy>
  <dcterms:modified xsi:type="dcterms:W3CDTF">2006-10-18T04:27:13Z</dcterms:modified>
  <cp:revision>10</cp:revision>
  <dc:subject/>
  <dc:title>Normal Haemoglobin</dc:title>
</cp:coreProperties>
</file>