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702310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9F3B-AC3C-431C-88B2-C2B67676C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4E6E-A997-4CEE-9FE3-56B503919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2484-EE30-4939-8861-6EFA1A3F8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08C7-8481-44FB-9134-9A200267C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4651B-A603-457E-B40E-395DD44C2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FD4D0-985D-4EBB-BEE7-D47453C1A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88D2A-882D-4499-9701-25164D865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1B8CC-8384-41BF-A461-A1668ACBE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599BB-8068-4907-A6DD-EA70E968F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347D5-435C-4E73-ACEE-CD76F4A8F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8A18D-7A71-4D66-9B1F-7288E4C36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5C30-5E21-4A02-979D-3469A8E83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8332A-2DE4-4CB9-9ADF-E9D619766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7AD3B-F009-4804-B6D9-EAB84543A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64C4B-1C3B-4B6B-8070-C1B39DA6A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428A9-34B6-47ED-AF17-C12CFAF43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12568-E55D-4D49-A897-8294FAB73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3299-DD07-4FFA-B268-3037E28D7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B777-40A8-4CA0-A2BE-B1DA93B8E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8E0B-3701-4ED1-8F15-4D9699924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3CE5-F6A3-462B-A0E7-4DEFA8CCF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AB9F-4B25-447C-9AD9-8933EFFB4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1FE8-C1C2-4E46-BD37-58F6F3518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8159-8FD1-40B1-8321-1E30D6CBF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2A80C-2B2D-4E51-AB93-989672AB64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DDD48-5F8A-4E5F-8545-A699F6E34D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Times New Roman"/>
              </a:rPr>
              <a:t>Haemoglobin structur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905120" y="2209680"/>
            <a:ext cx="1600200" cy="1524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lpha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y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038480" y="3962520"/>
            <a:ext cx="1600200" cy="1523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lpha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y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809880" y="2057400"/>
            <a:ext cx="1600200" cy="15238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Beta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y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905120" y="3962520"/>
            <a:ext cx="1600200" cy="15238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Beta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y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76720" y="3429000"/>
            <a:ext cx="914400" cy="91440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Ha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Times New Roman"/>
              </a:rPr>
              <a:t>Beta thalassaemia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ncoded by a single gene pai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utosomal recessive (but not totally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heterozygotes have beta thalassaemia tra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homozygotes have beta thalassaemia (thalassaemia MAJO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but they are ALIVE at bir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variable clinical severity - why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Times New Roman"/>
              </a:rPr>
              <a:t>Inheritance of beta thalassaemi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2680" y="1641600"/>
            <a:ext cx="382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Usually due to point mut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124080" y="2286000"/>
            <a:ext cx="228600" cy="403848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91120" y="2286000"/>
            <a:ext cx="228600" cy="403848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191120" y="3962520"/>
            <a:ext cx="228600" cy="533160"/>
          </a:xfrm>
          <a:prstGeom prst="rect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rot="8653200">
            <a:off x="4168440" y="2511000"/>
            <a:ext cx="2109600" cy="1676520"/>
          </a:xfrm>
          <a:custGeom>
            <a:avLst/>
            <a:gdLst>
              <a:gd name="textAreaLeft" fmla="*/ 0 w 2109600"/>
              <a:gd name="textAreaRight" fmla="*/ 2109960 w 210960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72" stAng="10800000" swAng="5400000"/>
                <a:lnTo>
                  <a:pt x="13432" y="2888"/>
                </a:lnTo>
                <a:lnTo>
                  <a:pt x="13432" y="0"/>
                </a:lnTo>
                <a:lnTo>
                  <a:pt x="21600" y="6079"/>
                </a:lnTo>
                <a:lnTo>
                  <a:pt x="13432" y="12158"/>
                </a:lnTo>
                <a:lnTo>
                  <a:pt x="13432" y="9270"/>
                </a:lnTo>
                <a:lnTo>
                  <a:pt x="12427" y="9270"/>
                </a:lnTo>
                <a:arcTo wR="6045" hR="2890" stAng="16200000" swAng="-5400000"/>
                <a:lnTo>
                  <a:pt x="6382" y="216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59840" y="3317760"/>
            <a:ext cx="224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Effect on Be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hain produ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aria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Times New Roman"/>
              </a:rPr>
              <a:t>Beta plus thalassaemia gen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f the mutation causes total shutdown of the beta chain ge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o beta chain produc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Beta nought thalassaem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f the mutation reduces beta chain production (but does not shut it down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ome beta chain produc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Beta plus thalassaem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Times New Roman"/>
              </a:rPr>
              <a:t>Combination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Beta/beta plus heterozygo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icrocytosis, Hb norm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aised A2 and 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Beta/beta nought heterozygo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ore severe microcytosis, Hb norm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aised A2 and 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Times New Roman"/>
              </a:rPr>
              <a:t>Combination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Beta plus/beta pl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icrocytosis, +/- anaem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Beta nought/beta nough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icrocytosis, red cell changes, transfusion depend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Beta plus/beta nough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icrocytosis, variably anaem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Times New Roman"/>
              </a:rPr>
              <a:t>Inheritance of alpha thalassaemi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re complex as encoded by 2 gene pairs (so four genes per person, not two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However, usually due to whole gene deletions, so total gene loss/shutdow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haematology and clinical presentation depends on how many genes are lo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Times New Roman"/>
              </a:rPr>
              <a:t>Gene deletions in alpha thalassaemi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447920" y="2438280"/>
            <a:ext cx="91440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438280" y="2438280"/>
            <a:ext cx="91440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447920" y="2819520"/>
            <a:ext cx="91440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438280" y="2819520"/>
            <a:ext cx="91440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175640" y="247968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Norm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447920" y="3733920"/>
            <a:ext cx="91440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447920" y="4114800"/>
            <a:ext cx="91440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438280" y="4114800"/>
            <a:ext cx="91440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250160" y="3774960"/>
            <a:ext cx="2401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ne gene dele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(alpha/alpha +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Times New Roman"/>
              </a:rPr>
              <a:t>Gene deletions in alpha thalassaemi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447920" y="2438280"/>
            <a:ext cx="91440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447920" y="2819520"/>
            <a:ext cx="91440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447920" y="4419720"/>
            <a:ext cx="91440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438280" y="4419720"/>
            <a:ext cx="91440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250160" y="2479680"/>
            <a:ext cx="245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wo gene dele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(alpha +/alpha +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326480" y="4232160"/>
            <a:ext cx="245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wo gene dele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(alpha/alpha 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Times New Roman"/>
              </a:rPr>
              <a:t>Gene deletions in alpha thalassaemi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447920" y="2819520"/>
            <a:ext cx="91440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096440" y="2479680"/>
            <a:ext cx="26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hree gene dele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(alpha +/alpha 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326480" y="4308480"/>
            <a:ext cx="246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our gene dele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Times New Roman"/>
              </a:rPr>
              <a:t>Clinical disorder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lpha/alpha +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lpha thalassaemia trait, normal Hb, normal or slightly reduced MCV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lpha +/Alpha +  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or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alpha/alpha 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ormal Hb, microcyt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Times New Roman"/>
              </a:rPr>
              <a:t>Normal Haemoglobi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lways 2 Beta-type and 2 Alpha-type globin chains carrying haem molecu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Beta-typ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psilon, gamma, beta, the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lpha-typ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zeta, alph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Times New Roman"/>
              </a:rPr>
              <a:t>Clinical disorder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lpha +/alpha 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HbH disease, reduced Hb, splenomegaly, may or may not be transfusion depend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resence of beta tetramers (HbH) on film (“golf ball” cell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unlike in beta thalassaemia, there is no substitute for alph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Times New Roman"/>
              </a:rPr>
              <a:t>Hydrops fetali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Four gene dele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o alpha chain produ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ncompatible with lif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etus dies in uter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gamma tetramers instead - Hb Bar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Times New Roman"/>
              </a:rPr>
              <a:t>HbH and Hb Bar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286000" y="2286000"/>
            <a:ext cx="914400" cy="9144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200400" y="2286000"/>
            <a:ext cx="914400" cy="914400"/>
          </a:xfrm>
          <a:prstGeom prst="ellipse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286000" y="3200400"/>
            <a:ext cx="914400" cy="914400"/>
          </a:xfrm>
          <a:prstGeom prst="ellipse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200400" y="3200400"/>
            <a:ext cx="914400" cy="9144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882520" y="2860560"/>
            <a:ext cx="7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Hb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349960" y="2397240"/>
            <a:ext cx="914400" cy="9144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264360" y="2397240"/>
            <a:ext cx="914400" cy="9144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49960" y="3311640"/>
            <a:ext cx="914400" cy="9144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264360" y="3311640"/>
            <a:ext cx="914400" cy="9144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946120" y="297180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Hb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362320" y="4495680"/>
            <a:ext cx="914400" cy="914400"/>
          </a:xfrm>
          <a:prstGeom prst="ellipse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276720" y="4495680"/>
            <a:ext cx="914400" cy="914400"/>
          </a:xfrm>
          <a:prstGeom prst="ellipse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362320" y="5410080"/>
            <a:ext cx="914400" cy="914400"/>
          </a:xfrm>
          <a:prstGeom prst="ellipse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276720" y="5410080"/>
            <a:ext cx="914400" cy="914400"/>
          </a:xfrm>
          <a:prstGeom prst="ellipse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958840" y="5070600"/>
            <a:ext cx="7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Hb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349960" y="4530600"/>
            <a:ext cx="914400" cy="9144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264360" y="4530600"/>
            <a:ext cx="914400" cy="9144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349960" y="5445000"/>
            <a:ext cx="914400" cy="9144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264360" y="5445000"/>
            <a:ext cx="914400" cy="9144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945040" y="5105520"/>
            <a:ext cx="119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HbBar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Times New Roman"/>
              </a:rPr>
              <a:t>Laboratory diagnosi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Beta thalassaem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lies on raised F and A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lpha thalassaem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 and A2 norm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ay see “golf balls” on HbH pre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gene analy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Times New Roman"/>
              </a:rPr>
              <a:t>Haemoglobin structur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o functional Hb is always a heterotetram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re must be 2 Beta and 2 Alpha for oxygen carrying fun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different types at different stages of fetal and early neonatal lif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by 6 months we have adult propor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Times New Roman"/>
              </a:rPr>
              <a:t>Hb developmen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Up to 8/4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zeta2/epsilon2, alpha2/epsilon2, zeta2/gamma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From 8/40 to bir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85% alpha2/gamma2 (HbF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5-10% alpha2/beta2 (Hb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mainder alpha2/theta2 (HbA2) + oth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By 6/12, adult proportions of A, A2, 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Times New Roman"/>
              </a:rPr>
              <a:t>Normal adult Hb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HbA (alpha2/beta2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97% +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HbA2 (alpha2/theta2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2-3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HbF (alpha2/gamma2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0.5% or l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NOTE ALL NEED ALPHA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Times New Roman"/>
              </a:rPr>
              <a:t>Haemoglobin abnormaliti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Haemoglobinopath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ormal amounts of abnormal beta chai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rystalline disorders (S, C, D, 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amilial polycythaemia, M Hb, unstable Hb, HPF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alassaemi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duced amounts of normal alpha or beta chai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an be BOTH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Times New Roman"/>
              </a:rPr>
              <a:t>Thalassaemias (simplistic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Reduced production of BETA chai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BETA thalassaemi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Reduced production of ALPHA chai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LPHA thalassaemi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ore severe clinical dise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Times New Roman"/>
              </a:rPr>
              <a:t>Beta thalassaemia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Beta chain deficien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o reduced Hb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BUT retained production of other beta-type chains, so increas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ta production (HbA2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gamma production (HbF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Dr.abdel-hamid</cp:lastModifiedBy>
  <dcterms:modified xsi:type="dcterms:W3CDTF">2006-10-18T04:27:13Z</dcterms:modified>
  <cp:revision>10</cp:revision>
  <dc:subject/>
  <dc:title>Normal Haemoglobin</dc:title>
</cp:coreProperties>
</file>