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move the slide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7035-0E56-4A63-8F9C-C595E49519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1CC83-9604-4B44-9A6F-CDE600ACB7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ubby provides a namespace that consists of directories and small fi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of the directories or files can be used as a lo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5D163-81D8-48BE-9C86-50EE60CA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812CB-9C8F-4DF8-9866-FC8979652F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A321C-7367-42F8-A1F9-29162AFD88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68BE3-0576-4307-98AB-D1C71F4084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CA714-FF50-48C9-BC6E-678528F697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ws, column are arbitrary strin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 the data is also treated as interpreted stri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099A2-872B-48DB-9080-0BCBF7F0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EBFF-9B34-412B-A1C4-A994A0CA9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3579-A8AA-4E9E-9D70-857FAE64AD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232C0-5BB5-4E54-8415-F95221AF2A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F8434-D479-4CCF-AF1F-40823D8CC4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DBBC5-289C-4CD1-8E7B-D5E73E5EE8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D4046-E0EA-48AD-9E3E-A4FC7DCA91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F83B7-CB75-4473-95B5-FC03140635C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F3A65-58CC-488E-9899-BC90DE4F178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BB042-1F7D-45EB-9B79-5DC4FDB5BA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C854D-C8CD-4E06-9E74-DEBBA34A5D8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8932B-026A-470D-81AF-BDCED90ED6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6DD0-30C5-48C4-B19C-14E775876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087F-F32C-4614-B5A4-5A8789AC5A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ECB0-421B-467C-9440-01D18CD49D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07AE-2B94-4DF8-A786-0244938665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682E-A315-4DA4-9495-98EDF4E1BA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3141-7043-40B6-8264-285205AA6F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1FD2-8719-45DD-8311-F8E752C138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A0BD-68C8-4947-B7F9-74EF7B87C9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DC04-2698-4407-B946-8E948ADB37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D719-9869-4A24-9850-48FDE5CCD35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F873-1478-472C-9EE0-55B03800ED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B1FA-A61A-4CD6-97DB-8A5DAF56C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68D7-1052-4785-8DC7-FA9F214D67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9586-F740-4232-B72F-7944A005F0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AE94F-937D-4E5F-889E-E3394F2461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57933-C2F6-4262-BB72-00EC8872DC9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F55E8-EDE9-4F61-899F-A93345A4F0E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D10B8-A7F3-4967-92E5-EA74838C5D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EC1DC-3C62-4474-B54E-501F582DA6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7FEBF-E93B-4EA3-BA46-6267580D933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31CBD-F9D2-4CA7-B7D5-BF062401FC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8BB3E-DB28-428E-9A90-7E84F67329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1B54D-FF09-463F-BE57-B2971BFC3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BF015-3D66-4F13-8660-BCA339CD85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0FDF0-41B4-42F3-B4C1-EF8C7D5382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BCD26-20FD-41F3-A82F-6D7D8AE266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DECC6-E193-41ED-A653-11D8912DE7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39947-C42E-4687-A9DA-15CD4DE1E5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2BD2C-A1CB-4707-BD2E-9E3918A112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C82CD-B6A7-4554-96C6-1A9122D8BB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014DD-4157-47B6-A664-F9CA70D3EB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6C39E-F810-4FBA-979B-D5B46D1A5E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17166-CB8F-45BA-BF09-FC03A8D8A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9EC0E-C3AE-4935-BCCB-D4EB5DBEAC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A059C-CFA3-498D-A415-7827B2E54E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195B2-CAFF-4482-BC97-457D50A50F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78CC2-AFA5-42B8-B079-701BF0C9FDC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0BC12-E15E-4E82-AF49-FDF1E6B05C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2619-F1E4-4C97-BB51-6C14748DA4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1439-BC12-4A7A-ADF4-EC054148570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2E98-C568-44C8-9BC1-A6392752ECB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2FAA-D1C1-4722-8DD3-36A71F28A64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E5E3-DDD8-4053-9844-B059B318F2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4EBB2-43F1-4D2E-964A-F396386EAC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B8FC-7682-48F2-AC59-CA9B3CFD73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D7DA-E2E4-450C-9B5E-EE1A84BC5A9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CBB7-39E6-41A1-8052-2DDB0F96305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7428-E2AD-4C39-9723-D661E0470E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E13D-C125-4391-9A0F-E0B8DB80230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8771-073C-46E5-8129-FBF816A089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6240-B222-4080-8B16-AC83F4E34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3B78-7942-4D77-9B91-94A013ED1B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E4E2-DA65-43EB-9503-95C298C4C0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9D6A-B977-49B5-A6D6-C886A49E5C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593B-A379-4423-8E19-AF1447F699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EB20-8E3C-4D73-A9BA-14AE91CDC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1703-E01D-4D36-B68A-51C08B8704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4E73-22AF-497C-9BD8-48A567EF13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42AB-38D5-49C6-8114-22E29C60DB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1F2C-D501-4872-8CD0-540FD5274F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23EC-26A7-4EB7-A247-F9B06DBB0A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8F07-70A6-4AA8-A9C6-A07BF56640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F64F-4701-409E-A286-A636BAE9A8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F838-0181-4FCF-96ED-5EF42B278A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C86-D6CF-4E3A-B83E-4B85BB4B56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9B5-B03F-4873-9328-1CD5811DB2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CF0-1AD2-4D98-81A0-9B5DD4033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0EE7-C01A-4A29-8738-CEB8B6E738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3E6-3726-457E-9A9C-B55DD56A1C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17C-03CD-40AF-A8AC-275151B6D2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221-638F-49E6-95FC-5BE78FA22E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783-3647-4186-BA53-F7F602DCF9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F3E-1D17-4A4A-BE12-E0D9F41F87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C52-0DC7-4CE7-A0A0-4FB94F101D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944-1590-4581-9FD3-B5C5284841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993-0410-42F5-BFF5-348EA2468F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1C1-94D8-4DC6-8F02-40D65480DA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C02F0-E9E2-407C-AD62-9F4E0D0A2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84AF-C65E-4E07-AC8A-4A43871A79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2D6F0-03F3-4258-BC06-8704327643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03592-B577-42A4-939C-18DA4DFA17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23122-BB80-4CA7-A579-B5DB5F7342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E168E-B8CE-4B09-A2CC-E63F7E0A1C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A320-ADE6-4E4C-91A9-BA7F96F0A38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4F821-F67E-4092-B51C-3D9471A037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B17A5-6AE4-466E-8175-064BF15B4C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76E2A-4171-47AD-9F56-D95D35E962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D70FF-2702-49F8-9BBA-9933E8C07E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40074-5333-4F37-B7FB-05A929B5A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F010-05F3-4C36-96BE-0E43281E4B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55D67-C083-4BDB-AC93-4E6D3ECB95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2A10D-8B81-445D-B0C5-251C1A05F0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A6DB-6DBD-4076-B7D7-5726354731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7B19-2C8D-4F7C-899E-D362B3D5AE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6D0B-79C8-426F-ADDA-FC5A5D9CCD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207D9-CC67-4E22-A77C-1A1E14B2AD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FF2D0-0FB1-4809-B672-86BF3EADB9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2617-98D0-4E68-A3EC-57B34AD027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855EB-87C7-478C-A289-C507C74049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8EC5C-CC70-4E37-BCCD-3EEDCB633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029F-EFCC-4457-A2B6-D29EF086AC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1C27B-B0BD-4298-868A-870614EC51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95018-E3CB-445A-B2A9-EEA0CC7B20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18AE1-0527-43A0-953D-A63012E2D2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3B6-1CF9-415B-874B-6ADBDEA619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96EA-9F08-4EBE-A23C-9DEB6CF545A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8408-259C-4846-96B4-E584AA6AB4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1E3-0F71-47E1-BC04-DA9AE4DC9C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5D2-E6B1-44DA-9A40-68C31BDFE9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92C1-CB78-4C6C-81A1-248AC72249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4567-2C43-4D0A-AE5A-BD73A74B8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84C2-F73D-4299-AD1E-5903514FE9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A24C-F70F-4205-8FA9-E0EC8176C5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8404-D476-4F43-9E6E-C6DB5C7022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F932-6E05-45A1-B25F-ACBE54152B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680-166F-4DDA-BDF1-D47D2F2090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6C6-EE2B-4998-AF59-CFDB90CEDC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5D34F-8263-45BD-A8DA-629BAFC96F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AE380-B8B1-4E64-91CF-D2F897DFA8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00386-FB30-49A3-8698-96D65D277E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DA9B6-482C-4EF3-ABA9-394C55507B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533DB-937D-4F43-BD99-BD0D91629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CD3C-C0EF-492D-8526-1A63460A57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6A1B4-1D09-4580-BEF8-8DA382208F3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D789C-CDF0-4DD8-BA76-9D9FD9F50B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3704F-EF41-4BA4-B5FA-6678732F66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B9949-AD28-42A8-B709-25B5883491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613C9-06FF-4C07-A3C7-16787F29DA5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BCAAD-3ECA-49DA-A1AD-B03F809CEF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E3250-477C-4BC6-A360-7AD764DE01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DE0E4-2588-4845-BEC1-C1A959BB2B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018E5-D7D9-4D6B-923A-0F76A95FF0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6A9C3-5E4B-47A0-81EC-C5ECE9E6A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title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Picture 6" descr="bg_lightblue_new"/>
          <p:cNvPicPr/>
          <p:nvPr/>
        </p:nvPicPr>
        <p:blipFill>
          <a:blip r:embed="rId4"/>
          <a:stretch/>
        </p:blipFill>
        <p:spPr>
          <a:xfrm>
            <a:off x="0" y="6603840"/>
            <a:ext cx="9144000" cy="2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207-E1AB-4486-893B-1BEBC0A2E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bg_lightblue_new"/>
          <p:cNvPicPr/>
          <p:nvPr/>
        </p:nvPicPr>
        <p:blipFill>
          <a:blip r:embed="rId5"/>
          <a:stretch/>
        </p:blipFill>
        <p:spPr>
          <a:xfrm>
            <a:off x="0" y="1270080"/>
            <a:ext cx="9144000" cy="101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UILogoCL1c"/>
          <p:cNvPicPr/>
          <p:nvPr/>
        </p:nvPicPr>
        <p:blipFill>
          <a:blip r:embed="rId6"/>
          <a:srcRect l="6905" t="4234" r="27117" b="8518"/>
          <a:stretch/>
        </p:blipFill>
        <p:spPr>
          <a:xfrm>
            <a:off x="8346960" y="304920"/>
            <a:ext cx="49212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6DFB-5A4B-4F7F-9B8F-6D12D277B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0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709-F08E-41E6-9F2B-C9A1BAA25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11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4BF4-C48D-41C7-BD9F-4234D38DB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2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9F03-DF4E-4734-93A1-BA087BA89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title"/>
          <p:cNvPicPr/>
          <p:nvPr/>
        </p:nvPicPr>
        <p:blipFill>
          <a:blip r:embed="rId3"/>
          <a:stretch/>
        </p:blipFill>
        <p:spPr>
          <a:xfrm>
            <a:off x="0" y="0"/>
            <a:ext cx="9144000" cy="318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bg_lightblue_new"/>
          <p:cNvPicPr/>
          <p:nvPr/>
        </p:nvPicPr>
        <p:blipFill>
          <a:blip r:embed="rId4"/>
          <a:stretch/>
        </p:blipFill>
        <p:spPr>
          <a:xfrm>
            <a:off x="0" y="3174840"/>
            <a:ext cx="9144000" cy="10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bg_lightblue_new"/>
          <p:cNvPicPr/>
          <p:nvPr/>
        </p:nvPicPr>
        <p:blipFill>
          <a:blip r:embed="rId5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ILogoCL1c"/>
          <p:cNvPicPr/>
          <p:nvPr/>
        </p:nvPicPr>
        <p:blipFill>
          <a:blip r:embed="rId6"/>
          <a:srcRect l="6905" t="4234" r="27117" b="8518"/>
          <a:stretch/>
        </p:blipFill>
        <p:spPr>
          <a:xfrm>
            <a:off x="8346960" y="304920"/>
            <a:ext cx="492120" cy="650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E8C-E0CB-40FC-B3BE-EE82848DF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4C8-04B5-4F22-B743-1659CF4C8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E9A5-2B47-4E76-8B6F-E81542B86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5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DE8-9721-4FC8-9B4D-16E43C554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6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D3F8-A1C1-4F46-B5B0-26A886B4E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7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DC9-3ECC-45B1-9BEA-7D87634E6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8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920-E9FC-4447-8B73-B4E889C29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4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SC590 Selected Topic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0" y="409536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table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Distributed Storage System for Structured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y Chang, Jeffrey Dean, Sanjay Ghemawat, Wilson C. Hsieh, Deborah A. Wallach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ike Burrows, Tushar Chandra, Andrew Fikes, Robert E. Grub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Monotype Corsiva"/>
              </a:rPr>
              <a:t>Haifa Alyah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Monotype Corsiva"/>
              </a:rPr>
              <a:t>432920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row range for a table is dynamically partition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ch row range is called a tabl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blet is the unit for distribution and load balanc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6" name="Picture 8" descr="tablets.tiff"/>
          <p:cNvPicPr/>
          <p:nvPr/>
        </p:nvPicPr>
        <p:blipFill>
          <a:blip r:embed="rId1"/>
          <a:stretch/>
        </p:blipFill>
        <p:spPr>
          <a:xfrm>
            <a:off x="1822320" y="2998800"/>
            <a:ext cx="574848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PI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35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adata oper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e/delete tables, column families, change meta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ri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(): write cells in a row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leteCells(): delete cells in a row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leteRow(): delete all cells in a row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anner: read arbitrary cells in a bigta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ch row read is atomi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n restrict returned rows to a particular ran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n ask for just data from 1 row, all rows, etc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n ask for all columns, just certain column families, or specific colum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219240" y="2279520"/>
            <a:ext cx="8699400" cy="3335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1023840" y="5522760"/>
            <a:ext cx="2011320" cy="427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3"/>
          <a:stretch/>
        </p:blipFill>
        <p:spPr>
          <a:xfrm>
            <a:off x="5443560" y="5578560"/>
            <a:ext cx="2219400" cy="30960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45720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P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uilding Block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ile System (GF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ores persistent data (SSTable file forma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du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dules jobs onto mach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ubb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k service: distributed lock manag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ster election, location bootstrapp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pReduce (option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d/write Bigtable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hubby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{lock/file/name} serv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arse-grained loc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ch clients has a session with Chubb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session expires if it is unable to renew its session lease within the lease expiration ti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replicas, need a majority vote to be ac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so an OSDI </a:t>
            </a:r>
            <a:r>
              <a:rPr b="0" lang="ja-JP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6 Pap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mplementation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Bigtable implementation has three major component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library that is linked into every cli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e master serv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tablet serv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ablet Location Managemen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281160" y="1822320"/>
            <a:ext cx="864360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finement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72080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ality group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ents can group multiple column families together into a </a:t>
            </a:r>
            <a:r>
              <a:rPr b="0" i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ality group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ressio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s </a:t>
            </a:r>
            <a:r>
              <a:rPr b="0" i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ntley and McIlroy's 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me and </a:t>
            </a:r>
            <a:r>
              <a:rPr b="0" i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st compression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lgorith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ching for read performanc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s Scan Cache and Block Cach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oom filter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duce the number of acces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erformance Evaluation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37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al Application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http://analytics.google.c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Google Eart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http://earth.google.c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Personalized search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www.google.com/psea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360" y="1720800"/>
            <a:ext cx="78483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ta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uilding Bloc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finem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l Applic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標題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clusion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rs like…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performance and high availability provided by the Bigtable implemen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at they can scale the capacity of their clusters by simply adding more machines to the system as their resource demands change over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significant advantages to building a custom storage sol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r adoption and acceptance of a new interf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lementation iss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scussion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table(Bt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is a distributed storage system for managing structured data that is designed to scale to a very large siz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projects at Google store data in Bigtable, including web indexing, Google Earth, and Google Financ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533520" y="18727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gtabl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s designed to reliably scale to petabytes  of data and thousands of machine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gtable has achieved several goal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ide applicabil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alabil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gh perform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gh availabil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標題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30556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cale Probl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ts of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illions of mach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fferent project/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undreds of millions of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orage for (semi-)structured dat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 commercial system big enoug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uldn’t afford if there was 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w-level storage optimization help performance significant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uch harder to do when running on top of a database la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標題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ti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sparse, distributed persistent multi-dimensional sorted ma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rebuchet MS"/>
              </a:rPr>
              <a:t>(row, column, timestamp) -&gt; cell cont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</a:t>
            </a: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bitrary st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ss to data in a row is atomi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dered lexicographicall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7" name="Picture 6" descr="model1.tiff"/>
          <p:cNvPicPr/>
          <p:nvPr/>
        </p:nvPicPr>
        <p:blipFill>
          <a:blip r:embed="rId1"/>
          <a:stretch/>
        </p:blipFill>
        <p:spPr>
          <a:xfrm>
            <a:off x="1596960" y="3121200"/>
            <a:ext cx="6261120" cy="26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um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w-level name structur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mily: qualif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umn Family is the unit of access contro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0" name="Picture 6" descr="model2.tiff"/>
          <p:cNvPicPr/>
          <p:nvPr/>
        </p:nvPicPr>
        <p:blipFill>
          <a:blip r:embed="rId1"/>
          <a:stretch/>
        </p:blipFill>
        <p:spPr>
          <a:xfrm>
            <a:off x="1749600" y="3578400"/>
            <a:ext cx="66387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ore different versions of data in a cel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okup op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urn most recent K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urn all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3" name="Picture 7" descr="model5.tiff"/>
          <p:cNvPicPr/>
          <p:nvPr/>
        </p:nvPicPr>
        <p:blipFill>
          <a:blip r:embed="rId1"/>
          <a:stretch/>
        </p:blipFill>
        <p:spPr>
          <a:xfrm>
            <a:off x="1822320" y="3803760"/>
            <a:ext cx="6108840" cy="27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3:23:05Z</dcterms:created>
  <dc:creator>Imranul Hoque</dc:creator>
  <dc:description/>
  <dc:language>en-US</dc:language>
  <cp:lastModifiedBy>لاإله إلا الله... .</cp:lastModifiedBy>
  <dcterms:modified xsi:type="dcterms:W3CDTF">2014-05-07T02:01:39Z</dcterms:modified>
  <cp:revision>256</cp:revision>
  <dc:subject/>
  <dc:title>Title Goes Here</dc:title>
</cp:coreProperties>
</file>