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move the slide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81564-9C89-46B2-BDDE-8E08863AE1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BC3D6-3202-47B9-BD08-7FA8022F33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hubby provides a namespace that consists of directories and small file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ach of the directories or files can be used as a lo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EDFFC-A174-4173-B0C6-CD948F5A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3DB79-2140-47F8-BD03-976BF750F3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481F6-5D1B-4CCF-88B1-865DEE1739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EA71F-DB84-4EB2-B8B8-5FF2C4B94C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D7667-5222-4188-AEDA-14C2D651CE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ows, column are arbitrary string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nd the data is also treated as interpreted strin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A0293-1522-417A-9512-E58B8C725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2B36-0EF7-4DDB-8D0D-C75BD77E9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556F-60CD-4DB8-87B6-94819ECFAC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6E291-4AB5-4856-8446-5DC2DEDB904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CEA84-FA14-462B-B69A-F660FFF463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B59BB-C5EB-4E4C-9186-7EFF097C1B3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66CE9-B9C1-4B2A-B601-61DF141C390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F52F1-D9CD-4207-AFA3-55D6A12A43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480B1-58C5-4EB4-A660-4F06790A6F1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83840-2648-40A9-8E21-ED4461E575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9954E-32B1-46DC-9658-AEF7FC36A8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21C11-0FA3-4656-9ED0-A08AA3FA94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77A6-A8EA-4304-B266-8DC23879A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55B8-1414-45A9-91C5-70CB718AC37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C6B1-3852-42E0-A854-3A5F399C16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B6A8-97D5-4115-8986-0EF1F9EEA4F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5D53-854E-4987-9735-9E13D78E18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E8A6-AB5C-43DF-BB48-DDE1F38864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1B48-EE88-44E2-A34C-78C1D07590B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0797-9A64-4203-83F7-5C30CB7726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2E39-8EFD-4F30-8BA6-341580BEF7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3BEC-A789-46E7-B6DB-85936C40FA3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52FAB-41F2-49F9-884D-5F9940D7B66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6925-178D-446A-B19B-778E94955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0B83-D1FC-4788-B906-5ED08B82F9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134E-591F-46D5-A1B4-1C49A15AF2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52FDD-984C-421F-8D78-C02310E4FA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71A12-9FD5-4D91-9A96-60BB939C51E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352C7-0023-4ABA-BABD-EDC0B1BE14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E30DC-BDA4-4375-889C-1C9896ACF4E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03217-15DA-4745-931A-E12E483F75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251B5-8F9B-4E4A-A046-E8314F82B99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987760-78AF-43C9-99DC-D8219323313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96F35-4A86-41B6-B1A8-DBC53D34DDC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17ECA-0274-4310-9BA6-7A1D99150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A3114-41CF-4266-85E6-049169EA015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0C96C-E6CF-497F-BD93-5E6B29C5CF3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379E0-AE31-490C-BB97-5B3AA81994C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2CF94-DB4A-478A-AE6F-CEF1633FEA0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DF7D1-A355-484E-B424-8E4DF414823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7985E-7411-462E-8E92-10284E21A64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4D78B-04B7-4BFA-832B-B8BC33699C6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5FAAC-A65E-4E6C-A34F-91871DA18C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6D91B-CC7E-4BD6-938F-C422438E8F1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01CF4-2C90-40FA-8C10-0E7D209884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CD41F-C051-4958-817B-79BE2148DDA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FFEFC-51D2-442F-999E-55DDD6F70DB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2F034-DE63-4788-919E-75FCC60CE30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7AA46-269C-4161-B287-212BFF0339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E44DA-5FB2-4D4C-84EC-5966C40DE24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434E9-9482-4D53-87CB-C44C5B4016E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9194-9AA3-4F48-BB24-EEF9161AF8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60A0-F64C-4EFF-8140-11798AA8DB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3C816-1694-4115-9F58-24982CC0EF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F939-7CFA-443D-A2E1-C8319D6B6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A6C3-35E0-4D5F-83ED-44B728590A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30BD-D725-4737-9303-46E8A72AC0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691F1-562B-476C-8AE9-CCE69715D3E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E84F-978B-423F-BDBC-26A402D51DB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6ACC-7FCE-4AD7-A766-9855C98891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226E-96DB-4819-98BD-A5979E2ABB2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DC97-EF80-4C95-AA9E-054709817A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D4DC-0B9D-4963-9BD4-F9D2A75D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A596-E568-489D-81D0-8BA552B9C3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CD9C-2D00-4DE3-93F7-5141012839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7146-28C7-4FFE-8D7A-DD92947F72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92C1E-D9CF-40BE-BB52-7829FCC216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41A8-7800-4848-AA87-A5B1154D6A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366C-92BB-4050-B159-7A48B7A87F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0B5B-5FF9-4CBD-8D24-63147445E2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2B75-B1F8-4B12-BB61-42380A17A7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FB70-1DE7-4F94-ADFA-68296B72F6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E90F-2119-4097-B6F5-F89A6EE166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F805-F665-42AA-8CAA-5007A656A6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C290-EB01-4692-8507-D6B24E7B69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0C60-6BCF-4CBD-AC15-F2087CD2AD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3CB-9EF4-4F60-BB7C-D72239E471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52D-1F88-426E-847E-ED7ACDEB99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EE7-BDAB-413B-AF8F-5F858E675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A244-7A5A-4214-B1DD-0DFFF3348D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284-0433-423C-8F88-5E49FE7BCD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8E3-6871-45ED-B6C8-DE03B9CCAD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0AA-7011-48D4-84BD-7704012865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5A7-E879-4B6D-89C8-D708E49767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EBD-F1B0-407F-9AF5-ADA52F6842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78C-C03C-4933-B929-C9E66689C7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527-EB31-4D4E-9635-C3B30BA801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247-5079-4C76-B578-E1083F298F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0E6-7C05-41F5-A476-B768C1481D6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286E6-40A6-4F4D-AAFB-5F0AD187D0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2564-4887-461B-B342-E927587DF73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C4225-5C52-4312-8D55-54B2360D588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BB7C-4A14-4BF4-BAE6-A609F83EF2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50043-13FE-49F5-A006-52848A836C9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2D2E9-8A83-4D33-9A5D-1EC5CE0D4E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98A97-292A-4174-B53A-D749C42865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547FC-8564-4921-9C2F-AF0516E8844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8842D-4797-459C-8A09-3F5799B08A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B4E9C-085F-495F-963E-635E8D11B2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0A2D6-F64E-47AF-8103-F63A9FC2E7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47C76-C149-474E-8763-284969FEB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059D-3A58-4F20-B054-363AC7F050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9E7F2-1250-46E5-9697-619C0D05262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48AE5-D0C7-4F01-A9B7-B94495624F9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2DE22-74DB-43B1-AADF-EEA5268866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3978B-CF08-4969-9E25-41D1CBEF87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C8B18-D507-4593-8F30-C05F43019D0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CEBD9-032B-49A1-B351-80DFC8D66D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B140F-541B-4B28-A732-8833F51640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58373-30EC-4975-88C2-CCA048836A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8064C-1458-4CDA-AF0E-838A7B6E60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FE1E-0A60-4368-BDB9-3DFE86C43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8430-4FE2-4FB2-9019-57D2BFA07E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5B92E-0F1F-492B-9544-0AED1ED62C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A64F1-8F41-4A05-811B-AD354AA499D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D5C29-F94D-48B5-A09C-3AC9C944AA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0D42-AB5E-4C50-93B9-60135DF72AE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D3D3-E82C-48C5-9D26-7992247EBA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4E7D-2F46-40E4-8A5A-1FDE38F73C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2AC9-0C81-4D55-B198-E83E55CAE6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6E89-F5B7-46E5-B436-7C2EE0DAD9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496-B1EC-4357-A839-648481AA90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7D1-8D38-4061-B912-F4E0A29DA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6A74-E3A6-4BAD-A81D-32E0907CDD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C8D6-5E1A-4EA6-803D-5F5C5A23A2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FF42-B121-4324-BA08-59AF47C1CA0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22D4-EAC0-4E76-A775-4DE2D6AAA3B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64AE-C6B9-4769-A355-F090460B49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53CD-43E2-40C7-A6CF-37545ACBB8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C40A5-6251-4B13-8387-46EE852DE8C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C8170-6C3C-448C-9D59-2E3288A1C2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BC3DBD-E453-4A94-BD74-7548E7521C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96622-01BD-4B34-9CCF-AAB80D3860A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E968B-2EB7-4979-AD59-7731F73CC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8922-19FA-4430-AD00-0F8072C4FD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7543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808877-B81C-4BB9-BE22-0C4AA8B4D9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71BC8-B27B-43BC-97AF-A8814C8B13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F8649-1C74-4580-BBE6-A1D4932B5E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95936-35A4-4723-B911-C44B503754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4091400"/>
            <a:ext cx="822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CEA0A-46A7-419D-B74E-BBB207D008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4091400"/>
            <a:ext cx="40158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05C33-3535-455F-AC00-C885D710DCA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4091400"/>
            <a:ext cx="2649600" cy="24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F9FC7-B56A-466B-AA09-9E0C740351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55FEF-D642-42AD-9360-CA03B37E31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B65B8-DC2A-4274-A866-5E39185665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61C3E-2332-4FC1-A8C9-D73DA1A5B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title"/>
          <p:cNvPicPr/>
          <p:nvPr/>
        </p:nvPicPr>
        <p:blipFill>
          <a:blip r:embed="rId3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" name="Picture 6" descr="bg_lightblue_new"/>
          <p:cNvPicPr/>
          <p:nvPr/>
        </p:nvPicPr>
        <p:blipFill>
          <a:blip r:embed="rId4"/>
          <a:stretch/>
        </p:blipFill>
        <p:spPr>
          <a:xfrm>
            <a:off x="0" y="6603840"/>
            <a:ext cx="9144000" cy="2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3B1D-F54F-4E19-99A3-12D68711F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bg_lightblue_new"/>
          <p:cNvPicPr/>
          <p:nvPr/>
        </p:nvPicPr>
        <p:blipFill>
          <a:blip r:embed="rId5"/>
          <a:stretch/>
        </p:blipFill>
        <p:spPr>
          <a:xfrm>
            <a:off x="0" y="1270080"/>
            <a:ext cx="9144000" cy="101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UILogoCL1c"/>
          <p:cNvPicPr/>
          <p:nvPr/>
        </p:nvPicPr>
        <p:blipFill>
          <a:blip r:embed="rId6"/>
          <a:srcRect l="6905" t="4234" r="27117" b="8518"/>
          <a:stretch/>
        </p:blipFill>
        <p:spPr>
          <a:xfrm>
            <a:off x="8346960" y="304920"/>
            <a:ext cx="492120" cy="65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9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08A0-B2CE-4CA3-BC47-B57DFEDBC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10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135-E3B6-4DEF-81AA-A965DFD69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11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AFE6-D92C-4875-8A11-4D680D39E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12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43F7-4AB3-4D70-97B9-A638D0429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title"/>
          <p:cNvPicPr/>
          <p:nvPr/>
        </p:nvPicPr>
        <p:blipFill>
          <a:blip r:embed="rId3"/>
          <a:stretch/>
        </p:blipFill>
        <p:spPr>
          <a:xfrm>
            <a:off x="0" y="0"/>
            <a:ext cx="9144000" cy="318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bg_lightblue_new"/>
          <p:cNvPicPr/>
          <p:nvPr/>
        </p:nvPicPr>
        <p:blipFill>
          <a:blip r:embed="rId4"/>
          <a:stretch/>
        </p:blipFill>
        <p:spPr>
          <a:xfrm>
            <a:off x="0" y="3174840"/>
            <a:ext cx="9144000" cy="101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bg_lightblue_new"/>
          <p:cNvPicPr/>
          <p:nvPr/>
        </p:nvPicPr>
        <p:blipFill>
          <a:blip r:embed="rId5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ILogoCL1c"/>
          <p:cNvPicPr/>
          <p:nvPr/>
        </p:nvPicPr>
        <p:blipFill>
          <a:blip r:embed="rId6"/>
          <a:srcRect l="6905" t="4234" r="27117" b="8518"/>
          <a:stretch/>
        </p:blipFill>
        <p:spPr>
          <a:xfrm>
            <a:off x="8346960" y="304920"/>
            <a:ext cx="492120" cy="650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A9D2-8A8E-46C0-89C2-899B23BA8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E6F4-B50C-4398-991A-A167E8FC5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4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A2A-11EA-4AAB-8B64-D3F3C6EF7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5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A566-F6EA-4EE2-A1CC-180545169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6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070-CD3E-4F44-B3B0-C17F2D27C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7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FEB3-34D5-40F5-B88C-C4256D0DC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8"/>
          </p:nvPr>
        </p:nvSpPr>
        <p:spPr>
          <a:xfrm>
            <a:off x="6552720" y="6603840"/>
            <a:ext cx="2133720" cy="2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EA9F-EF7F-40DD-99AB-5B29152A73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4.pn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91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SC590 Selected Topic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0" y="4095360"/>
            <a:ext cx="91440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table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Distributed Storage System for Structured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y Chang, Jeffrey Dean, Sanjay Ghemawat, Wilson C. Hsieh, Deborah A. Wallach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ike Burrows, Tushar Chandra, Andrew Fikes, Robert E. Grub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59436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Monotype Corsiva"/>
              </a:rPr>
              <a:t>Haifa Alyah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Monotype Corsiva"/>
              </a:rPr>
              <a:t>432920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row range for a table is dynamically partition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ch row range is called a tabl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blet is the unit for distribution and load balanc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6" name="Picture 8" descr="tablets.tiff"/>
          <p:cNvPicPr/>
          <p:nvPr/>
        </p:nvPicPr>
        <p:blipFill>
          <a:blip r:embed="rId1"/>
          <a:stretch/>
        </p:blipFill>
        <p:spPr>
          <a:xfrm>
            <a:off x="1822320" y="2998800"/>
            <a:ext cx="5748480" cy="34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PI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335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adata operat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eate/delete tables, column families, change metada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ri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et(): write cells in a row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leteCells(): delete cells in a row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leteRow(): delete all cells in a row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anner: read arbitrary cells in a bigta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ch row read is atomi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n restrict returned rows to a particular ran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n ask for just data from 1 row, all rows, etc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n ask for all columns, just certain column families, or specific colum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219240" y="2279520"/>
            <a:ext cx="8699400" cy="3335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1023840" y="5522760"/>
            <a:ext cx="2011320" cy="427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3"/>
          <a:stretch/>
        </p:blipFill>
        <p:spPr>
          <a:xfrm>
            <a:off x="5443560" y="5578560"/>
            <a:ext cx="2219400" cy="30960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45720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P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uilding Block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ile System (GF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ores persistent data (SSTable file forma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dul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dules jobs onto mach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hubb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k service: distributed lock manag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ster election, location bootstrapp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pReduce (option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d/write Bigtable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hubby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{lock/file/name} serv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arse-grained loc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ach clients has a session with Chubb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session expires if it is unable to renew its session lease within the lease expiration ti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replicas, need a majority vote to be acti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so an OSDI </a:t>
            </a:r>
            <a:r>
              <a:rPr b="0" lang="ja-JP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6 Pap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mplementation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Bigtable implementation has three major component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library that is linked into every cli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e master serv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tablet serv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ablet Location Management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281160" y="1822320"/>
            <a:ext cx="864360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finement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72080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ality group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ents can group multiple column families together into a </a:t>
            </a:r>
            <a:r>
              <a:rPr b="0" i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cality group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ressio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s </a:t>
            </a:r>
            <a:r>
              <a:rPr b="0" i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entley and McIlroy's 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heme and </a:t>
            </a:r>
            <a:r>
              <a:rPr b="0" i="1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st compression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algorith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ching for read performance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s Scan Cache and Block Cach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oom filter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duce the number of acces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erformance Evaluation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420840" y="1779480"/>
            <a:ext cx="8242200" cy="37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eal Application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Google Analytic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http://analytics.google.c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Google Eart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http://earth.google.c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rebuchet MS"/>
              </a:rPr>
              <a:t>Personalized search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206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rebuchet MS"/>
              </a:rPr>
              <a:t>www.google.com/psearc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90360" y="1720800"/>
            <a:ext cx="78483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ta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P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uilding Bloc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finem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al Applic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標題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clusions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479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rs like…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performance and high availability provided by the Bigtable implemen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at they can scale the capacity of their clusters by simply adding more machines to the system as their resource demands change over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re are significant advantages to building a custom storage sol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r adoption and acceptance of a new interf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mplementation iss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scussion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table(Bt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is a distributed storage system for managing structured data that is designed to scale to a very large siz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projects at Google store data in Bigtable, including web indexing, Google Earth, and Google Financ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533520" y="18727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gtable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is designed to reliably scale to petabytes  of data and thousands of machine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gtable has achieved several goal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ide applicabil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calabil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gh performa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igh availabilit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標題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830556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cale Probl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ts of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illions of mach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ifferent project/appl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undreds of millions of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orage for (semi-)structured dat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 commercial system big enoug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uldn’t afford if there was 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w-level storage optimization help performance significant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uch harder to do when running on top of a database la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標題 1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tiv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 sparse, distributed persistent multi-dimensional sorted ma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rebuchet MS"/>
              </a:rPr>
              <a:t>(row, column, timestamp) -&gt; cell cont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</a:t>
            </a:r>
            <a:r>
              <a:rPr b="0" i="1" lang="en-US" sz="4000" spc="-1" strike="noStrike">
                <a:solidFill>
                  <a:srgbClr val="ffff6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ow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bitrary str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ccess to data in a row is atomi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dered lexicographicall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7" name="Picture 6" descr="model1.tiff"/>
          <p:cNvPicPr/>
          <p:nvPr/>
        </p:nvPicPr>
        <p:blipFill>
          <a:blip r:embed="rId1"/>
          <a:stretch/>
        </p:blipFill>
        <p:spPr>
          <a:xfrm>
            <a:off x="1596960" y="3121200"/>
            <a:ext cx="6261120" cy="26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um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w-level name structur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amily: qualifi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umn Family is the unit of access contro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0" name="Picture 6" descr="model2.tiff"/>
          <p:cNvPicPr/>
          <p:nvPr/>
        </p:nvPicPr>
        <p:blipFill>
          <a:blip r:embed="rId1"/>
          <a:stretch/>
        </p:blipFill>
        <p:spPr>
          <a:xfrm>
            <a:off x="1749600" y="3578400"/>
            <a:ext cx="66387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ta Model</a:t>
            </a:r>
            <a:endParaRPr b="0" i="1" lang="en-US" sz="4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imestam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ore different versions of data in a cel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ookup op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urn most recent K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urn all val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43" name="Picture 7" descr="model5.tiff"/>
          <p:cNvPicPr/>
          <p:nvPr/>
        </p:nvPicPr>
        <p:blipFill>
          <a:blip r:embed="rId1"/>
          <a:stretch/>
        </p:blipFill>
        <p:spPr>
          <a:xfrm>
            <a:off x="1822320" y="3803760"/>
            <a:ext cx="6108840" cy="271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3:23:05Z</dcterms:created>
  <dc:creator>Imranul Hoque</dc:creator>
  <dc:description/>
  <dc:language>en-US</dc:language>
  <cp:lastModifiedBy>لاإله إلا الله... .</cp:lastModifiedBy>
  <dcterms:modified xsi:type="dcterms:W3CDTF">2014-05-07T02:01:39Z</dcterms:modified>
  <cp:revision>256</cp:revision>
  <dc:subject/>
  <dc:title>Title Goes Here</dc:title>
</cp:coreProperties>
</file>