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ADA-4DE5-4343-9162-1E81C891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203-BF3B-40D0-BB80-0270E1E1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1DB-C5EB-4D1A-8591-52A8365B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A38-56BC-4AFC-8034-6E8229F9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29F6-EAE6-4F9A-AD7F-71B46789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7322-F975-48C8-9B1A-D108370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07CA-FCFD-4D76-BD89-E04C056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BBD-2119-4C8D-831A-963FCB6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E6B6-00DC-4178-B933-D134388B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50E-B22D-4ED8-8AA2-5F52301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4BD-D9A6-403C-B91E-4DD4C17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980-120F-487E-9A70-27C18D2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AAB-7C52-43A2-B63A-AE2B2E1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005-31A5-408D-9219-75640DE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701C-35A5-46AA-B1C2-B51B984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CEC9-188C-4CA4-AAAC-9BA8BBAD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35F1-D65F-477B-906B-2559C5D7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FDA-9A39-4BFB-B154-2099964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0CF-5F81-4A10-AF34-E7B21A8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872-91E1-4855-94F5-14549F6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DB4-3F8D-4C08-A03E-F6143C0E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46A-7194-4ECB-A705-AB4AF88C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131-6F2D-4D54-A2D7-328B658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6C6-D845-41FC-98F3-B6B72C3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6F6B6F-78B1-47F9-958D-96F97BCB7FA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93A9450-D5FE-438B-8970-F92018BECCB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ow to hand trace a code 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seel AL Hadl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ivide a sheet of paper into colum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ch column is a variable the code you are tracing through will use. Write the name of the variable at the top of each colum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o through each statement in your code and whenever the value of a variable is changed, write the new value underneath the old value in its colum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pefully, this will help you see what is wrong with your progra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ix your program's problem and recompile the co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st the code, and if it still contains the bug, retrace through the code if nothing else work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a pencil so that you can erase if you make a mistake in your trace. You can also erase the sheet of paper so that you can reuse it to trace another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e through one section of code at a time so that it doesn't become confu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uble check the values you write down, or your entire trace will be wrong, and you will think you have caught the bug when you haven'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creen shot 2013-02-25 at 8.52.51 PM.png"/>
          <p:cNvPicPr/>
          <p:nvPr/>
        </p:nvPicPr>
        <p:blipFill>
          <a:blip r:embed="rId1"/>
          <a:stretch/>
        </p:blipFill>
        <p:spPr>
          <a:xfrm>
            <a:off x="152280" y="701640"/>
            <a:ext cx="869832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5" descr="Screen shot 2013-02-25 at 8.42.06 PM.png"/>
          <p:cNvPicPr/>
          <p:nvPr/>
        </p:nvPicPr>
        <p:blipFill>
          <a:blip r:embed="rId1"/>
          <a:stretch/>
        </p:blipFill>
        <p:spPr>
          <a:xfrm>
            <a:off x="276480" y="304920"/>
            <a:ext cx="8714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1</TotalTime>
  <Application>LibreOffice/7.4.7.2$Linux_X86_64 LibreOffice_project/40$Build-2</Application>
  <AppVersion>15.0000</AppVersion>
  <Words>20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51:12Z</dcterms:created>
  <dc:creator>Mac</dc:creator>
  <dc:description/>
  <dc:language>en-US</dc:language>
  <cp:lastModifiedBy>Mac</cp:lastModifiedBy>
  <dcterms:modified xsi:type="dcterms:W3CDTF">2013-02-25T18:22:12Z</dcterms:modified>
  <cp:revision>8</cp:revision>
  <dc:subject/>
  <dc:title>How to hand trace a cod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