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756-4385-43FB-942B-CBE2AE80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D8F-E6CB-4C50-ABE4-08557FF2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17D-5222-46C9-9D46-5434801D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B93-394C-49C2-A94F-211B3A88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320A-80C5-42EE-BB98-11DFADCC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4BDB-0B17-4584-9E87-E58570B2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1297-C864-4C60-8951-49E6E706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CC1F-F2AB-46B2-8D4F-392E43A4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7B0F-AA52-48F0-9E0D-DC2D5DF5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F6EE-5256-42E8-A614-7EA32D4F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C669-A127-4F05-BCDB-F540E03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FB8-E366-49A5-AEF5-9EA65651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F8EE-55A4-4506-8B41-3B70AF0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5AAA-1709-4946-9976-734CEAD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0B0E-40E2-4AB8-9A61-C0273A75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037A-9390-40D6-B956-9F2BD834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E211-476C-4804-A548-38B259A7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536-5D6F-4225-8CBB-EE5A7DAB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955-6A2C-4939-83E6-871BCE72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776-A1E4-491D-995F-E482C017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BA2-ED94-4F4A-AF03-10F58A4B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4EC-D0AB-4687-8E58-58FC1910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B96-865D-4B85-9372-6A6711F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AFD-528C-4175-B4CC-B4D9AB1C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AFC4B79-3B01-46B9-866E-D93CEED713D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DDEC72B-721D-452D-B92C-5CAF597E8AA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ow to hand trace a code 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Aseel AL Hadl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ivide a sheet of paper into colum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ach column is a variable the code you are tracing through will use. Write the name of the variable at the top of each colum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o through each statement in your code and whenever the value of a variable is changed, write the new value underneath the old value in its colum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opefully, this will help you see what is wrong with your progra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ix your program's problem and recompile the cod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est the code, and if it still contains the bug, retrace through the code if nothing else work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a pencil so that you can erase if you make a mistake in your trace. You can also erase the sheet of paper so that you can reuse it to trace another ti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race through one section of code at a time so that it doesn't become confus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uble check the values you write down, or your entire trace will be wrong, and you will think you have caught the bug when you haven'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Screen shot 2013-02-25 at 8.52.51 PM.png"/>
          <p:cNvPicPr/>
          <p:nvPr/>
        </p:nvPicPr>
        <p:blipFill>
          <a:blip r:embed="rId1"/>
          <a:stretch/>
        </p:blipFill>
        <p:spPr>
          <a:xfrm>
            <a:off x="152280" y="701640"/>
            <a:ext cx="8698320" cy="56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5" descr="Screen shot 2013-02-25 at 8.42.06 PM.png"/>
          <p:cNvPicPr/>
          <p:nvPr/>
        </p:nvPicPr>
        <p:blipFill>
          <a:blip r:embed="rId1"/>
          <a:stretch/>
        </p:blipFill>
        <p:spPr>
          <a:xfrm>
            <a:off x="276480" y="304920"/>
            <a:ext cx="87148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31</TotalTime>
  <Application>LibreOffice/7.4.7.2$Linux_X86_64 LibreOffice_project/40$Build-2</Application>
  <AppVersion>15.0000</AppVersion>
  <Words>208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7:51:12Z</dcterms:created>
  <dc:creator>Mac</dc:creator>
  <dc:description/>
  <dc:language>en-US</dc:language>
  <cp:lastModifiedBy>Mac</cp:lastModifiedBy>
  <dcterms:modified xsi:type="dcterms:W3CDTF">2013-02-25T18:22:12Z</dcterms:modified>
  <cp:revision>8</cp:revision>
  <dc:subject/>
  <dc:title>How to hand trace a code 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