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3ED-9BBC-4DAB-9DF2-CCB5C3BE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982-8945-4BD0-8AB1-9A0DE72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569-42C1-4097-811A-951017F7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81D-F9D9-4AF3-9452-81F9EC54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6DF-EDFC-4DF7-B761-90574857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876-FF37-4B97-9355-31F6A4AB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A4E9-4267-4FF8-B001-C7E0603B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C35-FC0B-43A2-AFFF-BBF9CE7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0875-86F8-4748-A5B3-FDD7D118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7D94-FC43-4507-90B7-487E43CA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2996-6FC4-486F-AA27-C0CA7204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AD6-6488-4414-90E5-636BEE2A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96E0-783D-4EF3-AD77-085EB046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5BAA-FD3B-414F-A50A-B931E1E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3BE0-01F9-4181-B713-FC396490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B8D-20DB-4188-93E5-73322C8C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F030-6020-460C-97CE-C74B8986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9C1-C388-481D-82DF-3359429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511-E79F-452C-BC43-1562B65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599-076F-4E99-ABEB-B2BA7B2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F82-DEE4-44D1-9689-D5AFD8B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825-AF92-46D9-8FC5-ED6F9D65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0F2-0196-4A11-B683-97D7B9A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6DD-8CFF-4ADF-8F24-6BC0225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1C9A28-CC44-41BC-AAF3-652D26D6658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1321222-ABF4-491F-8D1F-71AB468BC72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ow to hand trace a code 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seel AL Hadl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ivide a sheet of paper into colum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ch column is a variable the code you are tracing through will use. Write the name of the variable at the top of each colum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o through each statement in your code and whenever the value of a variable is changed, write the new value underneath the old value in its colum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opefully, this will help you see what is wrong with your progra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ix your program's problem and recompile the cod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st the code, and if it still contains the bug, retrace through the code if nothing else work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a pencil so that you can erase if you make a mistake in your trace. You can also erase the sheet of paper so that you can reuse it to trace another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ce through one section of code at a time so that it doesn't become confus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uble check the values you write down, or your entire trace will be wrong, and you will think you have caught the bug when you haven'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Screen shot 2013-02-25 at 8.52.51 PM.png"/>
          <p:cNvPicPr/>
          <p:nvPr/>
        </p:nvPicPr>
        <p:blipFill>
          <a:blip r:embed="rId1"/>
          <a:stretch/>
        </p:blipFill>
        <p:spPr>
          <a:xfrm>
            <a:off x="152280" y="701640"/>
            <a:ext cx="869832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5" descr="Screen shot 2013-02-25 at 8.42.06 PM.png"/>
          <p:cNvPicPr/>
          <p:nvPr/>
        </p:nvPicPr>
        <p:blipFill>
          <a:blip r:embed="rId1"/>
          <a:stretch/>
        </p:blipFill>
        <p:spPr>
          <a:xfrm>
            <a:off x="276480" y="304920"/>
            <a:ext cx="87148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31</TotalTime>
  <Application>LibreOffice/7.4.7.2$Linux_X86_64 LibreOffice_project/40$Build-2</Application>
  <AppVersion>15.0000</AppVersion>
  <Words>208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7:51:12Z</dcterms:created>
  <dc:creator>Mac</dc:creator>
  <dc:description/>
  <dc:language>en-US</dc:language>
  <cp:lastModifiedBy>Mac</cp:lastModifiedBy>
  <dcterms:modified xsi:type="dcterms:W3CDTF">2013-02-25T18:22:12Z</dcterms:modified>
  <cp:revision>8</cp:revision>
  <dc:subject/>
  <dc:title>How to hand trace a code 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