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152-FBEE-45D8-AE89-9D3459F4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9F2-3EA6-4EEF-AC73-1F4B157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B0E-5215-4FED-99FE-5289BFDF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97F-E894-4E34-8A46-51E38017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86BE-7061-4CDD-9152-E9BB5458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614A-0906-49BC-94E9-C12FFD2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E74-C7FF-46D6-BCAD-DB6B253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F12-E6E5-4560-82AD-8F040AC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1EB-FB01-48C4-BF7E-D6C4F0E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59D-7F2E-4A69-9924-64F3503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A6B-3D6D-46A3-88FB-AF792C9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311-9B6C-4151-8AF9-F5A9875D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9490-EDDA-43AE-A2E8-FE750A3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97FA-13E1-4158-ADA2-6FA2CB1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8EF-39C4-4CBD-ABA1-710B5469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8BFB-B6D6-4975-9825-55A06B8F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89CE-9E1D-461B-B494-E2A18498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96A-FEE7-4A4E-B05A-7F090CFE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684-BD30-4EFB-A43B-9D575882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BAE-9928-4475-81B3-3496D53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EC5-7748-44D4-9278-4E63E0D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40F-2BC2-4A37-BF21-FF4FFCC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689-9AF4-487A-B269-7500704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06-09C8-4F8C-AE9B-78A98B7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75A4FCF-AB07-455C-8E31-C36B04436C8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FBD2181-629B-4D62-97CF-EEDE5A57FE9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ow to hand trace a code 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seel AL Hadl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ivide a sheet of paper into colum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ch column is a variable the code you are tracing through will use. Write the name of the variable at the top of each colum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o through each statement in your code and whenever the value of a variable is changed, write the new value underneath the old value in its colum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pefully, this will help you see what is wrong with your progra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ix your program's problem and recompile the co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st the code, and if it still contains the bug, retrace through the code if nothing else work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a pencil so that you can erase if you make a mistake in your trace. You can also erase the sheet of paper so that you can reuse it to trace another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e through one section of code at a time so that it doesn't become confu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uble check the values you write down, or your entire trace will be wrong, and you will think you have caught the bug when you haven'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creen shot 2013-02-25 at 8.52.51 PM.png"/>
          <p:cNvPicPr/>
          <p:nvPr/>
        </p:nvPicPr>
        <p:blipFill>
          <a:blip r:embed="rId1"/>
          <a:stretch/>
        </p:blipFill>
        <p:spPr>
          <a:xfrm>
            <a:off x="152280" y="701640"/>
            <a:ext cx="869832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5" descr="Screen shot 2013-02-25 at 8.42.06 PM.png"/>
          <p:cNvPicPr/>
          <p:nvPr/>
        </p:nvPicPr>
        <p:blipFill>
          <a:blip r:embed="rId1"/>
          <a:stretch/>
        </p:blipFill>
        <p:spPr>
          <a:xfrm>
            <a:off x="276480" y="304920"/>
            <a:ext cx="8714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1</TotalTime>
  <Application>LibreOffice/7.4.7.2$Linux_X86_64 LibreOffice_project/40$Build-2</Application>
  <AppVersion>15.0000</AppVersion>
  <Words>20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51:12Z</dcterms:created>
  <dc:creator>Mac</dc:creator>
  <dc:description/>
  <dc:language>en-US</dc:language>
  <cp:lastModifiedBy>Mac</cp:lastModifiedBy>
  <dcterms:modified xsi:type="dcterms:W3CDTF">2013-02-25T18:22:12Z</dcterms:modified>
  <cp:revision>8</cp:revision>
  <dc:subject/>
  <dc:title>How to hand trace a cod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