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437-2DBF-4F10-874D-4CFFEC020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CBB4-9921-4834-9D91-7950C3DA7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B63-AEDC-4025-8B43-9418B9B4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A89-7AF4-4A62-AB0D-BA0CD46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590-5314-4F18-B76C-BC86503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A0D-781B-4324-AEC3-BBF3EA3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785-9827-45BE-B4D1-D8560FE0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A09-1A32-4650-934E-E5FA8EFC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B6B-E022-4333-83F8-70D114DC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023-9077-4473-B1C5-798EAA76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B59-944F-4E26-A0FF-24854AA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82F-9B34-4FD8-BFBA-16AE9B7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AC9-ABAD-455E-8758-51714259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E7E-EF84-4855-9DC2-C8DC805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C07-AE4E-41EC-BAF1-6B46BD22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دور الحضانة ورياض الأطفال في سياسة التعليم في المملكة العربية السعود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رعاية نمو الطفل من جميع النواحي في جو مشابه لجو الأسرة الإسلامي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كوين الاتجاه الديني تبعا لفطرة الفرد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هيئة الكفل لجو المدرسة ، بنقله من جو الذاتيةالمركزية لجو الحياة الاجتماعية مع أصدقائه 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زويد الطفل بثروة من التعبيرات اللغوية والمعلومات حسب سنه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عويد الطفل على المهارات الحركية وتدريبه على العادات الصحية وتمرين حواسه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شجيع النشاط الابتكاري والإبداعي عند الطفل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جال العقلي الفك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عطي المعلمة الفرصة لكل طفل يجرب بنفسه ومع مجموعة من الأطفال عمليات التطابق والتجميع والتسلسل والنماذج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السهل إلى الصع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حت إشراف المعلم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هذه الممارسات والمهارات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c00000"/>
                </a:solidFill>
                <a:latin typeface="Calibri"/>
                <a:cs typeface="Arial"/>
              </a:rPr>
              <a:t>التصني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 للألوان ، الأشكال ، الأحجام ، الأطوال ، الملامس ، الكمية والعدد ، الأوزان ، المفردات حسب الأحرف بمواقعه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تسلسل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ع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مكانة  ( الأول – الأوسط – الاخي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حجم ( يرتب الأشياء بتسلسل حجمها (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د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طو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ات الل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قصة أو الحادث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تنظيم أو النماذج ( مكعب ، خرز .........من السهل للصعب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الحوا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طابق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روائ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ابق الأصوات ( الصوت الأول للكلم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ملم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تذ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نظر ( يطابق الكلمة بالكلمة- الصورة بالكلمة – الحرف بالصورة التي تبدأ فيه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عبير اللفظ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رد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حادث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صوتيات ( ينطق الكلمات بوضوح ، يلفظ صوت الحرف الأول لبعض الكلمات ، يصف النموذج الذي قام به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إملاء وقراء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تعبيرات الرياضية ( يذكر العدد الذي يسبق عددا معينا والعدد الذي يليه ) يسمي الأشكال والألوان بدرجاته ، يستخدم لفظي ( طويل – قصير ) بدرجاتهم ، ألفاظ ( قصير ، طويل ، أيام الاسبوع ، تواريخ الأيام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ستيعاب ( الفكرة من النشاط ، القصة ويسمي الشخصي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ينصت لأحاديث الآخرين ، يذكر أحداث القصة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هارات الكتابة : النسح والكتاب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ابداع والابتكار : بالتقليد واللعب والتمثيل والتأليف والتعبيروالرسم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تباع ارشادات المعلمة في المفاهيم التالية : ( أول ، أخير ،وسط ) بداية ونهاية ، قبل وبعد ، أمام ، وراء، بين ، قريب بعيد ، بجانب ، داخل وخارج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جال الجسمي الحر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نمية العضلات الصغرى (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، دليل التعلم الذات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نمية العضلات الكب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اجتماع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مهارات وممارسات ( الشكر والاستئذان والاعتذا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والتقبل والمحافظة والمعاملة والمشارك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هارات اللغوية المكتسبة من خلال فترات الجدول ال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نطق الصحيح للكل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علم تكوين الجمل سلي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ترديد كلمات السور أو الآيات القرآنية والاحاديث والأناشي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أن يكتب أو ينقل الكلمة التي يلفظ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مييز البصري الذي هو أساس القراءة من خلال رؤية شخصيات القصص بالوسائل المعروضة أو متابعة أحداث القصة في الصورة المعد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انتماء للجماع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عبير اللفظي أمام الآخرين مستخدما جملا واضح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زداد مفردا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عتز بإنتاجه وإنتاج جمعته ويدون عليه اسمه واسم صفه والتاريخ ويضع عنوانا 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عبير عن أعماله لغوي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حترام إنتاج غيره وتقب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نقد البناء الذي يوجه للآخرين والعك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توضيح المعلومات والتعبير عنها بأساليب 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وفاء بحاجات الطفولة وتهذيب الطفل بدون إذلال أو إره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حماية الطفل من الأخطار وعلاج بوادر السلوك الغير سوي وحسن مواجهة مشكلات الطف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حاجات الأطفال في مرحلة الروض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تعرف على مفهوم قدرة الله خالق كل ش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ذكري نماذج تقوم بها المعلمة لتحقيق هذه الحاجة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عامل باحترام وتقدير حسب طبيعته المتميزة لأنه كائن متكامل بحاجة للنمو من جميع النو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ذكري نماذج من تطبيقات المعلمة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عامل ويتعلم برفق ورحمة في بيئة تربوية يسودها جو أسري مفعم بالأمن والطمأنينة 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رشد ويوجه من معلمة تربوية وقدوة اسلامية 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كون علاقات اجتماعية سوية مع غيره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ان يعبر تعبيرا لغويا مناسبا .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تعرف على مفاهيم تنبع من اهتمامه وتتناسب مع بيئته وحاجاته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ستخدم كافة حواسه في الحركة واللع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مارس العادات الصحية السليمة في بيئة آمنة من الأخطار .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إلى أن يبدع ويبتكر في أساليب التعبير المختلفة ويشعر بالسعادة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مهارات وممارسات طفل الروضة حسب منهج التعلم الذات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بالتدريب المستمر لمهار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بالاكتشاف والتقصي والبحث / تجارب الماء يطفو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من خلال عمليات النضج والتطور فينتقل من مرحلة لأخرى حسب توقيت داخلي نابع من خصائص كل فرد بمساعدة المعلمة لصقل مهاراته حسب مرحلة نضجه ونمو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lain" startAt="11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تعلم الطفل من خلال تلقيه معلومات جديدة من مصادر متنوعة بالإضافة لتجاربه الذاتية وتدريبه وهناك معلومات يتلقاها من تبادل الحديث مع أصدقائه والكبار ، بالاضافة للكتب ...........ضمن المجالات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دينية ......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عقلية والفكرية 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جسمية الحركية 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لاجتماعية 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نفعالية .......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هارات والممارسات المقدمة خلال المنهج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مجال الديني :  - ذكر المعلومات الأساسية للتوح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حمد وشكر لله على نعم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ترديد آيات بسيطة ، أد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ممارسة آداب اسلا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يردد التشهد الأول والأناشيد الدين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التسمية ، تحية الاسل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04:31Z</dcterms:created>
  <dc:creator> </dc:creator>
  <dc:description/>
  <dc:language>en-US</dc:language>
  <cp:lastModifiedBy> </cp:lastModifiedBy>
  <dcterms:modified xsi:type="dcterms:W3CDTF">2011-09-10T07:03:04Z</dcterms:modified>
  <cp:revision>49</cp:revision>
  <dc:subject/>
  <dc:title>أهداف دور الحضانة ورياض الأطفال في سياسة التعليم في المملكة العربية السعودية</dc:title>
</cp:coreProperties>
</file>