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0DB9-CA3B-45D2-9713-E0C47445A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D5E6-0E6E-4630-A2D8-A42A998FF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821-D10D-44A7-9CD6-C5D239D1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81E-3818-429B-B45C-07CB8801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92D-61E7-4263-9DCC-45E4893B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AEE-4F25-419B-8D67-8414320D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CB0-82CB-4551-B113-4D716C3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485-7ADB-448D-9DB1-C7EB92BD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86A-1099-49E9-9CBA-3988F640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F23-0B3D-4204-8EDD-CCB44FC7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BB1-DCBD-4020-8731-630949F6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464-7F8E-4BA6-BC27-E4651F7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CF1-808E-4585-81C2-AD35FAB6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AD7-4CBE-4FF3-930B-4E235CA0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A732-C9B6-4763-84CA-93766E9FC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هداف دور الحضانة ورياض الأطفال في سياسة التعليم في المملكة العربية السعود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رعاية نمو الطفل من جميع النواحي في جو مشابه لجو الأسرة الإسلامي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كوين الاتجاه الديني تبعا لفطرة الفرد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هيئة الكفل لجو المدرسة ، بنقله من جو الذاتيةالمركزية لجو الحياة الاجتماعية مع أصدقائه 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زويد الطفل بثروة من التعبيرات اللغوية والمعلومات حسب سنه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عويد الطفل على المهارات الحركية وتدريبه على العادات الصحية وتمرين حواسه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624"/>
              </a:spcBef>
              <a:buClr>
                <a:srgbClr val="8989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Calibri"/>
                <a:ea typeface="Arial"/>
              </a:rPr>
              <a:t> تشجيع النشاط الابتكاري والإبداعي عند الطفل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جال العقلي الفك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عطي المعلمة الفرصة لكل طفل يجرب بنفسه ومع مجموعة من الأطفال عمليات التطابق والتجميع والتسلسل والنماذج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ن السهل إلى الصع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حت إشراف المعلم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ن هذه الممارسات والمهارات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c00000"/>
                </a:solidFill>
                <a:latin typeface="Calibri"/>
                <a:cs typeface="Arial"/>
              </a:rPr>
              <a:t>التصني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( للألوان ، الأشكال ، الأحجام ، الأطوال ، الملامس ، الكمية والعدد ، الأوزان ، المفردات حسب الأحرف بمواقعه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  <a:cs typeface="Times New Roman"/>
              </a:rPr>
              <a:t>التسلسل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أعد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مكانة  ( الأول – الأوسط – الاخي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حجم ( يرتب الأشياء بتسلسل حجمها (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 د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أطو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ات اللو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قصة أو الحادث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تنظيم أو النماذج ( مكعب ، خرز .........من السهل للصعب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ستخدام الحوا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طابق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روائ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طابق الأصوات ( الصوت الأول للكلما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ملم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تذو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طابق النظر ( يطابق الكلمة بالكلمة- الصورة بالكلمة – الحرف بالصورة التي تبدأ فيه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عبير اللفظ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رد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محادث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صوتيات ( ينطق الكلمات بوضوح ، يلفظ صوت الحرف الأول لبعض الكلمات ، يصف النموذج الذي قام به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إملاء وقراء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تعبيرات الرياضية ( يذكر العدد الذي يسبق عددا معينا والعدد الذي يليه ) يسمي الأشكال والألوان بدرجاته ، يستخدم لفظي ( طويل – قصير ) بدرجاتهم ، ألفاظ ( قصير ، طويل ، أيام الاسبوع ، تواريخ الأيام 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ستيعاب ( الفكرة من النشاط ، القصة ويسمي الشخصي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ينصت لأحاديث الآخرين ، يذكر أحداث القصة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هارات الكتابة : النسح والكتاب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ابداع والابتكار : بالتقليد واللعب والتمثيل والتأليف والتعبيروالرسم 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تباع ارشادات المعلمة في المفاهيم التالية : ( أول ، أخير ،وسط ) بداية ونهاية ، قبل وبعد ، أمام ، وراء، بين ، قريب بعيد ، بجانب ، داخل وخارج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جال الجسمي الحرك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نمية العضلات الصغرى (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، دليل التعلم الذات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نمية العضلات الكبر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المجال الاجتماع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مهارات وممارسات ( الشكر والاستئذان والاعتذا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Arial"/>
              </a:rPr>
              <a:t>والتقبل والمحافظة والمعاملة والمشاركة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هارات اللغوية المكتسبة من خلال فترات الجدول اليوم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نطق الصحيح للكلم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علم تكوين الجمل سلي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ترديد كلمات السور أو الآيات القرآنية والاحاديث والأناشي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أن يكتب أو ينقل الكلمة التي يلفظ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تمييز البصري الذي هو أساس القراءة من خلال رؤية شخصيات القصص بالوسائل المعروضة أو متابعة أحداث القصة في الصورة المعد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انتماء للجماع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تعبير اللفظي أمام الآخرين مستخدما جملا واضح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زداد مفردا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عتز بإنتاجه وإنتاج جمعته ويدون عليه اسمه واسم صفه والتاريخ ويضع عنوانا 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تعبير عن أعماله لغوي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حترام إنتاج غيره وتقب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نقد البناء الذي يوجه للآخرين والعك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توضيح المعلومات والتعبير عنها بأساليب مختل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وفاء بحاجات الطفولة وتهذيب الطفل بدون إذلال أو إره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حماية الطفل من الأخطار وعلاج بوادر السلوك الغير سوي وحسن مواجهة مشكلات الطفو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حاجات الأطفال في مرحلة الروض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تعرف على مفهوم قدرة الله خالق كل ش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ذكري نماذج تقوم بها المعلمة لتحقيق هذه الحاجة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عامل باحترام وتقدير حسب طبيعته المتميزة لأنه كائن متكامل بحاجة للنمو من جميع النواح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ذكري نماذج من تطبيقات المعلمة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عامل ويتعلم برفق ورحمة في بيئة تربوية يسودها جو أسري مفعم بالأمن والطمأنينة ( هدف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رشد ويوجه من معلمة تربوية وقدوة اسلامية ( هدف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كون علاقات اجتماعية سوية مع غيره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( هدف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ان يعبر تعبيرا لغويا مناسبا .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تعرف على مفاهيم تنبع من اهتمامه وتتناسب مع بيئته وحاجاته 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ستخدم كافة حواسه في الحركة واللع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أن يمارس العادات الصحية السليمة في بيئة آمنة من الأخطار . 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حتاج الطفل إلى أن يبدع ويبتكر في أساليب التعبير المختلفة ويشعر بالسعادة ( 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؟؟؟؟؟؟؟؟؟؟؟؟؟؟؟؟؟؟؟؟؟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مهارات وممارسات طفل الروضة حسب منهج التعلم الذات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طفل بالتدريب المستمر لمهار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طفل بالاكتشاف والتقصي والبحث / تجارب الماء يطفو 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يتعلم الطفل من خلال عمليات النضج والتطور فينتقل من مرحلة لأخرى حسب توقيت داخلي نابع من خصائص كل فرد بمساعدة المعلمة لصقل مهاراته حسب مرحلة نضجه ونمو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lain" startAt="11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تعلم الطفل من خلال تلقيه معلومات جديدة من مصادر متنوعة بالإضافة لتجاربه الذاتية وتدريبه وهناك معلومات يتلقاها من تبادل الحديث مع أصدقائه والكبار ، بالاضافة للكتب ...........ضمن المجالات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- الدينية .......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- العقلية والفكرية 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- الجسمية الحركية .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لاجتماعية 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الانفعالية ....................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هارات والممارسات المقدمة خلال المنهج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مجال الديني :  - ذكر المعلومات الأساسية للتوح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حمد وشكر لله على نعم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ترديد آيات بسيطة ، أدع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ممارسة آداب اسلام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يردد التشهد الأول والأناشيد الدين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التسمية ، تحية الاسل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04:31Z</dcterms:created>
  <dc:creator> </dc:creator>
  <dc:description/>
  <dc:language>en-US</dc:language>
  <cp:lastModifiedBy> </cp:lastModifiedBy>
  <dcterms:modified xsi:type="dcterms:W3CDTF">2011-09-10T07:03:04Z</dcterms:modified>
  <cp:revision>49</cp:revision>
  <dc:subject/>
  <dc:title>أهداف دور الحضانة ورياض الأطفال في سياسة التعليم في المملكة العربية السعودية</dc:title>
</cp:coreProperties>
</file>