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24B-A2F8-4D49-852A-3FD7A8C1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E3F-1FCC-4FB7-8EC7-E4979F84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3AB-135D-477E-81E7-978C9414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A18-E525-47E7-95FB-A0C155A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8E6F-0AC8-4765-A170-D8EC7B9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C4E3-13FA-4CE3-9AB7-FF3E7B03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AA14-D0A9-42C6-8326-7B5A0A00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A72F-F474-45E5-A482-9D8346EE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B2C1-FD22-4C57-AD1B-2E479CCF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0E69-946A-4A0C-9376-073F7C7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4B70-BA80-4A60-9EBC-E2BAA59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CB8-C58D-4FF7-AFED-E1BD4AAD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7F2-A41F-42F6-A417-9842E90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52BC-15ED-42B5-A715-D5806D9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3DA-2AC1-49DF-BBB5-EC40FDA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BC03-FEC2-47D9-BD7F-52BF9B3B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EA8-E4DF-4661-94DD-9504F66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FBE-4155-45C0-8875-34EF4B1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0FB-2E82-4D25-B0E2-082CE4C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FC8-4178-4456-8910-3548A047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539-978D-44C7-ACBA-63AC928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3FD-6BC0-4853-824D-11380E2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397-BAB4-409F-9C3C-E3868A8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D8A-D267-4D72-8BEE-8844CF6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D52-F21D-4A80-98A5-02E18A6920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1788-319F-41C6-8085-446E9DA046B0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2791/2858109/audio/ch12/hyperthyroidism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1F88-082A-431C-8DF2-409A1A19A3D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, Neck, and Regional Lymphatic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lth assess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6" descr="f4-u1_0-B0-323-02888-8__50014-4__gr1"/>
          <p:cNvPicPr/>
          <p:nvPr/>
        </p:nvPicPr>
        <p:blipFill>
          <a:blip r:embed="rId1"/>
          <a:stretch/>
        </p:blipFill>
        <p:spPr>
          <a:xfrm>
            <a:off x="6372360" y="2708280"/>
            <a:ext cx="2771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88B9-9392-4A52-AF7A-0CF4726CDC1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t 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ies or acc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C1B-43F9-4651-AAD0-C497A39F343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if family history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yroid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FED6-D300-48D9-96F0-5E3C03F08DA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Approach to Hea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d Neck Asse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et patient, explain assessment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equate ligh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right sitting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right and left si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atic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QUIPMEN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pe measure   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◆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   Stethoscope   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◆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   Cup of water (for evaluation of thyroid gland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071-B2A0-418C-BB3C-7D42DFB62A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He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3D7F-7B93-4EF7-A504-C919C3F94FD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pection and Palp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f the Sca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ons or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p is shiny, intact, without lesions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, lesions, masses, hemato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f4-u1_0-B0-323-02888-8__50014-4__gr8"/>
          <p:cNvPicPr/>
          <p:nvPr/>
        </p:nvPicPr>
        <p:blipFill>
          <a:blip r:embed="rId1"/>
          <a:stretch/>
        </p:blipFill>
        <p:spPr>
          <a:xfrm>
            <a:off x="6516720" y="1484280"/>
            <a:ext cx="1942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8C0B-729E-47C7-AA5A-C5716DD1A43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pebral fissures eq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can be oval, round, or slightly squ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f4-u1_0-B0-323-03231-1__50007-3__fx1"/>
          <p:cNvPicPr/>
          <p:nvPr/>
        </p:nvPicPr>
        <p:blipFill>
          <a:blip r:embed="rId1"/>
          <a:stretch/>
        </p:blipFill>
        <p:spPr>
          <a:xfrm>
            <a:off x="6372360" y="2060640"/>
            <a:ext cx="208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49FD-15FA-435D-9D92-FC81F1C0446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ormed or absent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r less pronounced faci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eases which may alter facial feat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l’s palsy,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A temporary disorder affecting cranial nerve VII and producing a unilateral facial paralys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A355-CEA6-4D02-B314-A0F1177903D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acromegaly    An enlargement of the skull and cranial bones due to increased growth horm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hydrocephalus   The enlargement of the head caused by inadequate drainage of cerebrospinal fluid, resulting in abnormal growth of the skul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5C65-B4DF-4C95-B806-26F0EFA2127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d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e and auscultate the temporo-mandibular joint when the client opens and closes the mou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scomfort, joint articulates smoothly without clicking or crepi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, tenderness, crepi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8CC-46EE-4294-A1FC-AD32E5C29FD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ROM, pain free, symmetrical muscles, no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ROM, pain, asymmetrical muscles,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f4-u1_0-B0-323-02888-8__50014-4__gr3b"/>
          <p:cNvPicPr/>
          <p:nvPr/>
        </p:nvPicPr>
        <p:blipFill>
          <a:blip r:embed="rId1"/>
          <a:stretch/>
        </p:blipFill>
        <p:spPr>
          <a:xfrm>
            <a:off x="6227640" y="476280"/>
            <a:ext cx="223200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f4-u1_0-B0-323-02888-8__50014-4__gr4"/>
          <p:cNvPicPr/>
          <p:nvPr/>
        </p:nvPicPr>
        <p:blipFill>
          <a:blip r:embed="rId2"/>
          <a:stretch/>
        </p:blipFill>
        <p:spPr>
          <a:xfrm>
            <a:off x="3348000" y="404640"/>
            <a:ext cx="15112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E99B-A13E-4C7F-9AC3-412446ACB8A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tures objectiv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anatomic structures of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lymph nodes of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system-specific health history for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7ED-0E10-4654-9F2C-22B6B753E79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f4-u1_0-B0-323-02888-8__50014-4__gr3b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5843-9059-4AB4-AF0B-AF010487938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5" descr="f4-u1_0-B0-323-02888-8__50014-4__gr4"/>
          <p:cNvPicPr/>
          <p:nvPr/>
        </p:nvPicPr>
        <p:blipFill>
          <a:blip r:embed="rId2"/>
          <a:stretch/>
        </p:blipFill>
        <p:spPr>
          <a:xfrm>
            <a:off x="324000" y="189000"/>
            <a:ext cx="8820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AA0-1A23-4E3B-A23E-92CFFEA784F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yroid Gl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cul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342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rmal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metrical movement with swallow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m’s apple more pronounced in m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sses, tenderness, or enlar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sent br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85928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bnormal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larged g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i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mmetrical enlar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ce of a nodule or br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6" descr="f4-u1_0-B0-323-02888-8__50014-4__gr7"/>
          <p:cNvPicPr/>
          <p:nvPr/>
        </p:nvPicPr>
        <p:blipFill>
          <a:blip r:embed="rId1"/>
          <a:stretch/>
        </p:blipFill>
        <p:spPr>
          <a:xfrm>
            <a:off x="6084720" y="1557360"/>
            <a:ext cx="25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8AF-5F6E-4CD4-B250-79BEDF4D9DA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hyperthyroidis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The excessive production of thyroid hormones, resulting in enlargement of the gland, exophthalmos (bulging eyes), fine hair, weight loss, diarrhea, and other alt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yroidism   Metabolic disorder causing enlarged thyroid due to iodine defici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795-E5E9-4105-8676-91514494684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ymph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aur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ur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ip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andib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rior and posterior cervical ch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nsi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raclav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f4-u1_0-B0-323-02888-8__50014-4__gr5"/>
          <p:cNvPicPr/>
          <p:nvPr/>
        </p:nvPicPr>
        <p:blipFill>
          <a:blip r:embed="rId1"/>
          <a:stretch/>
        </p:blipFill>
        <p:spPr>
          <a:xfrm>
            <a:off x="4067280" y="981000"/>
            <a:ext cx="465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461-E8B6-4CE4-B7EB-3834160E438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5" descr="f4-u1_0-B0-323-02888-8__50014-4__gr5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9CB-0A70-41F1-8BE3-2023B32F61D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ymph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ble to palpate or se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larg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e to palpate or se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m, har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84E3-CDE4-4A18-B375-354E4E6D113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osition of the thumbs to evaluate the midline position of the trachea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5" descr="f4-u1"/>
          <p:cNvPicPr/>
          <p:nvPr/>
        </p:nvPicPr>
        <p:blipFill>
          <a:blip r:embed="rId1"/>
          <a:stretch/>
        </p:blipFill>
        <p:spPr>
          <a:xfrm>
            <a:off x="2050920" y="2060640"/>
            <a:ext cx="4838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4F1-E976-4F78-AE96-7CA2C43191B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shing syndrome. Facies include a rounded or “moon-shaped” face with thin, erythematous skin. Hirsutism may also be present, especially if the condition is caused by an adrenal cancer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5" descr="f4-u1"/>
          <p:cNvPicPr/>
          <p:nvPr/>
        </p:nvPicPr>
        <p:blipFill>
          <a:blip r:embed="rId1"/>
          <a:stretch/>
        </p:blipFill>
        <p:spPr>
          <a:xfrm>
            <a:off x="2340000" y="2349360"/>
            <a:ext cx="4143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0AD-F50D-4B6F-92D7-A36491E57D3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yperthyroid facies. Note fine, moist skin with fine hair, prominent eyes and lid retraction, and staring or startled expression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f4-u1"/>
          <p:cNvPicPr/>
          <p:nvPr/>
        </p:nvPicPr>
        <p:blipFill>
          <a:blip r:embed="rId1"/>
          <a:stretch/>
        </p:blipFill>
        <p:spPr>
          <a:xfrm>
            <a:off x="2556000" y="2349360"/>
            <a:ext cx="371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0EE4-74BD-461F-9814-C17BBB90A3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tures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e the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normal findings in the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common abnormalities found in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pathophysiology of common abnormalities found in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594E-E776-470A-A6B4-FE4CF92C62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wn syndrome. Note depressed nasal bridge, epicanthal folds, mongoloid slant of eyes, low-set ears, and large tongue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708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5" descr="f4-u1"/>
          <p:cNvPicPr/>
          <p:nvPr/>
        </p:nvPicPr>
        <p:blipFill>
          <a:blip r:embed="rId1"/>
          <a:stretch/>
        </p:blipFill>
        <p:spPr>
          <a:xfrm>
            <a:off x="2627280" y="2492280"/>
            <a:ext cx="3933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2EDB-F0A5-4D38-9CDD-573F9FE81F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Hydrocephalus, with characteristic enlarged head, bulging fontanel, dilated scalp veins,  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f4-u1"/>
          <p:cNvPicPr/>
          <p:nvPr/>
        </p:nvPicPr>
        <p:blipFill>
          <a:blip r:embed="rId1"/>
          <a:stretch/>
        </p:blipFill>
        <p:spPr>
          <a:xfrm>
            <a:off x="2411280" y="2565360"/>
            <a:ext cx="367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630-2E61-4190-8669-821E86870B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Early acromegaly. Note the coarsening of features with broadening of the nasal alae and prominence of the zygomatic arches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5" descr="f4-u1"/>
          <p:cNvPicPr/>
          <p:nvPr/>
        </p:nvPicPr>
        <p:blipFill>
          <a:blip r:embed="rId1"/>
          <a:stretch/>
        </p:blipFill>
        <p:spPr>
          <a:xfrm>
            <a:off x="2411280" y="2205000"/>
            <a:ext cx="51850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4E3-4E77-4A44-9B6F-05A02A0AE47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5" descr="f4-u1"/>
          <p:cNvPicPr/>
          <p:nvPr/>
        </p:nvPicPr>
        <p:blipFill>
          <a:blip r:embed="rId1"/>
          <a:stretch/>
        </p:blipFill>
        <p:spPr>
          <a:xfrm>
            <a:off x="1979640" y="1197000"/>
            <a:ext cx="6146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84C-27E8-4DB0-A01A-1DB29F19D92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ft facial palsy. Facies include asymmetry of one side of the face, eyelid not closing completely, drooping lower eyelid and corner of mouth, and loss of nasolabial fold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5" descr="f4-u1"/>
          <p:cNvPicPr/>
          <p:nvPr/>
        </p:nvPicPr>
        <p:blipFill>
          <a:blip r:embed="rId1"/>
          <a:stretch/>
        </p:blipFill>
        <p:spPr>
          <a:xfrm>
            <a:off x="2771640" y="2421000"/>
            <a:ext cx="3857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149F-541A-47E1-8A81-F365AD18330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ndmarks of the face.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ones of the sku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f4-u1_0-B0-323-02888-8__50014-4__gr2"/>
          <p:cNvPicPr/>
          <p:nvPr/>
        </p:nvPicPr>
        <p:blipFill>
          <a:blip r:embed="rId1"/>
          <a:stretch/>
        </p:blipFill>
        <p:spPr>
          <a:xfrm>
            <a:off x="1187280" y="242100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4-u1_0-B0-323-02888-8__50014-4__gr1"/>
          <p:cNvPicPr/>
          <p:nvPr/>
        </p:nvPicPr>
        <p:blipFill>
          <a:blip r:embed="rId2"/>
          <a:stretch/>
        </p:blipFill>
        <p:spPr>
          <a:xfrm>
            <a:off x="6084720" y="2852640"/>
            <a:ext cx="19432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EC4-C222-40E8-AF58-4CD5DB61515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f4-u1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00D0-CA80-47EF-BC13-7E59EA114D0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The integration of body systems and regions begins with the head and nec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The head provides a means of identifying individuals through the uniqueness of hair, eyes, and facial characteristic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With assessment of the head and neck, clues to the client’s nutritional status, airway clearance, tissue perfusion, metabolism, level of activity, sleep, rest, stress, and self-care abilities will be identif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388-9B9E-4939-8BB3-EB2A9570067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and Physi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skull is made up of the bones of the cranium and the 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cranium includes frontal, parietal, temporal, and occipital bon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muscles of the face play a role in expression of emotions and assist in neck movem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Movement of the facial muscles is controlled by cranial nerves V and VII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carotid arteries provide the blood supply to the head; the temporal artery supplies blood to much of the 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neck is supported and made mobile by vertebral processes and the sternocleidomastoid and trapezius muscl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hyoid bone, superior to the larynx, is the only bone in the body that does not directly articulate with another bone. It serves as a movable base for the tongue, and an attachment for muscles of the neck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thyroid gland is in the middle of the neck anterior to the trachea. The isthmus is the center, and the two lobes lie on either side of the trache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nine sets of lymph nodes drain the head and nec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CD0-16EA-45DB-8E1A-17295749416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resence/absence of age- and gender-specific diseases of the head and n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chief compl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k pain or stiff n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ars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k m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AF5-22BA-473E-95AD-60D0C37E298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ng Chief Compla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following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anife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ravating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eviating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20:18Z</dcterms:created>
  <dc:creator>Abdualrahman Alshehry</dc:creator>
  <dc:description/>
  <dc:language>en-US</dc:language>
  <cp:lastModifiedBy>Abdualrahman Alshehry</cp:lastModifiedBy>
  <dcterms:modified xsi:type="dcterms:W3CDTF">2016-02-10T04:15:09Z</dcterms:modified>
  <cp:revision>38</cp:revision>
  <dc:subject/>
  <dc:title>Head, Neck, and Regional Lymphatics</dc:title>
</cp:coreProperties>
</file>