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261-A660-4306-8E2A-5E0C059E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E086-C7AD-4197-873B-66FE14DF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069-4CC2-43EC-8AE7-7C10EB51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E0C-8AF2-4818-8DD8-3FFD40EE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7EE1-4AF1-4F1B-BD06-150030BE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5CC6-6DE3-43EB-A58F-0C29F35F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FF61-9BF0-4539-823C-F237D5AE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2C13-F665-49E1-9F21-12994929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EE60-2BED-42AC-B794-9AA83B84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3DF0-4A33-40B7-963A-6342BEC9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8DD9-3656-49C3-BECA-44890800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309-E474-4407-B9DE-8CF6A3D5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5AEB-453E-4D71-9AD5-0F728262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4550-0842-4889-8E1C-39A26295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059A-89A3-4665-BC59-31FD13DD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0E52-5866-4858-A235-C88BD6D1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D8B1-5652-49E4-996D-CEBF3A71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093-44B1-40CB-96A8-37B96B72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0DF-D1C2-4AC5-898F-2D2CA6D9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D0D2-1DA3-4E2A-A9EC-4E860C69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F5E-2F50-410D-905B-E7CE6345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AE4-ECF7-4A3C-B46A-70BC6983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7F42-1D48-4CC6-9D9A-A617E44D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A8E-AB1F-4F97-901D-C6B6DA78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1C07-E62F-4E58-AC70-EAC67AFF479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2808-3824-4FE2-A674-3F17E1739B2F}" type="slidenum">
              <a:rPr b="0" lang="ar-SA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ps.prenhall.com/wps/media/objects/2791/2858109/audio/ch12/hyperthyroidism.wav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102C-9020-4A5D-9A66-99EADF7158CD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, Neck, and Regional Lymphatic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lth assess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6" descr="f4-u1_0-B0-323-02888-8__50014-4__gr1"/>
          <p:cNvPicPr/>
          <p:nvPr/>
        </p:nvPicPr>
        <p:blipFill>
          <a:blip r:embed="rId1"/>
          <a:stretch/>
        </p:blipFill>
        <p:spPr>
          <a:xfrm>
            <a:off x="6372360" y="2708280"/>
            <a:ext cx="2771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23CC-AD9B-4C13-AAAA-B3A02B9C811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st Health Hist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cond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g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uries or accid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B3FA-3370-42A1-81CC-95BAC221EAB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Health Hist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if family history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yroid dis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90A0-02F6-40AC-9058-431254CF5C1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General Approach to Head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d Neck Assessmen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eet patient, explain assessment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viron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equate ligh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pright sitting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e right and left si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atic approa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EQUIPMEN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  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pe measure   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◆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    Stethoscope   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◆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    Cup of water (for evaluation of thyroid gland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0377-441F-4FA1-8D29-00B6B95BD89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 of the He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p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l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de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A9C7-6A04-4E0D-9893-66C42A6ADE5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pection and Palpa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f the Scal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p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ions or m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al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p is shiny, intact, without lesions o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normal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eeding, lesions, masses, hemato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4" descr="f4-u1_0-B0-323-02888-8__50014-4__gr8"/>
          <p:cNvPicPr/>
          <p:nvPr/>
        </p:nvPicPr>
        <p:blipFill>
          <a:blip r:embed="rId1"/>
          <a:stretch/>
        </p:blipFill>
        <p:spPr>
          <a:xfrm>
            <a:off x="6516720" y="1484280"/>
            <a:ext cx="1942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A42A-90E2-48FC-A522-0BDA62B6ED5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 of the 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p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al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al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lpebral fissures eq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pe can be oval, round, or slightly squ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f4-u1_0-B0-323-03231-1__50007-3__fx1"/>
          <p:cNvPicPr/>
          <p:nvPr/>
        </p:nvPicPr>
        <p:blipFill>
          <a:blip r:embed="rId1"/>
          <a:stretch/>
        </p:blipFill>
        <p:spPr>
          <a:xfrm>
            <a:off x="6372360" y="2060640"/>
            <a:ext cx="2087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4C34-1BA8-41A4-8C53-E5434C0D13E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 of the 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bnormal finding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ormed or absent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r less pronounced facial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eases which may alter facial featu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l’s palsy,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A temporary disorder affecting cranial nerve VII and producing a unilateral facial paralysi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9074-D2D1-4F40-8610-3B5BB8CBB99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acromegaly    An enlargement of the skull and cranial bones due to increased growth hormon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hydrocephalus   The enlargement of the head caused by inadequate drainage of cerebrospinal fluid, resulting in abnormal growth of the skull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D90A-CE76-44AD-B851-77F53624C80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nd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lpate and auscultate the temporo-mandibular joint when the client opens and closes the mou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al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iscomfort, joint articulates smoothly without clicking or crepi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normal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in, tenderness, crepi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A766-8551-4C25-A33A-07F67F9B78D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p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l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al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ROM, pain free, symmetrical muscles, no m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normal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ROM, pain, asymmetrical muscles, m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4" descr="f4-u1_0-B0-323-02888-8__50014-4__gr3b"/>
          <p:cNvPicPr/>
          <p:nvPr/>
        </p:nvPicPr>
        <p:blipFill>
          <a:blip r:embed="rId1"/>
          <a:stretch/>
        </p:blipFill>
        <p:spPr>
          <a:xfrm>
            <a:off x="6227640" y="476280"/>
            <a:ext cx="2232000" cy="2158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f4-u1_0-B0-323-02888-8__50014-4__gr4"/>
          <p:cNvPicPr/>
          <p:nvPr/>
        </p:nvPicPr>
        <p:blipFill>
          <a:blip r:embed="rId2"/>
          <a:stretch/>
        </p:blipFill>
        <p:spPr>
          <a:xfrm>
            <a:off x="3348000" y="404640"/>
            <a:ext cx="151128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6FF7-0A74-486C-BCA8-4E4A8C3C307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ctures objectiv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anatomic structures of the head and ne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lymph nodes of the head and ne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the system-specific health history for the head and ne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66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5AC6-C96A-406B-8A3D-7DF4C2DABEB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4" descr="f4-u1_0-B0-323-02888-8__50014-4__gr3b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70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1F37-5225-4A38-9204-CCC139C7D68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5" descr="f4-u1_0-B0-323-02888-8__50014-4__gr4"/>
          <p:cNvPicPr/>
          <p:nvPr/>
        </p:nvPicPr>
        <p:blipFill>
          <a:blip r:embed="rId2"/>
          <a:stretch/>
        </p:blipFill>
        <p:spPr>
          <a:xfrm>
            <a:off x="324000" y="189000"/>
            <a:ext cx="8820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E4EB-B7BE-4D62-AC7D-466694738C2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yroid Gla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l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scul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87280" y="3429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rmal findin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metrical movement with swallow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am’s apple more pronounced in m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masses, tenderness, or enlar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sent bru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859280" y="4724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bnormal findin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s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larged gl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i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ymmetrical enlar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ence of a nodule or bru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6" descr="f4-u1_0-B0-323-02888-8__50014-4__gr7"/>
          <p:cNvPicPr/>
          <p:nvPr/>
        </p:nvPicPr>
        <p:blipFill>
          <a:blip r:embed="rId1"/>
          <a:stretch/>
        </p:blipFill>
        <p:spPr>
          <a:xfrm>
            <a:off x="6084720" y="1557360"/>
            <a:ext cx="251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CCE1-1E08-4ACC-9556-E19F5678E8A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hyperthyroidism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 The excessive production of thyroid hormones, resulting in enlargement of the gland, exophthalmos (bulging eyes), fine hair, weight loss, diarrhea, and other alter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hyroidism   Metabolic disorder causing enlarged thyroid due to iodine deficien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0B3F-B5C1-4CF3-9837-37A1C282EFC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ymph N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l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auricu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auricu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cipi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men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mandibu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erior and posterior cervical cha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nsi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raclavicu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5" descr="f4-u1_0-B0-323-02888-8__50014-4__gr5"/>
          <p:cNvPicPr/>
          <p:nvPr/>
        </p:nvPicPr>
        <p:blipFill>
          <a:blip r:embed="rId1"/>
          <a:stretch/>
        </p:blipFill>
        <p:spPr>
          <a:xfrm>
            <a:off x="4067280" y="981000"/>
            <a:ext cx="4651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87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0B14-89F4-40ED-BC63-83C46B50FDB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5" descr="f4-u1_0-B0-323-02888-8__50014-4__gr5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81A5-A55C-4505-B68F-016D98365FE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ymph N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al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ble to palpate or se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normal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larg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le to palpate or se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de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m, har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6477-44B0-481A-BD65-55C9CE5FCF7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osition of the thumbs to evaluate the midline position of the trachea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5" descr="f4-u1"/>
          <p:cNvPicPr/>
          <p:nvPr/>
        </p:nvPicPr>
        <p:blipFill>
          <a:blip r:embed="rId1"/>
          <a:stretch/>
        </p:blipFill>
        <p:spPr>
          <a:xfrm>
            <a:off x="2050920" y="2060640"/>
            <a:ext cx="48387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6CEF-F651-4E9F-B371-A530220A5A3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shing syndrome. Facies include a rounded or “moon-shaped” face with thin, erythematous skin. Hirsutism may also be present, especially if the condition is caused by an adrenal cancer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99" name="Picture 5" descr="f4-u1"/>
          <p:cNvPicPr/>
          <p:nvPr/>
        </p:nvPicPr>
        <p:blipFill>
          <a:blip r:embed="rId1"/>
          <a:stretch/>
        </p:blipFill>
        <p:spPr>
          <a:xfrm>
            <a:off x="2340000" y="2349360"/>
            <a:ext cx="41432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9D39-626C-43C7-B22B-971DBD48E4A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Hyperthyroid facies. Note fine, moist skin with fine hair, prominent eyes and lid retraction, and staring or startled expression 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5" descr="f4-u1"/>
          <p:cNvPicPr/>
          <p:nvPr/>
        </p:nvPicPr>
        <p:blipFill>
          <a:blip r:embed="rId1"/>
          <a:stretch/>
        </p:blipFill>
        <p:spPr>
          <a:xfrm>
            <a:off x="2556000" y="2349360"/>
            <a:ext cx="37144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3356-EAF3-4F2A-A219-B8456BCCE82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ctures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nstrate the physical assessment of the head and ne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normal findings in the physical assessment of the head and ne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common abnormalities found in physical assessment of the head and ne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pathophysiology of common abnormalities found in physical assessment of the head and ne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E592-2500-4BB4-B9EE-CE472636E0B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own syndrome. Note depressed nasal bridge, epicanthal folds, mongoloid slant of eyes, low-set ears, and large tongue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70828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5" descr="f4-u1"/>
          <p:cNvPicPr/>
          <p:nvPr/>
        </p:nvPicPr>
        <p:blipFill>
          <a:blip r:embed="rId1"/>
          <a:stretch/>
        </p:blipFill>
        <p:spPr>
          <a:xfrm>
            <a:off x="2627280" y="2492280"/>
            <a:ext cx="39337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5DF7-696A-4194-BDCA-E8B65E442C8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Hydrocephalus, with characteristic enlarged head, bulging fontanel, dilated scalp veins,  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Picture 5" descr="f4-u1"/>
          <p:cNvPicPr/>
          <p:nvPr/>
        </p:nvPicPr>
        <p:blipFill>
          <a:blip r:embed="rId1"/>
          <a:stretch/>
        </p:blipFill>
        <p:spPr>
          <a:xfrm>
            <a:off x="2411280" y="2565360"/>
            <a:ext cx="3673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0E23-2E34-4989-8D6E-33611A6693B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Early acromegaly. Note the coarsening of features with broadening of the nasal alae and prominence of the zygomatic arches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5" descr="f4-u1"/>
          <p:cNvPicPr/>
          <p:nvPr/>
        </p:nvPicPr>
        <p:blipFill>
          <a:blip r:embed="rId1"/>
          <a:stretch/>
        </p:blipFill>
        <p:spPr>
          <a:xfrm>
            <a:off x="2411280" y="2205000"/>
            <a:ext cx="51850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1513-D156-427E-968C-5A5157657E5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5" descr="f4-u1"/>
          <p:cNvPicPr/>
          <p:nvPr/>
        </p:nvPicPr>
        <p:blipFill>
          <a:blip r:embed="rId1"/>
          <a:stretch/>
        </p:blipFill>
        <p:spPr>
          <a:xfrm>
            <a:off x="1979640" y="1197000"/>
            <a:ext cx="6146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B1AD-AD42-4B40-B055-DF50BF4FAF3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eft facial palsy. Facies include asymmetry of one side of the face, eyelid not closing completely, drooping lower eyelid and corner of mouth, and loss of nasolabial fold.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Picture 5" descr="f4-u1"/>
          <p:cNvPicPr/>
          <p:nvPr/>
        </p:nvPicPr>
        <p:blipFill>
          <a:blip r:embed="rId1"/>
          <a:stretch/>
        </p:blipFill>
        <p:spPr>
          <a:xfrm>
            <a:off x="2771640" y="2421000"/>
            <a:ext cx="38577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6B37-87EB-4C8A-AB7F-41590EA69DC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andmarks of the face.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ones of the sku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4" descr="f4-u1_0-B0-323-02888-8__50014-4__gr2"/>
          <p:cNvPicPr/>
          <p:nvPr/>
        </p:nvPicPr>
        <p:blipFill>
          <a:blip r:embed="rId1"/>
          <a:stretch/>
        </p:blipFill>
        <p:spPr>
          <a:xfrm>
            <a:off x="1187280" y="2421000"/>
            <a:ext cx="4176720" cy="345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f4-u1_0-B0-323-02888-8__50014-4__gr1"/>
          <p:cNvPicPr/>
          <p:nvPr/>
        </p:nvPicPr>
        <p:blipFill>
          <a:blip r:embed="rId2"/>
          <a:stretch/>
        </p:blipFill>
        <p:spPr>
          <a:xfrm>
            <a:off x="6084720" y="2852640"/>
            <a:ext cx="194328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60E9-9EDF-4EA5-928E-3F479D8F6A3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6" descr="f4-u1"/>
          <p:cNvPicPr/>
          <p:nvPr/>
        </p:nvPicPr>
        <p:blipFill>
          <a:blip r:embed="rId1"/>
          <a:stretch/>
        </p:blipFill>
        <p:spPr>
          <a:xfrm>
            <a:off x="0" y="189000"/>
            <a:ext cx="889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D4E6-455A-41F6-83DE-47DC173C74B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The integration of body systems and regions begins with the head and neck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The head provides a means of identifying individuals through the uniqueness of hair, eyes, and facial characteristic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With assessment of the head and neck, clues to the client’s nutritional status, airway clearance, tissue perfusion, metabolism, level of activity, sleep, rest, stress, and self-care abilities will be identifi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2296-CAE6-4F79-A47E-FFE5B8FE291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tomy and Physi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</a:rPr>
              <a:t>The skull is made up of the bones of the cranium and the fac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</a:rPr>
              <a:t>The cranium includes frontal, parietal, temporal, and occipital bone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</a:rPr>
              <a:t>The muscles of the face play a role in expression of emotions and assist in neck movement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</a:rPr>
              <a:t>Movement of the facial muscles is controlled by cranial nerves V and VII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</a:rPr>
              <a:t>The carotid arteries provide the blood supply to the head; the temporal artery supplies blood to much of the fac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</a:rPr>
              <a:t>The neck is supported and made mobile by vertebral processes and the sternocleidomastoid and trapezius muscle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</a:rPr>
              <a:t>The hyoid bone, superior to the larynx, is the only bone in the body that does not directly articulate with another bone. It serves as a movable base for the tongue, and an attachment for muscles of the neck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</a:rPr>
              <a:t>The thyroid gland is in the middle of the neck anterior to the trachea. The isthmus is the center, and the two lobes lie on either side of the trache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</a:rPr>
              <a:t>The nine sets of lymph nodes drain the head and neck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1426-B162-41FD-9C2C-BEB6174F6B2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alth Hist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presence/absence of age- and gender-specific diseases of the head and ne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chief compl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ck pain or stiff ne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ars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ck m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 inju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32EF-28A2-43EC-8389-EBE738FA481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ng Chief Complai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the following character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anife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gravating f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eviating f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19:20:18Z</dcterms:created>
  <dc:creator>Abdualrahman Alshehry</dc:creator>
  <dc:description/>
  <dc:language>en-US</dc:language>
  <cp:lastModifiedBy>Abdualrahman Alshehry</cp:lastModifiedBy>
  <dcterms:modified xsi:type="dcterms:W3CDTF">2016-02-10T04:15:09Z</dcterms:modified>
  <cp:revision>38</cp:revision>
  <dc:subject/>
  <dc:title>Head, Neck, and Regional Lymphatics</dc:title>
</cp:coreProperties>
</file>