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38FE1-D19D-4DBF-A324-DE1241FE9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C498-873C-4271-85C7-8C16DD5A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24AB-9D66-4346-99EC-688D8FD69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21302-5589-4A1E-B583-2628F70AF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05B63-FC35-47D9-8D1A-604B957E7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9A2C6-1FD9-4D81-A319-CFB046B68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64001-2135-43C3-B7AD-1ED37FE45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8FF16-38B7-4003-9696-5BAC9D5AE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76D38-A36F-4E36-B712-27C353261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6981-11A9-4AE1-A2C6-7FAB3D61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BD54-320F-48E8-B3EE-E17D0D7B2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397E-97AC-48BC-934F-957B74AD5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F5275-C645-4281-ACF8-7EB534C1D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7222A-BB90-4387-86A5-D0668F766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01A57-3E1A-4A67-A894-424062179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0BC8A-FA62-4CF7-A566-BFE683A92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97EB6-8E01-4B03-B922-FEA764EA8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B617-E96D-484A-8C7D-DDC86C117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7D42-8DD8-4EF4-BDD4-AA850507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1D13E-D149-4E7D-B87F-1C3C6003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8C467-EB64-46B9-9CD5-4D381D703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D6775-E07D-422A-8342-89825342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DDEB-0A7C-4E8F-A441-2C1EDDB07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6896-C292-46C1-B6BE-37B511CA4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1336-8DBC-4634-9C61-8017BD72EA8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1ACD-CD46-46ED-9F98-8CC3F44D092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adaches Continued</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ningitis</a:t>
            </a:r>
            <a:endParaRPr b="0" lang="en-US" sz="4400" spc="-1" strike="noStrike">
              <a:solidFill>
                <a:srgbClr val="b7e7ff"/>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accompanied by fever and neck stiffness in an obviously ill patient.</a:t>
            </a:r>
            <a:br>
              <a:rPr sz="2800"/>
            </a:b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racranial Tumours</a:t>
            </a:r>
            <a:endParaRPr b="0" lang="en-US" sz="4400" spc="-1" strike="noStrike">
              <a:solidFill>
                <a:srgbClr val="b7e7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duce headache when they are large enough to cause raised intracranial pressure, which is usually apparent from the history. Papilloedema or focal neurological signs, or both, will usually be present. Fortunately these are very rare.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ubarachnoid haemorrhage </a:t>
            </a:r>
            <a:endParaRPr b="0" lang="en-US" sz="4400" spc="-1" strike="noStrike">
              <a:solidFill>
                <a:srgbClr val="b7e7ff"/>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adache is often described as the worst ever, and is usually (but not always) of sudden or ictal onset. Neck stiffness may take hours to develop. In elderly patients particularly, classic symptoms and signs may be absent.</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Temporal arteritis </a:t>
            </a:r>
            <a:endParaRPr b="0" lang="en-US" sz="4400" spc="-1" strike="noStrike">
              <a:solidFill>
                <a:srgbClr val="b7e7ff"/>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ache is persistent but often worse at night and sometimes severe, in a patient over 50 who does not feel entirely well. It may be accompanied by marked scalp tendernes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imary angle closure glaucoma </a:t>
            </a:r>
            <a:endParaRPr b="0" lang="en-US" sz="4400" spc="-1" strike="noStrike">
              <a:solidFill>
                <a:srgbClr val="b7e7ff"/>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 before middle age, may present dramatically with acute ocular hypertension, a painful red eye with the pupil midodilated and fixed and, essentially, impaired vision, and nausea and vomiting. In other cases, headache or eye pain is episodic and mild. The diagnosis is suggested if patient reports coloured halos around lights.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diopathic intracranial hypertension </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re cause of headache; occurs especially with obese young women. May not be evident on history alone; papilloedema indicates the diagnosi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ubacute carbon monoxide poisoning </a:t>
            </a:r>
            <a:endParaRPr b="0" lang="en-US" sz="4400" spc="-1" strike="noStrike">
              <a:solidFill>
                <a:srgbClr val="b7e7ff"/>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mmon but potentially fatal. Symptoms include headaches, nausea, vomiting, giddiness, muscular weakness, dimness of vision, and double vis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enarios</a:t>
            </a:r>
            <a:endParaRPr b="0" lang="en-US" sz="44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need 8 volunteers- 4 girls and 4 boy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octors and 4 pati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rendan</a:t>
            </a: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ndan 19 year old music student and amateur rock musician recently moved to area so no records received as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ennifer</a:t>
            </a: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nnifer is a 67 year old- retired shop assistant, She seldom visits the doctor although has a life long history of migraine, her medical records include very few consultations for headach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amination</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inute neurological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uncan</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ncan is a 38 year old . He is a freelance editor and is married with one child. His medical records contain no other previous consultation for migr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dy</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dy is 29 years old. She is an air hostess. She does have a previous history of migraine, possibly linked to menstruation. She is in a stable relationship and has no childr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amination- 3 minute neurological</a:t>
            </a:r>
            <a:endParaRPr b="0" lang="en-US" sz="40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as designed by neurologists to ensure that sinister causes of headaches were not miss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suitable for those patients whose history suggsts migraine or tension-type heada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523880" y="1397160"/>
          <a:ext cx="6096240" cy="4473360"/>
        </p:xfrm>
        <a:graphic>
          <a:graphicData uri="http://schemas.openxmlformats.org/drawingml/2006/table">
            <a:tbl>
              <a:tblPr/>
              <a:tblGrid>
                <a:gridCol w="3048120"/>
                <a:gridCol w="3048120"/>
              </a:tblGrid>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mberg’s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falling with eyes close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ndem gait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el-to-toe walkin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lking on heel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pyramidal trac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ft of outstretched arm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pyramidal trac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ger-nose t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s coordinati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e finger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ests pyramidal and extrapyramidal trac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 Tapp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erebellar and brainstem diseas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Fields to confront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e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ce and tongue movemen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undoscop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lex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do we rate headache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AS S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idas Score</a:t>
            </a:r>
            <a:endParaRPr b="0" lang="en-US" sz="4400" spc="-1" strike="noStrike">
              <a:solidFill>
                <a:srgbClr val="b7e7ff"/>
              </a:solidFill>
              <a:latin typeface="Arial"/>
            </a:endParaRPr>
          </a:p>
        </p:txBody>
      </p:sp>
      <p:sp>
        <p:nvSpPr>
          <p:cNvPr id="9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n-US" sz="1000" spc="-1" strike="noStrike">
                <a:solidFill>
                  <a:srgbClr val="ffffff"/>
                </a:solidFill>
                <a:latin typeface="Arial"/>
              </a:rPr>
              <a:t>MIDAS QUESTIONNAI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S: Please answer the following questions about ALL your headaches you have had over the last three months.  Write your answer in the box next to each question.  Write zero if you did not do the activity in the last 3 months. Please 'tab' through all five boxes to calculate your MIDAS sco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3 months did you miss work or school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 many days in the last 3 months was your productivity at work or school reduced by half or more because of your headaches? </a:t>
            </a:r>
            <a:r>
              <a:rPr b="0" i="1" lang="en-US" sz="1000" spc="-1" strike="noStrike">
                <a:solidFill>
                  <a:srgbClr val="ffffff"/>
                </a:solidFill>
                <a:latin typeface="Arial"/>
              </a:rPr>
              <a:t>(Do not include days you counted in question 1 where you missed work or school)</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3 months did you not do household work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ow many days in the last 3 months was your productivity in household work reduced by half or more because of your headaches? </a:t>
            </a:r>
            <a:r>
              <a:rPr b="0" i="1" lang="en-US" sz="1000" spc="-1" strike="noStrike">
                <a:solidFill>
                  <a:srgbClr val="ffffff"/>
                </a:solidFill>
                <a:latin typeface="Arial"/>
              </a:rPr>
              <a:t>(Do not include days you counted in question 3 where you did not do household work)</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n how many days in the last three months did you miss family, social or leisure activities because of your headache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Your rating:   TOTAL:</a:t>
            </a:r>
            <a:br>
              <a:rPr sz="1000"/>
            </a:br>
            <a:r>
              <a:rPr b="1" lang="en-US"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 how many days in the last 3 months did you have a headache? </a:t>
            </a:r>
            <a:r>
              <a:rPr b="0" i="1" lang="en-GB" sz="1000" spc="-1" strike="noStrike">
                <a:solidFill>
                  <a:srgbClr val="ffffff"/>
                </a:solidFill>
                <a:latin typeface="Arial"/>
              </a:rPr>
              <a:t>(If a headache lasted more than 1 day, count each day)</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ays</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n a scale of 0-10, on average how painful were these headaches? </a:t>
            </a:r>
            <a:r>
              <a:rPr b="0" i="1" lang="en-GB" sz="1000" spc="-1" strike="noStrike">
                <a:solidFill>
                  <a:srgbClr val="ffffff"/>
                </a:solidFill>
                <a:latin typeface="Arial"/>
              </a:rPr>
              <a:t>(Where 0 = no pain at all, and 10 = pain as bad as it can b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rad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Definition</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ore</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 </a:t>
            </a:r>
            <a:r>
              <a:rPr b="0" lang="en-GB" sz="1000" spc="-1" strike="noStrike">
                <a:solidFill>
                  <a:srgbClr val="ffffff"/>
                </a:solidFill>
                <a:latin typeface="Arial"/>
              </a:rPr>
              <a:t>	</a:t>
            </a:r>
            <a:r>
              <a:rPr b="0" lang="en-GB" sz="1000" spc="-1" strike="noStrike">
                <a:solidFill>
                  <a:srgbClr val="ffffff"/>
                </a:solidFill>
                <a:latin typeface="Arial"/>
              </a:rPr>
              <a:t>Minimal or infrequent disability0-5</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 </a:t>
            </a:r>
            <a:r>
              <a:rPr b="0" lang="en-GB" sz="1000" spc="-1" strike="noStrike">
                <a:solidFill>
                  <a:srgbClr val="ffffff"/>
                </a:solidFill>
                <a:latin typeface="Arial"/>
              </a:rPr>
              <a:t>	</a:t>
            </a:r>
            <a:r>
              <a:rPr b="0" lang="en-GB" sz="1000" spc="-1" strike="noStrike">
                <a:solidFill>
                  <a:srgbClr val="ffffff"/>
                </a:solidFill>
                <a:latin typeface="Arial"/>
              </a:rPr>
              <a:t>Mild or infrequent disability6-10</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Il</a:t>
            </a:r>
            <a:r>
              <a:rPr b="0" lang="en-GB" sz="1000" spc="-1" strike="noStrike">
                <a:solidFill>
                  <a:srgbClr val="ffffff"/>
                </a:solidFill>
                <a:latin typeface="Arial"/>
              </a:rPr>
              <a:t>	</a:t>
            </a:r>
            <a:r>
              <a:rPr b="0" lang="en-GB" sz="1000" spc="-1" strike="noStrike">
                <a:solidFill>
                  <a:srgbClr val="ffffff"/>
                </a:solidFill>
                <a:latin typeface="Arial"/>
              </a:rPr>
              <a:t>Moderate disability11-20</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V</a:t>
            </a:r>
            <a:r>
              <a:rPr b="0" lang="en-GB" sz="1000" spc="-1" strike="noStrike">
                <a:solidFill>
                  <a:srgbClr val="ffffff"/>
                </a:solidFill>
                <a:latin typeface="Arial"/>
              </a:rPr>
              <a:t>	</a:t>
            </a:r>
            <a:r>
              <a:rPr b="0" lang="en-GB" sz="1000" spc="-1" strike="noStrike">
                <a:solidFill>
                  <a:srgbClr val="ffffff"/>
                </a:solidFill>
                <a:latin typeface="Arial"/>
              </a:rPr>
              <a:t>Severe disability21+</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Innovative Medical Research 1997</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he MIDAS programme is sponsored by AstraZeneca</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br>
              <a:rPr sz="1000"/>
            </a:br>
            <a:r>
              <a:rPr b="0" lang="en-GB" sz="1000" spc="-1" strike="noStrike">
                <a:solidFill>
                  <a:srgbClr val="ffffff"/>
                </a:solidFill>
                <a:latin typeface="Arial"/>
              </a:rPr>
              <a:t> </a:t>
            </a:r>
            <a:br>
              <a:rPr sz="1000"/>
            </a:br>
            <a:r>
              <a:rPr b="0" lang="en-GB" sz="1000" spc="-1" strike="noStrike">
                <a:solidFill>
                  <a:srgbClr val="ffffff"/>
                </a:solidFill>
                <a:latin typeface="Arial"/>
              </a:rPr>
              <a:t> </a:t>
            </a:r>
            <a:endParaRPr b="0" lang="en-US" sz="1000" spc="-1" strike="noStrike">
              <a:solidFill>
                <a:srgbClr val="ffffff"/>
              </a:solidFill>
              <a:latin typeface="Arial"/>
            </a:endParaRPr>
          </a:p>
          <a:p>
            <a:pPr marL="343080" indent="-343080">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ther Causes of Headache</a:t>
            </a:r>
            <a:endParaRPr b="0" lang="en-US" sz="4400" spc="-1" strike="noStrike">
              <a:solidFill>
                <a:srgbClr val="b7e7ff"/>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nister Headaches</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uses of sinister headache that must not be missed includ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 Meningiti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 Intracranial tumours (brain tumour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 Subarachnoid haemorrhag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Temporal arteriti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 Primary angle closure glaucoma</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 Idiopathic intracranial hypertension</a:t>
            </a:r>
            <a:r>
              <a:rPr b="0" lang="en-GB" sz="2800" spc="-1" strike="noStrike">
                <a:solidFill>
                  <a:srgbClr val="ffffff"/>
                </a:solidFill>
                <a:latin typeface="Arial"/>
              </a:rPr>
              <a:t>. </a:t>
            </a:r>
            <a:br>
              <a:rPr sz="2800"/>
            </a:br>
            <a:r>
              <a:rPr b="1" lang="en-GB" sz="2800" spc="-1" strike="noStrike">
                <a:solidFill>
                  <a:srgbClr val="ffffff"/>
                </a:solidFill>
                <a:latin typeface="Arial"/>
              </a:rPr>
              <a:t>7. Subacute carbon monoxide pois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4:47:37Z</dcterms:created>
  <dc:creator>Mummy</dc:creator>
  <dc:description/>
  <dc:language>en-US</dc:language>
  <cp:lastModifiedBy>user</cp:lastModifiedBy>
  <dcterms:modified xsi:type="dcterms:W3CDTF">2003-05-13T01:29:30Z</dcterms:modified>
  <cp:revision>19</cp:revision>
  <dc:subject/>
  <dc:title>Headaches Continued</dc:title>
</cp:coreProperties>
</file>