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F5A-CCDB-4730-9498-D3EA921D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C19-7281-4026-A6FB-02BAECF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BCD-803B-4755-98D8-A2ED88D8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2F1-15F1-4872-9E10-251CD6B0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2B6-6062-4A3A-991E-3D452861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54B0-0786-49FF-987A-36373D33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763-36D4-44BF-9BE9-AE950B0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340-671F-4864-A6EB-1EA8FF75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1F0-794C-4933-886D-85A5B767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9710-25C0-43E6-AA6A-B17D45CC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35D-56A4-4579-BF3C-3560D11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7CE-8E61-40F1-9F0E-0C2AAE0A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5E4C-8D4E-4D23-AC4C-E2348A9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7B05-197B-4005-AF06-2496E98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F17-9813-4142-80E0-0367B6E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7CB1-2551-4AD1-9846-844BF170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A23B-4991-4F2A-A463-AC369494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D6B-F16B-4AB9-B484-7D205FA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6B8-5072-49B3-A3BE-A57E658E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7E9-F601-4368-A229-12839D6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94D-E02B-4C32-96E1-087648C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4D0-A576-4D4D-AC9E-0A97EFA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85F-A0FC-4A5A-A46C-6E42EC2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359-4BE2-423E-AB6B-9C43FFA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D6C-F5FE-427A-A9FD-37FCC8ED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C79C-BE74-4720-ADD0-F17FC71D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Heart of the Ma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hand on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out your hand and make a f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wear wedding rings on our left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b-Dub, lub-Dub. Sound familiar? These sounds are made by the heart valves as they open and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heart is a musc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want it to be strong you need to exercis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you kn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Disease is the #1 killer of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3 women dies of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women make up only 25% of participants in heart related research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to take your pu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use your th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your count with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pulse in your wrist or 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for 30 seconds multiple b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ng rate is your pulse rate before you get out of be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get Heart 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benefit from aerobic exercise you need to work out in your target heart rate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0 - your age = maximum hear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R x 60%  = lower range of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R x 80%  = higher range of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be in this range o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ues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mber of group will complete 3 fitness s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inutes of exercise, record pulse after exercise, 30 seconds, 60 seconds and 90 seconds afte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eam members will act as timers, recorder, and pulse t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rt F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is a strong muscle that pumps blood throughout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eart provides the power needed fo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ults heart will beat about 70 times per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6 quarts of blood that moves through our body 3 times every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 are blood vessels that carry blood away from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ns are blood vessels that carry blood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at rest, the muscles of the heart work hard -- twice as hard as the leg muscles of a person s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heart and exerc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changes how fast it pumps to meet your body’s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uscles work harder, they need more oxygen supplied by blood from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has to beat faster to keep up with the needs of the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s of the hea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Attack - caused by blockage of a coronary art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the heart muscle can occur if there is insufficient blood supply for more than 20 minutes 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ical Warning Sig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discomfort along with pain that runs down the lef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sweat, light hea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History of early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65 for women before 55 for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(heart attack risk increases with 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lood Pres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sure exerted by the heart in pumping blood away from the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lood pressure is 140/90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(top number) is the pressure in the arteries as the heart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(bottom number) is the pressure in the arteries as the heart 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you ever wond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nurse checks your pulse during a checkup or why they check a victims pu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ulse tells how well your heart is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tors affect pul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 level, genetics, stress,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2:06:24Z</dcterms:created>
  <dc:creator>north high</dc:creator>
  <dc:description/>
  <dc:language>en-US</dc:language>
  <cp:lastModifiedBy>janderson</cp:lastModifiedBy>
  <dcterms:modified xsi:type="dcterms:W3CDTF">2006-11-13T17:06:23Z</dcterms:modified>
  <cp:revision>3</cp:revision>
  <dc:subject/>
  <dc:title>The Heart of the Matter</dc:title>
</cp:coreProperties>
</file>