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0C6-B026-4EFC-B93A-8613657B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4C7-DB59-4139-A416-9208DB64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0E0-FE9A-4773-9CFA-CACA2310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AF8-959F-49EE-BE93-C17D65FF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D190-86FB-4A1D-B018-E2884EE5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F02F-937C-49BB-9DDA-4F20F7B6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D8F7-8B5D-4BE1-AFEB-348134BA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5F6B-881C-4CD4-AB41-73DC1EAC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CFB4-8768-443F-95FB-1ADA4F39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4A5C-70E1-45AE-BAC5-26356162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4537-D3B6-4E88-A7F3-0A6AF77C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D25-6E3F-4180-BD31-DAE8AC95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E35C-360C-488B-84E8-A15715C7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32EA-CC8B-46B4-BAB2-2177396D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4B19-1655-43CB-8D1C-580AF692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CCFA-DFDD-4E16-9509-65CA4165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329D-14C0-4FC0-A217-C8AC2AA5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406-C6F7-4E91-A719-A2C7AEC6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E30-3805-4C31-A734-508623DE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71C-CF71-4178-8A4F-00EE249E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A06-D441-4CDF-A764-489F0BB6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5DA-1BE2-48AB-803F-6FF92A40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3B0-1076-4209-9E21-BCB7B644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4F8-A027-4BFD-B604-3D819CDD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502F-E3BF-4490-92AA-40885086A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7B66-8404-411A-B4F0-D4AD077B9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Heart of the Mat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hand on your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out your hand and make a f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wear wedding rings on our left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b-Dub, lub-Dub. Sound familiar? These sounds are made by the heart valves as they open and 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our heart is a musc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 want it to be strong you need to exercis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d you kno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Disease is the #1 killer of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3 women dies of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women make up only 25% of participants in heart related research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to take your pul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use your th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your count with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pulse in your wrist or 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for 30 seconds multiple b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ing rate is your pulse rate before you get out of bed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rget Heart Ra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most benefit from aerobic exercise you need to work out in your target heart rate z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 - your age = maximum hear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HR x 60%  = lower range of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HR x 80%  = higher range of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be in this range of 60-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ues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ember of group will complete 3 fitness s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inutes of exercise, record pulse after exercise, 30 seconds, 60 seconds and 90 seconds after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eam members will act as timers, recorder, and pulse t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rt Fa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 is a strong muscle that pumps blood throughout y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heart provides the power needed fo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ults heart will beat about 70 times per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6 quarts of blood that moves through our body 3 times every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es are blood vessels that carry blood away from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ns are blood vessels that carry blood toward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at rest, the muscles of the heart work hard -- twice as hard as the leg muscles of a person s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our heart and exerci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 changes how fast it pumps to meet your body’s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uscles work harder, they need more oxygen supplied by blood from the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 has to beat faster to keep up with the needs of the mus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s of the hea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Attack - caused by blockage of a coronary art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age to the heart muscle can occur if there is insufficient blood supply for more than 20 minutes 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ical Warning Sig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t discomfort along with pain that runs down the left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sweat, light head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History of early heart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65 for women before 55 for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(heart attack risk increases with 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lood Pres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sure exerted by the heart in pumping blood away from the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blood pressure is 140/90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olic (top number) is the pressure in the arteries as the heart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olic (bottom number) is the pressure in the arteries as the heart 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d you ever wond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 nurse checks your pulse during a checkup or why they check a victims pu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ulse tells how well your heart is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actors affect pul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level, genetics, stress,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02:06:24Z</dcterms:created>
  <dc:creator>north high</dc:creator>
  <dc:description/>
  <dc:language>en-US</dc:language>
  <cp:lastModifiedBy>janderson</cp:lastModifiedBy>
  <dcterms:modified xsi:type="dcterms:W3CDTF">2006-11-13T17:06:23Z</dcterms:modified>
  <cp:revision>3</cp:revision>
  <dc:subject/>
  <dc:title>The Heart of the Matter</dc:title>
</cp:coreProperties>
</file>