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195-EC71-4A7C-9740-1BDC8CD7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E71-920B-4BC4-8914-3E78E04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EFD-D4F4-49C9-81BF-A4E133F8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06F-BE92-449E-B6E2-F127C719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D97-3E4B-4112-9F5A-4F224947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8E6-E2BB-4796-A47B-38538ABF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1E4-B789-4843-8E99-9210C777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450-BF03-49D5-922E-A4EC398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5F4-6B4A-4A69-9712-9D28F413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B4F-41B0-41A8-8E16-594DCC6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B8A-F3B3-4749-A004-323823F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45C-847E-4CAB-AD94-9C0F591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33E-B1ED-42B4-A1C7-2BBC40D88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684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rdiovascular disease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[includes heart disease (myocardial infarction) and stroke]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were top 3 causes of adult deaths in 1900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were top 3 causes of adult deaths in 199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omen 50% more likely to die from heart disease than men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8% of women (vs. 25% of men) will die within one year of a recognized heart attack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5% of women (vs. 18% of men) heart attack survivors will have another heart attack within 6 yea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olesterol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Sources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ver and diet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Uses in body: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lecule from which steroid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rmones and bile manufactured,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ponent of cell membranes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Transport in blood: 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igh density lipoproteins (HDL)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low density lipoproteins (LDL)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(not VLDL--those are chylomicr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hlerosclerosis (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therom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mooth muscle cell proliferation)+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scleros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proliferation of fibrous connective tissu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  Injury to artery wall by invasion of LDLs, oxidized cholesterol, free radicals, high blood pressure, chemicals from fat cells, or bacterial-induced inflammation.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  Endothelial cells  recruit WBCs to sit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  WBCs attack LDL site and form fatty streak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  Proliferation of smooth muscle cells and fibrous connective tissu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.  Ca++ deposited and “hardens” vessel 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6. Plaque= LDL, muscle cells, fibrous tissue, Ca++,  WB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…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rtery less distensible due to plaque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. Reduced ability to produce nitric oxid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.  Ca++ makes plaque hard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3.  Fibrous tissue less distensible than normal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d…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. Blockage can reduce or cut off blood flow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.  Plaque’s rough edges can stimulate clot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thlerosclerosis:</a:t>
            </a:r>
            <a:br>
              <a:rPr sz="4000"/>
            </a:br>
            <a:br>
              <a:rPr sz="4000"/>
            </a:b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Starts early in life</a:t>
            </a:r>
            <a:br>
              <a:rPr sz="3000"/>
            </a:b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20-30% of US soldiers killed in Viet Nam (ages 18-32) had 20-30% blockage of coronary arterie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1991 survey by Wardenburg showed that 13% of CU undergraduates had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seriously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 high cholesterol</a:t>
            </a:r>
            <a:br>
              <a:rPr sz="3000"/>
            </a:br>
            <a:br>
              <a:rPr sz="3000"/>
            </a:b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US children now showing blockages similar to 40-yr olds--heart attacks likely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LOOD PRESSUR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low rate =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P x radius of vessel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length x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viscosity (function of number of red blood cells and concentration of plasma proteins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38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41280" y="0"/>
            <a:ext cx="66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lood pressure = cardiac output x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peripheral resistanc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diac output = heart rate x stroke volume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eripheral resistance = degree of vasoconstriction or vasodilation of arteriol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ardiac outpu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eart rate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S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by P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oke volum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nous return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S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ength of contraction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S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eripheral resistan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NS outpu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SNS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gulation of blood pressur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sors: 1. baroreceptors and 2. chemoreceptors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 aorta and carotid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3. medulla itself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tegrator:  medulla vasomotor cent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utput:  PNS and S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P --&gt; sensors --&gt; medulla --&gt;   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S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venous return --&gt;stroke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olum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eripheral resistanc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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4290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962520"/>
            <a:ext cx="3048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34120" y="3886200"/>
            <a:ext cx="3047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P --&gt; sensors --&gt; medulla --&gt;   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venous return --&gt;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stroke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olum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eripheral resistanc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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4290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962520"/>
            <a:ext cx="3048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334120" y="3886200"/>
            <a:ext cx="3047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d….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P --&gt; kidney (sensor and integrator)--&gt;  renin--&gt;  renin converts angiotensinogen to angiotensin I--which is converted to--&gt; angiotensin II by lung converting enzyme-&gt;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iotensin II causes: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vasoconstriction --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peripheral  resistanc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reduces GFR --&gt; kidney reduces urine production-&gt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lood volum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--&gt;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venous return --&gt;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troke volum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.  Stimulates thirst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lood volume --&gt;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venous return -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troke volum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d …..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traction of cardiac muscl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increase in Ca++ in the cell causes muscle contraction (but we’ll pick up the rest of the story when we get to the muscular system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giotensin II also cause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aldosterone release from adrenal gland ---&gt;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Na+ uptake from urine 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water uptak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from urine 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blood volume --&gt;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venous return --&gt; stroke volume --&gt;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cardiac outpu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et effect of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angiotensin II 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B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ulatory Shoc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Hypovolem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Cardiogen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Vasogen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Neuroge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hock (due to loss of blood) = low BP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-progressive--can recover with massive SNS output and renin-angiotensin  (later need to restore RBC’s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gressive--positive feedback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P --&gt;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flow --&gt;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P --&gt;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low 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flow leads to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BP because of lack of adequate oxygen to medulla, which loses control of SNS 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ypertension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peripheral resistance due to athlerosclerosi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aldosterone secretio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nin secretio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neurogenic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“essential hypertension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ocal control over blood flow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edulla/SNS always takes priority over local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20840" y="0"/>
            <a:ext cx="69850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put from higher centers causes Medulla/SNS to change distribution of blood and change in BP reg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60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trol of heart r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NS releases norepinephrine on pacemaker cell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R by increasing the rate of depolarization by decreasing K+ permeability of  pacemaker cells--therefore, cell less negative and it takes less time to reach threshold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trol of heart r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NS releases acetylcholine on the pacemaker 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R by decreasing the rate of depolarization by increasing the K+ permeability of  pacemaker cells--therefore, cell more negative and it takes longer to reach threshold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naNet</cp:lastModifiedBy>
  <dcterms:modified xsi:type="dcterms:W3CDTF">2008-05-02T23:39:54Z</dcterms:modified>
  <cp:revision>2</cp:revision>
  <dc:subject/>
  <dc:title>PowerPoint Presentation</dc:title>
</cp:coreProperties>
</file>