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4C6-49B8-4D7C-98E5-AE908BC2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C7-4EBF-4D20-B88E-2C3F85B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D9F-92B0-478A-9AB3-FE5BD29F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D2D-6B65-4B58-A96C-B48BBFF5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CC8-655B-4C19-BAF5-17E2D4E0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AAC-E443-452C-BA2A-F6001317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93D-8B61-4B15-9764-410756C9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5ED-31C0-41B5-970B-28733C40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47F-04A3-4FC9-937A-51157DB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5BF-78A4-4628-A629-E3404FBD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2CE-0ED1-48B0-854D-8983FCD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116-2529-4F6F-B9C1-73836B9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E6E-99B5-4053-818D-97B522136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684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rdiovascular diseas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[includes heart disease (myocardial infarction) and stroke]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were top 3 causes of adult deaths in 1900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were top 3 causes of adult deaths in 19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omen 50% more likely to die from heart disease than men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8% of women (vs. 25% of men) will die within one year of a recognized heart attack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5% of women (vs. 18% of men) heart attack survivors will have another heart attack within 6 yea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olesterol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Sources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ver and diet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Uses in body: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lecule from which steroid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rmones and bile manufactured,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ponent of cell membranes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Transport in blood: </a:t>
            </a:r>
            <a:br>
              <a:rPr sz="3600"/>
            </a:b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igh density lipoproteins (HDL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low density lipoproteins (LDL)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(not VLDL--those are chylomicr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hlerosclerosis (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theroma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mooth muscle cell proliferation)+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sclerosi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proliferation of fibrous connective tissue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  Injury to artery wall by invasion of LDLs, oxidized cholesterol, free radicals, high blood pressure, chemicals from fat cells, or bacterial-induced inflammation.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  Endothelial cells  recruit WBCs to sit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  WBCs attack LDL site and form fatty streak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  Proliferation of smooth muscle cells and fibrous connective tissu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.  Ca++ deposited and “hardens” vessel 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6. Plaque= LDL, muscle cells, fibrous tissue, Ca++,  WB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…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rtery less distensible due to plaque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. Reduced ability to produce nitric oxid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  Ca++ makes plaque hard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3.  Fibrous tissue less distensible than normal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nd…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. Blockage can reduce or cut off blood flow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  Plaque’s rough edges can stimulate clot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thlerosclerosis:</a:t>
            </a:r>
            <a:br>
              <a:rPr sz="4000"/>
            </a:br>
            <a:br>
              <a:rPr sz="4000"/>
            </a:b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Starts early in life</a:t>
            </a:r>
            <a:br>
              <a:rPr sz="3000"/>
            </a:b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20-30% of US soldiers killed in Viet Nam (ages 18-32) had 20-30% blockage of coronary arterie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1991 survey by Wardenburg showed that 13% of CU undergraduates had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seriously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 high cholesterol</a:t>
            </a:r>
            <a:br>
              <a:rPr sz="3000"/>
            </a:br>
            <a:br>
              <a:rPr sz="3000"/>
            </a:b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US children now showing blockages similar to 40-yr olds--heart attacks likely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LOOD PRESSUR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low rate =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P x radius of vessel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length x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= viscosity (function of number of red blood cells and concentration of plasma proteins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41280" y="0"/>
            <a:ext cx="66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lood pressure = cardiac output x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peripheral resistanc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diac output = heart rate x stroke volum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ipheral resistance = degree of vasoconstriction or vasodilation of arteriol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ardiac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eart rate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by P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oke 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enous return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trength of contraction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S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eripheral resistan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y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SNS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gulation of blood pressur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sors: 1. baroreceptors and 2. chemoreceptors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 aorta and carotid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3. medulla itself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tegrator:  medulla vasomotor cen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utput:  PNS and S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P --&gt; sensors --&gt; medulla --&gt;  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S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venous return --&gt;strok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eripheral resistanc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962520"/>
            <a:ext cx="3048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4120" y="388620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P --&gt; sensors --&gt; medulla --&gt;   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heart rat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venous return --&gt;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stroke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volum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eripheral resistance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962520"/>
            <a:ext cx="3048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334120" y="3886200"/>
            <a:ext cx="30477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….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P --&gt; kidney (sensor and integrator)--&gt;  renin--&gt;  renin converts angiotensinogen to angiotensin I--which is converted to--&gt; angiotensin II by lung converting enzyme-&gt;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giotensin II causes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vasoconstriction --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peripheral  resistanc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reduces GFR --&gt; kidney reduces urine production-&gt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lood volum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--&gt;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venous return --&gt;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troke volum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.  Stimulates thirst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blood volume --&gt;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venous return -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troke volum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d …..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4290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traction of cardiac musc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 increase in Ca++ in the cell causes muscle contraction (but we’ll pick up the rest of the story when we get to the muscular system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giotensin II also causes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aldosterone release from adrenal gland -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Na+ uptake from urine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water uptak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from urine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blood volume 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venous return --&gt; stroke volume --&gt;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cardiac outpu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et effect of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angiotensin II --&gt;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B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latory Shock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Hypovolem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Cardiogen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Vasogen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Neuroge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hock (due to loss of blood) = low BP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n-progressive--can recover with massive SNS output and renin-angiotensin  (later need to restore RBC’s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gressive--positive feedback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P --&gt;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flow --&gt;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P --&gt;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low 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flow leads to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BP because of lack of adequate oxygen to medulla, which loses control of SNS 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ypertension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peripheral resistance due to athlerosclerosi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aldosterone secretio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nin secretio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neurogenic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“essential hypertension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ocal control over blood flow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edulla/SNS always takes priority over local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20840" y="0"/>
            <a:ext cx="6985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put from higher centers causes Medulla/SNS to change distribution of blood and change in BP reg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60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trol of heart r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NS releases norepinephrine on pacemaker cells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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R by increasing the rate of depolarization by decreasing K+ permeability of  pacemaker cells--therefore, cell less negative and it takes less time to reach threshold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trol of heart r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NS releases acetylcholine on the pacemaker --&gt; </a:t>
            </a:r>
            <a:r>
              <a:rPr b="0" lang="en-US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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R by decreasing the rate of depolarization by increasing the K+ permeability of  pacemaker cells--therefore, cell more negative and it takes longer to reach threshold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naNet</cp:lastModifiedBy>
  <dcterms:modified xsi:type="dcterms:W3CDTF">2008-05-02T23:39:54Z</dcterms:modified>
  <cp:revision>2</cp:revision>
  <dc:subject/>
  <dc:title>PowerPoint Presentation</dc:title>
</cp:coreProperties>
</file>