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8BD-BB9A-42F8-8C2B-B2720F84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4E1-D59B-428B-A129-91623B1D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2F4-76FD-477B-B86D-C2A7CA86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8AB-4CD2-4AB0-8605-CF4EB292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3922-BE6B-44B4-9F0D-7DF9E716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FAE8-00E4-429D-A47D-1789A06D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0EC3-B922-4D51-8195-082E411D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DC04-F4BB-4556-9AE3-376BD621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CDA9-D1EA-45FA-96A4-2F214F3B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53C6-DC6F-46EE-8CB0-F6A575E1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376B-F01D-42F8-8148-36B56C2A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3D5-284B-49AA-9641-D5AEDD32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1B43-B8FD-4F00-A4F2-DC038557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020C-CFF3-4598-AF6F-6418493C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2B30-27FD-4C63-B5E4-15221141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DAC8-51F5-47F1-BA22-6A99FA43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1263-FEDA-4F39-A603-6B9380CD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7C1-17C9-4FC3-A84F-DA763A92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28D-5618-4235-9026-84C340B8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B2A-A57B-4B26-8886-CA41681A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9FE-E6FD-42D5-8F8A-0CDF49E6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327-CD18-4559-A448-DC074277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116-3D2E-4EFF-82EB-930915F6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3D1-D4B4-4711-9A83-3BE27BF9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8679-B794-437E-9C03-995AA372A6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36CE-2FF2-4FC3-96B9-D6FCD0A387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Hear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The Heart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ystemic circul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ic cir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xygen-rich blood enters ascending aorta from left ventri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12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vides into progressively smaller art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-207720">
              <a:lnSpc>
                <a:spcPct val="12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rteri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72000" indent="-207720">
              <a:lnSpc>
                <a:spcPct val="12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pilla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72000" indent="-207720">
              <a:lnSpc>
                <a:spcPct val="12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XCHANGE IN TISS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455840" indent="-207720">
              <a:lnSpc>
                <a:spcPct val="12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Venu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12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mpty into right at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720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8720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4572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lmonary circul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lmonary cir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ood enters pulmonary tru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anches into right and left pulmonary art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3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rteri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pilla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AS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3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enu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ulmonary ve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ty into left at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643280" y="1484280"/>
            <a:ext cx="450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ry circ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ry arte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4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anch from ascending aor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4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ry oxygenated blood to the myocar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4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lsatile blood 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4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ittle flow during systo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4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oxygenated blood returns to the right atrium primarily via the coronary si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4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n walled vein with no smooth muscle to alter dia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20.08a(L)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4257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stology of cardiac tiss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diac muscle fib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nected via intercalated dis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ain desmosomes and gap j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mitochondrial cont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e arrangement of contractile protein as skeletal mus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 sarcoplasmic reticul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mall intracellular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2+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e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act according to sliding filament mechan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20.09a(L)" descr=""/>
          <p:cNvPicPr/>
          <p:nvPr/>
        </p:nvPicPr>
        <p:blipFill>
          <a:blip r:embed="rId3"/>
          <a:stretch/>
        </p:blipFill>
        <p:spPr>
          <a:xfrm>
            <a:off x="4800600" y="2209680"/>
            <a:ext cx="41482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duction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39621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ardiac muscle can contract without extrinsic st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Autorhythmic fib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Act as pacemak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Form conduction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20.10%20Conduction%20system%20of%20t" descr=""/>
          <p:cNvPicPr/>
          <p:nvPr/>
        </p:nvPicPr>
        <p:blipFill>
          <a:blip r:embed="rId3"/>
          <a:stretch/>
        </p:blipFill>
        <p:spPr>
          <a:xfrm>
            <a:off x="4267080" y="1600200"/>
            <a:ext cx="4648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duction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r>
              <a:rPr b="1" lang="en-A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of the hearts conduction system a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sinoatrial node (pacemak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Spontaneously depolarise (100 times/mi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Rate of depolarisation modified by neurotransmitters from A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atrioventricular 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Spontaneous depolarisation 40-60 times/m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Conduction slows at AV 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Delay allows atria time to contr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bundle of 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right and left bundle branch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conduction myofibers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 (Purkinje fib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20.10%20Conduction%20system%20of%20t" descr=""/>
          <p:cNvPicPr/>
          <p:nvPr/>
        </p:nvPicPr>
        <p:blipFill>
          <a:blip r:embed="rId3"/>
          <a:stretch/>
        </p:blipFill>
        <p:spPr>
          <a:xfrm>
            <a:off x="4267080" y="1600200"/>
            <a:ext cx="4648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rdiac action potenti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3962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on potential occurs in three phas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polar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sting membrane potential –90m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oves toward firing thresho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s voltage-gated sodium channe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ose rapid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latea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oltage-gated slow C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channels open in sarcolemma and sarcoplasmic reticul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alances slow K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outflo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polar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oltage-gated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channels op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oltage-gated slow C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channels clo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20.11(L)" descr=""/>
          <p:cNvPicPr/>
          <p:nvPr/>
        </p:nvPicPr>
        <p:blipFill>
          <a:blip r:embed="rId3"/>
          <a:stretch/>
        </p:blipFill>
        <p:spPr>
          <a:xfrm>
            <a:off x="4343400" y="2286000"/>
            <a:ext cx="45720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rocardiogra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Electrocardiogram (EC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osite record of action potentials produced by all heart fibres during one b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4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P wave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- atrial depolar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4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QRS complex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- ventricular depolar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14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atrial repolarisation hidden by QRS compl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4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 wave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- ventricular repolar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20.12%20Electrocardiogram%20(Lea" descr=""/>
          <p:cNvPicPr/>
          <p:nvPr/>
        </p:nvPicPr>
        <p:blipFill>
          <a:blip r:embed="rId3"/>
          <a:stretch/>
        </p:blipFill>
        <p:spPr>
          <a:xfrm>
            <a:off x="4572000" y="1600200"/>
            <a:ext cx="4346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rdiac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diac cy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ll events associated with one heartbe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rial syst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tria contr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tributes ~25ml to ventric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blood enters ventricles during ventricular diast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ntricular syst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entricles contr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sovolumetric contraction until pressures in pulmonary trunk and aorta overco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ventricles eject same volume of bl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xation 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tria and ventricles relax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s ventricular pressure falls below atrial pressure AV valves open and ventricular filling comm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ith increasing H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xation period shortens considerab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rial and ventricular systole only shorten sligh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rdiac outpu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Cardiac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volume of blood ejected by left or right ventricle per min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 = 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stroke volume (mL/beat) x heart rate (beats/m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Average CO approx 5.25 L/min (70 mL/beat x 75 beats/mi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Similar to total blood volume of ~5 litres (ma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ardiac reser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maximal CO – resting 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421164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Rests on diaphrag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situated in mediastin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thirds lies to left of mid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356000" y="1341360"/>
            <a:ext cx="4788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oke volu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troke volume (S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volume of blood ejected by a ventricle during systo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depends 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Pre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Degree of stretch prior to contr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Contract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Forcefulness of contr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After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Pressure that must be exceeded before ejection of blood from ventricles can occ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oke volu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Prelo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Frank-Starling law of the hea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Greater stretch (preload) increases force of contr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Preload proportional to end-diastolic volume (EDV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EDV determined b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Duration of ventricular diastole (filling tim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Venous retur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Frank-Starling law equalises output from both ventr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Contract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Forcefulness of contr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Positive inotropic agents usually increase contractility by promoting Ca</a:t>
            </a:r>
            <a:r>
              <a:rPr b="0" lang="en-AU" sz="16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in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Negative inotropic agents usually reduce contractility by blocking Ca</a:t>
            </a:r>
            <a:r>
              <a:rPr b="0" lang="en-AU" sz="18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chann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Afterlo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Pressure that must be exceeded before ejection of blood from ventricles can occ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54720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rt r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Several factors</a:t>
            </a:r>
            <a:r>
              <a:rPr b="1" lang="en-A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contribute to regulation of heart ra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(1) Autonomic regulation (medullary CV cent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Receives input from higher brain centres and variety of sensory recep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Propriocep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Chemorecep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Barorecep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Sympathetic output increases heart rate and contract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Parasympathetic impulses decrease heart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Little effect on contract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does not innervate ventricular myocardio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3743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rt r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6477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ral fact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ibute to regulation of heart ra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2) Chemical reg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diac activity depress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ypox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ido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kalo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rm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techolamines and thyroid hormones increase HR and contract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terations in balance of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N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nd C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lter HR and contract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rt r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6782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ral fact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ibute to regulation of heart ra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3) Other f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 shaped cur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emale HR hig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ysical fit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sting bradycar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ody 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rease causes SA node to discharge more rapid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icardi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 enclosed and held in place by pericar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wo lay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uter fibrous lay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tached to diaphrag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events overstretc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ner serous lay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uter parietal lay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used to fibrous pericardi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isceral layer (epicardiu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tached to surface of he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icardial cavity filled with flu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duces fric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20.2a%20Pericardium%20and%20ventri" descr=""/>
          <p:cNvPicPr/>
          <p:nvPr/>
        </p:nvPicPr>
        <p:blipFill>
          <a:blip r:embed="rId3"/>
          <a:stretch/>
        </p:blipFill>
        <p:spPr>
          <a:xfrm>
            <a:off x="4724280" y="2057400"/>
            <a:ext cx="4038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rt wa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rt wall has three layer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picardium (visceral layer of serous pericard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yocardium (cardiac muscle tissu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lk of heart tiss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vides pumping 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ocar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tinuous with endothelial  lining of blood vesse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20.2a%20Pericardium%20and%20ventri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rt chambers - At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 atrium receives blood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erior vena ca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ferior vena ca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ronary si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sses blood into right ventricle via tricuspid val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 atrium receives blood fr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ulmonary ve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sses blood into right ventricle via bicuspid val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20.4a%20Heart_%20anterior%20view%20o" descr=""/>
          <p:cNvPicPr/>
          <p:nvPr/>
        </p:nvPicPr>
        <p:blipFill>
          <a:blip r:embed="rId3"/>
          <a:stretch/>
        </p:blipFill>
        <p:spPr>
          <a:xfrm>
            <a:off x="4861080" y="1676520"/>
            <a:ext cx="4041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art chambers - ventric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 ventri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sses blood through pulmonary valve into pulmonary trun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 ventri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21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sses blood through aortic valve into ascending ao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20.4a%20Heart_%20anterior%20view%20o" descr=""/>
          <p:cNvPicPr/>
          <p:nvPr/>
        </p:nvPicPr>
        <p:blipFill>
          <a:blip r:embed="rId3"/>
          <a:stretch/>
        </p:blipFill>
        <p:spPr>
          <a:xfrm>
            <a:off x="4876920" y="1752480"/>
            <a:ext cx="4041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yocardial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ckness of myocardium varies between chambers according to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 algn="just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liver blood to ventric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 algn="just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in wal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ght ventri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 algn="just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mps blood short distance to lungs against low resis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 algn="just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latively thin wa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ft ventri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 algn="just">
              <a:lnSpc>
                <a:spcPct val="11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mps blood to all tissues except lungs against high resis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 algn="just">
              <a:lnSpc>
                <a:spcPct val="11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ick wa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20.04c(L)" descr=""/>
          <p:cNvPicPr/>
          <p:nvPr/>
        </p:nvPicPr>
        <p:blipFill>
          <a:blip r:embed="rId3"/>
          <a:stretch/>
        </p:blipFill>
        <p:spPr>
          <a:xfrm>
            <a:off x="4495680" y="2133720"/>
            <a:ext cx="4284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imes New Roman"/>
              </a:rPr>
              <a:t>Atrio-ventricular val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3581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Atrioventricular val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tricuspid val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right 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bicuspid val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left s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Valve eversion prevented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Chordae tendin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Papil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20.6a-b%20Bicuspid%20valves." descr=""/>
          <p:cNvPicPr/>
          <p:nvPr/>
        </p:nvPicPr>
        <p:blipFill>
          <a:blip r:embed="rId3"/>
          <a:stretch/>
        </p:blipFill>
        <p:spPr>
          <a:xfrm>
            <a:off x="4267080" y="2209680"/>
            <a:ext cx="4572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Heart%2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milunar val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886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Semilunar val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revent blood flow back into ventri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de up of three crescent-moon shaped cus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right ventri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pulmonary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semilunar val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left ventri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lnSpc>
                <a:spcPct val="11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aortic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semilunar val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20.4a%20Heart_%20anterior%20view%20o" descr=""/>
          <p:cNvPicPr/>
          <p:nvPr/>
        </p:nvPicPr>
        <p:blipFill>
          <a:blip r:embed="rId3"/>
          <a:stretch/>
        </p:blipFill>
        <p:spPr>
          <a:xfrm>
            <a:off x="4952880" y="2286000"/>
            <a:ext cx="3630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on Buckley</dc:creator>
  <dc:description/>
  <dc:language>en-US</dc:language>
  <cp:lastModifiedBy>ZonaNet</cp:lastModifiedBy>
  <dcterms:modified xsi:type="dcterms:W3CDTF">2008-05-03T00:09:52Z</dcterms:modified>
  <cp:revision>127</cp:revision>
  <dc:subject/>
  <dc:title>The Heart</dc:title>
</cp:coreProperties>
</file>