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338-C81E-4986-A752-CF5B8F91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072-A6FD-4C13-B7FD-0BCCB86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BE3-084F-43F4-84DC-23B7DAE8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6BD-A3AA-460D-865C-6B99B18E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2F87-EE57-42B7-BD7E-4D93B5EE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66A7-96D3-41EB-B09C-BE996C9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223B-AEB0-46C1-9CB7-A5910DAD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2DB-DB35-4D87-A0AB-3E5C1D9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7F1-E0BA-4CE9-96B8-642B9D5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BF2D-D06F-440D-9140-4905793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B781-42ED-4616-93DC-D18D5DB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8A5-2701-49AF-BFFE-CCCDC59C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426-9494-4645-AE6D-AB5C96BF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19A-440C-4531-A7D8-C320082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366-E69B-4FC7-8336-DD0EDD0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CBC-64B0-43FD-8B09-8359E4D9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C6C-5E6C-455B-8290-293F56F6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9EF-DE10-435D-A18B-A07890FB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030-8C2F-4BA8-A283-7024D39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568-889A-4354-B3BA-7B5DFE0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995-0F13-4FDE-B92C-28077B4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2F9-20D1-486F-9E9D-C9DD72D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724-BD53-419F-86B1-BCF66C0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411-E78C-41C8-95F0-84474442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93F-ECC9-48D3-9A22-4E84234E08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D62-24E3-4F6B-B552-C095AD5C35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ear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The Heart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stemic circ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ic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xygen-rich blood enters ascending aorta from left ventr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2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vides into progressively smaller art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rteri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CHANGE IN TISS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en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2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pty into right at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lmonary circ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monary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enters pulmonary tru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ches into right and left pulmonary art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teri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n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lmonary 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ty into left at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ry circ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ry art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ch from ascending a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ry oxygenated blood to the myocar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lsatile blood 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4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ttle flow during systo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oxygenated blood returns to the right atrium primarily via the coronary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n walled vein with no smooth muscle to alter dia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20.08a(L)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4257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logy of cardiac tiss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diac muscle fib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ed via intercalated dis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 desmosomes and gap j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mitochondrial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e arrangement of contractile protein as skeletal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sarcoplasmic ret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mall intracellular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 according to sliding filament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20.09a(L)" descr=""/>
          <p:cNvPicPr/>
          <p:nvPr/>
        </p:nvPicPr>
        <p:blipFill>
          <a:blip r:embed="rId3"/>
          <a:stretch/>
        </p:blipFill>
        <p:spPr>
          <a:xfrm>
            <a:off x="4800600" y="2209680"/>
            <a:ext cx="4148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on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rdiac muscle can contract without extrinsic st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Autorhythmic fib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ct as pacema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m conduc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20.10%20Conduction%20system%20of%20t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on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of the hearts conduction system 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inoatrial node (pacemak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pontaneously depolarise (100 times/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Rate of depolarisation modified by neurotransmitters from 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trioventricular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pontaneous depolarisation 40-60 times/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nduction slows at AV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elay allows atria time to contr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undle of 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and left bundle bran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onduction myofiber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(Purkinje fib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20.10%20Conduction%20system%20of%20t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action potent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on potential occurs in three ph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ting membrane potential –90m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ves toward firing thresho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s voltage-gated sodium chann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ose rapid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ea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slow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open in sarcolemma and sarcoplasmic reticu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lances slow K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ut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o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slow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cl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20.11(L)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57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lectrocardiogram (EC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site record of action potentials produced by all heart fibres during one b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P wav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atrial 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QRS complex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ventricular 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atrial repolarisation hidden by QRS compl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 wav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ventricular r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20.12%20Electrocardiogram%20(Lea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6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diac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events associated with one 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ria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tributes ~25ml to ventric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blood enters ventricles during ventricular diast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ricular sy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ntricles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ovolumetric contraction until pressures in pulmonary trunk and aorta overc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ventricles eject same volume of bl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xation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ria and ventricles relax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s ventricular pressure falls below atrial pressure AV valves open and ventricular filling comm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 increasing H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xation period shortens considerab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rial and ventricular systole only shorten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outp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olume of blood ejected by left or right ventricle per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 =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troke volume (mL/beat) x heart rate (beats/m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Average CO approx 5.25 L/min (70 mL/beat x 75 beats/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imilar to total blood volume of ~5 litres (ma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rdiac res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maximal CO – resting 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2116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sts on diaphra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ituated in mediastin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thirds lies to left of mid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788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oke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troke volume (S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volume of blood ejected by a ventricle during syst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epends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re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Degree of stretch prior to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ontrac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Forcefulness of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fter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ressure that must be exceeded before ejection of blood from ventricles can occ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oke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Pre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ank-Starling law of the hea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Greater stretch (preload) increases force of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Preload proportional to end-diastolic volume (EDV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EDV determined b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uration of ventricular diastole (filling ti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Venous retu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ank-Starling law equalises output from both ventr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ntract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cefulness of con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ositive inotropic agents usually increase contractility by promoting Ca</a:t>
            </a:r>
            <a:r>
              <a:rPr b="0" lang="en-AU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in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Negative inotropic agents usually reduce contractility by blocking Ca</a:t>
            </a:r>
            <a:r>
              <a:rPr b="0" lang="en-AU" sz="1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chan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After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ressure that must be exceeded before ejection of blood from ventricles can occ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472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(1) Autonomic regulation (medullary CV cent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Receives input from higher brain centres and variety of sensory recep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Proprio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Chemore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Barore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ympathetic output increases heart rate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rasympathetic impulses decrease heart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Little effect on contract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oes not innervate ventricular myocardio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2) Chemical reg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diac activity depress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ypox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ido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o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m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techolamines and thyroid hormones increase HR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terations in balance of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N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nd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lter HR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3)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 shaped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emale HR hig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ting bradycar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dy 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 causes SA node to discharge more rapid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cardi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 enclosed and held in place by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lay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er fibrous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tached to 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events overstretc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er serous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er parietal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used to fibrous pericard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sceral layer (epicard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tached to surface of he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cardial cavity filled with flu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duces fri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.2a%20Pericardium%20and%20ventri" descr=""/>
          <p:cNvPicPr/>
          <p:nvPr/>
        </p:nvPicPr>
        <p:blipFill>
          <a:blip r:embed="rId3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t wall has three laye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picardium (visceral layer of serous pericard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ocardium (cardiac muscle tiss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k of heart tiss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vides pumping 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ocar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tinuous with endothelial  lining of blood vess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20.2a%20Pericardium%20and%20ventri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chambers - At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atrium receives blood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erior vena c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rior vena c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onary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into right ventricle via tr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atrium receives blood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lmonary 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into right ventricle via b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861080" y="1676520"/>
            <a:ext cx="404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chambers - ventr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through pulmonary valve into pulmonary trun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through aortic valve into ascending ao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4041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ocardial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ness of myocardium varies between chambers according to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 blood to ventri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in wal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mps blood short distance to lungs against low resis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vely thin w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mps blood to all tissues except lungs against high resis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ick w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20.04c(L)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428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Atrio-ventricular va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trioventricular va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tr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b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eft 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alve eversion prevented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hordae tendin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Papil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20.6a-b%20Bicuspid%20valves.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57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milunar va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emilunar va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revent blood flow back into ventr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de up of three crescent-moon shaped cus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ulmonary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emilunar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ortic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emilunar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63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on Buckley</dc:creator>
  <dc:description/>
  <dc:language>en-US</dc:language>
  <cp:lastModifiedBy>ZonaNet</cp:lastModifiedBy>
  <dcterms:modified xsi:type="dcterms:W3CDTF">2008-05-03T00:09:52Z</dcterms:modified>
  <cp:revision>127</cp:revision>
  <dc:subject/>
  <dc:title>The Heart</dc:title>
</cp:coreProperties>
</file>