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7D2-209E-4C16-860E-79E16E31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987-1B9E-4274-85AD-CB521EC0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78A-5113-42F7-9A16-DE8032DF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16E-E7F6-44C2-89A9-876C37A9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01F0-BFAF-42AC-9A18-20C3CF7C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2891-89B7-4C88-A4B4-CF6E86ED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EC43-EEA7-4E4D-88D2-1A068D33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DBDE-A114-4176-9488-28D56091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8632-6E44-4E80-9FA6-8AFFE818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F08C-6D33-4A62-AF2F-A8B3A12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08F1-A05F-43D6-AA73-15BFFC0E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A42-0ACF-4422-8DFC-60552FB2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B074-6696-40AF-9A7E-C3C9BDF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23B0-1FB9-4793-9C5D-DA4826A8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197C-FCA8-4D99-AD2C-D4035938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6DE4-403A-4E61-8D9F-ADC5B48E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7BC5-65BA-43E4-81BB-60878476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C21-6B3F-43BC-B96E-F235C03C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C2F-E877-4AF1-9A90-64AF35DD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FAA-BD53-45AD-8B5E-7805257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8DE-1619-4170-8314-3FBEB361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2C0-B60E-4EF3-8188-C7EA0DE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0CA-AB03-4DD1-BD77-4B0804FA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F3F-550C-4E0B-B854-92C11D81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4E3-4FC7-45DB-A710-763D7F71734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55AF-036F-4F1C-81D6-9A29442276D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ALCULATING HEART RAT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ahoma"/>
              </a:rPr>
              <a:t>Formulas and examples for moderate physical activity using percentage of heart rate reserv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2031840" cy="24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Your Threshold of Training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Heart Rate Reserves X 60% + Resting Heart Rate = Threshold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4647960"/>
            <a:ext cx="8001000" cy="1181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Your Threshold of Training Heart Rat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_____ X .60 = _____ + _____ = _____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the Upper Limit Target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120" y="2133360"/>
            <a:ext cx="8001000" cy="201924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Heart Rate Reserve X 85% + Resting Heart Rate = Upper Limit Target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7772400" cy="12571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130 X .85 = 110.5 (111) + 68 = 179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Your Upper Limit Target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120" y="2133360"/>
            <a:ext cx="8001000" cy="201924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Heart Rate Reserve X 85% + Resting Heart Rate = Upper Limit Target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4648320"/>
            <a:ext cx="7772400" cy="12571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_____ X .85 = _____ + _____ = _____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ultiple Choice: Which of the following is the formula for Heart Rate Reserv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ximal Heart Rate – Resting Heart Rate = Heart Rate Reser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eart Rate Reserve X 85% + Resting Heart Rate = Heart Rate Reser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Heart Rate Reserve X 85% + Resting Heart Rate =Heart Rate Reser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ne of the abov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869440" y="5791320"/>
            <a:ext cx="2800440" cy="4597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lick on the sente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Tahoma"/>
              </a:rPr>
              <a:t>WRONG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ry Again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551040" cy="3733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708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Tahoma"/>
              </a:rPr>
              <a:t>CORRECT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30640" cy="43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cepts%20of%20Physical%20Fitness4%20pg" descr=""/>
          <p:cNvPicPr/>
          <p:nvPr/>
        </p:nvPicPr>
        <p:blipFill>
          <a:blip r:embed="rId1"/>
          <a:stretch/>
        </p:blipFill>
        <p:spPr>
          <a:xfrm>
            <a:off x="0" y="-417600"/>
            <a:ext cx="9372600" cy="745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Exampl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24382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 is for a 22 year-old person with a resting heart rate of 68 beats per minute. The target zone for this twenty-two year-old is 120-179 beats per minut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s, Examples and Self- Calcul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ormulas/Examples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1" action="ppaction://hlinksldjump"/>
              </a:rPr>
              <a:t>Heart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2" action="ppaction://hlinksldjump"/>
              </a:rPr>
              <a:t>Heart reserv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3" action="ppaction://hlinksldjump"/>
              </a:rPr>
              <a:t>Threshold heart training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4" action="ppaction://hlinksldjump"/>
              </a:rPr>
              <a:t>Upper limit target heart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lf-Calculations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5" action="ppaction://hlinksldjump"/>
              </a:rPr>
              <a:t>Heart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6" action="ppaction://hlinksldjump"/>
              </a:rPr>
              <a:t>Heart reserv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7" action="ppaction://hlinksldjump"/>
              </a:rPr>
              <a:t>Threshold heart training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8" action="ppaction://hlinksldjump"/>
              </a:rPr>
              <a:t>Upper limit target heart rat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300680" y="5257800"/>
            <a:ext cx="2680200" cy="4597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Click on the Term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5181480"/>
            <a:ext cx="213372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Calculating Heart Ra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924680" cy="12193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220 - Age (in years) = Maximal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1760" y="4571640"/>
            <a:ext cx="7848360" cy="12193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220 – 22 = 198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Calculating Your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924680" cy="12193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220 - Age (in years) = Maximal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1760" y="4571640"/>
            <a:ext cx="7848360" cy="12193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Your Heart Rate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220 – ______ = ______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Heart Rate Reser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133720"/>
            <a:ext cx="7696080" cy="1676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Maximal Heart Rate – Resting Heart Rate = Heart Rate Reserv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2571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198 – 68 = 130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Your Heart Rate Reser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2133720"/>
            <a:ext cx="7696080" cy="1676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Maximal Heart Rate – Resting Heart Rate = Heart Rate Reserv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2571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Your Heart Rate Reserv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______ – ______ = ______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ula for Threshold of Training Heart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Formula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Heart Rate Reserves X 60% + Resting Heart Rate = Threshold Heart Rat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4647960"/>
            <a:ext cx="7772400" cy="11811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130 X .60 = 78 + 68 = 146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8080" y="60958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8T10:34:46Z</dcterms:created>
  <dc:creator>Diana Mungai</dc:creator>
  <dc:description/>
  <dc:language>en-US</dc:language>
  <cp:lastModifiedBy>Staff</cp:lastModifiedBy>
  <dcterms:modified xsi:type="dcterms:W3CDTF">2003-06-02T13:19:02Z</dcterms:modified>
  <cp:revision>9</cp:revision>
  <dc:subject/>
  <dc:title>PowerPoint Presentation</dc:title>
</cp:coreProperties>
</file>