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319-0AA5-4DD7-9D13-8319DBD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8DA-9ED3-407E-AA34-855FABD3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DC7-8879-4E4D-9DD8-D4A440AF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B73-369B-405E-8DF1-64936574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208-297C-47F2-9D52-2A36B3DE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5D6-DE41-4F89-88BE-AA218AD9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E98-DB4B-41BB-9A2A-3AF8A7D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B727-B240-470C-84AC-A7327E81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6D85-ADAC-441F-AABF-138CCB2E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68E-AA37-4720-A9BE-D41A245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55B-F39B-43B6-8E4D-C25F009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F13-A7D6-48F3-86DF-E98A7659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5599-9136-40B7-ABFF-B949C2D2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0BB-C38B-431C-961E-74181D0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B53F-0D21-4DDB-BD1B-DA4AC41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16FD-01A5-4F28-A485-3E0C8E38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0F8A-DDD0-4477-9554-09D60B5D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1EF-08A4-48F0-B906-C9DA0169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3D9-8CD6-419C-BB8D-BDCF1C5E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038-0FB9-4C1B-B567-C1F9FDE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AA8-3B40-4817-9439-383DC75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A84-02AB-4F23-B11D-20AAC3F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9A5-1D58-43B8-A785-61CE27A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656-23A4-47B7-AA46-D1616D8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DD55-4839-48E8-8FAE-2A2E0635C29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E4D-C471-4F4E-9E66-CA932704759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ALCULATING HEART RAT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Formulas and examples for moderate physical activity using percentage of heart rate reserv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031840" cy="24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Threshold of Training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s X 60% + Resting Heart Rate = Threshold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4647960"/>
            <a:ext cx="8001000" cy="1181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Threshold of Training Heart Rat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 X .60 = _____ + _____ = 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the Upper Limit Target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120" y="2133360"/>
            <a:ext cx="8001000" cy="2019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 X 85% + Resting Heart Rate = Upper Limit Target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30 X .85 = 110.5 (111) + 68 = 179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Upper Limit Target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2133360"/>
            <a:ext cx="8001000" cy="2019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 X 85% + Resting Heart Rate = Upper Limit Target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 X .85 = _____ + _____ = 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ltiple Choice: Which of the following is the formula for Heart Rate Re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rt Rate Reserve X 85% + Resting Heart Rate = 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rt Rate Reserve X 85% + Resting Heart Rate =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e of the abo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869440" y="5791320"/>
            <a:ext cx="2800440" cy="459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lick on the sente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Tahoma"/>
              </a:rPr>
              <a:t>WRONG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ry Again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551040" cy="3733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Tahoma"/>
              </a:rPr>
              <a:t>CORRECT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30640" cy="43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cepts%20of%20Physical%20Fitness4%20pg" descr=""/>
          <p:cNvPicPr/>
          <p:nvPr/>
        </p:nvPicPr>
        <p:blipFill>
          <a:blip r:embed="rId1"/>
          <a:stretch/>
        </p:blipFill>
        <p:spPr>
          <a:xfrm>
            <a:off x="0" y="-417600"/>
            <a:ext cx="9372600" cy="74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Exampl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24382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 is for a 22 year-old person with a resting heart rate of 68 beats per minute. The target zone for this twenty-two year-old is 120-179 beats per minut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s, Examples and Self- Calcul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ormulas/Examples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 action="ppaction://hlinksldjump"/>
              </a:rPr>
              <a:t>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2" action="ppaction://hlinksldjump"/>
              </a:rPr>
              <a:t>Heart reserv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3" action="ppaction://hlinksldjump"/>
              </a:rPr>
              <a:t>Threshold heart training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4" action="ppaction://hlinksldjump"/>
              </a:rPr>
              <a:t>Upper limit target 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lf-Calculations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5" action="ppaction://hlinksldjump"/>
              </a:rPr>
              <a:t>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6" action="ppaction://hlinksldjump"/>
              </a:rPr>
              <a:t>Heart reserv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7" action="ppaction://hlinksldjump"/>
              </a:rPr>
              <a:t>Threshold heart training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8" action="ppaction://hlinksldjump"/>
              </a:rPr>
              <a:t>Upper limit target 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300680" y="5257800"/>
            <a:ext cx="2680200" cy="4597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Click on the Term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181480"/>
            <a:ext cx="2133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Calculating Heart Ra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- Age (in years) = Maximal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1760" y="4571640"/>
            <a:ext cx="784836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– 22 = 198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Calculating Your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- Age (in years) = Maximal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1760" y="4571640"/>
            <a:ext cx="784836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Heart Rate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– ______ = _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Heart Rate Reser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133720"/>
            <a:ext cx="769608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98 – 68 = 130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Heart Rate Reser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133720"/>
            <a:ext cx="769608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Heart Rate Reserv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_ – ______ = _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Threshold of Training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s X 60% + Resting Heart Rate = Threshold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181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30 X .60 = 78 + 68 = 146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8T10:34:46Z</dcterms:created>
  <dc:creator>Diana Mungai</dc:creator>
  <dc:description/>
  <dc:language>en-US</dc:language>
  <cp:lastModifiedBy>Staff</cp:lastModifiedBy>
  <dcterms:modified xsi:type="dcterms:W3CDTF">2003-06-02T13:19:02Z</dcterms:modified>
  <cp:revision>9</cp:revision>
  <dc:subject/>
  <dc:title>PowerPoint Presentation</dc:title>
</cp:coreProperties>
</file>