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comments/comment3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  <p:sldId id="343" r:id="rId98"/>
    <p:sldId id="344" r:id="rId99"/>
    <p:sldId id="345" r:id="rId100"/>
    <p:sldId id="346" r:id="rId101"/>
    <p:sldId id="347" r:id="rId102"/>
    <p:sldId id="348" r:id="rId103"/>
    <p:sldId id="349" r:id="rId104"/>
    <p:sldId id="350" r:id="rId105"/>
    <p:sldId id="351" r:id="rId106"/>
    <p:sldId id="352" r:id="rId107"/>
    <p:sldId id="353" r:id="rId108"/>
    <p:sldId id="354" r:id="rId109"/>
    <p:sldId id="355" r:id="rId110"/>
    <p:sldId id="356" r:id="rId1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 " initials=" 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slide" Target="slides/slide88.xml"/><Relationship Id="rId99" Type="http://schemas.openxmlformats.org/officeDocument/2006/relationships/slide" Target="slides/slide89.xml"/><Relationship Id="rId100" Type="http://schemas.openxmlformats.org/officeDocument/2006/relationships/slide" Target="slides/slide90.xml"/><Relationship Id="rId101" Type="http://schemas.openxmlformats.org/officeDocument/2006/relationships/slide" Target="slides/slide91.xml"/><Relationship Id="rId102" Type="http://schemas.openxmlformats.org/officeDocument/2006/relationships/slide" Target="slides/slide92.xml"/><Relationship Id="rId103" Type="http://schemas.openxmlformats.org/officeDocument/2006/relationships/slide" Target="slides/slide93.xml"/><Relationship Id="rId104" Type="http://schemas.openxmlformats.org/officeDocument/2006/relationships/slide" Target="slides/slide94.xml"/><Relationship Id="rId105" Type="http://schemas.openxmlformats.org/officeDocument/2006/relationships/slide" Target="slides/slide95.xml"/><Relationship Id="rId106" Type="http://schemas.openxmlformats.org/officeDocument/2006/relationships/slide" Target="slides/slide96.xml"/><Relationship Id="rId107" Type="http://schemas.openxmlformats.org/officeDocument/2006/relationships/slide" Target="slides/slide97.xml"/><Relationship Id="rId108" Type="http://schemas.openxmlformats.org/officeDocument/2006/relationships/slide" Target="slides/slide98.xml"/><Relationship Id="rId109" Type="http://schemas.openxmlformats.org/officeDocument/2006/relationships/slide" Target="slides/slide99.xml"/><Relationship Id="rId110" Type="http://schemas.openxmlformats.org/officeDocument/2006/relationships/slide" Target="slides/slide100.xml"/><Relationship Id="rId111" Type="http://schemas.openxmlformats.org/officeDocument/2006/relationships/slide" Target="slides/slide101.xml"/><Relationship Id="rId112" Type="http://schemas.openxmlformats.org/officeDocument/2006/relationships/presProps" Target="presProps.xml"/><Relationship Id="rId113" Type="http://schemas.openxmlformats.org/officeDocument/2006/relationships/commentAuthors" Target="commentAuthors.xml"/>
</Relationships>
</file>

<file path=ppt/comments/comment38.xml><?xml version="1.0" encoding="utf-8"?>
<p:cmLst xmlns:p="http://schemas.openxmlformats.org/presentationml/2006/main">
  <p:cm authorId="0" dt="2010-01-24T19:54:50.953000000" idx="1">
    <p:pos x="10" y="10"/>
    <p:text>[Insert Box 20-6 from page 500]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2DF7-0063-4129-96F2-DE7ACF8A6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6A6A-6CC7-4A7C-9F92-9A0142E7E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603-1DF7-45F6-AE68-4FA51C1F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003-4483-41D0-A9D1-406D3862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F40-3D24-4456-BC64-9F9CDBB7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8E0-E3B7-4F5D-B01A-01E75E0E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6787-6C34-438C-9494-E4985133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F6DC-17D5-4BE3-AD1F-46853AF6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B159-E71D-410B-93DE-5CF20D39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8338-16E2-44E6-ADF1-B9E6083A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F17D-E108-4842-B387-E9B99E07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9B34-B3D6-4B6A-BC77-85EE4F32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2421-738A-4A30-88EA-7C24DD7A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641-CFE4-4B8A-9409-F13A18C6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AD8A-E6C4-41FE-BC0E-11D38898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C56D-D390-42EF-8C55-59E34DC8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69CE-6FE8-4CE4-B126-26E2F2C6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5858-5A49-4F2E-B804-ECC95D56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3D07-F00A-4B92-8B32-7A54F6C7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8CA1E-E971-4839-BE92-CC7E727E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6694-4435-4B20-BFF3-99CCE14D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3FF80-B5F4-4AF8-8251-B2045DAC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1898-19A5-4447-A8C5-AC1A791F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31DD-B27C-491B-94B8-2DCAEDBD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AFE-B63A-42B7-AB6C-4A29EA99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BD56-FF41-43DE-BBBF-4E55CA6A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E8C01-63FB-4E52-8F81-694CFCD3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92E6-3A14-41EB-BEA8-04E9720C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1EC62-BB52-4E26-BEC3-C02F5548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71FD-EEEB-4384-A761-042CAC42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DC277-8DED-45F6-A9A8-D021F958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0944-4E34-4048-AF2E-DD06E088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62B90-DD50-45C1-B0EB-BB818608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F1CC-992F-40F7-9F42-5626F0FD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4496-36DB-466D-93EF-5958A295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F05-2957-44A0-956D-3BD39232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E280F-D894-4265-89C6-6714524F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8B2F5-7D19-4F47-9FA2-3702932D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F636-9D95-4A9E-B932-B91055E3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ECB0-ED99-4481-A700-66CE77C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ED040-704D-463D-A24E-9B1E3CED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46ADE-CC3D-454B-88FD-88323B06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4CDE-A885-4320-8477-103EECAD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F9F30-6CCB-4FC8-B534-0C4323EF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E318-59E8-4687-B99D-19935774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46DFD-74C0-4320-A606-6968F5C6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E77-55B0-427B-8FC7-8CA9F191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E5EC-A0D2-4546-A5F9-6D74B2C7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60F29-70F6-424B-81FA-5E12D180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39ECA-86B5-488D-BC83-272E488C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3FF9F-DFE3-4990-9AE0-F3932D74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954C0-70D0-4240-A4E7-74B16C6F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9389C-85DA-46E6-988D-99C1A59C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FACBF-0326-4260-9B03-00E1FAA3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B6661-3408-430C-B13E-437D65B2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691AC-75ED-4235-A8CA-7FEF2745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83FAF-4897-4007-A3F5-01F11F8E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31D-B28F-4692-BA19-57773A61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9BAF1-595B-497D-8E7A-D83D31D8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D85F6-D3DF-4140-BF90-0F3E8764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DD24C-7CC4-4DFA-8F9F-1FDDE9D5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3D026-7302-457D-A73A-A3769029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49A01-8FDC-49A4-9DE7-4FCC100B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07112-1C14-4640-8626-997827B8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31442-6C75-449F-84FF-1E69914B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AD129-78D1-4305-812E-BC8F0A0A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26078-55F2-49EE-948D-629BDEB1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9153D-F796-4907-AADB-F72BDF0E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70E-C163-4D87-A197-C83EE1F2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A1E7D-2484-4BC7-8ED0-3FE03F57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02E10-C5BA-4398-8943-AB3409FD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457EF-BD92-463E-BEE5-FF85F9B7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94114-D680-4CCF-833F-003DDA89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966A1-FA8A-4CFC-A53F-F1833020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83108-E25D-4F4F-9875-18256AC9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3D8FC-7E46-4A06-82AB-331D906A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CE646-E4DF-4E2A-B994-12A444A8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48932-2EBE-467E-8C67-6E6F0E4E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38C0F-E301-46E2-B61C-FCAD3709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500-56FE-4CD9-BCA3-F4211B3C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754E1-EFD1-4DBC-8F95-93D479E8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70053-2B4A-4A78-868D-E0587B89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3F07C-38CA-474A-9AF1-769CE696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950C7-E681-4C45-A681-D1F2C9D9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1E4DD-2510-4158-89E4-F7E3D6B8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623-4B10-4932-B2FC-0017239C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62A0-007C-4446-959D-542D5E881D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714B-3395-46D7-992D-86AA0E3AB7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63BE-F67F-4E82-B6FD-861278D6AD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854D-6986-4857-8D3D-3E6C12C9DA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7801-CD5F-482D-92A0-CE57868220C4}" type="slidenum">
              <a:rPr b="0" lang="en-US" sz="1000" spc="-1" strike="noStrike">
                <a:solidFill>
                  <a:srgbClr val="455f5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7823-CCE5-441F-ACCA-A5B39661F3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9364-848E-4192-9B32-4AEBA474F5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comments" Target="../comments/comment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18960" y="384192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42c"/>
                </a:solidFill>
                <a:latin typeface="Times New Roman"/>
                <a:ea typeface="ＭＳ Ｐゴシック"/>
              </a:rPr>
              <a:t>Caring for Clients With Hematologic and Lymphatic Disorder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933200" y="1905120"/>
            <a:ext cx="530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dult nursing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lytic Anemia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emature destruction of RB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trinsic or acquired caus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ickle cell disorde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bnormal Hgb, changes shape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tense pain, chest, back, joi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/Lymphedema</a:t>
            </a:r>
            <a:br>
              <a:rPr sz="4800"/>
            </a:b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38080" y="16002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lement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asure effected extremi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&amp;O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aily weigh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odium restri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/Lymphedema</a:t>
            </a:r>
            <a:br>
              <a:rPr sz="4800"/>
            </a:b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761760" y="1600200"/>
            <a:ext cx="792468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lementation (continued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tiembolic stockings/intermittent pressure devi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levate extremit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kin ca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tective devi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Picture 2"/>
          <p:cNvPicPr/>
          <p:nvPr/>
        </p:nvPicPr>
        <p:blipFill>
          <a:blip r:embed="rId1"/>
          <a:stretch/>
        </p:blipFill>
        <p:spPr>
          <a:xfrm>
            <a:off x="458640" y="990720"/>
            <a:ext cx="822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ickle Cell An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1" name="Picture 3" descr="AAHBXZL0"/>
          <p:cNvPicPr/>
          <p:nvPr/>
        </p:nvPicPr>
        <p:blipFill>
          <a:blip r:embed="rId1"/>
          <a:stretch/>
        </p:blipFill>
        <p:spPr>
          <a:xfrm>
            <a:off x="457200" y="1920960"/>
            <a:ext cx="82296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allass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herited; caused by abnormal Hgb synthe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iver and spleen enlarg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arget cel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quired Hemolytic Anemia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amage by outside fact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chanical traum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tibody reac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mune respons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rugs, toxins, chemical agents, veno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plastic An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 fails to produce RB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use unknow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ancytopen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yelodysplastic Syndrom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roup of stem cell disorde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en in older adul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, enlarged sple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olycyth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rythrocyto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bnormally high RBC count, high Hc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ood stick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condary form is the most comm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velops due to chronic hypoxemia or excess erythropoiet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olycythemia Vera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imary typ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duction of all blood cells increas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use unknow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sidious onse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angrene complic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roup of malignant disorders of WB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reater numbers of WB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use of most unknow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assified by onset and duration: acute or chroni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our typ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globin concentration or number of circulating RBCs decreas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used b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aired RBC form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xcessive loss or destruction of RB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Picture 7"/>
          <p:cNvPicPr/>
          <p:nvPr/>
        </p:nvPicPr>
        <p:blipFill>
          <a:blip r:embed="rId1"/>
          <a:stretch/>
        </p:blipFill>
        <p:spPr>
          <a:xfrm>
            <a:off x="458640" y="1577880"/>
            <a:ext cx="8226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- Pathophysiolog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transformation of a single stem cel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ells proliferate slowly, nonfunctional WB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 filled with leukemic cel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ave bone marrow and infiltrate other tissu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ath from hemorrhage or inf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-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eed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fg30_00400"/>
          <p:cNvPicPr/>
          <p:nvPr/>
        </p:nvPicPr>
        <p:blipFill>
          <a:blip r:embed="rId1"/>
          <a:stretch/>
        </p:blipFill>
        <p:spPr>
          <a:xfrm>
            <a:off x="990720" y="1219320"/>
            <a:ext cx="6629400" cy="50292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ultisystem effects of leukemia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ncer of lymph tiss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assified as Hodgkin or non-Hodgk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odgkin Diseas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st curabl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ainless progressive enlargement of one or more lymph nod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ed-Sternberg cel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use unknow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on-Hodgkin Lymphom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re comm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lymph nodes involv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Myelom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yeloma cells replace bone marrow, infiltrate bon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weakened, pathologic fractur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/back pain most common symptom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Kidney damag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eutropen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sease of number of circulating neutrophi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Usually secondary to infection, hematologic disease, chronic disease, chemo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vere form is called agranulocyto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n result in impaired WBC formation or increased WBC destr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tective measures are requir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eutropenia -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atig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Weaknes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ore thro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tomat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yphag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ev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il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Picture 1"/>
          <p:cNvPicPr/>
          <p:nvPr/>
        </p:nvPicPr>
        <p:blipFill>
          <a:blip r:embed="rId1"/>
          <a:stretch/>
        </p:blipFill>
        <p:spPr>
          <a:xfrm>
            <a:off x="458640" y="1619280"/>
            <a:ext cx="8226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rombocytopen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latelet count less than 100,000 per m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mmon cause of abnormal bleed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diopathic thrombocytopenia purpura most common for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latelets destroy more rapidly than norma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utoimmune disord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rombocytopen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nifest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urpur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cchymos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etechia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pistax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norrhag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atur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roup of hereditary clotting factor deficienc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st common typ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ficiency in Factor VIII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B (Christmas disease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ss comm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ficiency in Factor IX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ansmitted from mother to s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x-linked recessive disorder on X chromosom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fg30_00500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50277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heritance pattern for hemophilia A and B. Both are X-linked recessive disorders; females may carry the trait, but only males develop the disorder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-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rrhages into body tissu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sseminated Intravascular Coagulation (DIC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imultaneous blood clotting and hemorrhag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trinsic and/or extrinsic clotting cascades activat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Widespread clotting of small vesse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otting factors depleted; leads to bleed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-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eeding most obviou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achycardia, hypoten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ttl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bdominal disten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creased LO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Picture 13"/>
          <p:cNvPicPr/>
          <p:nvPr/>
        </p:nvPicPr>
        <p:blipFill>
          <a:blip r:embed="rId1"/>
          <a:stretch/>
        </p:blipFill>
        <p:spPr>
          <a:xfrm>
            <a:off x="457200" y="914400"/>
            <a:ext cx="82263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/Lymphedem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lammation of lymph vess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edem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bstructed lymph vess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- Pathophysiolog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duces the oxygen-carrying capacity of the bloo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uses tissue hypox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dy attempts to restore oxygen delive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fg30_00600"/>
          <p:cNvPicPr/>
          <p:nvPr/>
        </p:nvPicPr>
        <p:blipFill>
          <a:blip r:embed="rId1"/>
          <a:stretch/>
        </p:blipFill>
        <p:spPr>
          <a:xfrm>
            <a:off x="2362320" y="990720"/>
            <a:ext cx="4402080" cy="53323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vere lymphedema of the lower extremity. (Source: NMSB, Custom Medical Stock Photos, Inc.)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ectious Mononucleosi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ute infection caused by Epstein–Barr viru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enign and self-limi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Kissing disea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ectious Mononucleosis - Manifest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adach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atigu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eve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ore throa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nlarged and painful lymph nod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nlarged splee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Diagnostic Tes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B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ron leve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rum ferrit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ickle cell scree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globin electrophore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chilling’s tes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 aspir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Diagnostic Tes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BC with differential and platelet cou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Myeloma – Diagnostic Tes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Urine sampl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B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x-ray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eutropenia - Diagnosi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WBC cou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eutophil count less than 1500 cells/mm</a:t>
            </a:r>
            <a:r>
              <a:rPr b="0" lang="en-US" sz="2000" spc="-1" strike="noStrike" baseline="30000">
                <a:solidFill>
                  <a:srgbClr val="404040"/>
                </a:solidFill>
                <a:latin typeface="Times New Roman"/>
                <a:ea typeface="ＭＳ Ｐゴシック"/>
              </a:rPr>
              <a:t>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y be less than 500 cells/mm</a:t>
            </a:r>
            <a:r>
              <a:rPr b="0" lang="en-US" sz="2000" spc="-1" strike="noStrike" baseline="30000">
                <a:solidFill>
                  <a:srgbClr val="404040"/>
                </a:solidFill>
                <a:latin typeface="Times New Roman"/>
                <a:ea typeface="ＭＳ Ｐゴシック"/>
              </a:rPr>
              <a:t>3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 agranulocyto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404040"/>
                </a:solidFill>
                <a:latin typeface="Times New Roman"/>
                <a:ea typeface="ＭＳ Ｐゴシック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rombocytopenia – Diagnostic Tes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BC, platelet cou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tinuclear antibod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– Diagnostic Tes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latelet cou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agulation stud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otting fact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– Tests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otting stud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-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allo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gin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atig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yspnea on exer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ight cramp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63800" y="1846440"/>
            <a:ext cx="37018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pa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adach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zzines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m vi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ectious Mononucleosis – Diagnostic Tes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creased lymphocytes and monocyt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creased WBC cou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ow platele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 – Diagnostic Tes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st x-ra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bdominal C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iops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n Arbor staging syste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tswold staging classification syste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Nursing Implic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ypes of anem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dication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enetic counsel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ollow-up appoint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upport group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Implic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agnosis, treatment, bone marrow, compl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ncer as a chronic illn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alance activity with res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intain weight and nutri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ydr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event inf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ral hygien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Implications (continued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 (continued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crowds, sick peopl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immuniz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duce risk of bleeding or injur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OTC medications that can cause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fer to social services, support groups, home heal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 – Nursing Implic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eatment and effects of treat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kin ca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ew sympto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mplementary pain management strateg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st and exerci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et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merican Cancer Society referra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Myeloma – Nursing Implic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each S/S compl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osp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rombocytopenia – Nursing Implic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ntinue treatment to maintain remiss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ong-term steroid treat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plenectomy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– Nursing Implic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ow to prevent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vide med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enetic counsel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– Nursing Implic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per foot ca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parin home therap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When to contact physicia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ood Loss An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ute or chronic bleed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th lead to anem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BCs normal but reduced in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/Lymphedema</a:t>
            </a:r>
            <a:br>
              <a:rPr sz="4300"/>
            </a:b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ursing Implic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Use of pressure devices, elastic stocking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kin insp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kin ca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levate extremi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tivity, diet, diureti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d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pends on type and cau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ron replacemen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Vitamin B12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olic aci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ydroxyurea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munosuppressive therapy or androgen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Treatment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etary Consider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ron that is readily absorb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ron sour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ood Transfus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lace RB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Whole blood or packed RB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olycythemi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duce blood viscosity and volum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lieve symptom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hlebotomy to keep blood volume within normal leve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mo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mo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stroy leukemic cell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duce remiss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hieve remission, cure, relieve sympto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adiation 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hrink lymph nod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iologic 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terferons, interleuki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lony-stimulating facto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Treatment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 transplant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llogenic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liminate leukemic cell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onor marrow transfuse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utologou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wn bone marrow withdrawn, treated, frozen, reinfused later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Treatment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tem cell transpla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onor treated with colony-stimulating factors to increase concentration of stem cells in bloo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ood removed from donor, given to pati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 - Treatment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mo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mbin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mission in  more than 75%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adi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Used for bo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mbined with chemotherap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fg30_00700"/>
          <p:cNvPicPr/>
          <p:nvPr/>
        </p:nvPicPr>
        <p:blipFill>
          <a:blip r:embed="rId1"/>
          <a:stretch/>
        </p:blipFill>
        <p:spPr>
          <a:xfrm>
            <a:off x="3276720" y="1219320"/>
            <a:ext cx="2541600" cy="50292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eas of radiation for total nodal radiation therapy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Myelom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o cu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lieving symptom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ath within 2 to 5 yea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eat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motherapy, radiation, medications, pain control, blood transfus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utritional An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ack of nutrients for RBC formation or develop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ron deficienc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ilosis (cracks at corners of mouth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mooth, sore tongu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ica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Vitamin B12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ernicious anem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aresthesia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eutropeni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scontinue drugs that may be cause of disord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eat inf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ilgrastim (Neupogen) may be used to treat disord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rombocytopeni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d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teroi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munosuppressive drug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latelet transfus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lasmaphere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urgery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plenectom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lace clotting fact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resh frozen plasm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ryoprecipitat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ncentrat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DAVP (desmopressin acetate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eatment: underlying disea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d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ntrol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resh frozen plasm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pari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/Lymphedema</a:t>
            </a:r>
            <a:br>
              <a:rPr sz="4300"/>
            </a:b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eatment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lieve edema, maintain skin integrity, prevent/treat inf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ist heat, elevate, immobilize, skin/wound care, antibioti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edem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levate, elastic stockings, skin care, bed rest, sodium restri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ectious Mononucleosis - Treatment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covery in 2 to 3 week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ed res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algesi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tivity Intoleran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Vital sig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st perio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nergy conserv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moking cess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aired Oral Mucous Membran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 lips and tongu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uthwas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requent oral hygien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alcohol-based mouthwash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etroleum jelly for lip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spicy foo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ncourage soft bland foo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mall high-protein balanced meals each d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lf-Care Defici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ist with AD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st perio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ncerns about self-ca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valu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dependent AD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creased level of activi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kin and oral mucous membran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et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utritional Anemia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olic aci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ronic malnourish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lossit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ilos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arrhea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olycythemi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ydr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event blood stas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levate leg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upport stocking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moking cess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ort S/S thrombos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cognize manifest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isk for Inf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ection precau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invasive procedur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ort evidence of inf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nitor vital sig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ort lab valu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xplain precautions and restric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balanced Nutrition: Less than Body Requiremen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nitor weigh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mote food and fluid intak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procedures around meal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aired Oral Mucous Membran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 mou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1:1 solution saline/peroxide as mouthwas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oft-bristle toothbrus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dications for infection, pai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alcohol-based mouth wash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effective Prot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nitor LOC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ort manifestations of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invasive procedur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pply pressure to puncture sit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straining with bowel mov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ticipatory Griev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erapeutic communic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nage stressful situ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upport groups for the grieving proc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valu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reedom from inf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Weigh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ood intak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ral mucous membran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ping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 – Nursing Care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isk for Impaired Skin Integr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asures to reduce itc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ause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tiemeti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asures to relieve/reduce nause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 – Nursing Care (continued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atig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 malai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ncourage talking about disea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Quiet activit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st perio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igh-carbohydrate di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luid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of Chronic Diseas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en in AIDs, rheumatoid arthritis, inflammatory bowel disease (IBD), chronic hepatitis, chronic renal failure (CRF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verity depends on the severity of underlying disea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nifestations similar to iron deficiency anem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 – Nursing Care (continued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sturbed Body Imag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dy image assess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bjective signs of altered body imag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ping with alopec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ffects of illness on sexuali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upport group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Myelom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ronic Pa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 pai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ositioning, support with pillow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Use of analgesi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onpharmacology pain contro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st perio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Myelom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aired Physical Mobil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osi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ange positions every 2 hou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apeze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afety measur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rombocytopeni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effective Prot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nitor LOC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nifestations of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invasive procedur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essure dressing to puncture sit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straining at bowel mov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isk for Inju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igns of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top bleeding with pressure, 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o IM injec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afety measur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isk for Ineffective Therapeutic Regimen Manage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 knowledge/reinforce teac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motional suppor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pportunities to learn/practice administration clotting facto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effective Tissue Perfu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 puls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urn every 2 hou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o knee cross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inimize tape u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aired Gas Exchang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 saturation level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BG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xyge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owler’s/semi-Fowler’s posi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ed res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ep breathing and coug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ute Pa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ain scal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andle gentl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ol compresses to painful joi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ea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Verbalize concer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swer question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ping strateg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motional suppor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lm environ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spond to calls for help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laxation techniqu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3:01:21Z</dcterms:created>
  <dc:creator>scott</dc:creator>
  <dc:description/>
  <dc:language>en-US</dc:language>
  <cp:lastModifiedBy>Alshehri</cp:lastModifiedBy>
  <dcterms:modified xsi:type="dcterms:W3CDTF">2016-03-23T06:38:38Z</dcterms:modified>
  <cp:revision>27</cp:revision>
  <dc:subject/>
  <dc:title>Slide 1</dc:title>
</cp:coreProperties>
</file>