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comments/comment3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 " initials=" 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presProps" Target="presProps.xml"/><Relationship Id="rId113" Type="http://schemas.openxmlformats.org/officeDocument/2006/relationships/commentAuthors" Target="commentAuthors.xml"/>
</Relationships>
</file>

<file path=ppt/comments/comment38.xml><?xml version="1.0" encoding="utf-8"?>
<p:cmLst xmlns:p="http://schemas.openxmlformats.org/presentationml/2006/main">
  <p:cm authorId="0" dt="2010-01-24T19:54:50.953000000" idx="1">
    <p:pos x="10" y="10"/>
    <p:text>[Insert Box 20-6 from page 500]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112-EF47-40DB-A11D-C134FB36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22F-B713-4B08-A38A-D80678DB6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817-59EC-4F86-98C5-E0778076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318-EC9C-4197-B94E-8CB115B3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7EA-85F6-4CDD-A3BA-E28EE68C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924-9AC3-4F0F-8C2C-E336DD5D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D52F-1FDA-4574-84B3-6DCB8434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5456-EFBB-4DDD-85EC-2BE7FF83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5ED7-675D-4835-8EC4-505F3A3C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DB50-BB3E-439D-972B-E226D666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5237-85F6-4648-B4DE-07F5A44B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BA0A-F07D-4651-A424-858438DF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956A-44F6-49F1-912D-A2BEBE42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E77-8150-4229-BAF9-BE0A02EA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DD9B-1095-4152-BE73-BA4B93B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A62B-F23A-477E-A376-7818548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4F16-3106-4037-A19D-25F4D143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1BA9-C445-4C69-9FCF-821471B5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158B-AC86-4E46-B289-C81E4488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6444-CB31-4297-B8D7-B5E3131B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356D-568E-4F2B-852C-8E171A5C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453A4-BD72-4EC2-B7E4-78596A0B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DC28A-CDB9-4D2E-8AD9-D6810FEB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EB30-23F6-42CB-B511-44886918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5B1-A738-4FE5-9B6E-C2C5649D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563C-2352-4C09-A0D9-8F6D46E2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F0B71-AB17-4730-92A6-5DF15CDA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CCD8-3757-4A65-9B51-AD85FABA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3D89-9EE8-4328-993E-6959C2D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E59A-3A89-4178-9B29-A3DF0305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0078-122F-4317-8964-3B34E635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7B24-0F97-4DD1-9050-CE8EE29F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1701-F046-4BF1-A583-4AED97BA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FB6D-2AA7-45D0-A767-1806E8AF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C509F-85AE-408C-B0D1-423111DC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859-EA6C-4258-90E8-DB6C4672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A760-6238-4DFC-9D07-46FB3805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87EE-0F89-442C-864B-EA0E507E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EF01-1C14-49E9-AA15-D32766E0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496EA-448B-4479-86CA-0A129C7F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9449-D94A-4663-A001-55B4ED50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2D9D-F126-49E7-B937-E0BD706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69FD-D9C7-4C6E-9DE8-C507675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CD574-E7B2-44A5-A7B4-A591086E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9072-E529-4888-B2F9-40E8D3D0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93D9C-2E1B-4ACE-8B88-31959539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10A-F727-41F9-B96B-2B7AFE5E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C660F-2AD9-412D-86D3-7FF3E030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D86E1-4050-49AF-8602-D4D2C94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F89B1-D134-4CC9-AF66-61391352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A0330-D918-480A-B77A-FE9ABF3C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05E3-BB7E-4ADD-AA13-737E8039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AE174-9D61-4820-8AB4-C9E9457B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DF3F-1A9A-46E6-A22A-CB5B950E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8FFA1-87A7-493B-BFB8-32C1034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94749-EED9-4E13-B3BF-67D113AB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778A-D05C-41F5-948A-D347050A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C0C-6A6A-4739-9494-2552244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7F06-7F49-4D73-AB9B-BE80D43F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78B30-E125-45EE-A3C3-49F8D5FE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69C79-6A24-4E04-94D1-0A62F2E8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EFEF-D4AF-4247-A271-A8EA2675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0A564-9852-4119-9927-4F426E8A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6DD24-B7CB-43A0-B3CA-2A81ED0B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D17EB-6508-4198-BC1D-F35936CA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E2840-0C05-44D8-8029-59E75A1F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DD103-30F5-4D21-8AE4-3800E76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E6E0C-5297-40D3-B807-4FDBC65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AEE-2E59-418C-B72D-C024FA3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85BA4-BFC2-4A30-A892-E9721360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4FD4-6513-432B-8265-8F883CDC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7BE64-772E-417F-B546-8BC59544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D030A-E5F4-4E19-8914-F5F15A3A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8353F-62F1-4888-8723-3C357FEA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8DA8B-131E-4305-9C4E-4D3FF698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BFB1-FF21-4094-AD63-A4AEB2BC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BC4AF-75BF-451D-BD04-626EE56B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4D52E-06C1-48AB-A2ED-BBCD97CC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3CEEB-C662-42A7-AC8D-EE76CF1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FD8-52C3-44B8-822E-60BFD571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56C36-7F5C-495E-AFA6-5FFFA97B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C1889-25B8-46EB-AFA4-5FF88CE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52BFA-6876-4048-B740-933656B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6762F-7BE3-4A6F-A0A1-A6469013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8263-4E35-4679-A339-FDA6AED1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EF2-26A6-4DB9-B498-4B70A78D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2000-C51B-4436-A9E9-2FBD2131BE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DB85-E5F5-4658-8B73-5B54081968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6C74-2735-4643-ADF4-D3037719BD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E7F0-D2A7-436C-9AB0-29BEFE74D5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E276-DE86-4FDE-88D6-F92ED6A8808E}" type="slidenum"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8E5F-8CCD-4040-8F50-FE798E8B71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B9A8-E348-4170-BF74-4AC5E2DCCD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18960" y="384192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42c"/>
                </a:solidFill>
                <a:latin typeface="Times New Roman"/>
                <a:ea typeface="ＭＳ Ｐゴシック"/>
              </a:rPr>
              <a:t>Caring for Clients With Hematologic and Lymphatic Disorder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933200" y="1905120"/>
            <a:ext cx="530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dult nursin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lytic Anemia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emature destruction of R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trinsic or acquired ca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ckle cell disord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normal Hgb, changes shap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tense pain, chest, back, joi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br>
              <a:rPr sz="4800"/>
            </a:b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38080" y="16002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lement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asure effected extrem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&amp;O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aily weigh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odium restri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br>
              <a:rPr sz="4800"/>
            </a:b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761760" y="1600200"/>
            <a:ext cx="792468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lementation (continued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embolic stockings/intermittent pressure dev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evate extremit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tective dev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Picture 2"/>
          <p:cNvPicPr/>
          <p:nvPr/>
        </p:nvPicPr>
        <p:blipFill>
          <a:blip r:embed="rId1"/>
          <a:stretch/>
        </p:blipFill>
        <p:spPr>
          <a:xfrm>
            <a:off x="458640" y="990720"/>
            <a:ext cx="822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ckle Cell 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1" name="Picture 3" descr="AAHBXZL0"/>
          <p:cNvPicPr/>
          <p:nvPr/>
        </p:nvPicPr>
        <p:blipFill>
          <a:blip r:embed="rId1"/>
          <a:stretch/>
        </p:blipFill>
        <p:spPr>
          <a:xfrm>
            <a:off x="457200" y="1920960"/>
            <a:ext cx="82296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allass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herited; caused by abnormal Hgb synthe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iver and spleen enlarg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arget cel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quired Hemolytic Anemia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amage by outside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chanical trau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body reac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mune respons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rugs, toxins, chemical agents, ven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plastic 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 fails to produce R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 unknow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ncytopen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yelodysplastic Syndrom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roup of stem cell disord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en in older adul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, enlarged sple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lycyth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rythrocyto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normally high RBC count, high Hc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ood stick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condary form is the most comm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velops due to chronic hypoxemia or excess erythropoiet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lycythemia Vera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imary typ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duction of all blood cells increas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 unknow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sidious onse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angrene compli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roup of malignant disorders of W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reater numbers of W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 of most unknow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assified by onset and duration: acute or chroni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ur typ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globin concentration or number of circulating RBCs decreas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d b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RBC form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xcessive loss or destruction of RB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Picture 7"/>
          <p:cNvPicPr/>
          <p:nvPr/>
        </p:nvPicPr>
        <p:blipFill>
          <a:blip r:embed="rId1"/>
          <a:stretch/>
        </p:blipFill>
        <p:spPr>
          <a:xfrm>
            <a:off x="458640" y="1577880"/>
            <a:ext cx="8226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- Pathophysiolog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transformation of a single stem cel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ells proliferate slowly, nonfunctional WB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 filled with leukemic cel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ave bone marrow and infiltrate other tissu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ath from hemorrhage or 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eed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fg30_00400"/>
          <p:cNvPicPr/>
          <p:nvPr/>
        </p:nvPicPr>
        <p:blipFill>
          <a:blip r:embed="rId1"/>
          <a:stretch/>
        </p:blipFill>
        <p:spPr>
          <a:xfrm>
            <a:off x="990720" y="1219320"/>
            <a:ext cx="6629400" cy="50292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ultisystem effects of leukemia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ncer of lymph tiss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assified as Hodgkin or non-Hodgk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odgkin Diseas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st curabl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inless progressive enlargement of one or more lymph nod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ed-Sternberg cel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 unknow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n-Hodgkin Lympho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re comm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lymph nodes involv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yeloma cells replace bone marrow, infiltrate bon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weakened, pathologic fractur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/back pain most common sympto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Kidney dama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ropen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sease of number of circulating neutrophi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sually secondary to infection, hematologic disease, chronic disease, 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vere form is called agranulocyto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n result in impaired WBC formation or increased WBC destr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tective measures are requir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ropenia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atig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eaknes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ore thro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tomat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yphag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ev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il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Picture 1"/>
          <p:cNvPicPr/>
          <p:nvPr/>
        </p:nvPicPr>
        <p:blipFill>
          <a:blip r:embed="rId1"/>
          <a:stretch/>
        </p:blipFill>
        <p:spPr>
          <a:xfrm>
            <a:off x="458640" y="1619280"/>
            <a:ext cx="8226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telet count less than 100,000 per m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mmon cause of abnormal bleed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diopathic thrombocytopenia purpura most common for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telets destroy more rapidly than norm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utoimmune disord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nifes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urpur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cchymo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etechia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pistax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norrhag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atur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roup of hereditary clotting factor deficienc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st common typ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ficiency in Factor VIII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B (Christmas diseas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ss comm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ficiency in Factor IX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ansmitted from mother to s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x-linked recessive disorder on X chromosom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fg30_00500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50277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heritance pattern for hemophilia A and B. Both are X-linked recessive disorders; females may carry the trait, but only males develop the disorder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rrhages into body tissu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sseminated Intravascular Coagulation (DIC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multaneous blood clotting and hemorrha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trinsic and/or extrinsic clotting cascades activat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idespread clotting of small vesse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otting factors depleted; leads to bleed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eeding most obvio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achycardia, hypoten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ttl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dominal disten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creased LO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Picture 13"/>
          <p:cNvPicPr/>
          <p:nvPr/>
        </p:nvPicPr>
        <p:blipFill>
          <a:blip r:embed="rId1"/>
          <a:stretch/>
        </p:blipFill>
        <p:spPr>
          <a:xfrm>
            <a:off x="457200" y="914400"/>
            <a:ext cx="82263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lammation of lymph vess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edem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bstructed lymph vess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- Pathophysiolog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duces the oxygen-carrying capacity of the bloo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uses tissue hypox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dy attempts to restore oxygen deliv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fg30_00600"/>
          <p:cNvPicPr/>
          <p:nvPr/>
        </p:nvPicPr>
        <p:blipFill>
          <a:blip r:embed="rId1"/>
          <a:stretch/>
        </p:blipFill>
        <p:spPr>
          <a:xfrm>
            <a:off x="2362320" y="990720"/>
            <a:ext cx="4402080" cy="53323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vere lymphedema of the lower extremity. (Source: NMSB, Custom Medical Stock Photos, Inc.)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us Mononucleosi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ute infection caused by Epstein–Barr vir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enign and self-limi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Kissing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us Mononucleosis - Manifest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adach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atigu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ev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ore throa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larged and painful lymph nod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larged splee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Diagnostic Tes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B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leve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rum ferrit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ckle cell scree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globin electrophore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chilling’s tes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 aspir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Diagnostic Tes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BC with differential and platelet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– Diagnostic Tes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rine sampl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B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x-ray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ropenia - Diagnosi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BC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ophil count less than 1500 cells/mm</a:t>
            </a:r>
            <a:r>
              <a:rPr b="0" lang="en-US" sz="2000" spc="-1" strike="noStrike" baseline="30000">
                <a:solidFill>
                  <a:srgbClr val="404040"/>
                </a:solidFill>
                <a:latin typeface="Times New Roman"/>
                <a:ea typeface="ＭＳ Ｐゴシック"/>
              </a:rPr>
              <a:t>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y be less than 500 cells/mm</a:t>
            </a:r>
            <a:r>
              <a:rPr b="0" lang="en-US" sz="2000" spc="-1" strike="noStrike" baseline="30000">
                <a:solidFill>
                  <a:srgbClr val="404040"/>
                </a:solidFill>
                <a:latin typeface="Times New Roman"/>
                <a:ea typeface="ＭＳ Ｐゴシック"/>
              </a:rPr>
              <a:t>3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 agranulocyto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40404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 – Diagnostic Tes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BC, platelet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nuclear antibod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– Diagnostic Tes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telet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agulation stud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otting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Test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otting stud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- Manifest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llo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gin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atig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yspnea on exer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ight cramp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63800" y="1846440"/>
            <a:ext cx="37018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pa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adach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zzines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m vi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us Mononucleosis – Diagnostic Tes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creased lymphocytes and monocyt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creased WBC cou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ow platele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Diagnostic Tes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st x-ra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dominal C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iops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n Arbor staging syste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tswold staging classification syste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Implic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ypes of anem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enetic counsel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llow-up appointm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pport gro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agnosis, treatment, bone marrow, compl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ncer as a chronic illn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alance activity with r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intain weight and nutri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ydr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event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ral hygien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Implications (continued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 (continued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crowds, sick peopl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immuniz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duce risk of bleeding or inju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OTC medications that can cause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fer to social services, support groups, home heal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ment and effects of treat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w sympt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mplementary pain management strateg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and exerci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et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merican Cancer Society referr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each S/S compl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osp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ntinue treatment to maintain remiss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ong-term steroid treat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plenectomy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– 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ow to prevent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vide med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enetic counsel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Implic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per foot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parin home 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hen to contact physicia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ood Loss 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ute or chronic bleed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th lead to anem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BCs normal but reduced in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br>
              <a:rPr sz="4300"/>
            </a:b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rsing Implica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lient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se of pressure devices, elastic stockin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insp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evate extrem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tivity, diet, diuret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pends on type and cau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replacement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Vitamin B1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lic aci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ydroxyurea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munosuppressive therapy or androgen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Treatment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etary Consider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that is readily absorb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sour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ood Transfus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lace RB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hole blood or packed RB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lycythem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duce blood viscosity and volum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lieve sympto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hlebotomy to keep blood volume within normal leve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stroy leukemic cel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duce remiss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hieve remission, cure, relieve sympto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adiation 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hrink lymph nod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iologic 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terferons, interleuki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lony-stimulating fact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Treatment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ne marrow transplant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llogeni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iminate leukemic cell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onor marrow transfused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utologou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wn bone marrow withdrawn, treated, frozen, reinfused later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Treatment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tem cell transpla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onor treated with colony-stimulating factors to increase concentration of stem cells in bloo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ood removed from donor, given to pati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- Treatment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motherap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mbin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mission in  more than 75%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adi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sed for bo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mbined with chemotherap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fg30_00700"/>
          <p:cNvPicPr/>
          <p:nvPr/>
        </p:nvPicPr>
        <p:blipFill>
          <a:blip r:embed="rId1"/>
          <a:stretch/>
        </p:blipFill>
        <p:spPr>
          <a:xfrm>
            <a:off x="3276720" y="1219320"/>
            <a:ext cx="2541600" cy="50292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eas of radiation for total nodal radiation therapy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 c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lieving sympto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ath within 2 to 5 yea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motherapy, radiation, medications, pain control, blood transfus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tritional Anem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ack of nutrients for RBC formation or develop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ron deficienc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ilosis (cracks at corners of mouth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mooth, sore tongu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ica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Vitamin B12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ernicious anem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resthesia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eutropen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scontinue drugs that may be cause of disord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 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ilgrastim (Neupogen) may be used to treat disord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teroi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munosuppressive dru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telet transfus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lasmapheres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rgery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plenectom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lace clotting fac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resh frozen plasm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ryoprecipitat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ncentrat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DAVP (desmopressin acetat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- Treatme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ment: underlying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ntrol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resh frozen plasm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pari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/Lymphedema</a:t>
            </a:r>
            <a:br>
              <a:rPr sz="4300"/>
            </a:b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eatment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lieve edema, maintain skin integrity, prevent/treat 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angiti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ist heat, elevate, immobilize, skin/wound care, antibiot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ymphedem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evate, elastic stockings, skin care, bed rest, sodium restri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us Mononucleosis - Treatment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covery in 2 to 3 week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ed res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algesi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tivity Intolera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Vital sig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peri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ergy conserv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moking cess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Oral Mucous Membran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lips and tongu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uthwas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requent oral hygien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alcohol-based mouthwash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etroleum jelly for li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spicy fo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courage soft bland fo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mall high-protein balanced meals each d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lf-Care Defici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ist with AD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peri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ncerns about self-ca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valu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dependent AD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creased level of activ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kin and oral mucous membran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et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utritional Anemia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lic aci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ronic malnourish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Glossit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eilo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arrhea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lycythem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ydr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event blood sta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levate le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pport stockin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moking cess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rt S/S thrombosi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cognize manifest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isk for Inf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fection precau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invasive proced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rt evidence of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nitor vital sig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rt lab valu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xplain precautions and restric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balanced Nutrition: Less than Body Requiremen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nitor weigh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omote food and fluid intak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procedures around mea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Oral Mucous Membran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mou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1:1 solution saline/peroxide as mouthwas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oft-bristle toothbrus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dications for infection, pai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alcohol-based mouth wash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effective Prot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nitor LO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rt manifestations of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invasive proced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pply pressure to puncture sit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straining with bowel mov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cipatory Griev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erapeutic communic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nage stressful situ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pport groups for the grieving pro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Leukemi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valu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reedom from inf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Weigh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od intak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ral mucous membran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ping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Nursing Care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isk for Impaired Skin Integr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asures to reduce itc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ause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tiemet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easures to relieve/reduce nause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Nursing Care (continued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atig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malai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ncourage talking about disea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Quiet activit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peri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igh-carbohydrate di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luid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emia of Chronic Diseas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en in AIDs, rheumatoid arthritis, inflammatory bowel disease (IBD), chronic hepatitis, chronic renal failure (CRF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everity depends on the severity of underlying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nifestations similar to iron deficiency anem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lignant Lymphoma – Nursing Care (continued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sturbed Body Ima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ody image assess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bjective signs of altered body imag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ping with alopeci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ffects of illness on sexualit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upport group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ronic Pa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pai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ositioning, support with pillow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Use of analgesic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npharmacology pain contro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t period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ultiple Myeloma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Physical Mobil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posi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hange positions every 2 hou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rapeze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afety meas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hrombocytopen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effective Prote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onitor LOC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anifestations of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invasive proced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ressure dressing to puncture sit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void straining at bowel mov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isk for Inju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igns of bleed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top bleeding with pressure, i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 IM injec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Safety measur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emophilia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isk for Ineffective Therapeutic Regimen Manage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knowledge/reinforce teac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motional sup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pportunities to learn/practice administration clotting fact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Car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neffective Tissue Perf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ssess puls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Turn every 2 hou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No knee cross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Minimize tape u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Impaired Gas Exchan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 saturation leve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BG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Oxyge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owler’s/semi-Fowler’s posi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Bed res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eep breathing and cough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cute Pai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Pain scal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Handle gentl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ol compresses to painful joi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DIC – Nursing Care (continued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Fea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Verbalize concer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Answer question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oping strategi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Emotional sup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Calm environ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spond to calls for help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ＭＳ Ｐゴシック"/>
              </a:rPr>
              <a:t>Relaxation techniqu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3:01:21Z</dcterms:created>
  <dc:creator>scott</dc:creator>
  <dc:description/>
  <dc:language>en-US</dc:language>
  <cp:lastModifiedBy>Alshehri</cp:lastModifiedBy>
  <dcterms:modified xsi:type="dcterms:W3CDTF">2016-03-23T06:38:38Z</dcterms:modified>
  <cp:revision>27</cp:revision>
  <dc:subject/>
  <dc:title>Slide 1</dc:title>
</cp:coreProperties>
</file>