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08D3-E60B-490B-AB54-E094BD32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3BA7-C8C5-49A9-B3D8-EE2BA63E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EA13-4480-4528-A83F-8DAFEDD2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DCED-9AD3-46D1-B9D8-3D4322DE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7C10-F1C0-404A-878F-1F65544D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728E-D30D-4027-8F42-31309498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F9BC-DE89-43F0-BAB2-6073F59E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548D-6892-4106-B3CA-30FA0F84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DB16-9228-4600-A25F-7D35B13F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432F-F53F-4FAC-B4B9-74B8DB07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D527-496D-40F2-816C-90D7E57A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9144-9796-4F56-9070-329B4A6E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BA89-DD7F-4E58-B8CA-A50573EB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F6FD-264F-4EB9-A3A4-14CC599B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B8DF-50B6-48E4-8C55-683B0317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DFAB-D3D8-4E61-9CE4-3AEA8C6D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D0DC-2AF1-47EF-86C2-3FFBBE45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6BDF-61C0-44B8-9D11-7962082C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0083-BADA-474B-AFD6-DF17CFD7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1F82-2EF4-42BE-8A43-DA65BDB1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DCED-0038-429C-AE84-202B03B2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44AD-C63F-400A-8A31-E4714033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2ADF-B38C-404F-9CD7-08F4C447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ED63-FB80-4468-8C3D-B02ED4B9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5F6D-51EB-4AE3-B795-F2D356092020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7A46-498F-4694-9B4A-653F767CACA9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7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757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75799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757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75799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75799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Haematological aspects of systemic disease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CTD – cont.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Coagulation change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Associated with renal disease, drug therapy, DIC and specific coagulation factor inhibitors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The Lupus anticoagulant occurs in approximately 10% of patients with SLE.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Renal, Liver, Endocrine -  Pregnancy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Renal disease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Anaemia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Acute or chronic renal failure – normochromic normocytic anaemia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Reduce EPO levels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Echinocytes 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Iron deficiency and haemolysis (HUS &amp; TTP)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EPO corrects anaemia to 12g/dL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Poor response to EPO – 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fe or folate def. , haemolysis, infection, occult malignancy, aluminium toxicity, hyperparathyroidism and inadequate dialysis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Hypertension and thrombosis of an AV fistula may occur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Polycythaemia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May occur with renal tumours or cyst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5799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Renal disease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Haemostatic abnormalitie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Coagulation factors II, XI or XIII may be reduced 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Platelet function is impaired (predisposed to bleeding)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Low levels of Protein C, AT or plasminogen  may lead to  thrombosis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Endocrine disease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Anaemia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Hyper and hypothyroidism cause a mild anaemia (MCV raised in hypothyroidism and lowered in thyrotoxicosis)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Deficiencies of iron, as a result of menorrhagia or achlorhydria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B12 deficiency (increased incidence of pernicious anaemia in hypothyroidism, hypoadrenalism and hypoparathyroidism) kay complicate the anaemia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Anti-thyroid drugs (carbimazole and propylthiouracil) can cause aplastic anaemia and agranulocytosis  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Liver disease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Anaemia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Caused by anaemia of chronic disease, haemodilution (increased plasma volume), pooling of red cells (splenomegaly) and haemorrhage (e.g. oesophageal varices)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MCV raised especially in alcoholics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Target cells, echinocytes and acanthocytes occur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Haemolysis and hypertriglyceridaemia with alcoholic liver disease is rare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Direct toxicity of copper for red cells causes haemolysis in Wilson’s  disease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Viral hepatitis may lead to aplastic anaemia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Platelets may be low (hypersplenism or DIC)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Liver disease cont.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Platelets and haemostasi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Defects of platelets, coagulation and fibrinolysis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Reduced synthesis of Vit. K. dependent factors (II,VII,IX,X,pC,pS)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Impaired synthesis of other coagulation proteins (I,V)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Thrombocytopaenia (hypersplenism) and abnormal platelet function (cirrhosis)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Fibrinolysis impaired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Reduced levels of proteins C,S,AT, antiplasmin – DIC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Dysfibrinoginaemia may lead to haemorrhage, or thrombosis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Coagulation change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Increased PT,APTT, N or increased TT, decreased platelets and dysfibrinogenaemia  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Pregnancy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Anaemia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Plasma volume increases up to 50%, RCM increases 20-30% - haemodilution, MCV rises 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Fe. def. frequent (RCM, fe. to foetus, blood loss)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Increased folate requirements (catabolism) ,B12 falls below normal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AIHA, HELLP syndrome, DIC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White cell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Mild neutrophil leucocytosis with left shift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Platelet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Gestational Thrombocytopenia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Maternal ITP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Pre-eclampsia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Coagulation changes 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Increased risk of thrombosis and DIC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Infection, Amyloid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         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Infection - viruses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Anaemia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AIHA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Erythema variegata (fifth disease) - B19 Parvovirus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Virus associated bone marrow aplasia (Hep, HIV, CMV)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MAHA with TTP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7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57579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White cell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Neutropaenia with lymphopaenia or lymphocytosis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Platelet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Thrombocytopenia – either immune (infectious mononucleosis, HIV) , caused by bone marrow aplasia, or increased consumption (e.g. DIC, TTP,HUS, Haemophagocytosis)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Reactive thrombocytosis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Inflammation – malignancy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Renal, liver, endocrine,pregnancy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Infection, amyloid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11a5"/>
                </a:solidFill>
                <a:latin typeface="Tahoma"/>
              </a:rPr>
              <a:t>Infection – bacterial, fungal and protozoal</a:t>
            </a:r>
            <a:endParaRPr b="0" lang="en-US" sz="36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Anaemia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ACD is frequent. 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Haemolytic anaemia may be immune or non-immune.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DIC and MAHA may occur. HUS may follow infection by </a:t>
            </a:r>
            <a:r>
              <a:rPr b="0" i="1" lang="en-US" sz="1800" spc="-1" strike="noStrike">
                <a:solidFill>
                  <a:srgbClr val="575799"/>
                </a:solidFill>
                <a:latin typeface="Tahoma"/>
              </a:rPr>
              <a:t>E.coli, Shigella and Campylobacter.</a:t>
            </a: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Blood loss can occur with </a:t>
            </a:r>
            <a:r>
              <a:rPr b="0" i="1" lang="en-US" sz="1800" spc="-1" strike="noStrike">
                <a:solidFill>
                  <a:srgbClr val="575799"/>
                </a:solidFill>
                <a:latin typeface="Tahoma"/>
              </a:rPr>
              <a:t>H.pylori</a:t>
            </a: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 and ankylostoma infections.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White cell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SzPct val="1280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Neutrophilia is most common</a:t>
            </a:r>
            <a:r>
              <a:rPr b="0" lang="en-US" sz="1600" spc="-1" strike="noStrike">
                <a:solidFill>
                  <a:srgbClr val="57579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57579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Platelet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Thrombocytosis is frequently reactive. Thrombocytopenia may also occur, caused by immune destruction, circulating immune complexes, decreased platelet production and DIC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Haemostasi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DIC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11a5"/>
                </a:solidFill>
                <a:latin typeface="Tahoma"/>
              </a:rPr>
              <a:t>Infection – bacterial, fungal and protozoal cont.</a:t>
            </a:r>
            <a:endParaRPr b="0" lang="en-US" sz="36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Malaria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Anaemia is caused by haemolysis, splenic sequestration, haemodilution and ineffective erythropoeisis.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Malaria antigens attached to red cells may cause immune haemolysis. Acute intravascular haemolysis with haemoglobinuria and renal failure (blackwater fever) occurs rarely in </a:t>
            </a:r>
            <a:r>
              <a:rPr b="0" i="1" lang="en-US" sz="1800" spc="-1" strike="noStrike">
                <a:solidFill>
                  <a:srgbClr val="575799"/>
                </a:solidFill>
                <a:latin typeface="Tahoma"/>
              </a:rPr>
              <a:t>Plasmodium falciparum. </a:t>
            </a: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ACD may also occur. 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Eosinophilia is variable. 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Thrombocytopenia may be caused by immune destruction, splenic sequestration and DIC.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Leishmaniasi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Protozoal infection 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Hepatosplenomegaly, hypergammaglobulinaemia, normochromic anaemia and a raised ESR occur.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Amyloid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Tissue deposition of a homogenous eosinophilic protein material which is birefringent and stains with Congo red.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2 type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Amyloid derived from clonal lymphocyte or plasma cell proliferation (AL) (e.g. myeloma, primary amyloidosis)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Reactive amyloidosis (AA) which occurs when serum amyloid A protein is deposited in chronic inflammatory disease (e.g. rheumatoid arthritis, inflammatory bowel disease) or chronic infection (e.g. tb, leprosy, osteomyelitis and bronchiectasis)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Localized amyloid may occur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Amyloid P protein is deposited in both AL and AA types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Amyloid deposition leads organ enlargement and dysfunction. Tissues involved include: kidneys, heart, skin, tongue, endocrine organs, liver, spleen, GI tract, respiratory tract and the autonomic nervous system. 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Inflammation - Malignancy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Anaemia of chronic disease (ACD)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Normochromic or mildly hypochromic anaemia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Moderate anaemia (hb&gt;9.0g/dl)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Reduced serum iron and tibc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Normal or raised serum ferritin with adequate bm iron stores and reduced sideroblasts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111a5"/>
                </a:solidFill>
                <a:latin typeface="Tahoma"/>
                <a:ea typeface="Arial"/>
              </a:rPr>
              <a:t>                        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75799"/>
                </a:solidFill>
                <a:latin typeface="Tahoma"/>
                <a:ea typeface="Arial"/>
              </a:rPr>
              <a:t>     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0"/>
          <a:ext cx="9144000" cy="6857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3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575799"/>
                          </a:solidFill>
                          <a:uFillTx/>
                          <a:latin typeface="Tahoma"/>
                        </a:rPr>
                        <a:t>Conditions associated with anaemia of chronic disorder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68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b49234"/>
                          </a:solidFill>
                          <a:uFillTx/>
                          <a:latin typeface="Tahoma"/>
                        </a:rPr>
                        <a:t>Chronic infection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75799"/>
                          </a:solidFill>
                          <a:latin typeface="Tahoma"/>
                        </a:rPr>
                        <a:t>Especially osteomyelitis, bacterial endocarditis, tuberculosis, chronic abscesses, bromchiectasis, chronic urinary tract infections, HIV, AIDS, malaria.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5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b49234"/>
                          </a:solidFill>
                          <a:uFillTx/>
                          <a:latin typeface="Tahoma"/>
                        </a:rPr>
                        <a:t>Other chronic inflammatory disorder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75799"/>
                          </a:solidFill>
                          <a:latin typeface="Tahoma"/>
                        </a:rPr>
                        <a:t>Rheumatoid arthritis, polymyalgia rheumatica, systemic lupus erythmatosus, schleroderma, inflammatory bowel disease, thrombophlebitis.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13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b49234"/>
                          </a:solidFill>
                          <a:uFillTx/>
                          <a:latin typeface="Tahoma"/>
                        </a:rPr>
                        <a:t>Malignant disease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75799"/>
                          </a:solidFill>
                          <a:latin typeface="Tahoma"/>
                        </a:rPr>
                        <a:t>Carcinoma, especially metastatic or associated with infection, lymphoma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b49234"/>
                          </a:solidFill>
                          <a:uFillTx/>
                          <a:latin typeface="Tahoma"/>
                        </a:rPr>
                        <a:t>Other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75799"/>
                          </a:solidFill>
                          <a:latin typeface="Tahoma"/>
                        </a:rPr>
                        <a:t>Congestive heart failure, ischaemic heart diseas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Pathogenesis of ACD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Pathogenesis of ACD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5799"/>
                </a:solidFill>
                <a:latin typeface="Tahoma"/>
              </a:rPr>
              <a:t>Hepcidin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5799"/>
                </a:solidFill>
                <a:latin typeface="Tahoma"/>
              </a:rPr>
              <a:t>Increased levels of cytokine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Treatment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5799"/>
                </a:solidFill>
                <a:latin typeface="Tahoma"/>
              </a:rPr>
              <a:t>Therapy of chronic disease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5799"/>
                </a:solidFill>
                <a:latin typeface="Tahoma"/>
              </a:rPr>
              <a:t>Recombinant EPO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Malignancy - anaemia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ACD affects almost all patient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AIHA esp. in lymphoma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MHA with disseminated 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Blood loss in GI and gynaecological malignanciesmucin secreting adenocarcinoma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Leucoerythroblastic anaemia indicates marrow infiltration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Red cell aplasia is associated with thymoma, lymphoma and CLL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Other cause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SzPct val="1151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Chemotherapy or radiotherapy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SzPct val="11513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Folate deficiency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Malignancy 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Polycythaemia 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Tumour cells may produce EPO or EPO-like polypeptide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White cell change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Neutrophilia (infection or bleeding)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Neutropaenia (chemotherapy)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Platelet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Thrombocytopaenia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Thrombocytosi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Coagulation change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Haemorrhage or thrombosis (activation of both coagulation and fibrinolysis)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Chronic DIC - thrombosis and migratory thrombophlebiti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Circulating anticoagulants and specific coagulation factor inhibitor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Connective tissue disorders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Anaemia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ACD common. Fe def. may coexist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AIHA occurs in SLE, R.A, and mixed CTD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Red cell aplasia occurs in SLE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White cell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Inflammation – neutrophilia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Felty’s sx. (neutropaenia with splenomegaly in R.A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Antibody and immune mediated neutrophil destruction and decreased neutrophil production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Eosinophilia – SLE, R.A, polyarteritis nodosa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Platelet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Thrombocytopaenia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Thrombocytosis in CTD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5799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2:43:30Z</dcterms:created>
  <dc:creator> </dc:creator>
  <dc:description/>
  <dc:language>en-US</dc:language>
  <cp:lastModifiedBy>Dr.abdel-hamid</cp:lastModifiedBy>
  <dcterms:modified xsi:type="dcterms:W3CDTF">2006-10-16T04:04:57Z</dcterms:modified>
  <cp:revision>13</cp:revision>
  <dc:subject/>
  <dc:title>Haematological aspects of systemic disease</dc:title>
</cp:coreProperties>
</file>