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E1C-B610-41DC-A6E0-102788A2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FA6-C6FC-484C-8D9C-9EC28F6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FFD-142F-4414-812B-9F26F967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74F-53D0-4C23-A3E7-5F1F8653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53F-5329-4204-AE9C-35CA34F5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7F84-79CF-4A6E-B052-61EC763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A078-E360-4D96-9089-4925B631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884-7AF8-4640-80F2-6D53C34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CACA-A712-4C4E-88B2-8463B04F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BEE-8A5C-48CF-9D42-91723A5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7CF6-DC34-4C37-B276-6774479F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3E0-8307-471F-A81F-032EAA9A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4A3D-AC96-4977-97C5-9C48B87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EC2-092F-416D-8768-DD5FE4B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ADD-6A4F-4C0F-8D6B-B26F5992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C919-D281-4708-BFB6-6AC85AC0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C274-1AAC-4915-AA8A-FFAA89DA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90C-36DE-404D-816C-4EC63390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C20-08DD-4B5C-A6CD-F0601524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6D3-0156-4AEB-95F9-505AD3C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255-76B0-476A-84A0-DBDC877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754-9873-4C91-BA2A-1188EE7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2DC-7AFC-4D98-9E52-F704968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5C2-6C3C-4F98-9309-87233A6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CE25-16EC-4874-A7B7-539ADF005B4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325D-6CE9-49EA-B3C4-0973DBF4BF1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7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757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75799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75799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75799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Haematological aspects of systemic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TD – cont.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ssociated with renal disease, drug therapy, DIC and specific coagulation factor inhibitor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e Lupus anticoagulant occurs in approximately 10% of patients with SLE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Renal, Liver, Endocrine -  Pregnancy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Renal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cute or chronic renal failure – normochromic normocytic anaem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duce EPO level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chinocytes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ron deficiency and haemolysis (HUS &amp; TTP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PO corrects anaemia to 12g/dL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oor response to EPO –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fe or folate def. , haemolysis, infection, occult malignancy, aluminium toxicity, hyperparathyroidism and inadequate dialy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ypertension and thrombosis of an AV fistula may occur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olycyth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May occur with renal tumours or cys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Renal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Haemostatic abnormaliti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Coagulation factors II, XI or XIII may be reduced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latelet function is impaired (predisposed to bleeding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Low levels of Protein C, AT or plasminogen  may lead to  thromb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Endocrine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yper and hypothyroidism cause a mild anaemia (MCV raised in hypothyroidism and lowered in thyrotoxic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eficiencies of iron, as a result of menorrhagia or achlorhydr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B12 deficiency (increased incidence of pernicious anaemia in hypothyroidism, hypoadrenalism and hypoparathyroidism) kay complicate the anaem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nti-thyroid drugs (carbimazole and propylthiouracil) can cause aplastic anaemia and agranulocytosis 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Liver disease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Caused by anaemia of chronic disease, haemodilution (increased plasma volume), pooling of red cells (splenomegaly) and haemorrhage (e.g. oesophageal varice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CV raised especially in alcoholic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arget cells, echinocytes and acanthocytes occur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aemolysis and hypertriglyceridaemia with alcoholic liver disease is rare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irect toxicity of copper for red cells causes haemolysis in Wilson’s  disease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Viral hepatitis may lead to aplastic anaem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latelets may be low (hypersplenism or DIC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Liver disease cont.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 and haemosta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efects of platelets, coagulation and fibrinoly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duced synthesis of Vit. K. dependent factors (II,VII,IX,X,pC,p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mpaired synthesis of other coagulation proteins (I,V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paenia (hypersplenism) and abnormal platelet function (cirrh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Fibrinolysis impaired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duced levels of proteins C,S,AT, antiplasmin –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ysfibrinoginaemia may lead to haemorrhage, or thromb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ncreased PT,APTT, N or increased TT, decreased platelets and dysfibrinogenaemia 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Pregnancy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lasma volume increases up to 50%, RCM increases 20-30% - haemodilution, MCV rises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Fe. def. frequent (RCM, fe. to foetus, blood los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ncreased folate requirements (catabolism) ,B12 falls below normal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IHA, HELLP syndrome,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ild neutrophil leucocytosis with left shift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Gestational Thrombocytopen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aternal ITP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re-eclampsi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 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Increased risk of thrombosis and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Infection, Amyloid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Infection - viruses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IHA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rythema variegata (fifth disease) - B19 Parvoviru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Virus associated bone marrow aplasia (Hep, HIV, CMV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AHA with TTP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7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Neutropaenia with lymphopaenia or lymphocyt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penia – either immune (infectious mononucleosis, HIV) , caused by bone marrow aplasia, or increased consumption (e.g. DIC, TTP,HUS, Haemophagocyt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active thrombocytosi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Inflammation – malignancy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Renal, liver, endocrine,pregnancy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Infection, amyloid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a5"/>
                </a:solidFill>
                <a:latin typeface="Tahoma"/>
              </a:rPr>
              <a:t>Infection – bacterial, fungal and protozoal</a:t>
            </a:r>
            <a:endParaRPr b="0" lang="en-US" sz="36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CD is frequent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aemolytic anaemia may be immune or non-immune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IC and MAHA may occur. HUS may follow infection by </a:t>
            </a:r>
            <a:r>
              <a:rPr b="0" i="1" lang="en-US" sz="1800" spc="-1" strike="noStrike">
                <a:solidFill>
                  <a:srgbClr val="575799"/>
                </a:solidFill>
                <a:latin typeface="Tahoma"/>
              </a:rPr>
              <a:t>E.coli, Shigella and Campylobacter.</a:t>
            </a: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Blood loss can occur with </a:t>
            </a:r>
            <a:r>
              <a:rPr b="0" i="1" lang="en-US" sz="1800" spc="-1" strike="noStrike">
                <a:solidFill>
                  <a:srgbClr val="575799"/>
                </a:solidFill>
                <a:latin typeface="Tahoma"/>
              </a:rPr>
              <a:t>H.pylori</a:t>
            </a: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 and ankylostoma infections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Neutrophilia is most common</a:t>
            </a:r>
            <a:r>
              <a:rPr b="0" lang="en-US" sz="1600" spc="-1" strike="noStrike">
                <a:solidFill>
                  <a:srgbClr val="5757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sis is frequently reactive. Thrombocytopenia may also occur, caused by immune destruction, circulating immune complexes, decreased platelet production and 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Haemosta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DIC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a5"/>
                </a:solidFill>
                <a:latin typeface="Tahoma"/>
              </a:rPr>
              <a:t>Infection – bacterial, fungal and protozoal cont.</a:t>
            </a:r>
            <a:endParaRPr b="0" lang="en-US" sz="36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Malar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naemia is caused by haemolysis, splenic sequestration, haemodilution and ineffective erythropoeisis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Malaria antigens attached to red cells may cause immune haemolysis. Acute intravascular haemolysis with haemoglobinuria and renal failure (blackwater fever) occurs rarely in </a:t>
            </a:r>
            <a:r>
              <a:rPr b="0" i="1" lang="en-US" sz="1800" spc="-1" strike="noStrike">
                <a:solidFill>
                  <a:srgbClr val="575799"/>
                </a:solidFill>
                <a:latin typeface="Tahoma"/>
              </a:rPr>
              <a:t>Plasmodium falciparum. </a:t>
            </a: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CD may also occur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Eosinophilia is variable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Thrombocytopenia may be caused by immune destruction, splenic sequestration and DIC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Leishmania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Protozoal infection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Hepatosplenomegaly, hypergammaglobulinaemia, normochromic anaemia and a raised ESR occur.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Amyloid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issue deposition of a homogenous eosinophilic protein material which is birefringent and stains with Congo red.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2 typ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myloid derived from clonal lymphocyte or plasma cell proliferation (AL) (e.g. myeloma, primary amyloido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Reactive amyloidosis (AA) which occurs when serum amyloid A protein is deposited in chronic inflammatory disease (e.g. rheumatoid arthritis, inflammatory bowel disease) or chronic infection (e.g. tb, leprosy, osteomyelitis and bronchiectasis)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Localized amyloid may occur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myloid P protein is deposited in both AL and AA types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799"/>
                </a:solidFill>
                <a:latin typeface="Tahoma"/>
              </a:rPr>
              <a:t>Amyloid deposition leads organ enlargement and dysfunction. Tissues involved include: kidneys, heart, skin, tongue, endocrine organs, liver, spleen, GI tract, respiratory tract and the autonomic nervous system. </a:t>
            </a:r>
            <a:endParaRPr b="0" lang="en-US" sz="18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Inflammation - Malignancy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Anaemia of chronic disease (ACD)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Normochromic or mildly hypochromic anaemia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Moderate anaemia (hb&gt;9.0g/dl)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Reduced serum iron and tibc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Normal or raised serum ferritin with adequate bm iron stores and reduced sideroblasts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111a5"/>
                </a:solidFill>
                <a:latin typeface="Tahoma"/>
                <a:ea typeface="Arial"/>
              </a:rPr>
              <a:t>                        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75799"/>
                </a:solidFill>
                <a:latin typeface="Tahoma"/>
                <a:ea typeface="Arial"/>
              </a:rPr>
              <a:t>     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575799"/>
                          </a:solidFill>
                          <a:uFillTx/>
                          <a:latin typeface="Tahoma"/>
                        </a:rPr>
                        <a:t>Conditions associated with anaemia of chronic disord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Chronic infection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Especially osteomyelitis, bacterial endocarditis, tuberculosis, chronic abscesses, bromchiectasis, chronic urinary tract infections, HIV, AIDS, malaria.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Other chronic inflammatory disord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Rheumatoid arthritis, polymyalgia rheumatica, systemic lupus erythmatosus, schleroderma, inflammatory bowel disease, thrombophlebitis.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Malignant disease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Carcinoma, especially metastatic or associated with infection, lymphom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b49234"/>
                          </a:solidFill>
                          <a:uFillTx/>
                          <a:latin typeface="Tahoma"/>
                        </a:rPr>
                        <a:t>Oth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75799"/>
                          </a:solidFill>
                          <a:latin typeface="Tahoma"/>
                        </a:rPr>
                        <a:t>Congestive heart failure, ischaemic heart diseas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Pathogenesis of ACD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Pathogenesis of ACD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Hepcidin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Increased levels of cytokin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799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Therapy of chronic disease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799"/>
                </a:solidFill>
                <a:latin typeface="Tahoma"/>
              </a:rPr>
              <a:t>Recombinant EPO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Malignancy - anaemia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CD affects almost all patien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IHA esp. in lymphom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MHA with disseminated 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Blood loss in GI and gynaecological malignanciesmucin secreting adenocarcinom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Leucoerythroblastic anaemia indicates marrow infiltration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Red cell aplasia is associated with thymoma, lymphoma and CLL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Other caus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Chemotherapy or radiotherapy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olate deficiency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Malignancy 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olycythaemia 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umour cells may produce EPO or EPO-like polypeptid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Neutrophilia (infection or bleeding)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Neutropaenia (chemotherapy)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paen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s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Coagulation change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Haemorrhage or thrombosis (activation of both coagulation and fibrinolysis)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Chronic DIC - thrombosis and migratory thrombophlebiti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Circulating anticoagulants and specific coagulation factor inhibitor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a5"/>
                </a:solidFill>
                <a:latin typeface="Tahoma"/>
              </a:rPr>
              <a:t>Connective tissue disorders</a:t>
            </a:r>
            <a:endParaRPr b="0" lang="en-US" sz="4400" spc="-1" strike="noStrike">
              <a:solidFill>
                <a:srgbClr val="1111a5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Anaem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CD common. Fe def. may coexist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IHA occurs in SLE, R.A, and mixed CTD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Red cell aplasia occurs in SLE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White cell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Inflammation – neutrophil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Felty’s sx. (neutropaenia with splenomegaly in R.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Antibody and immune mediated neutrophil destruction and decreased neutrophil production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Eosinophilia – SLE, R.A, polyarteritis nodos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75799"/>
                </a:solidFill>
                <a:uFillTx/>
                <a:latin typeface="Tahoma"/>
              </a:rPr>
              <a:t>Platelets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paenia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799"/>
                </a:solidFill>
                <a:latin typeface="Tahoma"/>
              </a:rPr>
              <a:t>Thrombocytosis in CTD</a:t>
            </a: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75799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757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2:43:30Z</dcterms:created>
  <dc:creator> </dc:creator>
  <dc:description/>
  <dc:language>en-US</dc:language>
  <cp:lastModifiedBy>Dr.abdel-hamid</cp:lastModifiedBy>
  <dcterms:modified xsi:type="dcterms:W3CDTF">2006-10-16T04:04:57Z</dcterms:modified>
  <cp:revision>13</cp:revision>
  <dc:subject/>
  <dc:title>Haematological aspects of systemic disease</dc:title>
</cp:coreProperties>
</file>