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3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8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46AF2-23C2-4669-B27E-88B9F6CA90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1C11D-1C1C-4423-81C4-7CDD531AF3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5F392-ED18-45C1-8C52-F0D3A6B6F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4BEEB-2811-483A-B908-F86FB2240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5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5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6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6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6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7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7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7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7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7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7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7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7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93DEF-22A3-42AF-9162-62631AFF63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A8E0C-773F-4895-8BC9-2F728391E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F113E9-E452-4F8E-A186-F170ACFE25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AC6A9-FBA2-4B62-A2DF-9C50132BBD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D4495C-6D44-4DD7-9AC7-8333445F06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36A5B-6170-4600-83D6-FEE97FB06E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17CAA1-3C29-4F8D-AB93-1B6D7DA91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7025C-7F65-44C6-B959-38C8516CD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A867A6-475E-4CE6-9123-D0B21C189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68CB6-1A48-4BB2-9175-ACB369B08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FB439-0CE1-4184-A578-08FD6F074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D7B5B-F60B-4737-BA86-97B981E29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147C25-729F-4790-8A87-4547C8F976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78565C-01FB-4DFA-B3D1-AF679C27D2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A09498-06F9-4689-BFC0-5A6A2570FB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60E1DD-E65C-4D18-90EA-359EC15EB1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199C2A-4A1F-45E7-BC79-C12DC6ADF8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2AAF1F-605C-4E14-944C-239E1C6D8A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E0410E-C31E-4688-99CD-B18348283E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EEA0BA-555A-42BB-AECB-C43522E575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AB30D-5028-410E-A7D7-010F8018C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94D476-FE5E-4F2F-B9E3-C89E35A875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71751F-F421-4CE6-B512-4F5B69EEC8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767E8C-2CC7-4C97-9EFC-DBD716012B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E7592E-660C-4FF0-BDA6-217D8B7243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19D43C-2FE1-4E01-B5AA-68D512E644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0080FD-B1F8-4A21-9553-A6B0C08FB1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C280C0-8E3C-4699-98B6-49ACE3A96B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AAA4FD-61C8-4411-A209-DE9255F434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211C17-0AE4-46E4-B50F-0776772C98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EF76D5-7E97-4B73-B3B5-49D364C8C9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25BE2-FAA1-4A32-9AD1-44A10627B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D0D852-1F0B-4481-B98E-10CEE7C24A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0AA207-16A1-4302-8169-0F3F740493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E84094-DACC-445B-8633-E1C6823431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3D1E20-EBE8-4518-BE4F-200264DA77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CCF728-D5A2-410F-9DF4-23981CAD82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64760C-1666-443E-9496-92AC13C8BD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C41206-9C1E-48A9-B2B9-216CEE150A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8186DA-52BE-4C65-9114-41F15ADF8F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5D6C48-0F51-457D-BD2A-243D18A24A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F55779-07EC-47E9-9ABE-674E37F18E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91824-C4AB-4C0D-A6CF-96B1E92E2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042A22-BB39-4A76-8871-30860335DD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636332-03CC-4F0A-ADA3-D47A6D84C1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C6F168-D775-4A55-92F9-F75CF705B2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4CEF95-E44A-40EE-83B4-63576D6E81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86077F-B71B-44D1-BB11-2A926F4316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30D49E-ADF4-425C-97D8-67E948588F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F67C31-0950-4500-9C11-C8095D2EDC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F95555-D6D0-4CC0-98F8-89700541B9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E0ECB8-17CA-40DF-ACFE-C36247A8DB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84CC7F-36DB-4292-9658-A69A959B41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96C27-FFA5-41A6-8B3F-8147C6BAB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14585A-5F3E-4C13-860C-5AE074D6AB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BE9688-EB2D-4113-ABB0-DBBD72C871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DDC2CA-C0E5-48B6-8255-C3DD39C3FE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B9E667-69E9-4A38-99A4-82B2BE59D7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ED8764-9741-4AA3-A167-7A4B7BE59E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DBAD23-ECD8-4399-B445-7F23B19651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B464D3-5AAF-4B09-957B-5D8CE9FE88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4ECACC-DB4C-41EE-A3E7-96FCB0A407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91122D-BEF0-421A-9473-63F30C0C8A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99F7E6-B6A2-4856-BC0F-D1968BD1DB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6C3DB-99F0-4F1D-90C7-8FDE7FA20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58E16B-DB6B-43D2-B307-BD9A7DE046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04483C-7837-44C1-9D1F-C3BEFB110B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BF7F60-4FF0-484C-B7C7-D128A8DAEF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800446-AD31-4E64-8045-E109521AE1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CEB188-0961-4234-8476-79F0CEDC23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ABEF7B-1296-4DFD-8257-63112706C1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331975-8E2B-406D-AFCC-76E6C6AFB7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EA48FA-65AB-4205-9A74-652FD4CF26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23E504-4C33-4A7A-8F4B-8C112D7F17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66DC1E-7438-491F-8D3B-3A1AA7C198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F2C9E-12F2-4A49-85AD-3A47E9D91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2895C7-1560-4222-9545-4D46A10FCC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494BF2-8AC4-4023-AFDF-94B839E666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D0EABE-23CC-4BC3-B81C-685008EBCA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178E62-8FDC-4470-8037-A6AE650EF6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5E900D-051B-4A35-905D-D49BCAE94D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9D3B9-CCE0-4033-BA8B-F6916C67A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4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5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Rectangle 8"/>
          <p:cNvSpPr/>
          <p:nvPr/>
        </p:nvSpPr>
        <p:spPr>
          <a:xfrm>
            <a:off x="0" y="6334200"/>
            <a:ext cx="9144000" cy="66600"/>
          </a:xfrm>
          <a:prstGeom prst="rect">
            <a:avLst/>
          </a:prstGeom>
          <a:solidFill>
            <a:srgbClr val="99cb3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BC1F4-F6AD-441B-A7AA-E40419F9EAC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240" y="6400800"/>
            <a:ext cx="914076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Rectangle 11"/>
          <p:cNvSpPr/>
          <p:nvPr/>
        </p:nvSpPr>
        <p:spPr>
          <a:xfrm>
            <a:off x="0" y="633420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1201F-364E-4279-8C05-F574616A7ED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914076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Rectangle 11"/>
          <p:cNvSpPr/>
          <p:nvPr/>
        </p:nvSpPr>
        <p:spPr>
          <a:xfrm>
            <a:off x="0" y="633420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0"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132D6-B281-4E19-80BD-815CE3E61E8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914076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Rectangle 11"/>
          <p:cNvSpPr/>
          <p:nvPr/>
        </p:nvSpPr>
        <p:spPr>
          <a:xfrm>
            <a:off x="0" y="633420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22AD9-9041-4DE0-B75C-CBB59020500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3038400" cy="68580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Rectangle 11"/>
          <p:cNvSpPr/>
          <p:nvPr/>
        </p:nvSpPr>
        <p:spPr>
          <a:xfrm>
            <a:off x="3030480" y="0"/>
            <a:ext cx="47520" cy="6858000"/>
          </a:xfrm>
          <a:prstGeom prst="rect">
            <a:avLst/>
          </a:prstGeom>
          <a:solidFill>
            <a:srgbClr val="99cb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348840" y="6459480"/>
            <a:ext cx="1963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55f5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749BD-3166-412A-84B1-76C4F7150997}" type="slidenum">
              <a:rPr b="0" lang="en-US" sz="1000" spc="-1" strike="noStrike">
                <a:solidFill>
                  <a:srgbClr val="455f5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9142560" cy="190512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 name="Rectangle 11"/>
          <p:cNvSpPr/>
          <p:nvPr/>
        </p:nvSpPr>
        <p:spPr>
          <a:xfrm>
            <a:off x="0" y="491508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4A83B-6D3B-4DC8-9485-828A42410D2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914076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Rectangle 11"/>
          <p:cNvSpPr/>
          <p:nvPr/>
        </p:nvSpPr>
        <p:spPr>
          <a:xfrm>
            <a:off x="0" y="633420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F3B9F-720B-4444-A3BE-D8485BD0C8D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5"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Rectangle 6"/>
          <p:cNvSpPr/>
          <p:nvPr/>
        </p:nvSpPr>
        <p:spPr>
          <a:xfrm>
            <a:off x="0" y="6400800"/>
            <a:ext cx="914400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3" name="Rectangle 8"/>
          <p:cNvSpPr/>
          <p:nvPr/>
        </p:nvSpPr>
        <p:spPr>
          <a:xfrm>
            <a:off x="0" y="6334200"/>
            <a:ext cx="9144000" cy="66600"/>
          </a:xfrm>
          <a:prstGeom prst="rect">
            <a:avLst/>
          </a:prstGeom>
          <a:solidFill>
            <a:srgbClr val="99cb3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344"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46"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218960" y="3841920"/>
            <a:ext cx="6476760" cy="1752480"/>
          </a:xfrm>
          <a:prstGeom prst="rect">
            <a:avLst/>
          </a:prstGeom>
          <a:noFill/>
          <a:ln w="0">
            <a:noFill/>
          </a:ln>
        </p:spPr>
        <p:txBody>
          <a:bodyPr lIns="0" rIns="0" anchor="ctr">
            <a:noAutofit/>
          </a:bodyPr>
          <a:p>
            <a:pP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2542c"/>
                </a:solidFill>
                <a:latin typeface="Times New Roman"/>
                <a:ea typeface="ＭＳ Ｐゴシック"/>
              </a:rPr>
              <a:t>The Hematologic and Lymphatic Systems and Assessment</a:t>
            </a:r>
            <a:endParaRPr b="0" lang="en-US" sz="3200" spc="-1" strike="noStrike">
              <a:solidFill>
                <a:srgbClr val="404040"/>
              </a:solidFill>
              <a:latin typeface="Calibri"/>
            </a:endParaRPr>
          </a:p>
        </p:txBody>
      </p:sp>
      <p:sp>
        <p:nvSpPr>
          <p:cNvPr id="391" name="Text Box 6"/>
          <p:cNvSpPr/>
          <p:nvPr/>
        </p:nvSpPr>
        <p:spPr>
          <a:xfrm>
            <a:off x="1474920" y="2057400"/>
            <a:ext cx="521280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Adult Nursing</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ea typeface="ＭＳ Ｐゴシック"/>
              </a:rPr>
              <a:t>White Blood Cells (continued)</a:t>
            </a:r>
            <a:endParaRPr b="0" lang="en-US" sz="4800" spc="-1" strike="noStrike">
              <a:solidFill>
                <a:srgbClr val="404040"/>
              </a:solidFill>
              <a:latin typeface="Calibri Light"/>
            </a:endParaRPr>
          </a:p>
        </p:txBody>
      </p:sp>
      <p:sp>
        <p:nvSpPr>
          <p:cNvPr id="410"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Three types</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Granulocytes</a:t>
            </a:r>
            <a:endParaRPr b="0" lang="en-US" sz="1800" spc="-1" strike="noStrike">
              <a:solidFill>
                <a:srgbClr val="404040"/>
              </a:solidFill>
              <a:latin typeface="Calibri"/>
            </a:endParaRPr>
          </a:p>
          <a:p>
            <a:pPr lvl="2" marL="56664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Times New Roman"/>
                <a:ea typeface="ＭＳ Ｐゴシック"/>
              </a:rPr>
              <a:t>Eosinophils</a:t>
            </a:r>
            <a:endParaRPr b="0" lang="en-US" sz="1400" spc="-1" strike="noStrike">
              <a:solidFill>
                <a:srgbClr val="404040"/>
              </a:solidFill>
              <a:latin typeface="Calibri"/>
            </a:endParaRPr>
          </a:p>
          <a:p>
            <a:pPr lvl="2" marL="56664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Times New Roman"/>
                <a:ea typeface="ＭＳ Ｐゴシック"/>
              </a:rPr>
              <a:t>Basophils</a:t>
            </a:r>
            <a:endParaRPr b="0" lang="en-US" sz="1400" spc="-1" strike="noStrike">
              <a:solidFill>
                <a:srgbClr val="404040"/>
              </a:solidFill>
              <a:latin typeface="Calibri"/>
            </a:endParaRPr>
          </a:p>
          <a:p>
            <a:pPr lvl="2" marL="56664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Times New Roman"/>
                <a:ea typeface="ＭＳ Ｐゴシック"/>
              </a:rPr>
              <a:t>Neutrophils</a:t>
            </a:r>
            <a:endParaRPr b="0" lang="en-US" sz="14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Monocytes</a:t>
            </a:r>
            <a:endParaRPr b="0" lang="en-US" sz="1800" spc="-1" strike="noStrike">
              <a:solidFill>
                <a:srgbClr val="404040"/>
              </a:solidFill>
              <a:latin typeface="Calibri"/>
            </a:endParaRPr>
          </a:p>
          <a:p>
            <a:pPr lvl="2" marL="56664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Times New Roman"/>
                <a:ea typeface="ＭＳ Ｐゴシック"/>
              </a:rPr>
              <a:t>Largest WBC</a:t>
            </a:r>
            <a:endParaRPr b="0" lang="en-US" sz="14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Lymphocytes</a:t>
            </a:r>
            <a:endParaRPr b="0" lang="en-US" sz="1800" spc="-1" strike="noStrike">
              <a:solidFill>
                <a:srgbClr val="404040"/>
              </a:solidFill>
              <a:latin typeface="Calibri"/>
            </a:endParaRPr>
          </a:p>
          <a:p>
            <a:pPr lvl="2" marL="56664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Times New Roman"/>
                <a:ea typeface="ＭＳ Ｐゴシック"/>
              </a:rPr>
              <a:t>Regulate immune response</a:t>
            </a:r>
            <a:endParaRPr b="0" lang="en-US" sz="1400" spc="-1" strike="noStrike">
              <a:solidFill>
                <a:srgbClr val="404040"/>
              </a:solidFill>
              <a:latin typeface="Calibri"/>
            </a:endParaRPr>
          </a:p>
          <a:p>
            <a:pPr lvl="1" marL="382680" indent="-18252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ea typeface="ＭＳ Ｐゴシック"/>
              </a:rPr>
              <a:t>Platelets</a:t>
            </a:r>
            <a:endParaRPr b="0" lang="en-US" sz="4800" spc="-1" strike="noStrike">
              <a:solidFill>
                <a:srgbClr val="404040"/>
              </a:solidFill>
              <a:latin typeface="Calibri Light"/>
            </a:endParaRPr>
          </a:p>
        </p:txBody>
      </p:sp>
      <p:sp>
        <p:nvSpPr>
          <p:cNvPr id="412"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Part of the clotting mechanism</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Fragments of cytoplasm without nuclei</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Most stored in the spleen</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250,000 to 400,000 in each mL of blood</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Excess termed thrombycytosi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Live approximately 10 days</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ea typeface="ＭＳ Ｐゴシック"/>
              </a:rPr>
              <a:t>Hemostasis</a:t>
            </a:r>
            <a:endParaRPr b="0" lang="en-US" sz="4800" spc="-1" strike="noStrike">
              <a:solidFill>
                <a:srgbClr val="404040"/>
              </a:solidFill>
              <a:latin typeface="Calibri Light"/>
            </a:endParaRPr>
          </a:p>
        </p:txBody>
      </p:sp>
      <p:sp>
        <p:nvSpPr>
          <p:cNvPr id="414"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Blood clotting to stop bleeding</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Vessel spasm</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Formation of platelet plug</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Clot formation</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Intrinsic pathway</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Extrinsic pathway</a:t>
            </a:r>
            <a:endParaRPr b="0" lang="en-US" sz="1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Clot retraction</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Clot dissolution</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3" descr="fg29_00300"/>
          <p:cNvPicPr/>
          <p:nvPr/>
        </p:nvPicPr>
        <p:blipFill>
          <a:blip r:embed="rId1"/>
          <a:stretch/>
        </p:blipFill>
        <p:spPr>
          <a:xfrm>
            <a:off x="1066680" y="1295280"/>
            <a:ext cx="7086600" cy="4646880"/>
          </a:xfrm>
          <a:prstGeom prst="rect">
            <a:avLst/>
          </a:prstGeom>
          <a:ln w="0">
            <a:noFill/>
          </a:ln>
        </p:spPr>
      </p:pic>
      <p:sp>
        <p:nvSpPr>
          <p:cNvPr id="416" name="PlaceHolder 1"/>
          <p:cNvSpPr>
            <a:spLocks noGrp="1"/>
          </p:cNvSpPr>
          <p:nvPr>
            <p:ph type="title"/>
          </p:nvPr>
        </p:nvSpPr>
        <p:spPr>
          <a:xfrm>
            <a:off x="456840" y="380520"/>
            <a:ext cx="8226360" cy="685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Figure: for both the slower intrinsic pathway (on the left) and the more rapid extrinsic pathway (on the right) are necessary to form a stable blood clot.</a:t>
            </a:r>
            <a:endParaRPr b="0" lang="en-US" sz="1600" spc="-1" strike="noStrike">
              <a:solidFill>
                <a:srgbClr val="404040"/>
              </a:solidFill>
              <a:latin typeface="Calibri Ligh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ea typeface="ＭＳ Ｐゴシック"/>
              </a:rPr>
              <a:t>Lymphatic System</a:t>
            </a:r>
            <a:endParaRPr b="0" lang="en-US" sz="4800" spc="-1" strike="noStrike">
              <a:solidFill>
                <a:srgbClr val="404040"/>
              </a:solidFill>
              <a:latin typeface="Calibri Light"/>
            </a:endParaRPr>
          </a:p>
        </p:txBody>
      </p:sp>
      <p:sp>
        <p:nvSpPr>
          <p:cNvPr id="418"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Includes lymph vessels, nodes, organ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Assist immune system</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Largest organ is the spleen</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3" descr="fg29_00400"/>
          <p:cNvPicPr/>
          <p:nvPr/>
        </p:nvPicPr>
        <p:blipFill>
          <a:blip r:embed="rId1"/>
          <a:srcRect l="0" t="0" r="0" b="18182"/>
          <a:stretch/>
        </p:blipFill>
        <p:spPr>
          <a:xfrm>
            <a:off x="1066680" y="1371600"/>
            <a:ext cx="6858000" cy="4773600"/>
          </a:xfrm>
          <a:prstGeom prst="rect">
            <a:avLst/>
          </a:prstGeom>
          <a:ln w="0">
            <a:noFill/>
          </a:ln>
        </p:spPr>
      </p:pic>
      <p:sp>
        <p:nvSpPr>
          <p:cNvPr id="420" name="PlaceHolder 1"/>
          <p:cNvSpPr>
            <a:spLocks noGrp="1"/>
          </p:cNvSpPr>
          <p:nvPr>
            <p:ph type="title"/>
          </p:nvPr>
        </p:nvSpPr>
        <p:spPr>
          <a:xfrm>
            <a:off x="456840" y="380520"/>
            <a:ext cx="8226360" cy="6858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Figure for the lymphatic system.</a:t>
            </a:r>
            <a:endParaRPr b="0" lang="en-US" sz="1600" spc="-1" strike="noStrike">
              <a:solidFill>
                <a:srgbClr val="404040"/>
              </a:solidFill>
              <a:latin typeface="Calibri Ligh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ea typeface="ＭＳ Ｐゴシック"/>
              </a:rPr>
              <a:t>Assessment</a:t>
            </a:r>
            <a:endParaRPr b="0" lang="en-US" sz="4800" spc="-1" strike="noStrike">
              <a:solidFill>
                <a:srgbClr val="404040"/>
              </a:solidFill>
              <a:latin typeface="Calibri Light"/>
            </a:endParaRPr>
          </a:p>
        </p:txBody>
      </p:sp>
      <p:sp>
        <p:nvSpPr>
          <p:cNvPr id="422" name=""/>
          <p:cNvSpPr txBox="1"/>
          <p:nvPr/>
        </p:nvSpPr>
        <p:spPr>
          <a:xfrm>
            <a:off x="822240" y="1846440"/>
            <a:ext cx="370368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Changes in energy level</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Usual activitie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Pain, burning, tingling</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Changes in skin color or temperature</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Edema</a:t>
            </a:r>
            <a:endParaRPr b="0" lang="en-US" sz="2000" spc="-1" strike="noStrike">
              <a:solidFill>
                <a:srgbClr val="404040"/>
              </a:solidFill>
              <a:latin typeface="Calibri"/>
            </a:endParaRPr>
          </a:p>
        </p:txBody>
      </p:sp>
      <p:sp>
        <p:nvSpPr>
          <p:cNvPr id="423" name=""/>
          <p:cNvSpPr txBox="1"/>
          <p:nvPr/>
        </p:nvSpPr>
        <p:spPr>
          <a:xfrm>
            <a:off x="4663800" y="1846440"/>
            <a:ext cx="370188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Bruising, dizziness, fatigue</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Diet</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Medication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Tobacco, alcohol, recreational drug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Medical history</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Family history</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ea typeface="ＭＳ Ｐゴシック"/>
              </a:rPr>
              <a:t>Physical Examination</a:t>
            </a:r>
            <a:endParaRPr b="0" lang="en-US" sz="4800" spc="-1" strike="noStrike">
              <a:solidFill>
                <a:srgbClr val="404040"/>
              </a:solidFill>
              <a:latin typeface="Calibri Light"/>
            </a:endParaRPr>
          </a:p>
        </p:txBody>
      </p:sp>
      <p:sp>
        <p:nvSpPr>
          <p:cNvPr id="425"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Inspection</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Petechiae</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Purpura</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Documentation</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2"/>
          <p:cNvSpPr/>
          <p:nvPr/>
        </p:nvSpPr>
        <p:spPr>
          <a:xfrm>
            <a:off x="914400" y="228600"/>
            <a:ext cx="76960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7" name="Picture 4" descr="Picture 8"/>
          <p:cNvPicPr/>
          <p:nvPr/>
        </p:nvPicPr>
        <p:blipFill>
          <a:blip r:embed="rId1"/>
          <a:stretch/>
        </p:blipFill>
        <p:spPr>
          <a:xfrm>
            <a:off x="457200" y="1430280"/>
            <a:ext cx="8226360" cy="3598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3" descr="fg05_00600"/>
          <p:cNvPicPr/>
          <p:nvPr/>
        </p:nvPicPr>
        <p:blipFill>
          <a:blip r:embed="rId1"/>
          <a:stretch/>
        </p:blipFill>
        <p:spPr>
          <a:xfrm>
            <a:off x="762120" y="1600200"/>
            <a:ext cx="6933960" cy="4341960"/>
          </a:xfrm>
          <a:prstGeom prst="rect">
            <a:avLst/>
          </a:prstGeom>
          <a:ln w="0">
            <a:noFill/>
          </a:ln>
        </p:spPr>
      </p:pic>
      <p:sp>
        <p:nvSpPr>
          <p:cNvPr id="429" name="PlaceHolder 1"/>
          <p:cNvSpPr>
            <a:spLocks noGrp="1"/>
          </p:cNvSpPr>
          <p:nvPr>
            <p:ph type="title"/>
          </p:nvPr>
        </p:nvSpPr>
        <p:spPr>
          <a:xfrm>
            <a:off x="456840" y="380520"/>
            <a:ext cx="8226360" cy="6858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Figure:   Lymph nodes of the head and neck.</a:t>
            </a:r>
            <a:endParaRPr b="0" lang="en-US" sz="1600" spc="-1" strike="noStrike">
              <a:solidFill>
                <a:srgbClr val="404040"/>
              </a:solidFill>
              <a:latin typeface="Calibri Ligh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ea typeface="ＭＳ Ｐゴシック"/>
              </a:rPr>
              <a:t>Blood and Blood Cells</a:t>
            </a:r>
            <a:endParaRPr b="0" lang="en-US" sz="4800" spc="-1" strike="noStrike">
              <a:solidFill>
                <a:srgbClr val="404040"/>
              </a:solidFill>
              <a:latin typeface="Calibri Light"/>
            </a:endParaRPr>
          </a:p>
        </p:txBody>
      </p:sp>
      <p:sp>
        <p:nvSpPr>
          <p:cNvPr id="393"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Transport oxygen</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Remove waste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Blood components</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Plasma</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RBC</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WBC</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Platelets</a:t>
            </a:r>
            <a:endParaRPr b="0" lang="en-US" sz="1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ea typeface="ＭＳ Ｐゴシック"/>
              </a:rPr>
              <a:t>Diagnostic Tests</a:t>
            </a:r>
            <a:endParaRPr b="0" lang="en-US" sz="4800" spc="-1" strike="noStrike">
              <a:solidFill>
                <a:srgbClr val="404040"/>
              </a:solidFill>
              <a:latin typeface="Calibri Light"/>
            </a:endParaRPr>
          </a:p>
        </p:txBody>
      </p:sp>
      <p:sp>
        <p:nvSpPr>
          <p:cNvPr id="431"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Laboratory</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CBC</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Clotting studies or coagulation profile</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Coombs’ test</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Hemoglobin electrophoresis</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Iron stores</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Schilling’s test</a:t>
            </a:r>
            <a:endParaRPr b="0" lang="en-US" sz="1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ea typeface="ＭＳ Ｐゴシック"/>
              </a:rPr>
              <a:t>Bone Marrow Aspiration</a:t>
            </a:r>
            <a:endParaRPr b="0" lang="en-US" sz="4800" spc="-1" strike="noStrike">
              <a:solidFill>
                <a:srgbClr val="404040"/>
              </a:solidFill>
              <a:latin typeface="Calibri Light"/>
            </a:endParaRPr>
          </a:p>
        </p:txBody>
      </p:sp>
      <p:sp>
        <p:nvSpPr>
          <p:cNvPr id="433"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Nursing care</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Preprocedure: consent, purpose, vital signs</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Postprocedure: pressure, vital signs, dressing</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Teaching: 20 minutes, anesthetic, still, ache</a:t>
            </a:r>
            <a:endParaRPr b="0" lang="en-US" sz="1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ea typeface="ＭＳ Ｐゴシック"/>
              </a:rPr>
              <a:t>Other Diagnostic Tests</a:t>
            </a:r>
            <a:endParaRPr b="0" lang="en-US" sz="4800" spc="-1" strike="noStrike">
              <a:solidFill>
                <a:srgbClr val="404040"/>
              </a:solidFill>
              <a:latin typeface="Calibri Light"/>
            </a:endParaRPr>
          </a:p>
        </p:txBody>
      </p:sp>
      <p:sp>
        <p:nvSpPr>
          <p:cNvPr id="435"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Biopsy</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Imaging studies</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Lymphangiogram</a:t>
            </a:r>
            <a:endParaRPr b="0" lang="en-US" sz="1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Picture 3" descr="Picture 1"/>
          <p:cNvPicPr/>
          <p:nvPr/>
        </p:nvPicPr>
        <p:blipFill>
          <a:blip r:embed="rId1"/>
          <a:stretch/>
        </p:blipFill>
        <p:spPr>
          <a:xfrm>
            <a:off x="914400" y="533520"/>
            <a:ext cx="7277040" cy="5481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Picture 3" descr="Picture 2"/>
          <p:cNvPicPr/>
          <p:nvPr/>
        </p:nvPicPr>
        <p:blipFill>
          <a:blip r:embed="rId1"/>
          <a:stretch/>
        </p:blipFill>
        <p:spPr>
          <a:xfrm>
            <a:off x="457200" y="609480"/>
            <a:ext cx="8226360" cy="5327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560"/>
            <a:ext cx="8229600" cy="6858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continued)   Common Laboratory Tests for Hematologic and Lymphatic Disorders</a:t>
            </a:r>
            <a:endParaRPr b="0" lang="en-US" sz="1600" spc="-1" strike="noStrike">
              <a:solidFill>
                <a:srgbClr val="404040"/>
              </a:solidFill>
              <a:latin typeface="Calibri Light"/>
            </a:endParaRPr>
          </a:p>
        </p:txBody>
      </p:sp>
      <p:pic>
        <p:nvPicPr>
          <p:cNvPr id="439" name="Picture 3" descr="Picture 3"/>
          <p:cNvPicPr/>
          <p:nvPr/>
        </p:nvPicPr>
        <p:blipFill>
          <a:blip r:embed="rId1"/>
          <a:stretch/>
        </p:blipFill>
        <p:spPr>
          <a:xfrm>
            <a:off x="457200" y="1143000"/>
            <a:ext cx="8226360" cy="464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Picture 3" descr="Picture 4"/>
          <p:cNvPicPr/>
          <p:nvPr/>
        </p:nvPicPr>
        <p:blipFill>
          <a:blip r:embed="rId1"/>
          <a:stretch/>
        </p:blipFill>
        <p:spPr>
          <a:xfrm>
            <a:off x="457200" y="917640"/>
            <a:ext cx="8226360" cy="4645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80880" y="277560"/>
            <a:ext cx="8305920" cy="3315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continued)   Common Laboratory Tests for Hematologic and Lymphatic Disorders</a:t>
            </a:r>
            <a:endParaRPr b="0" lang="en-US" sz="1600" spc="-1" strike="noStrike">
              <a:solidFill>
                <a:srgbClr val="404040"/>
              </a:solidFill>
              <a:latin typeface="Calibri Light"/>
            </a:endParaRPr>
          </a:p>
        </p:txBody>
      </p:sp>
      <p:pic>
        <p:nvPicPr>
          <p:cNvPr id="442" name="Picture 3" descr="Picture 5"/>
          <p:cNvPicPr/>
          <p:nvPr/>
        </p:nvPicPr>
        <p:blipFill>
          <a:blip r:embed="rId1"/>
          <a:stretch/>
        </p:blipFill>
        <p:spPr>
          <a:xfrm>
            <a:off x="457200" y="1828800"/>
            <a:ext cx="8226360" cy="312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ea typeface="ＭＳ Ｐゴシック"/>
              </a:rPr>
              <a:t>Blood and Blood Cells</a:t>
            </a:r>
            <a:endParaRPr b="0" lang="en-US" sz="4800" spc="-1" strike="noStrike">
              <a:solidFill>
                <a:srgbClr val="404040"/>
              </a:solidFill>
              <a:latin typeface="Calibri Light"/>
            </a:endParaRPr>
          </a:p>
        </p:txBody>
      </p:sp>
      <p:sp>
        <p:nvSpPr>
          <p:cNvPr id="395"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Formation of blood</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Liver</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Bone marrow</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Stem cells</a:t>
            </a:r>
            <a:endParaRPr b="0" lang="en-US" sz="1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380520"/>
            <a:ext cx="8229600" cy="6858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Figure :The formation of different types of blood cells from the stem cell. The stem cell differentiates into one of five types of blast (immature) cells, which then mature into red blood cells (erythrocytes), platelets (thrombocytes), or whit blood cells (leukocytes).     </a:t>
            </a:r>
            <a:endParaRPr b="0" lang="en-US" sz="1600" spc="-1" strike="noStrike">
              <a:solidFill>
                <a:srgbClr val="404040"/>
              </a:solidFill>
              <a:latin typeface="Calibri Light"/>
            </a:endParaRPr>
          </a:p>
        </p:txBody>
      </p:sp>
      <p:pic>
        <p:nvPicPr>
          <p:cNvPr id="397" name="Picture 3" descr="fg29_00100"/>
          <p:cNvPicPr/>
          <p:nvPr/>
        </p:nvPicPr>
        <p:blipFill>
          <a:blip r:embed="rId1"/>
          <a:stretch/>
        </p:blipFill>
        <p:spPr>
          <a:xfrm>
            <a:off x="1295280" y="1144440"/>
            <a:ext cx="6172200" cy="5027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2880" y="0"/>
            <a:ext cx="9140760" cy="13716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ea typeface="ＭＳ Ｐゴシック"/>
              </a:rPr>
              <a:t>Red Blood Cells</a:t>
            </a:r>
            <a:endParaRPr b="0" lang="en-US" sz="4800" spc="-1" strike="noStrike">
              <a:solidFill>
                <a:srgbClr val="404040"/>
              </a:solidFill>
              <a:latin typeface="Calibri Light"/>
            </a:endParaRPr>
          </a:p>
        </p:txBody>
      </p:sp>
      <p:sp>
        <p:nvSpPr>
          <p:cNvPr id="399" name="PlaceHolder 2"/>
          <p:cNvSpPr>
            <a:spLocks noGrp="1"/>
          </p:cNvSpPr>
          <p:nvPr>
            <p:ph/>
          </p:nvPr>
        </p:nvSpPr>
        <p:spPr>
          <a:xfrm>
            <a:off x="457200" y="1981080"/>
            <a:ext cx="3581280" cy="41450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imes New Roman"/>
                <a:ea typeface="ＭＳ Ｐゴシック"/>
              </a:rPr>
              <a:t>Carry oxygen and carbon dioxide</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imes New Roman"/>
                <a:ea typeface="ＭＳ Ｐゴシック"/>
              </a:rPr>
              <a:t>Biconcave disks</a:t>
            </a:r>
            <a:endParaRPr b="0" lang="en-US" sz="2000" spc="-1" strike="noStrike">
              <a:solidFill>
                <a:srgbClr val="404040"/>
              </a:solidFill>
              <a:latin typeface="Calibri"/>
            </a:endParaRPr>
          </a:p>
        </p:txBody>
      </p:sp>
      <p:pic>
        <p:nvPicPr>
          <p:cNvPr id="400" name="Picture 5" descr="AAEXFRY0"/>
          <p:cNvPicPr/>
          <p:nvPr/>
        </p:nvPicPr>
        <p:blipFill>
          <a:blip r:embed="rId1"/>
          <a:stretch/>
        </p:blipFill>
        <p:spPr>
          <a:xfrm>
            <a:off x="4191120" y="2279520"/>
            <a:ext cx="4647960" cy="3130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ea typeface="ＭＳ Ｐゴシック"/>
              </a:rPr>
              <a:t>Red Blood Cells</a:t>
            </a:r>
            <a:endParaRPr b="0" lang="en-US" sz="4800" spc="-1" strike="noStrike">
              <a:solidFill>
                <a:srgbClr val="404040"/>
              </a:solidFill>
              <a:latin typeface="Calibri Light"/>
            </a:endParaRPr>
          </a:p>
        </p:txBody>
      </p:sp>
      <p:sp>
        <p:nvSpPr>
          <p:cNvPr id="402"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Formed in bone marrow via erythropoiesi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Tissue hypoxia stimulates the kidneys to release erythropoietin to stimulate RBC production in bone marrow</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ea typeface="ＭＳ Ｐゴシック"/>
              </a:rPr>
              <a:t>Red Blood Cells</a:t>
            </a:r>
            <a:endParaRPr b="0" lang="en-US" sz="4800" spc="-1" strike="noStrike">
              <a:solidFill>
                <a:srgbClr val="404040"/>
              </a:solidFill>
              <a:latin typeface="Calibri Light"/>
            </a:endParaRPr>
          </a:p>
        </p:txBody>
      </p:sp>
      <p:sp>
        <p:nvSpPr>
          <p:cNvPr id="404"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Contain hemoglobin</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Life span 120 day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Old RBCs</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Destroyed by phagocytes in the spleen, liver, bone marrow, lymph nodes; hemolysis</a:t>
            </a:r>
            <a:endParaRPr b="0" lang="en-US" sz="1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Amino acids and iron saved and reused by body, circulates as transferrin; stored as ferritin; heme converted to bilirubin</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Normal lab values differ by gender</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ea typeface="ＭＳ Ｐゴシック"/>
              </a:rPr>
              <a:t>Red Blood Cells</a:t>
            </a:r>
            <a:endParaRPr b="0" lang="en-US" sz="4800" spc="-1" strike="noStrike">
              <a:solidFill>
                <a:srgbClr val="404040"/>
              </a:solidFill>
              <a:latin typeface="Calibri Light"/>
            </a:endParaRPr>
          </a:p>
        </p:txBody>
      </p:sp>
      <p:sp>
        <p:nvSpPr>
          <p:cNvPr id="406"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Terms used</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Normocytic</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Microcytic</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Macrocytic</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Normochromic</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Hypochromic</a:t>
            </a:r>
            <a:endParaRPr b="0" lang="en-US" sz="1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ea typeface="ＭＳ Ｐゴシック"/>
              </a:rPr>
              <a:t>White Blood Cells</a:t>
            </a:r>
            <a:endParaRPr b="0" lang="en-US" sz="4800" spc="-1" strike="noStrike">
              <a:solidFill>
                <a:srgbClr val="404040"/>
              </a:solidFill>
              <a:latin typeface="Calibri Light"/>
            </a:endParaRPr>
          </a:p>
        </p:txBody>
      </p:sp>
      <p:sp>
        <p:nvSpPr>
          <p:cNvPr id="408"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Leukocyte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5000 to 10,000; make up 1% of total blood volume</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Leukocytosis: high WBC count</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Leukopenia: low WBC count</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Originate from stem cells in bone marrow</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Move to where they are needed</a:t>
            </a:r>
            <a:endParaRPr b="0" lang="en-US" sz="20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6T12:44:58Z</dcterms:created>
  <dc:creator>scott</dc:creator>
  <dc:description/>
  <dc:language>en-US</dc:language>
  <cp:lastModifiedBy>Abdualrahman Alshehry</cp:lastModifiedBy>
  <dcterms:modified xsi:type="dcterms:W3CDTF">2016-03-09T03:19:42Z</dcterms:modified>
  <cp:revision>20</cp:revision>
  <dc:subject/>
  <dc:title>Slide 1</dc:title>
</cp:coreProperties>
</file>