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E02D-2AFC-41BE-80ED-16A7CCF11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3A7D-88C9-44AA-BBC7-AB013FBA9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481A7-7151-4B57-B716-52D70A50B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CBC28-F194-4486-B05C-8A75C63A5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6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6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6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86B8E-C7A8-43C4-B739-021265D69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AB08B-D5E9-4866-AFB9-58E3689C6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8B135-DB56-4A2D-91CA-3B3AC7834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76CA5-D68D-4585-BEA2-6BA76B2C4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9F74F-96B9-4971-AA11-981D48F07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6F521-9F29-4130-AC9D-229B22A71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7D6AE-D157-4B42-9798-216374CDD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4FE03-C298-4637-93AD-5B11C5FA8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79710-FCB6-438A-93D8-67ABB3C7F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5634D-5108-4F01-A424-1DFFA1940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B7094-D0F0-42E4-B1E3-71441B1EA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4D0C6-35E9-41F6-A687-D686BAB5E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4659C-A6D3-466C-B164-7EF3C3224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641BC-74CB-413E-8FF3-7B99D9B5E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DE083-1BA3-4EC1-BA15-64B46DF2A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F6B4FC-006B-4A67-AC4C-AE64AE4B72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23B16-9BB4-4CB1-B988-6F2BABF2A0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8BE441-5CC9-4D2D-ADBA-D4CE2AB553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E616CE-ADA9-4E49-897F-D57C94DC6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81EE8-C09F-4F17-9451-6CEB096F41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25DC4-45BB-45B2-96B7-D568D9952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21C50C-7037-4976-AA5B-3A7C124B0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7885F-1137-4A76-AF7B-BB6C69547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BBE2CC-9798-43D7-BD1D-41CCBA985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5E2ED-8FB9-4210-96D1-B39A2580E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5D601-C96C-4895-83AA-0474B96392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4E17D5-0CD9-4A66-B92D-8F43D648BE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D92364-C86C-483C-AA10-9940DB36FE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5EB7F4-74F1-4BB1-9DF6-D81F4A898F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F07CC7-C920-4F60-B3D9-BCBA659AF2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39641-CF07-449D-A29B-CF0D58F24A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3CD98-9656-4990-88D9-46769454E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356D1-1F28-4294-AAD6-97F2EBA8EC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CCA68C-4220-4DCB-8795-DBC6291189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F9DF8C-5F38-4D9B-B00B-1C266ADE1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17288B-87D6-4BF3-A407-10CDC9972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8495E-0D9C-4F52-9FC6-C5B8E128D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8C976-AAAE-43F3-B45B-E1BD2058D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B7BD01-F7F1-4068-B080-49D217A244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5B8D9F-2693-4353-88E5-23C778EDC3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B6ECE7-419E-45C4-93AD-49FAB7E1BA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C86BB3-8792-4F58-80C7-6EB3D9DF93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F6AF6-8039-4D0B-BB8E-6486D26E3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8711CB-3BE0-48A0-967C-8FAC3CD91B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41DB1-4DAD-4AFE-B6A1-98FE88D140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763AF8-9AEA-436C-BBBB-F4676B046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1E88AE-5D1D-42F4-9CED-71950AE7A9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8182F1-7866-456C-8B61-2C014E44F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B6B9B-97EC-47D9-9286-DC5660EDF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4773A6-B9B8-4D45-85C3-B3A11B882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516AB5-C0C3-4552-A440-2ABF3A1245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34E4A2-9C5C-4F8A-93C1-B113B291F4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FF55EE-DF98-4762-81E0-062ECCBA96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F56BB-E1A6-43FE-93B4-6293B0B36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3E9322-C11E-418B-80E3-45BDD0224E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37B98B-5CCD-44B4-A5F9-CCEB74B4CA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1385BD-3D92-4102-8F73-3700CE40B8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5B2BB3-AE54-452D-BE0D-4D56063ABF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61A147-8DDB-4D44-8CE9-43852B9AE9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2175A1-635D-4879-B131-D01ABA665F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01A4DA-01EF-446F-92F1-0D890FA563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4046A3-47BE-4B7D-BF0C-ABDF17EEC0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EFD62-020D-4403-AB01-9BAF867A0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2CACC0-FC50-4882-B4E7-A2B35EEBAE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83EAA-74F0-4404-9F8A-CCF94CCAA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43CD5D-BC7A-4F4D-8217-F0FC2363FE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009EC8-5880-473B-B7F4-2DF7CA016D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A1153A-5BD4-467D-B4D3-85E9E3B03A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33F085-8CFF-426C-A914-F83FFD4CD4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14B640-4FB8-48E5-ADD6-22A13C353E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97174F-C659-41B6-BDDE-4354CB1ACB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6122A4-61A4-4468-A29E-91C948D8D5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2E57F2-699C-439A-9CE5-1A81F35F37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A084FD-F243-42AF-A041-76BFCC8DBE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FB6AA4-E995-4BF5-A359-6FB40BE202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C8F90-C74F-44C0-A135-62F766C51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0F4DB0-5D77-4A4F-9B29-60D65E0128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4867C1-15C6-43FD-9DE8-7E2A396D42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B072B6-0712-464E-B1E2-8995451388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B1CC5F-A4D7-4CA8-B7E9-D559A826F8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7133D2-9800-4B62-BF41-A3BCEAA6F6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74968-3FAF-4F0D-9CC0-85060CFB5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D896-0342-4269-8DD2-7B8B9F16BB9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324C-28CA-4A84-B1FD-FA756634CA7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C222-5EE4-4615-8FD4-99D3A0C0ED1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397C-314D-4B03-B561-F20471F5A1D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Rectangle 11"/>
          <p:cNvSpPr/>
          <p:nvPr/>
        </p:nvSpPr>
        <p:spPr>
          <a:xfrm>
            <a:off x="3030480" y="0"/>
            <a:ext cx="4752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4FF0-1B5C-424E-9135-8618F03252AD}" type="slidenum">
              <a:rPr b="0" lang="en-US"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Rectangle 11"/>
          <p:cNvSpPr/>
          <p:nvPr/>
        </p:nvSpPr>
        <p:spPr>
          <a:xfrm>
            <a:off x="0" y="491508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1A9B-CA80-40E6-BB65-22725D30ADE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B1BF-0BC0-462B-80A3-0771F4587B7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44"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4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218960" y="3841920"/>
            <a:ext cx="6476760" cy="1752480"/>
          </a:xfrm>
          <a:prstGeom prst="rect">
            <a:avLst/>
          </a:prstGeom>
          <a:noFill/>
          <a:ln w="0">
            <a:noFill/>
          </a:ln>
        </p:spPr>
        <p:txBody>
          <a:bodyPr lIns="0" rIns="0" anchor="ctr">
            <a:no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2542c"/>
                </a:solidFill>
                <a:latin typeface="Times New Roman"/>
                <a:ea typeface="ＭＳ Ｐゴシック"/>
              </a:rPr>
              <a:t>The Hematologic and Lymphatic Systems and Assessment</a:t>
            </a:r>
            <a:endParaRPr b="0" lang="en-US" sz="3200" spc="-1" strike="noStrike">
              <a:solidFill>
                <a:srgbClr val="404040"/>
              </a:solidFill>
              <a:latin typeface="Calibri"/>
            </a:endParaRPr>
          </a:p>
        </p:txBody>
      </p:sp>
      <p:sp>
        <p:nvSpPr>
          <p:cNvPr id="391" name="Text Box 6"/>
          <p:cNvSpPr/>
          <p:nvPr/>
        </p:nvSpPr>
        <p:spPr>
          <a:xfrm>
            <a:off x="1474920" y="2057400"/>
            <a:ext cx="521280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dult Nursing</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White Blood Cells (continued)</a:t>
            </a:r>
            <a:endParaRPr b="0" lang="en-US" sz="4800" spc="-1" strike="noStrike">
              <a:solidFill>
                <a:srgbClr val="404040"/>
              </a:solidFill>
              <a:latin typeface="Calibri Light"/>
            </a:endParaRPr>
          </a:p>
        </p:txBody>
      </p:sp>
      <p:sp>
        <p:nvSpPr>
          <p:cNvPr id="41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Three types</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Granulocytes</a:t>
            </a:r>
            <a:endParaRPr b="0" lang="en-US" sz="18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Times New Roman"/>
                <a:ea typeface="ＭＳ Ｐゴシック"/>
              </a:rPr>
              <a:t>Eosinophils</a:t>
            </a:r>
            <a:endParaRPr b="0" lang="en-US" sz="14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Times New Roman"/>
                <a:ea typeface="ＭＳ Ｐゴシック"/>
              </a:rPr>
              <a:t>Basophils</a:t>
            </a:r>
            <a:endParaRPr b="0" lang="en-US" sz="14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Times New Roman"/>
                <a:ea typeface="ＭＳ Ｐゴシック"/>
              </a:rPr>
              <a:t>Neutrophils</a:t>
            </a:r>
            <a:endParaRPr b="0" lang="en-US" sz="1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Monocytes</a:t>
            </a:r>
            <a:endParaRPr b="0" lang="en-US" sz="18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Times New Roman"/>
                <a:ea typeface="ＭＳ Ｐゴシック"/>
              </a:rPr>
              <a:t>Largest WBC</a:t>
            </a:r>
            <a:endParaRPr b="0" lang="en-US" sz="1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Lymphocytes</a:t>
            </a:r>
            <a:endParaRPr b="0" lang="en-US" sz="18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Times New Roman"/>
                <a:ea typeface="ＭＳ Ｐゴシック"/>
              </a:rPr>
              <a:t>Regulate immune response</a:t>
            </a:r>
            <a:endParaRPr b="0" lang="en-US" sz="1400" spc="-1" strike="noStrike">
              <a:solidFill>
                <a:srgbClr val="404040"/>
              </a:solidFill>
              <a:latin typeface="Calibri"/>
            </a:endParaRPr>
          </a:p>
          <a:p>
            <a:pPr lvl="1" marL="382680" indent="-18252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Platelets</a:t>
            </a:r>
            <a:endParaRPr b="0" lang="en-US" sz="4800" spc="-1" strike="noStrike">
              <a:solidFill>
                <a:srgbClr val="404040"/>
              </a:solidFill>
              <a:latin typeface="Calibri Light"/>
            </a:endParaRPr>
          </a:p>
        </p:txBody>
      </p:sp>
      <p:sp>
        <p:nvSpPr>
          <p:cNvPr id="41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Part of the clotting mechanism</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Fragments of cytoplasm without nuclei</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Most stored in the splee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250,000 to 400,000 in each mL of blood</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Excess termed thrombycytosi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ive approximately 10 days</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Hemostasis</a:t>
            </a:r>
            <a:endParaRPr b="0" lang="en-US" sz="4800" spc="-1" strike="noStrike">
              <a:solidFill>
                <a:srgbClr val="404040"/>
              </a:solidFill>
              <a:latin typeface="Calibri Light"/>
            </a:endParaRPr>
          </a:p>
        </p:txBody>
      </p:sp>
      <p:sp>
        <p:nvSpPr>
          <p:cNvPr id="4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Blood clotting to stop bleeding</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Vessel spasm</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Formation of platelet plug</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Clot formation</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Intrinsic pathway</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Extrinsic pathway</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Clot retractio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Clot dissolutio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3" descr="fg29_00300"/>
          <p:cNvPicPr/>
          <p:nvPr/>
        </p:nvPicPr>
        <p:blipFill>
          <a:blip r:embed="rId1"/>
          <a:stretch/>
        </p:blipFill>
        <p:spPr>
          <a:xfrm>
            <a:off x="1066680" y="1295280"/>
            <a:ext cx="7086600" cy="4646880"/>
          </a:xfrm>
          <a:prstGeom prst="rect">
            <a:avLst/>
          </a:prstGeom>
          <a:ln w="0">
            <a:noFill/>
          </a:ln>
        </p:spPr>
      </p:pic>
      <p:sp>
        <p:nvSpPr>
          <p:cNvPr id="416" name="PlaceHolder 1"/>
          <p:cNvSpPr>
            <a:spLocks noGrp="1"/>
          </p:cNvSpPr>
          <p:nvPr>
            <p:ph type="title"/>
          </p:nvPr>
        </p:nvSpPr>
        <p:spPr>
          <a:xfrm>
            <a:off x="456840" y="380520"/>
            <a:ext cx="822636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Figure: for both the slower intrinsic pathway (on the left) and the more rapid extrinsic pathway (on the right) are necessary to form a stable blood clot.</a:t>
            </a:r>
            <a:endParaRPr b="0" lang="en-US" sz="16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Lymphatic System</a:t>
            </a:r>
            <a:endParaRPr b="0" lang="en-US" sz="4800" spc="-1" strike="noStrike">
              <a:solidFill>
                <a:srgbClr val="404040"/>
              </a:solidFill>
              <a:latin typeface="Calibri Light"/>
            </a:endParaRPr>
          </a:p>
        </p:txBody>
      </p:sp>
      <p:sp>
        <p:nvSpPr>
          <p:cNvPr id="41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Includes lymph vessels, nodes, organ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Assist immune system</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argest organ is the splee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3" descr="fg29_00400"/>
          <p:cNvPicPr/>
          <p:nvPr/>
        </p:nvPicPr>
        <p:blipFill>
          <a:blip r:embed="rId1"/>
          <a:srcRect l="0" t="0" r="0" b="18182"/>
          <a:stretch/>
        </p:blipFill>
        <p:spPr>
          <a:xfrm>
            <a:off x="1066680" y="1371600"/>
            <a:ext cx="6858000" cy="4773600"/>
          </a:xfrm>
          <a:prstGeom prst="rect">
            <a:avLst/>
          </a:prstGeom>
          <a:ln w="0">
            <a:noFill/>
          </a:ln>
        </p:spPr>
      </p:pic>
      <p:sp>
        <p:nvSpPr>
          <p:cNvPr id="420" name="PlaceHolder 1"/>
          <p:cNvSpPr>
            <a:spLocks noGrp="1"/>
          </p:cNvSpPr>
          <p:nvPr>
            <p:ph type="title"/>
          </p:nvPr>
        </p:nvSpPr>
        <p:spPr>
          <a:xfrm>
            <a:off x="456840" y="380520"/>
            <a:ext cx="8226360" cy="68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Figure for the lymphatic system.</a:t>
            </a:r>
            <a:endParaRPr b="0" lang="en-US" sz="16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Assessment</a:t>
            </a:r>
            <a:endParaRPr b="0" lang="en-US" sz="4800" spc="-1" strike="noStrike">
              <a:solidFill>
                <a:srgbClr val="404040"/>
              </a:solidFill>
              <a:latin typeface="Calibri Light"/>
            </a:endParaRPr>
          </a:p>
        </p:txBody>
      </p:sp>
      <p:sp>
        <p:nvSpPr>
          <p:cNvPr id="422" name=""/>
          <p:cNvSpPr txBox="1"/>
          <p:nvPr/>
        </p:nvSpPr>
        <p:spPr>
          <a:xfrm>
            <a:off x="822240" y="1846440"/>
            <a:ext cx="370368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Changes in energy level</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Usual activitie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Pain, burning, tingling</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Changes in skin color or temperatur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Edema</a:t>
            </a:r>
            <a:endParaRPr b="0" lang="en-US" sz="2000" spc="-1" strike="noStrike">
              <a:solidFill>
                <a:srgbClr val="404040"/>
              </a:solidFill>
              <a:latin typeface="Calibri"/>
            </a:endParaRPr>
          </a:p>
        </p:txBody>
      </p:sp>
      <p:sp>
        <p:nvSpPr>
          <p:cNvPr id="423" name=""/>
          <p:cNvSpPr txBox="1"/>
          <p:nvPr/>
        </p:nvSpPr>
        <p:spPr>
          <a:xfrm>
            <a:off x="4663800" y="1846440"/>
            <a:ext cx="370188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Bruising, dizziness, fatigu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Diet</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Medication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Tobacco, alcohol, recreational drug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Medical history</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Family history</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Physical Examination</a:t>
            </a:r>
            <a:endParaRPr b="0" lang="en-US" sz="4800" spc="-1" strike="noStrike">
              <a:solidFill>
                <a:srgbClr val="404040"/>
              </a:solidFill>
              <a:latin typeface="Calibri Light"/>
            </a:endParaRPr>
          </a:p>
        </p:txBody>
      </p:sp>
      <p:sp>
        <p:nvSpPr>
          <p:cNvPr id="42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Inspection</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Petechiae</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Purpura</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Documentation</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914400" y="228600"/>
            <a:ext cx="7696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7" name="Picture 4" descr="Picture 8"/>
          <p:cNvPicPr/>
          <p:nvPr/>
        </p:nvPicPr>
        <p:blipFill>
          <a:blip r:embed="rId1"/>
          <a:stretch/>
        </p:blipFill>
        <p:spPr>
          <a:xfrm>
            <a:off x="457200" y="1430280"/>
            <a:ext cx="8226360" cy="359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3" descr="fg05_00600"/>
          <p:cNvPicPr/>
          <p:nvPr/>
        </p:nvPicPr>
        <p:blipFill>
          <a:blip r:embed="rId1"/>
          <a:stretch/>
        </p:blipFill>
        <p:spPr>
          <a:xfrm>
            <a:off x="762120" y="1600200"/>
            <a:ext cx="6933960" cy="4341960"/>
          </a:xfrm>
          <a:prstGeom prst="rect">
            <a:avLst/>
          </a:prstGeom>
          <a:ln w="0">
            <a:noFill/>
          </a:ln>
        </p:spPr>
      </p:pic>
      <p:sp>
        <p:nvSpPr>
          <p:cNvPr id="429" name="PlaceHolder 1"/>
          <p:cNvSpPr>
            <a:spLocks noGrp="1"/>
          </p:cNvSpPr>
          <p:nvPr>
            <p:ph type="title"/>
          </p:nvPr>
        </p:nvSpPr>
        <p:spPr>
          <a:xfrm>
            <a:off x="456840" y="380520"/>
            <a:ext cx="8226360" cy="68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Figure:   Lymph nodes of the head and neck.</a:t>
            </a:r>
            <a:endParaRPr b="0" lang="en-US" sz="16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Blood and Blood Cells</a:t>
            </a:r>
            <a:endParaRPr b="0" lang="en-US" sz="4800" spc="-1" strike="noStrike">
              <a:solidFill>
                <a:srgbClr val="404040"/>
              </a:solidFill>
              <a:latin typeface="Calibri Light"/>
            </a:endParaRPr>
          </a:p>
        </p:txBody>
      </p:sp>
      <p:sp>
        <p:nvSpPr>
          <p:cNvPr id="39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Transport oxyge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Remove waste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Blood components</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Plasma</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RB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WB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Platelets</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Diagnostic Tests</a:t>
            </a:r>
            <a:endParaRPr b="0" lang="en-US" sz="4800" spc="-1" strike="noStrike">
              <a:solidFill>
                <a:srgbClr val="404040"/>
              </a:solidFill>
              <a:latin typeface="Calibri Light"/>
            </a:endParaRPr>
          </a:p>
        </p:txBody>
      </p:sp>
      <p:sp>
        <p:nvSpPr>
          <p:cNvPr id="431"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aboratory</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CB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Clotting studies or coagulation profile</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Coombs’ test</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Hemoglobin electrophoresis</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Iron stores</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Schilling’s test</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Bone Marrow Aspiration</a:t>
            </a:r>
            <a:endParaRPr b="0" lang="en-US" sz="4800" spc="-1" strike="noStrike">
              <a:solidFill>
                <a:srgbClr val="404040"/>
              </a:solidFill>
              <a:latin typeface="Calibri Light"/>
            </a:endParaRPr>
          </a:p>
        </p:txBody>
      </p:sp>
      <p:sp>
        <p:nvSpPr>
          <p:cNvPr id="43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Nursing care</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Preprocedure: consent, purpose, vital signs</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Postprocedure: pressure, vital signs, dressing</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Teaching: 20 minutes, anesthetic, still, ache</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Other Diagnostic Tests</a:t>
            </a:r>
            <a:endParaRPr b="0" lang="en-US" sz="4800" spc="-1" strike="noStrike">
              <a:solidFill>
                <a:srgbClr val="404040"/>
              </a:solidFill>
              <a:latin typeface="Calibri Light"/>
            </a:endParaRPr>
          </a:p>
        </p:txBody>
      </p:sp>
      <p:sp>
        <p:nvSpPr>
          <p:cNvPr id="43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Biopsy</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Imaging studies</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Lymphangiogram</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3" descr="Picture 1"/>
          <p:cNvPicPr/>
          <p:nvPr/>
        </p:nvPicPr>
        <p:blipFill>
          <a:blip r:embed="rId1"/>
          <a:stretch/>
        </p:blipFill>
        <p:spPr>
          <a:xfrm>
            <a:off x="914400" y="533520"/>
            <a:ext cx="7277040" cy="548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3" descr="Picture 2"/>
          <p:cNvPicPr/>
          <p:nvPr/>
        </p:nvPicPr>
        <p:blipFill>
          <a:blip r:embed="rId1"/>
          <a:stretch/>
        </p:blipFill>
        <p:spPr>
          <a:xfrm>
            <a:off x="457200" y="609480"/>
            <a:ext cx="8226360" cy="532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68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continued)   Common Laboratory Tests for Hematologic and Lymphatic Disorders</a:t>
            </a:r>
            <a:endParaRPr b="0" lang="en-US" sz="1600" spc="-1" strike="noStrike">
              <a:solidFill>
                <a:srgbClr val="404040"/>
              </a:solidFill>
              <a:latin typeface="Calibri Light"/>
            </a:endParaRPr>
          </a:p>
        </p:txBody>
      </p:sp>
      <p:pic>
        <p:nvPicPr>
          <p:cNvPr id="439" name="Picture 3" descr="Picture 3"/>
          <p:cNvPicPr/>
          <p:nvPr/>
        </p:nvPicPr>
        <p:blipFill>
          <a:blip r:embed="rId1"/>
          <a:stretch/>
        </p:blipFill>
        <p:spPr>
          <a:xfrm>
            <a:off x="457200" y="1143000"/>
            <a:ext cx="8226360" cy="464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3" descr="Picture 4"/>
          <p:cNvPicPr/>
          <p:nvPr/>
        </p:nvPicPr>
        <p:blipFill>
          <a:blip r:embed="rId1"/>
          <a:stretch/>
        </p:blipFill>
        <p:spPr>
          <a:xfrm>
            <a:off x="457200" y="917640"/>
            <a:ext cx="8226360" cy="4645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77560"/>
            <a:ext cx="8305920" cy="3315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continued)   Common Laboratory Tests for Hematologic and Lymphatic Disorders</a:t>
            </a:r>
            <a:endParaRPr b="0" lang="en-US" sz="1600" spc="-1" strike="noStrike">
              <a:solidFill>
                <a:srgbClr val="404040"/>
              </a:solidFill>
              <a:latin typeface="Calibri Light"/>
            </a:endParaRPr>
          </a:p>
        </p:txBody>
      </p:sp>
      <p:pic>
        <p:nvPicPr>
          <p:cNvPr id="442" name="Picture 3" descr="Picture 5"/>
          <p:cNvPicPr/>
          <p:nvPr/>
        </p:nvPicPr>
        <p:blipFill>
          <a:blip r:embed="rId1"/>
          <a:stretch/>
        </p:blipFill>
        <p:spPr>
          <a:xfrm>
            <a:off x="457200" y="1828800"/>
            <a:ext cx="8226360" cy="312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Blood and Blood Cells</a:t>
            </a:r>
            <a:endParaRPr b="0" lang="en-US" sz="4800" spc="-1" strike="noStrike">
              <a:solidFill>
                <a:srgbClr val="404040"/>
              </a:solidFill>
              <a:latin typeface="Calibri Light"/>
            </a:endParaRPr>
          </a:p>
        </p:txBody>
      </p:sp>
      <p:sp>
        <p:nvSpPr>
          <p:cNvPr id="39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Formation of blood</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Liver</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Bone marrow</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Stem cells</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80520"/>
            <a:ext cx="8229600" cy="68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Figure :The formation of different types of blood cells from the stem cell. The stem cell differentiates into one of five types of blast (immature) cells, which then mature into red blood cells (erythrocytes), platelets (thrombocytes), or whit blood cells (leukocytes).     </a:t>
            </a:r>
            <a:endParaRPr b="0" lang="en-US" sz="1600" spc="-1" strike="noStrike">
              <a:solidFill>
                <a:srgbClr val="404040"/>
              </a:solidFill>
              <a:latin typeface="Calibri Light"/>
            </a:endParaRPr>
          </a:p>
        </p:txBody>
      </p:sp>
      <p:pic>
        <p:nvPicPr>
          <p:cNvPr id="397" name="Picture 3" descr="fg29_00100"/>
          <p:cNvPicPr/>
          <p:nvPr/>
        </p:nvPicPr>
        <p:blipFill>
          <a:blip r:embed="rId1"/>
          <a:stretch/>
        </p:blipFill>
        <p:spPr>
          <a:xfrm>
            <a:off x="1295280" y="1144440"/>
            <a:ext cx="6172200" cy="502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880" y="0"/>
            <a:ext cx="9140760" cy="13716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Red Blood Cells</a:t>
            </a:r>
            <a:endParaRPr b="0" lang="en-US" sz="4800" spc="-1" strike="noStrike">
              <a:solidFill>
                <a:srgbClr val="404040"/>
              </a:solidFill>
              <a:latin typeface="Calibri Light"/>
            </a:endParaRPr>
          </a:p>
        </p:txBody>
      </p:sp>
      <p:sp>
        <p:nvSpPr>
          <p:cNvPr id="399" name="PlaceHolder 2"/>
          <p:cNvSpPr>
            <a:spLocks noGrp="1"/>
          </p:cNvSpPr>
          <p:nvPr>
            <p:ph/>
          </p:nvPr>
        </p:nvSpPr>
        <p:spPr>
          <a:xfrm>
            <a:off x="457200" y="1981080"/>
            <a:ext cx="3581280" cy="4145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imes New Roman"/>
                <a:ea typeface="ＭＳ Ｐゴシック"/>
              </a:rPr>
              <a:t>Carry oxygen and carbon dioxid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imes New Roman"/>
                <a:ea typeface="ＭＳ Ｐゴシック"/>
              </a:rPr>
              <a:t>Biconcave disks</a:t>
            </a:r>
            <a:endParaRPr b="0" lang="en-US" sz="2000" spc="-1" strike="noStrike">
              <a:solidFill>
                <a:srgbClr val="404040"/>
              </a:solidFill>
              <a:latin typeface="Calibri"/>
            </a:endParaRPr>
          </a:p>
        </p:txBody>
      </p:sp>
      <p:pic>
        <p:nvPicPr>
          <p:cNvPr id="400" name="Picture 5" descr="AAEXFRY0"/>
          <p:cNvPicPr/>
          <p:nvPr/>
        </p:nvPicPr>
        <p:blipFill>
          <a:blip r:embed="rId1"/>
          <a:stretch/>
        </p:blipFill>
        <p:spPr>
          <a:xfrm>
            <a:off x="4191120" y="2279520"/>
            <a:ext cx="4647960" cy="313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Red Blood Cells</a:t>
            </a:r>
            <a:endParaRPr b="0" lang="en-US" sz="4800" spc="-1" strike="noStrike">
              <a:solidFill>
                <a:srgbClr val="404040"/>
              </a:solidFill>
              <a:latin typeface="Calibri Light"/>
            </a:endParaRPr>
          </a:p>
        </p:txBody>
      </p:sp>
      <p:sp>
        <p:nvSpPr>
          <p:cNvPr id="40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Formed in bone marrow via erythropoiesi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Tissue hypoxia stimulates the kidneys to release erythropoietin to stimulate RBC production in bone marrow</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Red Blood Cells</a:t>
            </a:r>
            <a:endParaRPr b="0" lang="en-US" sz="4800" spc="-1" strike="noStrike">
              <a:solidFill>
                <a:srgbClr val="404040"/>
              </a:solidFill>
              <a:latin typeface="Calibri Light"/>
            </a:endParaRPr>
          </a:p>
        </p:txBody>
      </p:sp>
      <p:sp>
        <p:nvSpPr>
          <p:cNvPr id="40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Contain hemoglobi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ife span 120 day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Old RBCs</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Destroyed by phagocytes in the spleen, liver, bone marrow, lymph nodes; hemolysis</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Amino acids and iron saved and reused by body, circulates as transferrin; stored as ferritin; heme converted to bilirubi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Normal lab values differ by gender</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Red Blood Cells</a:t>
            </a:r>
            <a:endParaRPr b="0" lang="en-US" sz="4800" spc="-1" strike="noStrike">
              <a:solidFill>
                <a:srgbClr val="404040"/>
              </a:solidFill>
              <a:latin typeface="Calibri Light"/>
            </a:endParaRPr>
          </a:p>
        </p:txBody>
      </p:sp>
      <p:sp>
        <p:nvSpPr>
          <p:cNvPr id="40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Terms used</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Normocyti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Microcyti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Macrocyti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Normochromic</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imes New Roman"/>
                <a:ea typeface="ＭＳ Ｐゴシック"/>
              </a:rPr>
              <a:t>Hypochromic</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ea typeface="ＭＳ Ｐゴシック"/>
              </a:rPr>
              <a:t>White Blood Cells</a:t>
            </a:r>
            <a:endParaRPr b="0" lang="en-US" sz="4800" spc="-1" strike="noStrike">
              <a:solidFill>
                <a:srgbClr val="404040"/>
              </a:solidFill>
              <a:latin typeface="Calibri Light"/>
            </a:endParaRPr>
          </a:p>
        </p:txBody>
      </p:sp>
      <p:sp>
        <p:nvSpPr>
          <p:cNvPr id="40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eukocyte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5000 to 10,000; make up 1% of total blood volum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eukocytosis: high WBC count</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Leukopenia: low WBC count</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Originate from stem cells in bone marrow</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ＭＳ Ｐゴシック"/>
              </a:rPr>
              <a:t>Move to where they are needed</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2:44:58Z</dcterms:created>
  <dc:creator>scott</dc:creator>
  <dc:description/>
  <dc:language>en-US</dc:language>
  <cp:lastModifiedBy>Abdualrahman Alshehry</cp:lastModifiedBy>
  <dcterms:modified xsi:type="dcterms:W3CDTF">2016-03-09T03:19:42Z</dcterms:modified>
  <cp:revision>20</cp:revision>
  <dc:subject/>
  <dc:title>Slide 1</dc:title>
</cp:coreProperties>
</file>