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FB6-CF86-45EE-93EB-E72ADF9E5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n Ireland 330 with FVIII def, 142 with FIX d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In plasma, the predominant MW is b/w 500,000-20,0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The bigger the multimer: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more platelet and collagen binding sites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arcoal CY"/>
              </a:rPr>
              <a:t>more hemostatically compe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939-DF9F-4197-B607-D3D0D378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7AC-01B5-4122-BC36-3509438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967-0147-45A0-A5C3-9A7325F0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8DC-C870-4A20-9D67-E2D29514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EFD-519C-460E-B916-C1BC5932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DE8-1351-4CE5-8433-84CA3635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A3B-148E-4E14-A9A8-698ECBC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DB0-C3C1-40AF-9C05-1E84EB3C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20D-4BCA-40CC-ACCD-A5EDB80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A18-7E8F-40A3-A020-31A9055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821-7D18-434E-8556-FE8E4B2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944-6369-4A62-A4EE-7ED3B12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0F3-558E-41EC-8FB4-875659813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imes New Roman"/>
              </a:rPr>
              <a:t>An Introduction to Haemophilia and related bleeding disorder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35268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 A and B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3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981080"/>
            <a:ext cx="464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Both types haemophilia share the same symptoms and inheritance pattern - only blood tests can differentiate between the tw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mportant to know which factor is defective so that the correct treatment can be given</a:t>
            </a: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xcept in very rare cases both haemophilia A and haemophilia B affect only males</a:t>
            </a: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320              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DISEASE SEVER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824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17220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05120" y="5486400"/>
            <a:ext cx="5638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50-200%      5-50%        2-5%             &lt;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Degrees of Sever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40660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5400" y="2787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200" y="990720"/>
            <a:ext cx="8229240" cy="5638320"/>
            <a:chOff x="457200" y="990720"/>
            <a:chExt cx="8229240" cy="5638320"/>
          </a:xfrm>
        </p:grpSpPr>
        <p:grpSp>
          <p:nvGrpSpPr>
            <p:cNvPr id="107" name=""/>
            <p:cNvGrpSpPr/>
            <p:nvPr/>
          </p:nvGrpSpPr>
          <p:grpSpPr>
            <a:xfrm>
              <a:off x="462240" y="996120"/>
              <a:ext cx="8218080" cy="5626800"/>
              <a:chOff x="462240" y="996120"/>
              <a:chExt cx="8218080" cy="5626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462240" y="996120"/>
                <a:ext cx="2562120" cy="1230120"/>
                <a:chOff x="462240" y="996120"/>
                <a:chExt cx="2562120" cy="1230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38560" y="996120"/>
                  <a:ext cx="240948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ORMAL 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2240" y="996120"/>
                  <a:ext cx="256212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024720" y="996120"/>
                <a:ext cx="1976040" cy="1230120"/>
                <a:chOff x="3024720" y="996120"/>
                <a:chExt cx="1976040" cy="1230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101040" y="996120"/>
                  <a:ext cx="182340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0 – 150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24720" y="996120"/>
                  <a:ext cx="197604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001120" y="996120"/>
                <a:ext cx="3679200" cy="1230120"/>
                <a:chOff x="5001120" y="996120"/>
                <a:chExt cx="3679200" cy="1230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077440" y="996120"/>
                  <a:ext cx="352656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Normal blood coagul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001120" y="996120"/>
                  <a:ext cx="3679200" cy="123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62240" y="2226600"/>
                <a:ext cx="2562120" cy="1582200"/>
                <a:chOff x="462240" y="2226600"/>
                <a:chExt cx="2562120" cy="1582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8560" y="2226600"/>
                  <a:ext cx="240948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MILD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2240" y="2226600"/>
                  <a:ext cx="256212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024720" y="2226600"/>
                <a:ext cx="1976040" cy="1582200"/>
                <a:chOff x="3024720" y="2226600"/>
                <a:chExt cx="1976040" cy="1582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101040" y="2226600"/>
                  <a:ext cx="182340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-</a:t>
                  </a: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50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24720" y="2226600"/>
                  <a:ext cx="197604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001120" y="2226600"/>
                <a:ext cx="3679200" cy="1582200"/>
                <a:chOff x="5001120" y="2226600"/>
                <a:chExt cx="3679200" cy="1582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077440" y="2226600"/>
                  <a:ext cx="352656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problems usually  associated tooth extractions, surgery, severe accident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Often not diagnosed until later in lif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001120" y="2226600"/>
                  <a:ext cx="367920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62240" y="3809520"/>
                <a:ext cx="2562120" cy="1230840"/>
                <a:chOff x="462240" y="3809520"/>
                <a:chExt cx="2562120" cy="1230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8560" y="3809520"/>
                  <a:ext cx="240948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MODERAT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2240" y="3809520"/>
                  <a:ext cx="256212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024720" y="3809520"/>
                <a:ext cx="1976040" cy="1230840"/>
                <a:chOff x="3024720" y="3809520"/>
                <a:chExt cx="1976040" cy="12308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101040" y="3809520"/>
                  <a:ext cx="182340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2-5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24720" y="3809520"/>
                  <a:ext cx="197604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01120" y="3809520"/>
                <a:ext cx="3679200" cy="1230840"/>
                <a:chOff x="5001120" y="3809520"/>
                <a:chExt cx="3679200" cy="1230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77440" y="3809520"/>
                  <a:ext cx="3526560" cy="12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usually associated 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with </a:t>
                  </a: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injury –knock/ deep cut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an present like sever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1120" y="3809520"/>
                  <a:ext cx="3679200" cy="123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2240" y="5040720"/>
                <a:ext cx="2562120" cy="1582200"/>
                <a:chOff x="462240" y="5040720"/>
                <a:chExt cx="2562120" cy="1582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8560" y="5040720"/>
                  <a:ext cx="240948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SEVERE HAEMOPHIL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2240" y="5040720"/>
                  <a:ext cx="256212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024720" y="5040720"/>
                <a:ext cx="1976040" cy="1582200"/>
                <a:chOff x="3024720" y="5040720"/>
                <a:chExt cx="1976040" cy="1582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101040" y="5040720"/>
                  <a:ext cx="182340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&lt;</a:t>
                  </a:r>
                  <a:r>
                    <a:rPr b="0" lang="en-IE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n-GB" sz="2000" spc="-1" strike="noStrike">
                      <a:solidFill>
                        <a:srgbClr val="00cc66"/>
                      </a:solidFill>
                      <a:latin typeface="Times New Roman"/>
                      <a:ea typeface="Times New Roman"/>
                    </a:rPr>
                    <a:t>% Clotting Fac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24720" y="5040720"/>
                  <a:ext cx="197604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001120" y="5040720"/>
                <a:ext cx="3679200" cy="1582200"/>
                <a:chOff x="5001120" y="5040720"/>
                <a:chExt cx="3679200" cy="1582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077440" y="5040720"/>
                  <a:ext cx="3526560" cy="158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leeding is frequent and often spontaneous into joints, muscles, and any site including brain</a:t>
                  </a: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IE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Usually diagnosed in first year of life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01120" y="5040720"/>
                  <a:ext cx="3679200" cy="158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457200" y="990720"/>
              <a:ext cx="8229240" cy="563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Haemarthrosis in severe haemophi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Thigh muscle ble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ISTORY OF HAEMOPHILIA TREAT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09680"/>
            <a:ext cx="815328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50’s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– no treatment for haemophilia, life expectancy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15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60’s/7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fresh frozen plasma, cryoprecip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7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cryoprecipitate/ factor/ home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8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plasma derived factor allowed home treatment, prophylaxis but viral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1990’s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– recombinant factor introduced, still residual risk of infection</a:t>
            </a: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20764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ff"/>
                </a:solidFill>
                <a:latin typeface="Times New Roman"/>
              </a:rPr>
              <a:t>SURGERY AND HAEMOPHILIA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209600"/>
            <a:ext cx="84582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replacement should be given pre surgery and during post op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pre physio, suture removal, drain rem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Factor levels should be taken to confirm expected rise i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ontinuous infusion should never be switched off as levels will fall rapidly post 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No IM in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No asprin or N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ff"/>
                </a:solidFill>
                <a:latin typeface="Times New Roman"/>
              </a:rPr>
              <a:t>Treatment of bleed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133720"/>
            <a:ext cx="7696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Treatment given IV through vein or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Treatment should be prompt to ceas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Use of correct factor concent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Bed rest,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Analg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9000" y="23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Unaffected family"/>
          <p:cNvPicPr/>
          <p:nvPr/>
        </p:nvPicPr>
        <p:blipFill>
          <a:blip r:embed="rId1"/>
          <a:stretch/>
        </p:blipFill>
        <p:spPr>
          <a:xfrm>
            <a:off x="533520" y="1828800"/>
            <a:ext cx="4876560" cy="4419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800000"/>
                </a:solidFill>
                <a:latin typeface="Times New Roman"/>
              </a:rPr>
              <a:t>Haemophilia Inheritance</a:t>
            </a:r>
            <a:br>
              <a:rPr sz="4800"/>
            </a:br>
            <a:r>
              <a:rPr b="1" lang="en-IE" sz="4800" spc="-1" strike="noStrike">
                <a:solidFill>
                  <a:srgbClr val="800000"/>
                </a:solidFill>
                <a:latin typeface="Times New Roman"/>
              </a:rPr>
              <a:t>FVIII and FIX only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981080"/>
            <a:ext cx="28954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Two chromosomes determine the sex of an individual, X and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Female 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Male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Father with haemophilia"/>
          <p:cNvPicPr/>
          <p:nvPr/>
        </p:nvPicPr>
        <p:blipFill>
          <a:blip r:embed="rId1"/>
          <a:stretch/>
        </p:blipFill>
        <p:spPr>
          <a:xfrm>
            <a:off x="228600" y="1676520"/>
            <a:ext cx="457200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Father with Haemophil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838080"/>
            <a:ext cx="39625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Genetic defect causing haemophilia on that part of X chromosome not on Y chromos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Daughter of haemophiliac will inherit his X and be carr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Sons of a haemophiliac will not be affected as they inherit fathers Y chromosome which does not carry FVIII or FIX gen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NORMAL CLOT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676520"/>
            <a:ext cx="74678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imes New Roman"/>
              </a:rPr>
              <a:t>Response to vessle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1. Vasoconstriction to reduce bloo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2. Platelet plug formation (von willebrand factor binds damaged vessle and platele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3. Activation of clotting cascade with generation of fibrin clot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4. Fibrinlysis (clot breakd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432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Carrier mother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3505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Carrier Mother </a:t>
            </a:r>
            <a:r>
              <a:rPr b="1" lang="en-IE" sz="3600" spc="-1" strike="noStrike">
                <a:solidFill>
                  <a:srgbClr val="800000"/>
                </a:solidFill>
                <a:latin typeface="Times New Roman"/>
              </a:rPr>
              <a:t>(one normal gene and one defective gene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371600"/>
            <a:ext cx="4724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Chances carrier mother passing defective gene to a child are 50: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Each daughter has 50:50 chance being a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Each son has 50:50 chance of having haemoph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297828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Spontaneous mutation"/>
          <p:cNvPicPr/>
          <p:nvPr/>
        </p:nvPicPr>
        <p:blipFill>
          <a:blip r:embed="rId1"/>
          <a:stretch/>
        </p:blipFill>
        <p:spPr>
          <a:xfrm>
            <a:off x="2514600" y="2209680"/>
            <a:ext cx="3657600" cy="3051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800000"/>
                </a:solidFill>
                <a:latin typeface="Times New Roman"/>
              </a:rPr>
              <a:t>Spontaneous Mut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09680"/>
            <a:ext cx="2133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In some 30% cases of haemophilia there is no known family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36232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0000"/>
                </a:solidFill>
                <a:latin typeface="Times New Roman"/>
              </a:rPr>
              <a:t>Haemophilia is probably the result of spontaneous genetic mutation in these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INHIBI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66688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30% of people with haemophilia develop an antibody to the clotting factor they are receiving for treatment. These antibodies are known as inhibitor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These patients are treated with high does of FVIIa for bleeds or surgery. This overrides defect in FVIII or FIX de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Longterm management involves attempting to eradicate inhibitors by administering high dose FVIII (or FIX) in a process called immune tolerance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ssessment of bleeding disord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133720"/>
            <a:ext cx="76960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Bleeding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Spontaneous bleeding: easy bruising (spontaneous v post trauma) epistaxis, menorrhagia, GI, joint, muscle, CNS, atypical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regnancy related bleeding: Post par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Surgical bleeding: return to theatre or requiring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Dental extraction: duration, requiring return to dentist, requiring packing or transf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ssess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76960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ff"/>
                </a:solidFill>
                <a:latin typeface="Times New Roman"/>
              </a:rPr>
              <a:t>Laboratory invest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F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T/APTT (factors I, II, V, VII, VIII, IX, X, IX and X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Note factor III, IV and VI  don’t ex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Von Willebran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Times New Roman"/>
              </a:rPr>
              <a:t>FX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00"/>
                </a:solidFill>
                <a:latin typeface="Charcoal CY"/>
              </a:rPr>
              <a:t>von Willebrand’s Disease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Charcoal CY"/>
              </a:rPr>
              <a:t>vW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 CY"/>
              </a:rPr>
              <a:t>Family of bleeding disord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 CY"/>
              </a:rPr>
              <a:t>Caused by a deficiency or an abnormality of von Willebrand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F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 CY"/>
              </a:rPr>
              <a:t>VWF 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ene : short arm of chromosome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 CY"/>
              </a:rPr>
              <a:t>VWF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 gene is expressed in endothelial cells and megakaryoc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vWF is produced as a propeptide which is extensively modified to produce mature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wo vWF monomers bind through disulfide bonds to form d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ultiple dimers combine to form vWF mult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7772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harcoal CY"/>
              </a:rPr>
              <a:t>vWF Produc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Vascular endotheli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gakaryoc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ost vWF is sec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ome vWF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Weibel-Palade bodies in endotheli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lpha granules of platel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nstitutive and stimulus-induced path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elease stimuli (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hrom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Hist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ib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5b-9 (complement membrane attack compl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elease stimuli (platel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hrom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l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F Function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he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ates the adhesion of platelets to sites of vascular injury (subendothel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Links exposed collagen to plat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ates platelet to platelet inter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Binds GPIb and GPIIb-IIIa on activated plate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tabilizes the hemostatic plug against shear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334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00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7467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Normally the ingredients, called factors, act like a row of dominoes toppling against each other to create a chain rea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f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one of the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factor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is missing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this chain reaction cannot proce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00" y="30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Animation of normal clotting"/>
          <p:cNvPicPr/>
          <p:nvPr/>
        </p:nvPicPr>
        <p:blipFill>
          <a:blip r:embed="rId1"/>
          <a:stretch/>
        </p:blipFill>
        <p:spPr>
          <a:xfrm>
            <a:off x="1143000" y="4343400"/>
            <a:ext cx="6248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CLOTTING CASCA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 Factor Functions in Hemostasi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arrier protein for Factor VIII (FV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Protects FVIII from proteolytic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Localizes FVIII to the site of vascular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Hemophilia A: absence of F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Frequency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ost frequent inherited bleeding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Estimated that 1% of the population has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Very wide range of clinical manife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linically significant vWD : 125 persons per millio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Severe disease is found in approximately 0.5-5 persons per millio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utosomal inheritanc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ales and females are affect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Classific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isease is due to either a quantitative deficiency of vWF or to functional deficiencies of v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ue to vWF role as carrier protein for FVIII, inadequate amount of vWF or improperly functioning vWF can lead to a resultant decrease in the available amount of FV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D Classification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3 major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: Partial quantitative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-moderat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I: Qualitative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 to moderat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 III:  Total or near total deficiency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evere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dditional 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cquired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Charcoal CY"/>
              </a:rPr>
              <a:t>Clinical Manifesta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Most with the disease have few or no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For most with symptoms, it is a mild manageable bleeding disorder with clinically severe hemorrhage only with trauma or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es II and III: Bleeding episodes may be severe and potentially life threat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isease may be more pronounced in females because of menorrha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Bleeding often exacerbated by the ingestion of aspi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everity of symptoms tends to decrease with age due to increasing amounts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Clinical Manifestation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pistaxis 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asy bruising / hematomas 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norrhagia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ingival bleeding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GI bleeding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ental extractions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rauma/wounds</a:t>
            </a:r>
            <a:r>
              <a:rPr b="0" lang="en-US" sz="1600" spc="-1" strike="noStrike">
                <a:solidFill>
                  <a:srgbClr val="000000"/>
                </a:solidFill>
                <a:latin typeface="Charcoal CY"/>
              </a:rPr>
              <a:t> 3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ost-partum 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ost-operative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Acquired vWD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irst described in 1970'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ewer than 300 cases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Usually encountered in adults with no personal or family bleeding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Laboratory work-up most consistent with Type II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utoantibodies to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bsorption of HMW vWF multimers to tumors and activated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Increased proteolysis of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Defective synthesis and release of vWF from cellular compar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yeloproliferative disorders, lymphoproliferative disorders, monoclonal gammopathies, CVD, and following certain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Screening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P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(Bleeding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D: aPTT and P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P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ildly prolonged in approximately 50% of patients with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Normal PTT does not rule out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rolongation is secondary to low levels of F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Usually within reference ran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rolongations of both the PT and the aPTT signal a problem with acquisition of a proper specimen or a disorder other than or in addition to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and Bleeding Tim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Historically, bleeding time is a test used to help diagnose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Lacks sensitivity and specif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Subject to wid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Not currently recommended for making the diagnosis of v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27200"/>
            <a:ext cx="7848720" cy="582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ff"/>
                </a:solidFill>
                <a:latin typeface="Times New Roman"/>
              </a:rPr>
              <a:t>CLOTTING CAS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Charcoal CY"/>
              </a:rPr>
              <a:t>vWD Diagnosis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stoce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Good for evaluating vWF func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esults are difficult to standardi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Induces vWF binding to GP1b on platele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stocetin co-factor activity: measures agglutination of metabolically inactive plat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RIPA: metabolically active plate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Aggregometer is used to measure the rate of 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vWF Ant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Quantitative immunoassay or an ELISA using an antibody to vW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Discrepancy between the vWF:Ag value and RCoF activity suggests a qualitative def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harcoal CY"/>
              </a:rPr>
              <a:t>Should be further investigated by characterization of the vWF multimeric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Treatmen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DDA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ryo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FVIII concen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Charcoal CY"/>
              </a:rPr>
              <a:t>vWD and DDAVP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reatment of choice for vWD typ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Synthetic analogue of the antidiuretic hormone vasopres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ximal rise of vWF and FVIII is observed in 30-6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Typical maximal rise is 2- to 4-fold for vWF and 3- to 6-fold for F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Hemostatic levels of both factors are usually maintained for at least 6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Effective for some forms of Type 2 v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y cause thrombocytopenia in Type 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Ineffective for vWD Type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Factor VIII Concentrate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Alphanate and Humat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oncentrates are purified to reduce the risk of blood-borne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 CY"/>
              </a:rPr>
              <a:t>Contain a near-normal complement of high molecular weight vWF multi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harcoal CY"/>
              </a:rPr>
              <a:t>vWD Treatment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Platelet transf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ay be helpful with vWD refractory to other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ryoprecipi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coal CY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raction of human 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Contains both FVIII and v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Medical and Scientific Advisory council of the National Hemophilia Foundation no longer recommends this treatment method due to its associated risks of inf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F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harcoal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 CY"/>
              </a:rPr>
              <a:t>An additional drawback of fresh frozen plasma is the large infusion volum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ff"/>
                </a:solidFill>
                <a:latin typeface="Times New Roman"/>
              </a:rPr>
              <a:t>CLOTTING CASCADE – simplified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ssue factor:FVI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42670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I (prothrombin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Ia (thromb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Va is co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562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ino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648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6400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osslinked fib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XII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057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X       F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VIIIa is co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3623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43000" y="16002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341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HAT IS HAEMOPHILIA 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0481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aemophilia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group of inherited blood disorders in which there is a life-long defect in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clotting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769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A shortage of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clotting factor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VIII (Haemophilia A) or factor IX (Haemophilia B)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halts the chain reaction with the consequence that a clot does not form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nimation of abnormal clotting"/>
          <p:cNvPicPr/>
          <p:nvPr/>
        </p:nvPicPr>
        <p:blipFill>
          <a:blip r:embed="rId1"/>
          <a:stretch/>
        </p:blipFill>
        <p:spPr>
          <a:xfrm>
            <a:off x="1143000" y="4038480"/>
            <a:ext cx="655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ff"/>
                </a:solidFill>
                <a:latin typeface="Times New Roman"/>
              </a:rPr>
              <a:t>Haemophilia A and B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429000"/>
            <a:ext cx="80010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1 in 10,000 of the  population has the condition called haemophilia A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lotting factor VIII lacks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Another of the clotting ingredients is called factor IX. The activity of this factor is deficient in haemophilia B, also known as Christmas dise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</a:rPr>
              <a:t>Haemophilia A is approximately five times more common than haemophilia B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0:58:42Z</dcterms:created>
  <dc:creator>WLIVINGSTONE</dc:creator>
  <dc:description/>
  <dc:language>en-US</dc:language>
  <cp:lastModifiedBy>Dr.abdel-hamid</cp:lastModifiedBy>
  <dcterms:modified xsi:type="dcterms:W3CDTF">2006-10-23T20:36:16Z</dcterms:modified>
  <cp:revision>29</cp:revision>
  <dc:subject/>
  <dc:title>Haemophilia Carrier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61660856</vt:r8>
  </property>
  <property fmtid="{D5CDD505-2E9C-101B-9397-08002B2CF9AE}" pid="3" name="_AuthorEmail">
    <vt:lpwstr>bwhite@STJAMES.IE</vt:lpwstr>
  </property>
  <property fmtid="{D5CDD505-2E9C-101B-9397-08002B2CF9AE}" pid="4" name="_AuthorEmailDisplayName">
    <vt:lpwstr>White, Barry (NCHCD)</vt:lpwstr>
  </property>
  <property fmtid="{D5CDD505-2E9C-101B-9397-08002B2CF9AE}" pid="5" name="_EmailSubject">
    <vt:lpwstr>4th med</vt:lpwstr>
  </property>
  <property fmtid="{D5CDD505-2E9C-101B-9397-08002B2CF9AE}" pid="6" name="_ReviewingToolsShownOnce">
    <vt:lpwstr/>
  </property>
</Properties>
</file>