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png" ContentType="image/png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4.gif" ContentType="image/gi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0800-3917-476D-83B1-CE42FE1C4E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In Ireland 330 with FVIII def, 142 with FIX de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arcoal CY"/>
              </a:rPr>
              <a:t>In plasma, the predominant MW is b/w 500,000-20,000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arcoal CY"/>
              </a:rPr>
              <a:t>The bigger the multimer: </a:t>
            </a:r>
            <a:r>
              <a:rPr b="0" lang="en-US" sz="1000" spc="-1" strike="noStrike">
                <a:solidFill>
                  <a:srgbClr val="000000"/>
                </a:solidFill>
                <a:latin typeface="Charcoal CY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harcoal CY"/>
              </a:rPr>
              <a:t>more platelet and collagen binding sites</a:t>
            </a:r>
            <a:r>
              <a:rPr b="0" lang="en-US" sz="1000" spc="-1" strike="noStrike">
                <a:solidFill>
                  <a:srgbClr val="000000"/>
                </a:solidFill>
                <a:latin typeface="Charcoal CY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harcoal CY"/>
              </a:rPr>
              <a:t>more hemostatically compe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2F22-A56A-42D7-91F4-43E5582A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27A-9E58-45F2-99B1-A9CA3F2A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393-36B8-4D84-82FB-760D610F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CC66-A1EE-4286-B748-AB3A5A93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B3D-B37B-4361-A753-8AC65EE4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B15-D0CD-4103-A009-05E8BC6F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5B5-D6F3-4FF9-8FB8-DFEA17AD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001-A76F-402D-9C2E-F7FCA99F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4E6-F7D2-4D83-BA72-16947827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7E8-E809-4B76-A9BC-801D0768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6FF-875B-4697-8E5A-60641090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CC6-4944-4E3F-ABF3-79C1155A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6BBB-580D-4075-B061-9A25C7C01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Times New Roman"/>
              </a:rPr>
              <a:t>An Introduction to Haemophilia and related bleeding disorders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35268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ff"/>
                </a:solidFill>
                <a:latin typeface="Times New Roman"/>
              </a:rPr>
              <a:t>Haemophilia A and B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36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581280" cy="3124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1981080"/>
            <a:ext cx="464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Both types haemophilia share the same symptoms and inheritance pattern - only blood tests can differentiate between the tw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mportant to know which factor is defective so that the correct treatment can be given</a:t>
            </a:r>
            <a:r>
              <a:rPr b="1" lang="en-IE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xcept in very rare cases both haemophilia A and haemophilia B affect only males</a:t>
            </a:r>
            <a:r>
              <a:rPr b="1" lang="en-IE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724280"/>
            <a:ext cx="25909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320              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ff"/>
                </a:solidFill>
                <a:latin typeface="Times New Roman"/>
              </a:rPr>
              <a:t>DISEASE SEVERIT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824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6172200" cy="3657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05120" y="5486400"/>
            <a:ext cx="56386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50-200%      5-50%        2-5%             &lt;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ff"/>
                </a:solidFill>
                <a:latin typeface="Times New Roman"/>
              </a:rPr>
              <a:t>Degrees of Severit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240660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65400" y="2787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57200" y="990720"/>
            <a:ext cx="8229240" cy="5638320"/>
            <a:chOff x="457200" y="990720"/>
            <a:chExt cx="8229240" cy="5638320"/>
          </a:xfrm>
        </p:grpSpPr>
        <p:grpSp>
          <p:nvGrpSpPr>
            <p:cNvPr id="107" name=""/>
            <p:cNvGrpSpPr/>
            <p:nvPr/>
          </p:nvGrpSpPr>
          <p:grpSpPr>
            <a:xfrm>
              <a:off x="462240" y="996120"/>
              <a:ext cx="8218080" cy="5626800"/>
              <a:chOff x="462240" y="996120"/>
              <a:chExt cx="8218080" cy="56268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462240" y="996120"/>
                <a:ext cx="2562120" cy="1230120"/>
                <a:chOff x="462240" y="996120"/>
                <a:chExt cx="2562120" cy="12301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38560" y="996120"/>
                  <a:ext cx="2409480" cy="12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NORMAL RANG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62240" y="996120"/>
                  <a:ext cx="2562120" cy="123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024720" y="996120"/>
                <a:ext cx="1976040" cy="1230120"/>
                <a:chOff x="3024720" y="996120"/>
                <a:chExt cx="1976040" cy="1230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101040" y="996120"/>
                  <a:ext cx="1823400" cy="12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2000" spc="-1" strike="noStrike">
                      <a:solidFill>
                        <a:srgbClr val="00cc66"/>
                      </a:solidFill>
                      <a:latin typeface="Times New Roman"/>
                      <a:ea typeface="Times New Roman"/>
                    </a:rPr>
                    <a:t>50 – 150</a:t>
                  </a:r>
                  <a:r>
                    <a:rPr b="0" lang="en-GB" sz="2000" spc="-1" strike="noStrike">
                      <a:solidFill>
                        <a:srgbClr val="00cc66"/>
                      </a:solidFill>
                      <a:latin typeface="Times New Roman"/>
                      <a:ea typeface="Times New Roman"/>
                    </a:rPr>
                    <a:t>% Clotting Fac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024720" y="996120"/>
                  <a:ext cx="1976040" cy="123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5001120" y="996120"/>
                <a:ext cx="3679200" cy="1230120"/>
                <a:chOff x="5001120" y="996120"/>
                <a:chExt cx="3679200" cy="1230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5077440" y="996120"/>
                  <a:ext cx="3526560" cy="12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Normal blood coagula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001120" y="996120"/>
                  <a:ext cx="3679200" cy="123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462240" y="2226600"/>
                <a:ext cx="2562120" cy="1582200"/>
                <a:chOff x="462240" y="2226600"/>
                <a:chExt cx="2562120" cy="15822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38560" y="2226600"/>
                  <a:ext cx="2409480" cy="158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MILD HAEMOPHILI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62240" y="2226600"/>
                  <a:ext cx="2562120" cy="158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024720" y="2226600"/>
                <a:ext cx="1976040" cy="1582200"/>
                <a:chOff x="3024720" y="2226600"/>
                <a:chExt cx="1976040" cy="15822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101040" y="2226600"/>
                  <a:ext cx="1823400" cy="158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cc66"/>
                      </a:solidFill>
                      <a:latin typeface="Times New Roman"/>
                      <a:ea typeface="Times New Roman"/>
                    </a:rPr>
                    <a:t>5-</a:t>
                  </a:r>
                  <a:r>
                    <a:rPr b="0" lang="en-IE" sz="2000" spc="-1" strike="noStrike">
                      <a:solidFill>
                        <a:srgbClr val="00cc66"/>
                      </a:solidFill>
                      <a:latin typeface="Times New Roman"/>
                      <a:ea typeface="Times New Roman"/>
                    </a:rPr>
                    <a:t>50</a:t>
                  </a:r>
                  <a:r>
                    <a:rPr b="0" lang="en-GB" sz="2000" spc="-1" strike="noStrike">
                      <a:solidFill>
                        <a:srgbClr val="00cc66"/>
                      </a:solidFill>
                      <a:latin typeface="Times New Roman"/>
                      <a:ea typeface="Times New Roman"/>
                    </a:rPr>
                    <a:t>% Clotting Fac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024720" y="2226600"/>
                  <a:ext cx="1976040" cy="158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001120" y="2226600"/>
                <a:ext cx="3679200" cy="1582200"/>
                <a:chOff x="5001120" y="2226600"/>
                <a:chExt cx="3679200" cy="15822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077440" y="2226600"/>
                  <a:ext cx="3526560" cy="158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Bleeding problems usually  associated tooth extractions, surgery, severe accident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Often not diagnosed until later in lif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001120" y="2226600"/>
                  <a:ext cx="3679200" cy="158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62240" y="3809520"/>
                <a:ext cx="2562120" cy="1230840"/>
                <a:chOff x="462240" y="3809520"/>
                <a:chExt cx="2562120" cy="12308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8560" y="3809520"/>
                  <a:ext cx="2409480" cy="12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MODERATE HAEMOPHILI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62240" y="3809520"/>
                  <a:ext cx="2562120" cy="123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024720" y="3809520"/>
                <a:ext cx="1976040" cy="1230840"/>
                <a:chOff x="3024720" y="3809520"/>
                <a:chExt cx="1976040" cy="12308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101040" y="3809520"/>
                  <a:ext cx="1823400" cy="12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cc66"/>
                      </a:solidFill>
                      <a:latin typeface="Times New Roman"/>
                      <a:ea typeface="Times New Roman"/>
                    </a:rPr>
                    <a:t>2-5% Clotting Fac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024720" y="3809520"/>
                  <a:ext cx="1976040" cy="123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001120" y="3809520"/>
                <a:ext cx="3679200" cy="1230840"/>
                <a:chOff x="5001120" y="3809520"/>
                <a:chExt cx="3679200" cy="1230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077440" y="3809520"/>
                  <a:ext cx="3526560" cy="12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Bleeding usually associated </a:t>
                  </a:r>
                  <a:r>
                    <a:rPr b="0" lang="en-IE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with </a:t>
                  </a:r>
                  <a:r>
                    <a:rPr b="0" lang="en-GB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injury –knock/ deep cut</a:t>
                  </a:r>
                  <a:r>
                    <a:rPr b="0" lang="en-IE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Can present like severe haemophili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01120" y="3809520"/>
                  <a:ext cx="3679200" cy="123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62240" y="5040720"/>
                <a:ext cx="2562120" cy="1582200"/>
                <a:chOff x="462240" y="5040720"/>
                <a:chExt cx="2562120" cy="1582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38560" y="5040720"/>
                  <a:ext cx="2409480" cy="158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SEVERE HAEMOPHILI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62240" y="5040720"/>
                  <a:ext cx="2562120" cy="158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3024720" y="5040720"/>
                <a:ext cx="1976040" cy="1582200"/>
                <a:chOff x="3024720" y="5040720"/>
                <a:chExt cx="1976040" cy="1582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101040" y="5040720"/>
                  <a:ext cx="1823400" cy="158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cc66"/>
                      </a:solidFill>
                      <a:latin typeface="Times New Roman"/>
                      <a:ea typeface="Times New Roman"/>
                    </a:rPr>
                    <a:t>&lt;</a:t>
                  </a:r>
                  <a:r>
                    <a:rPr b="0" lang="en-IE" sz="2000" spc="-1" strike="noStrike">
                      <a:solidFill>
                        <a:srgbClr val="00cc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0" lang="en-GB" sz="2000" spc="-1" strike="noStrike">
                      <a:solidFill>
                        <a:srgbClr val="00cc66"/>
                      </a:solidFill>
                      <a:latin typeface="Times New Roman"/>
                      <a:ea typeface="Times New Roman"/>
                    </a:rPr>
                    <a:t>% Clotting Fac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24720" y="5040720"/>
                  <a:ext cx="1976040" cy="158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5001120" y="5040720"/>
                <a:ext cx="3679200" cy="1582200"/>
                <a:chOff x="5001120" y="5040720"/>
                <a:chExt cx="3679200" cy="15822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5077440" y="5040720"/>
                  <a:ext cx="3526560" cy="158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Bleeding is frequent and often spontaneous into joints, muscles, and any site including brain</a:t>
                  </a:r>
                  <a:r>
                    <a:rPr b="0" lang="en-IE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Usually diagnosed in first year of life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01120" y="5040720"/>
                  <a:ext cx="3679200" cy="158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>
              <a:off x="457200" y="990720"/>
              <a:ext cx="8229240" cy="5638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ff"/>
                </a:solidFill>
                <a:latin typeface="Times New Roman"/>
              </a:rPr>
              <a:t>Haemarthrosis in severe haemophil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781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ff"/>
                </a:solidFill>
                <a:latin typeface="Times New Roman"/>
              </a:rPr>
              <a:t>Thigh muscle blee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391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ff"/>
                </a:solidFill>
                <a:latin typeface="Times New Roman"/>
              </a:rPr>
              <a:t>HISTORY OF HAEMOPHILIA TREATMEN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209680"/>
            <a:ext cx="815328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imes New Roman"/>
              </a:rPr>
              <a:t>1950’s 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– no treatment for haemophilia, life expectancy 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15 y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imes New Roman"/>
              </a:rPr>
              <a:t>1960’s/70’s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 – fresh frozen plasma, cryoprecipi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imes New Roman"/>
              </a:rPr>
              <a:t>1970’s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 – cryoprecipitate/ factor/ home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imes New Roman"/>
              </a:rPr>
              <a:t>1980’s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 – plasma derived factor allowed home treatment, prophylaxis but viral 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imes New Roman"/>
              </a:rPr>
              <a:t>1990’s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 – recombinant factor introduced, still residual risk of infection</a:t>
            </a: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05720" y="609480"/>
            <a:ext cx="20764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ff"/>
                </a:solidFill>
                <a:latin typeface="Times New Roman"/>
              </a:rPr>
              <a:t>SURGERY AND HAEMOPHILIA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209600"/>
            <a:ext cx="845820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Factor replacement should be given pre surgery and during post op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Factor pre physio, suture removal, drain rem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Factor levels should be taken to confirm expected rise in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Continuous infusion should never be switched off as levels will fall rapidly post 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No IM in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No asprin or NS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ff"/>
                </a:solidFill>
                <a:latin typeface="Times New Roman"/>
              </a:rPr>
              <a:t>Treatment of bleed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133720"/>
            <a:ext cx="7696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Treatment given IV through vein or 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Treatment should be prompt to cease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Use of correct factor concent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Bed rest, 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Analg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4120" y="4419720"/>
            <a:ext cx="207648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9000" y="230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Unaffected family"/>
          <p:cNvPicPr/>
          <p:nvPr/>
        </p:nvPicPr>
        <p:blipFill>
          <a:blip r:embed="rId1"/>
          <a:stretch/>
        </p:blipFill>
        <p:spPr>
          <a:xfrm>
            <a:off x="533520" y="1828800"/>
            <a:ext cx="4876560" cy="44197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800000"/>
                </a:solidFill>
                <a:latin typeface="Times New Roman"/>
              </a:rPr>
              <a:t>Haemophilia Inheritance</a:t>
            </a:r>
            <a:br>
              <a:rPr sz="4800"/>
            </a:br>
            <a:r>
              <a:rPr b="1" lang="en-IE" sz="4800" spc="-1" strike="noStrike">
                <a:solidFill>
                  <a:srgbClr val="800000"/>
                </a:solidFill>
                <a:latin typeface="Times New Roman"/>
              </a:rPr>
              <a:t>FVIII and FIX only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981080"/>
            <a:ext cx="28954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Two chromosomes determine the sex of an individual, X and 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Female 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Male 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Father with haemophilia"/>
          <p:cNvPicPr/>
          <p:nvPr/>
        </p:nvPicPr>
        <p:blipFill>
          <a:blip r:embed="rId1"/>
          <a:stretch/>
        </p:blipFill>
        <p:spPr>
          <a:xfrm>
            <a:off x="228600" y="1676520"/>
            <a:ext cx="4572000" cy="38098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800000"/>
                </a:solidFill>
                <a:latin typeface="Times New Roman"/>
              </a:rPr>
              <a:t>Father with Haemophili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838080"/>
            <a:ext cx="3962520" cy="67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Genetic defect causing haemophilia on that part of X chromosome not on Y chromos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Daughter of haemophiliac will inherit his X and be carri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Sons of a haemophiliac will not be affected as they inherit fathers Y chromosome which does not carry FVIII or FIX gen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ff"/>
                </a:solidFill>
                <a:latin typeface="Times New Roman"/>
              </a:rPr>
              <a:t>NORMAL CLOTT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676520"/>
            <a:ext cx="74678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imes New Roman"/>
              </a:rPr>
              <a:t>Response to vessle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1. Vasoconstriction to reduce blood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2. Platelet plug formation (von willebrand factor binds damaged vessle and platelet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3. Activation of clotting cascade with generation of fibrin clot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4. Fibrinlysis (clot breakd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8432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Carrier mother"/>
          <p:cNvPicPr/>
          <p:nvPr/>
        </p:nvPicPr>
        <p:blipFill>
          <a:blip r:embed="rId1"/>
          <a:stretch/>
        </p:blipFill>
        <p:spPr>
          <a:xfrm>
            <a:off x="304920" y="1523880"/>
            <a:ext cx="3657600" cy="3505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800000"/>
                </a:solidFill>
                <a:latin typeface="Times New Roman"/>
              </a:rPr>
              <a:t>Carrier Mother </a:t>
            </a:r>
            <a:r>
              <a:rPr b="1" lang="en-IE" sz="3600" spc="-1" strike="noStrike">
                <a:solidFill>
                  <a:srgbClr val="800000"/>
                </a:solidFill>
                <a:latin typeface="Times New Roman"/>
              </a:rPr>
              <a:t>(one normal gene and one defective gene)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1371600"/>
            <a:ext cx="47242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Chances carrier mother passing defective gene to a child are 50:5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Each daughter has 50:50 chance being a car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Each son has 50:50 chance of having haemophi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-297828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Spontaneous mutation"/>
          <p:cNvPicPr/>
          <p:nvPr/>
        </p:nvPicPr>
        <p:blipFill>
          <a:blip r:embed="rId1"/>
          <a:stretch/>
        </p:blipFill>
        <p:spPr>
          <a:xfrm>
            <a:off x="2514600" y="2209680"/>
            <a:ext cx="3657600" cy="3051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800000"/>
                </a:solidFill>
                <a:latin typeface="Times New Roman"/>
              </a:rPr>
              <a:t>Spontaneous Mut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2209680"/>
            <a:ext cx="2133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In some 30% cases of haemophilia there is no known family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362320"/>
            <a:ext cx="228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Haemophilia is probably the result of spontaneous genetic mutation in these famil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ff"/>
                </a:solidFill>
                <a:latin typeface="Times New Roman"/>
              </a:rPr>
              <a:t>INHIBITO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666880"/>
            <a:ext cx="83822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30% of people with haemophilia develop an antibody to the clotting factor they are receiving for treatment. These antibodies are known as inhibitors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These patients are treated with high does of FVIIa for bleeds or surgery. This overrides defect in FVIII or FIX deficienc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Longterm management involves attempting to eradicate inhibitors by administering high dose FVIII (or FIX) in a process called immune tolerance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ssessment of bleeding disorder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133720"/>
            <a:ext cx="76960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ff"/>
                </a:solidFill>
                <a:latin typeface="Times New Roman"/>
              </a:rPr>
              <a:t>Bleeding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Spontaneous bleeding: easy bruising (spontaneous v post trauma) epistaxis, menorrhagia, GI, joint, muscle, CNS, atypical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Pregnancy related bleeding: Post par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Surgical bleeding: return to theatre or requiring trans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Dental extraction: duration, requiring return to dentist, requiring packing or transfu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ssessmen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1981080"/>
            <a:ext cx="76960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ff"/>
                </a:solidFill>
                <a:latin typeface="Times New Roman"/>
              </a:rPr>
              <a:t>Laboratory investig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F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PT/APTT (factors I, II, V, VII, VIII, IX, X, IX and X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Note factor III, IV and VI  don’t exis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Von Willebrand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Platele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FX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8000"/>
                </a:solidFill>
                <a:latin typeface="Charcoal CY"/>
              </a:rPr>
              <a:t>von Willebrand’s Disease</a:t>
            </a:r>
            <a:endParaRPr b="0" lang="en-US" sz="6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Charcoal CY"/>
              </a:rPr>
              <a:t>vW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rcoal CY"/>
              </a:rPr>
              <a:t>Family of bleeding disord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rcoal CY"/>
              </a:rPr>
              <a:t>Caused by a deficiency or an abnormality of von Willebrand Fa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Charcoal CY"/>
              </a:rPr>
              <a:t>vWF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rcoal CY"/>
              </a:rPr>
              <a:t>VWF </a:t>
            </a: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gene : short arm of chromosome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rcoal CY"/>
              </a:rPr>
              <a:t>VWF</a:t>
            </a: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 gene is expressed in endothelial cells and megakaryoc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vWF is produced as a propeptide which is extensively modified to produce mature v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Two vWF monomers bind through disulfide bonds to form di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ultiple dimers combine to form vWF multi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9480" y="4572000"/>
            <a:ext cx="7772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Charcoal CY"/>
              </a:rPr>
              <a:t>vWF Production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Vascular endothelial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egakaryocy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ost vWF is secr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Some vWF is 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Weibel-Palade bodies in endothelial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Alpha granules of platel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Constitutive and stimulus-induced path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Release stimuli (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Throm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Hist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Fibr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C5b-9 (complement membrane attack compl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Release stimuli (platele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Throm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A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Col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Charcoal CY"/>
              </a:rPr>
              <a:t>vWF Function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Adhe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ediates the adhesion of platelets to sites of vascular injury (subendothel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Links exposed collagen to plate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ediates platelet to platelet inter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Binds GPIb and GPIIb-IIIa on activated plate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Stabilizes the hemostatic plug against shear fo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5334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4000" y="30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00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0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7467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Normally the ingredients, called factors, act like a row of dominoes toppling against each other to create a chain reac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f 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one of the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 factor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is missing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 this chain reaction cannot proce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000" y="30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Animation of normal clotting"/>
          <p:cNvPicPr/>
          <p:nvPr/>
        </p:nvPicPr>
        <p:blipFill>
          <a:blip r:embed="rId1"/>
          <a:stretch/>
        </p:blipFill>
        <p:spPr>
          <a:xfrm>
            <a:off x="1143000" y="4343400"/>
            <a:ext cx="6248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ff"/>
                </a:solidFill>
                <a:latin typeface="Times New Roman"/>
              </a:rPr>
              <a:t>CLOTTING CASCA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Charcoal CY"/>
              </a:rPr>
              <a:t>vW Factor Functions in Hemostasi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Carrier protein for Factor VIII (FVI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Protects FVIII from proteolytic degra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Localizes FVIII to the site of vascular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Hemophilia A: absence of FV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Charcoal CY"/>
              </a:rPr>
              <a:t>Frequency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Most frequent inherited bleeding dis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Estimated that 1% of the population has vW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Very wide range of clinical manife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Clinically significant vWD : 125 persons per million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Severe disease is found in approximately 0.5-5 persons per million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Autosomal inheritance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Males and females are affected eq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Charcoal CY"/>
              </a:rPr>
              <a:t>vWD Classification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Disease is due to either a quantitative deficiency of vWF or to functional deficiencies of v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Due to vWF role as carrier protein for FVIII, inadequate amount of vWF or improperly functioning vWF can lead to a resultant decrease in the available amount of FV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Charcoal CY"/>
              </a:rPr>
              <a:t>vWD Classification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3 major sub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Type I: Partial quantitative deficiency of v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ild-moderate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Type II: Qualitative deficiency of v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ild to moderate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Type III:  Total or near total deficiency of v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Severe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Additional sub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Acquired v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Charcoal CY"/>
              </a:rPr>
              <a:t>Clinical Manifestation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Most with the disease have few or no symp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For most with symptoms, it is a mild manageable bleeding disorder with clinically severe hemorrhage only with trauma or surg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Types II and III: Bleeding episodes may be severe and potentially life threat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Disease may be more pronounced in females because of menorrhag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Bleeding often exacerbated by the ingestion of aspir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Severity of symptoms tends to decrease with age due to increasing amounts of v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Charcoal CY"/>
              </a:rPr>
              <a:t>Clinical Manifestation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Epistaxis 6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Easy bruising / hematomas 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enorrhagia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Gingival bleeding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GI bleeding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Dental extractions 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Trauma/wounds</a:t>
            </a:r>
            <a:r>
              <a:rPr b="0" lang="en-US" sz="1600" spc="-1" strike="noStrike">
                <a:solidFill>
                  <a:srgbClr val="000000"/>
                </a:solidFill>
                <a:latin typeface="Charcoal CY"/>
              </a:rPr>
              <a:t> 3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Post-partum 2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Post-operative 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Charcoal CY"/>
              </a:rPr>
              <a:t>Acquired vWD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First described in 1970'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fewer than 300 cases re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Usually encountered in adults with no personal or family bleeding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Laboratory work-up most consistent with Type II v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Autoantibodies to v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Absorption of HMW vWF multimers to tumors and activated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Increased proteolysis of v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Defective synthesis and release of vWF from cellular compar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yeloproliferative disorders, lymphoproliferative disorders, monoclonal gammopathies, CVD, and following certain infe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Charcoal CY"/>
              </a:rPr>
              <a:t>vWD Screening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aP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(Bleeding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Charcoal CY"/>
              </a:rPr>
              <a:t>vWD: aPTT and PT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aP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ildly prolonged in approximately 50% of patients with v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Normal PTT does not rule out v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Prolongation is secondary to low levels of FV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Usually within reference ran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Prolongations of both the PT and the aPTT signal a problem with acquisition of a proper specimen or a disorder other than or in addition to v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Charcoal CY"/>
              </a:rPr>
              <a:t>vWD and Bleeding Tim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Historically, bleeding time is a test used to help diagnose vW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Lacks sensitivity and specif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Subject to wid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Not currently recommended for making the diagnosis of vW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727200"/>
            <a:ext cx="7848720" cy="5827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2286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ff"/>
                </a:solidFill>
                <a:latin typeface="Times New Roman"/>
              </a:rPr>
              <a:t>CLOTTING CASC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Charcoal CY"/>
              </a:rPr>
              <a:t>vWD Diagnosis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Ristoce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Good for evaluating vWF functio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Results are difficult to standardi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Induces vWF binding to GP1b on platele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Ristocetin co-factor activity: measures agglutination of metabolically inactive platel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RIPA: metabolically active platel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Aggregometer is used to measure the rate of aggre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vWF Anti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Quantitative immunoassay or an ELISA using an antibody to vW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Discrepancy between the vWF:Ag value and RCoF activity suggests a qualitative defe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Should be further investigated by characterization of the vWF multimeric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Charcoal CY"/>
              </a:rPr>
              <a:t>vWD Treatment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DDAV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Cryoprecip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FVIII concen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Charcoal CY"/>
              </a:rPr>
              <a:t>vWD and DDAVP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Treatment of choice for vWD type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Synthetic analogue of the antidiuretic hormone vasopres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aximal rise of vWF and FVIII is observed in 30-60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Typical maximal rise is 2- to 4-fold for vWF and 3- to 6-fold for FV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Hemostatic levels of both factors are usually maintained for at least 6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Effective for some forms of Type 2 v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ay cause thrombocytopenia in Type 2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Ineffective for vWD Type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Charcoal CY"/>
              </a:rPr>
              <a:t>Factor VIII Concentrates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Alphanate and Humate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Concentrates are purified to reduce the risk of blood-borne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Contain a near-normal complement of high molecular weight vWF multi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Charcoal CY"/>
              </a:rPr>
              <a:t>vWD Treatment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Platelet transf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ay be helpful with vWD refractory to other therap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Cryoprecipi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rcoal CY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raction of human 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Contains both FVIII and v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edical and Scientific Advisory council of the National Hemophilia Foundation no longer recommends this treatment method due to its associated risks of inf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F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An additional drawback of fresh frozen plasma is the large infusion volume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2286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ff"/>
                </a:solidFill>
                <a:latin typeface="Times New Roman"/>
              </a:rPr>
              <a:t>CLOTTING CASCADE – simplified 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1219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ssue factor:FVI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124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X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4267080"/>
            <a:ext cx="487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I (prothrombin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Ia (thromb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Va is co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5562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rinog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r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4648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64008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osslinked fib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5943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XII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0574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X       FI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VIIIa is co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236232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143000" y="160020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33412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HAT IS HAEMOPHILIA 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6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048120"/>
            <a:ext cx="7772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aemophilia 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 group of inherited blood disorders in which there is a life-long defect in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clotting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ff"/>
                </a:solidFill>
                <a:latin typeface="Times New Roman"/>
              </a:rPr>
              <a:t>HAEMOPHILI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981080"/>
            <a:ext cx="769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A shortage of 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clotting factor 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VIII (Haemophilia A) or factor IX (Haemophilia B)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 halts the chain reaction with the consequence that a clot does not form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nimation of abnormal clotting"/>
          <p:cNvPicPr/>
          <p:nvPr/>
        </p:nvPicPr>
        <p:blipFill>
          <a:blip r:embed="rId1"/>
          <a:stretch/>
        </p:blipFill>
        <p:spPr>
          <a:xfrm>
            <a:off x="1143000" y="4038480"/>
            <a:ext cx="655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ff"/>
                </a:solidFill>
                <a:latin typeface="Times New Roman"/>
              </a:rPr>
              <a:t>Haemophilia A and B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429000"/>
            <a:ext cx="800100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1 in 10,000 of the  population has the condition called haemophilia A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lotting factor VIII lacks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Another of the clotting ingredients is called factor IX. The activity of this factor is deficient in haemophilia B, also known as Christmas dise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Haemophilia A is approximately five times more common than haemophilia B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0:58:42Z</dcterms:created>
  <dc:creator>WLIVINGSTONE</dc:creator>
  <dc:description/>
  <dc:language>en-US</dc:language>
  <cp:lastModifiedBy>Dr.abdel-hamid</cp:lastModifiedBy>
  <dcterms:modified xsi:type="dcterms:W3CDTF">2006-10-23T20:36:16Z</dcterms:modified>
  <cp:revision>29</cp:revision>
  <dc:subject/>
  <dc:title>Haemophilia Carrier Te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61660856</vt:r8>
  </property>
  <property fmtid="{D5CDD505-2E9C-101B-9397-08002B2CF9AE}" pid="3" name="_AuthorEmail">
    <vt:lpwstr>bwhite@STJAMES.IE</vt:lpwstr>
  </property>
  <property fmtid="{D5CDD505-2E9C-101B-9397-08002B2CF9AE}" pid="4" name="_AuthorEmailDisplayName">
    <vt:lpwstr>White, Barry (NCHCD)</vt:lpwstr>
  </property>
  <property fmtid="{D5CDD505-2E9C-101B-9397-08002B2CF9AE}" pid="5" name="_EmailSubject">
    <vt:lpwstr>4th med</vt:lpwstr>
  </property>
  <property fmtid="{D5CDD505-2E9C-101B-9397-08002B2CF9AE}" pid="6" name="_ReviewingToolsShownOnce">
    <vt:lpwstr/>
  </property>
</Properties>
</file>