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4700-A77E-441C-B096-2A7BFDF03BE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1E95-B27F-4271-8198-0A7CE8763C5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673-6D6B-4531-9274-BD4D51740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354-E784-44D6-A0E6-5434DAAB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967-57AC-4431-9290-F8640FD8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BF7D-1612-4C5B-9288-E39E9BE0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C4F-C597-4102-9164-B8D44510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2C0-9898-482E-A43E-8202A3E2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BB4-3862-45DC-A2A1-C7B70680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38E-47E9-451E-BCDC-FE0D8D7A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D445-F89B-4144-BD4E-7EE9B36F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DC3-C428-4E31-A7F1-F7FFDDFC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F73-44C6-4C76-9128-27E08C67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AD1-70F2-4385-AB3B-CBEBA715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308E-96F2-45D2-B569-B16656D627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908000" y="3789360"/>
            <a:ext cx="5185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. Abdulkarim Alheth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stant Professor in Microbiology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ge of Medicine &amp; KK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8000" y="1897200"/>
            <a:ext cx="87487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V &amp; AID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674640" y="1603440"/>
            <a:ext cx="8218440" cy="39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3-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Perinatally (from mother to baby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ed mothers can transmit HIV to their babies transplacentally (25%), but Treatment of the mothers with the reverse transcriptase inhibitor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Zidovudine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pregnancy can reduce transmission in most cas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 spread to child perinatally mainly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0%)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delivery, but given the reverse transcriptase inhibitor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virapine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single dose during delivery can reduce the transmiss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eastfeeding is also an important way of perinatal transmission (25%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51912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80880" y="173160"/>
            <a:ext cx="83822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rus Inacti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674640" y="1695600"/>
            <a:ext cx="8001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V is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asily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activated by treatment for 10 min at 37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with any of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0% 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ouse hold bleach, Sodium hypochlori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50%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than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35%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sopropan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0.5%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Paraformaldehy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0.3%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ydrogen peroxi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nature08898-f1.2.jpg"/>
          <p:cNvPicPr/>
          <p:nvPr/>
        </p:nvPicPr>
        <p:blipFill>
          <a:blip r:embed="rId1"/>
          <a:stretch/>
        </p:blipFill>
        <p:spPr>
          <a:xfrm>
            <a:off x="1676520" y="1371600"/>
            <a:ext cx="5867280" cy="53276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808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V path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324000" y="404640"/>
            <a:ext cx="822960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ages of HIV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755640" y="1557360"/>
            <a:ext cx="79246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course of HIV infection is divided into 3 stages based on </a:t>
            </a:r>
            <a:r>
              <a:rPr b="0" lang="en-US" sz="2200" spc="-1" strike="noStrike">
                <a:solidFill>
                  <a:srgbClr val="ff33cc"/>
                </a:solidFill>
                <a:latin typeface="Times New Roman"/>
              </a:rPr>
              <a:t>CD4+ T cell count and presence of opportunistic infectio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acute ph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The chronic phase           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1-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PGL) 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2- 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AR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IDS (the end stage of the disea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ight Arrow 10"/>
          <p:cNvSpPr/>
          <p:nvPr/>
        </p:nvSpPr>
        <p:spPr>
          <a:xfrm>
            <a:off x="4284720" y="29448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ight Arrow 11"/>
          <p:cNvSpPr/>
          <p:nvPr/>
        </p:nvSpPr>
        <p:spPr>
          <a:xfrm>
            <a:off x="4284720" y="34495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4760" y="1886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ute phas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76320" y="1413000"/>
            <a:ext cx="5719680" cy="51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cubation period 2 weeks and lasts for about 12 wee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ly asymptomatic, but in about 2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5-65% of the cases, patients may develop symptoms resemble infectious mononucleosis or Flu (fever, headache, anorexia, fatigue, lymphadenopathy, skin rash) which resolved in 2 wee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apid viral replication (high viral load &gt;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copies/m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radual decrease in CD4+ T cell 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Symptoms+of+acute+HIV+infection.png"/>
          <p:cNvPicPr/>
          <p:nvPr/>
        </p:nvPicPr>
        <p:blipFill>
          <a:blip r:embed="rId1"/>
          <a:stretch/>
        </p:blipFill>
        <p:spPr>
          <a:xfrm>
            <a:off x="5867280" y="1484280"/>
            <a:ext cx="3200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9"/>
          <p:cNvSpPr/>
          <p:nvPr/>
        </p:nvSpPr>
        <p:spPr>
          <a:xfrm>
            <a:off x="395280" y="549360"/>
            <a:ext cx="8497800" cy="43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lood markers in the acute stag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 to slightly decrease no of </a:t>
            </a:r>
            <a:r>
              <a:rPr b="1" lang="en-US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CD4+ T cells.</a:t>
            </a:r>
            <a:r>
              <a:rPr b="0" lang="en-US" sz="22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rance of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ral RNA, 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n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e antigen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24 antigen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indicate active viral repl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earance of two antibodies, </a:t>
            </a:r>
            <a:r>
              <a:rPr b="1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ti-envelop </a:t>
            </a: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(</a:t>
            </a:r>
            <a:r>
              <a:rPr b="1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ti-gp120</a:t>
            </a: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 &amp; </a:t>
            </a:r>
            <a:r>
              <a:rPr b="1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ti-core (Anti-p24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The 1</a:t>
            </a:r>
            <a:r>
              <a:rPr b="1" lang="en-US" sz="2200" spc="-1" strike="noStrike" baseline="30000">
                <a:solidFill>
                  <a:srgbClr val="ff00ff"/>
                </a:solidFill>
                <a:latin typeface="Times New Roman"/>
                <a:ea typeface="Times New Roman"/>
              </a:rPr>
              <a:t>st</a:t>
            </a:r>
            <a:r>
              <a:rPr b="1" lang="en-US" sz="2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choice marker for detection HIV in the acute phase is HIV R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Hivtimecourse.gif"/>
          <p:cNvPicPr/>
          <p:nvPr/>
        </p:nvPicPr>
        <p:blipFill>
          <a:blip r:embed="rId1"/>
          <a:stretch/>
        </p:blipFill>
        <p:spPr>
          <a:xfrm>
            <a:off x="755640" y="1341360"/>
            <a:ext cx="7775640" cy="4132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240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V RNA copies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CD4+ T cell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ronic ph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85800" y="1557360"/>
            <a:ext cx="80629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sts for about 10 yrs in adults, and 5 yrs in childr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tally asymptomatic but the patients is still contagio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Relatively low viral load (&lt;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copies/m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D4+ T cell count &gt; 500 cells/m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the end of this stage, two syndromes appe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ff66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Persistent generalized lymphadenopathy (PG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1375"/>
              </a:spcBef>
              <a:buClr>
                <a:srgbClr val="ff66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AIDS-related complex (AR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380880" y="304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sistent generalized lymphadenopathy (PG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3520" y="2205000"/>
            <a:ext cx="4759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s defined as enlargement of lymph nodes for at least 1 cm in diameter in the absence of any illnesses or medications that known to cause PG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linical featur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 two or more lymph nodes out of the inguinal a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rsists for at least 3 mont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http://cdn.wn.com/pd/cc/67/bcf73042d4db6b50a868d48a46a8_grande.jpg"/>
          <p:cNvPicPr/>
          <p:nvPr/>
        </p:nvPicPr>
        <p:blipFill>
          <a:blip r:embed="rId1"/>
          <a:stretch/>
        </p:blipFill>
        <p:spPr>
          <a:xfrm>
            <a:off x="5372280" y="2347920"/>
            <a:ext cx="35924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97"/>
          <p:cNvSpPr/>
          <p:nvPr/>
        </p:nvSpPr>
        <p:spPr>
          <a:xfrm>
            <a:off x="468360" y="2811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-related complex (AR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s a group of clinical symptoms that come before AIDS and may include the follow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ever of unknown origin that persists &gt; 1 mon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hronic diarrhea, persisting &gt; 1 mon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eight loss &gt; 10% of the original weight (slim diseas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tigue, night sweating, and malai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rological disease as myelopathy and peripheral neuropath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3588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tion to HIV &amp; A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V main structural components &amp; life cyc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 of 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V path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ges of HIV inf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sistent generalized lymphadenopathy (PG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DS related complex (ARC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ological pro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&amp; trea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ig-351"/>
          <p:cNvPicPr/>
          <p:nvPr/>
        </p:nvPicPr>
        <p:blipFill>
          <a:blip r:embed="rId1"/>
          <a:stretch/>
        </p:blipFill>
        <p:spPr>
          <a:xfrm>
            <a:off x="1332000" y="1197000"/>
            <a:ext cx="6648480" cy="5310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2411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lim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9"/>
          <p:cNvSpPr/>
          <p:nvPr/>
        </p:nvSpPr>
        <p:spPr>
          <a:xfrm>
            <a:off x="684360" y="907920"/>
            <a:ext cx="8001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lood markers in the chronic stag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al load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HIV RNA)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 gradually, and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V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e antigen (p24)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appear in bloo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ti-envelop</a:t>
            </a:r>
            <a:r>
              <a:rPr b="1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Anti-gp120) </a:t>
            </a: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&amp; Anti-core (</a:t>
            </a:r>
            <a:r>
              <a:rPr b="1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ti-p24</a:t>
            </a: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 are posi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D4+ T cell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 </a:t>
            </a:r>
            <a:r>
              <a:rPr b="0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gradually 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creased</a:t>
            </a:r>
            <a:r>
              <a:rPr b="0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still more than 200 cells/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m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Hivtimecourse.gif"/>
          <p:cNvPicPr/>
          <p:nvPr/>
        </p:nvPicPr>
        <p:blipFill>
          <a:blip r:embed="rId1"/>
          <a:stretch/>
        </p:blipFill>
        <p:spPr>
          <a:xfrm>
            <a:off x="826920" y="1484280"/>
            <a:ext cx="7561440" cy="40197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590400" y="241200"/>
            <a:ext cx="82296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V RNA copies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CD4+ T cell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h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76320" y="1916280"/>
            <a:ext cx="5562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end stage of the dise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tinuous viral replication (high viral load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rked decrease in CD4+ T cell count &lt; 200 cell/m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efects in cellular immun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ersistent or frequent multiple opportunistic infec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nusual cancer (Kaposi sarcom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images4.jpg"/>
          <p:cNvPicPr/>
          <p:nvPr/>
        </p:nvPicPr>
        <p:blipFill>
          <a:blip r:embed="rId1"/>
          <a:stretch/>
        </p:blipFill>
        <p:spPr>
          <a:xfrm>
            <a:off x="5659560" y="1844640"/>
            <a:ext cx="3332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if-21"/>
          <p:cNvPicPr/>
          <p:nvPr/>
        </p:nvPicPr>
        <p:blipFill>
          <a:blip r:embed="rId1"/>
          <a:stretch/>
        </p:blipFill>
        <p:spPr>
          <a:xfrm>
            <a:off x="533520" y="1295280"/>
            <a:ext cx="8076960" cy="54104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51912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ig-339"/>
          <p:cNvPicPr/>
          <p:nvPr/>
        </p:nvPicPr>
        <p:blipFill>
          <a:blip r:embed="rId1"/>
          <a:stretch/>
        </p:blipFill>
        <p:spPr>
          <a:xfrm>
            <a:off x="1403280" y="1413000"/>
            <a:ext cx="6156360" cy="4616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763640" y="40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neumocystis pneumon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ig-356"/>
          <p:cNvPicPr/>
          <p:nvPr/>
        </p:nvPicPr>
        <p:blipFill>
          <a:blip r:embed="rId1"/>
          <a:stretch/>
        </p:blipFill>
        <p:spPr>
          <a:xfrm>
            <a:off x="4800600" y="1676520"/>
            <a:ext cx="4191120" cy="4038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Fig-31"/>
          <p:cNvPicPr/>
          <p:nvPr/>
        </p:nvPicPr>
        <p:blipFill>
          <a:blip r:embed="rId2"/>
          <a:stretch/>
        </p:blipFill>
        <p:spPr>
          <a:xfrm>
            <a:off x="152280" y="1676520"/>
            <a:ext cx="4191120" cy="40384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1912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aposi sarcoma / Candida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9"/>
          <p:cNvSpPr/>
          <p:nvPr/>
        </p:nvSpPr>
        <p:spPr>
          <a:xfrm>
            <a:off x="611280" y="907920"/>
            <a:ext cx="800100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Blood markers in AIDS stag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viral load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HIV RNA),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V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e antigen (p24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ears in bloo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of both HIV RNA &amp; the antigen p24 indicative of active viral repl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fc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ti-envelop</a:t>
            </a:r>
            <a:r>
              <a:rPr b="1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(Anti-gp120) </a:t>
            </a: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&amp; Anti-core (</a:t>
            </a:r>
            <a:r>
              <a:rPr b="1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nti-p24</a:t>
            </a:r>
            <a:r>
              <a:rPr b="0" lang="en-US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) are positiv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D4+ T cell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t </a:t>
            </a:r>
            <a:r>
              <a:rPr b="1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ecreased to very low levels</a:t>
            </a:r>
            <a:r>
              <a:rPr b="0" lang="en-US" sz="2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&lt;200 cells/mm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Hivtimecourse.gif"/>
          <p:cNvPicPr/>
          <p:nvPr/>
        </p:nvPicPr>
        <p:blipFill>
          <a:blip r:embed="rId1"/>
          <a:stretch/>
        </p:blipFill>
        <p:spPr>
          <a:xfrm>
            <a:off x="579600" y="1341360"/>
            <a:ext cx="7721280" cy="4103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590400" y="241200"/>
            <a:ext cx="82296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V RNA copies 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V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CD4+ T cell 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47894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324000" y="189000"/>
            <a:ext cx="8569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rological profile of HIV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56944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retrovirus that causes human AIDS, and was initially identified in 198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V infects mainly CD4+ T cells, macrophages, and dendritic cells which express the surface receptor CD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ing CD4+ T cells leads to severe immunologic impairment and eventually dea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uman immunodeficiency virus (HI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57200" y="4154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quired immunodeficiency syndrome (A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80880" y="5398920"/>
            <a:ext cx="856800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the end stage of the disease that is associated with CD4+ T cell depletion, multiple or recurrent opportunistic infections, and unusual cancer (Kaposi sarcom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24000" y="4428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685800" y="1219320"/>
            <a:ext cx="798984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atients history with or without clinical symptoms provides hints for a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hysician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the patient has ever exposed to HIV or no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Detection of both HIV Ag &amp; Ab in the patient serum by ELI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result is positive, repeat the screening test in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uplic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f repeatedly reactive (positive), do confirmatory tests (Western blot, recombinant immunoblot assay (RIBA), or PC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lood viral load by PCR is also used to monitor HIV replication and follow up patien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eatment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HIVWesternSchema2.jpg"/>
          <p:cNvPicPr/>
          <p:nvPr/>
        </p:nvPicPr>
        <p:blipFill>
          <a:blip r:embed="rId1"/>
          <a:stretch/>
        </p:blipFill>
        <p:spPr>
          <a:xfrm>
            <a:off x="2050920" y="1700280"/>
            <a:ext cx="5195880" cy="4762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324000" y="189000"/>
            <a:ext cx="8569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V western b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179280" y="304920"/>
            <a:ext cx="864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agement &amp; prev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o vaccine is available to prevent HIV infection, and thus the best strategies to control the spread of HIV infection are the follow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Religious education (by teaching the risk of making prohibited relation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Public health education (by teaching the risk of using shared material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ce safer sex by having one sexual partn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Advise of using condoms when is necessary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51912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68360" y="1773360"/>
            <a:ext cx="8280360" cy="48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combined therapy known as high active antiretroviral therapy (HAAR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NOTE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AART does not clear (</a:t>
            </a:r>
            <a:r>
              <a:rPr b="1" lang="en-US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radicat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) the virus from the body, and should be taken all lif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NOTE: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AART treated patients are still contagious even if their blood viral load below detection level (&lt; 50 copies/mL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ART is usually composed of two reverse transcriptase inhibitors and one protease inhibitor.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52336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two types of reverse transcriptase inhibito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cleoside analog RT inhibitors for HIV-1 &amp; HIV-2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- Zidovudine (AZT)      - Zalcitabine  (d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  -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tavudine  (d4T)         - Lamivudine (3TC)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nucleoside analog RT inhibitors for HIV-1 on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evirapine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- Delavirdine     - Efaviren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ases inhibitors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-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aquinavir   - Indinavir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    -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Nelfinavir     - Ritonav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1912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inue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9"/>
          <p:cNvSpPr/>
          <p:nvPr/>
        </p:nvSpPr>
        <p:spPr>
          <a:xfrm>
            <a:off x="762120" y="333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oals of HIV trea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8580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 inhibit viral replic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 control chronic immune activation and keep the immune system as close as possible to the normal st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 prevent the development of opportunistic infe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o minimize the chance of viral transmission especially from mother to neona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76280" y="281160"/>
            <a:ext cx="7167600" cy="13284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79280" y="1700280"/>
            <a:ext cx="638964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Notes on Medical Microb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; Katherine N. Ward, A. Christine McCartney, and Bishan Thak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Human Vir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; Leslie Collier and John Oxf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00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large.bangzo.com/?SWBMDQ0MzEwMjg0OA=="/>
          <p:cNvPicPr/>
          <p:nvPr/>
        </p:nvPicPr>
        <p:blipFill>
          <a:blip r:embed="rId2"/>
          <a:stretch/>
        </p:blipFill>
        <p:spPr>
          <a:xfrm>
            <a:off x="7020000" y="1125360"/>
            <a:ext cx="19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http://www.downeu.net/uploads/posts/2011-03-21/399117-0.jpg"/>
          <p:cNvPicPr/>
          <p:nvPr/>
        </p:nvPicPr>
        <p:blipFill>
          <a:blip r:embed="rId3"/>
          <a:stretch/>
        </p:blipFill>
        <p:spPr>
          <a:xfrm>
            <a:off x="7020000" y="4076640"/>
            <a:ext cx="1944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6680" y="3016080"/>
            <a:ext cx="8748720" cy="17398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ank you for your attention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stions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aracteristics of HIV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79280" y="1523880"/>
            <a:ext cx="5616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mily of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ovirida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ion consist o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ycoprotein envelope (gp120, gp41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rix layer (p17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sid (p24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copies of ss-R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zymes (reverse transcriptase, integrase, proteas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iv1.jpg"/>
          <p:cNvPicPr/>
          <p:nvPr/>
        </p:nvPicPr>
        <p:blipFill>
          <a:blip r:embed="rId1"/>
          <a:stretch/>
        </p:blipFill>
        <p:spPr>
          <a:xfrm>
            <a:off x="5796000" y="3716280"/>
            <a:ext cx="2808360" cy="2738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28447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682560" y="3808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V genom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HIV- genetic organization.jpg"/>
          <p:cNvPicPr/>
          <p:nvPr/>
        </p:nvPicPr>
        <p:blipFill>
          <a:blip r:embed="rId1"/>
          <a:stretch/>
        </p:blipFill>
        <p:spPr>
          <a:xfrm>
            <a:off x="1371600" y="1219320"/>
            <a:ext cx="6705720" cy="3504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228600" y="4800600"/>
            <a:ext cx="8686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enome consists of 9 gen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structural genes (gag, pol, en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non-structural genes (tat, nef, rev, vif, vpr, vpu)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V life cycl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HIV   AIDS Replication Animation Video.wmv" descr=""/>
          <p:cNvPicPr/>
          <p:nvPr/>
        </p:nvPicPr>
        <p:blipFill>
          <a:blip r:embed="rId1"/>
          <a:stretch/>
        </p:blipFill>
        <p:spPr>
          <a:xfrm>
            <a:off x="2340000" y="2349360"/>
            <a:ext cx="439092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IV life cycl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hiv_lifecycle.jpg"/>
          <p:cNvPicPr/>
          <p:nvPr/>
        </p:nvPicPr>
        <p:blipFill>
          <a:blip r:embed="rId1"/>
          <a:stretch/>
        </p:blipFill>
        <p:spPr>
          <a:xfrm>
            <a:off x="1197000" y="1413000"/>
            <a:ext cx="71200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35524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two HIV species known to cause AIDS in humans HIV-1 and HIV-2, and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overall sequence homology between HIV-1 &amp; HIV-2 is less than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80880" y="19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V spe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590400" y="2625840"/>
            <a:ext cx="82296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V-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ses HIV infection worldwi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virul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ly susceptible to muta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V-2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uses the infection in specific regions e.g. West Afric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ly less virul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CA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ly less susceptible to mutations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mission of H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685800" y="1628640"/>
            <a:ext cx="8062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xually (unprotected sex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irus is present in blood, semen and vaginal secre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arenteraly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exposure to infected blood or body fluids (e.g. receiving blood from infected donor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contaminated or not adequately sterilized tools in surgical or cosmetic practice (dental, tattooing, body piercing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contaminated needles, razors, or tooth brus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03:51:34Z</dcterms:created>
  <dc:creator>abdulkarim alhetheel</dc:creator>
  <dc:description/>
  <dc:language>en-US</dc:language>
  <cp:lastModifiedBy>abdulkarim</cp:lastModifiedBy>
  <dcterms:modified xsi:type="dcterms:W3CDTF">2015-07-06T22:17:20Z</dcterms:modified>
  <cp:revision>524</cp:revision>
  <dc:subject/>
  <dc:title>Slide 1</dc:title>
</cp:coreProperties>
</file>