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E05-AC0E-482F-9017-8CB718A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15E-1A84-4D92-BB0F-9F3F6C5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305-79A7-4F59-9011-11008F08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A3F-B04B-4FF8-AAE3-90106419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436-E008-4F3D-88CD-C970BDA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2A1-2F7F-4799-80F2-B268227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F32-5220-4BF0-BDBB-5034B27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252-04D3-4C2E-826B-6C27EBA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D6-7899-4F36-8C16-AE5B87F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B61-0BB4-43F7-BE96-1E580AE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CF2-443D-4DDE-9951-D823245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69D-A1E5-40D4-A57D-70A07041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D967-A821-48C2-AFB1-D90605F2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المد لغة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زيادة</a:t>
            </a:r>
            <a:br>
              <a:rPr sz="2800"/>
            </a:b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المد اصطلاح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طالة الصوت بحرف من حروف المد، وحرفي الل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حروفه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: مجموعة في : نُوْحِيْهَ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واو الساكنة المضموم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نُوْ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ياء  الساكنة المكسور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..حِيْ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ألف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..هَ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رفا اللين: </a:t>
            </a: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واو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، ( خَو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           </a:t>
            </a: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ياء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،  (بَي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31640" y="189000"/>
            <a:ext cx="8388000" cy="5859720"/>
            <a:chOff x="431640" y="189000"/>
            <a:chExt cx="8388000" cy="5859720"/>
          </a:xfrm>
        </p:grpSpPr>
        <p:cxnSp>
          <p:nvCxnSpPr>
            <p:cNvPr id="44" name="_s5147"/>
            <p:cNvCxnSpPr>
              <a:stCxn id="45" idx="0"/>
              <a:endCxn id="46" idx="2"/>
            </p:cNvCxnSpPr>
            <p:nvPr/>
          </p:nvCxnSpPr>
          <p:spPr>
            <a:xfrm flipV="1" rot="16200000">
              <a:off x="1752480" y="3858480"/>
              <a:ext cx="732600" cy="7178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5145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1037160" y="3860640"/>
              <a:ext cx="732600" cy="71388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5143"/>
            <p:cNvCxnSpPr>
              <a:stCxn id="50" idx="0"/>
              <a:endCxn id="51" idx="2"/>
            </p:cNvCxnSpPr>
            <p:nvPr/>
          </p:nvCxnSpPr>
          <p:spPr>
            <a:xfrm flipV="1" rot="16200000">
              <a:off x="4616640" y="3859200"/>
              <a:ext cx="732600" cy="71640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5141"/>
            <p:cNvCxnSpPr>
              <a:stCxn id="53" idx="0"/>
              <a:endCxn id="51" idx="2"/>
            </p:cNvCxnSpPr>
            <p:nvPr/>
          </p:nvCxnSpPr>
          <p:spPr>
            <a:xfrm flipH="1" flipV="1" rot="5400000">
              <a:off x="3901320" y="3859920"/>
              <a:ext cx="732600" cy="71532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5139"/>
            <p:cNvCxnSpPr>
              <a:stCxn id="55" idx="0"/>
              <a:endCxn id="56" idx="2"/>
            </p:cNvCxnSpPr>
            <p:nvPr/>
          </p:nvCxnSpPr>
          <p:spPr>
            <a:xfrm flipV="1" rot="16200000">
              <a:off x="7481160" y="3859200"/>
              <a:ext cx="732600" cy="71640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5137"/>
            <p:cNvCxnSpPr>
              <a:stCxn id="58" idx="0"/>
              <a:endCxn id="56" idx="2"/>
            </p:cNvCxnSpPr>
            <p:nvPr/>
          </p:nvCxnSpPr>
          <p:spPr>
            <a:xfrm flipH="1" flipV="1" rot="5400000">
              <a:off x="6765480" y="3859200"/>
              <a:ext cx="732600" cy="71676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5134"/>
            <p:cNvCxnSpPr>
              <a:stCxn id="56" idx="0"/>
              <a:endCxn id="60" idx="2"/>
            </p:cNvCxnSpPr>
            <p:nvPr/>
          </p:nvCxnSpPr>
          <p:spPr>
            <a:xfrm flipV="1" rot="16200000">
              <a:off x="5690880" y="587520"/>
              <a:ext cx="732600" cy="28652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5133"/>
            <p:cNvCxnSpPr>
              <a:stCxn id="51" idx="0"/>
              <a:endCxn id="60" idx="2"/>
            </p:cNvCxnSpPr>
            <p:nvPr/>
          </p:nvCxnSpPr>
          <p:spPr>
            <a:xfrm flipV="1">
              <a:off x="4624920" y="1653840"/>
              <a:ext cx="1800" cy="73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5132"/>
            <p:cNvCxnSpPr>
              <a:stCxn id="46" idx="0"/>
              <a:endCxn id="60" idx="2"/>
            </p:cNvCxnSpPr>
            <p:nvPr/>
          </p:nvCxnSpPr>
          <p:spPr>
            <a:xfrm flipH="1" flipV="1" rot="5400000">
              <a:off x="2826360" y="587520"/>
              <a:ext cx="732600" cy="28652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5128"/>
            <p:cNvSpPr/>
            <p:nvPr/>
          </p:nvSpPr>
          <p:spPr>
            <a:xfrm>
              <a:off x="4011120" y="18900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200" spc="-1" strike="noStrike">
                  <a:solidFill>
                    <a:srgbClr val="ff6600"/>
                  </a:solidFill>
                  <a:latin typeface="Arial"/>
                </a:rPr>
                <a:t>أنواع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200" spc="-1" strike="noStrike">
                  <a:solidFill>
                    <a:srgbClr val="ff6600"/>
                  </a:solidFill>
                  <a:latin typeface="Arial"/>
                </a:rPr>
                <a:t>المد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9"/>
            <p:cNvSpPr/>
            <p:nvPr/>
          </p:nvSpPr>
          <p:spPr>
            <a:xfrm>
              <a:off x="114660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بسب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سكو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0"/>
            <p:cNvSpPr/>
            <p:nvPr/>
          </p:nvSpPr>
          <p:spPr>
            <a:xfrm>
              <a:off x="401112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بسب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هم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1"/>
            <p:cNvSpPr/>
            <p:nvPr/>
          </p:nvSpPr>
          <p:spPr>
            <a:xfrm>
              <a:off x="687600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مد الذ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ليس سبب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همز ول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سكو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6"/>
            <p:cNvSpPr/>
            <p:nvPr/>
          </p:nvSpPr>
          <p:spPr>
            <a:xfrm>
              <a:off x="615960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3600" spc="-1" strike="noStrike">
                  <a:solidFill>
                    <a:srgbClr val="000000"/>
                  </a:solidFill>
                  <a:latin typeface="Arial"/>
                </a:rPr>
                <a:t>م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3600" spc="-1" strike="noStrike">
                  <a:solidFill>
                    <a:srgbClr val="000000"/>
                  </a:solidFill>
                  <a:latin typeface="Arial"/>
                </a:rPr>
                <a:t> العو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8"/>
            <p:cNvSpPr/>
            <p:nvPr/>
          </p:nvSpPr>
          <p:spPr>
            <a:xfrm>
              <a:off x="759204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</a:rPr>
                <a:t>الطبيع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0"/>
            <p:cNvSpPr/>
            <p:nvPr/>
          </p:nvSpPr>
          <p:spPr>
            <a:xfrm>
              <a:off x="329508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المنف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42"/>
            <p:cNvSpPr/>
            <p:nvPr/>
          </p:nvSpPr>
          <p:spPr>
            <a:xfrm>
              <a:off x="472716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ت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44"/>
            <p:cNvSpPr/>
            <p:nvPr/>
          </p:nvSpPr>
          <p:spPr>
            <a:xfrm>
              <a:off x="43164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العار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للسك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5146"/>
            <p:cNvSpPr/>
            <p:nvPr/>
          </p:nvSpPr>
          <p:spPr>
            <a:xfrm>
              <a:off x="1863720" y="4583880"/>
              <a:ext cx="1226160" cy="1464840"/>
            </a:xfrm>
            <a:custGeom>
              <a:avLst/>
              <a:gdLst>
                <a:gd name="textAreaLeft" fmla="*/ 59760 w 1226160"/>
                <a:gd name="textAreaRight" fmla="*/ 1166400 w 122616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803">
                  <a:moveTo>
                    <a:pt x="3600" y="0"/>
                  </a:moveTo>
                  <a:arcTo wR="3600" hR="3600" stAng="16200000" swAng="-5400000"/>
                  <a:lnTo>
                    <a:pt x="0" y="22203"/>
                  </a:lnTo>
                  <a:arcTo wR="3600" hR="3600" stAng="10800000" swAng="-5400000"/>
                  <a:lnTo>
                    <a:pt x="18000" y="258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لاز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333360"/>
            <a:ext cx="79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د الذي ليس سببه الهمز ولا السكو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22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44640"/>
            <a:ext cx="4033800" cy="439272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773360"/>
            <a:ext cx="4284720" cy="431964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93372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492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1916280"/>
            <a:ext cx="309708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3300"/>
                </a:solidFill>
                <a:latin typeface="Arial"/>
              </a:rPr>
              <a:t>المد الطبيع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cc00"/>
                </a:solidFill>
                <a:latin typeface="Arial"/>
              </a:rPr>
              <a:t>هو ما لا تقوم ذات الحرف إلا ب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ن يأتي حرف المد ولا يعقبه همز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ك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مثال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:ق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ا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و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يُمد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بمقدار </a:t>
            </a: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حركت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ن وجوب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6655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12536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916280"/>
            <a:ext cx="30243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3300"/>
                </a:solidFill>
                <a:latin typeface="Arial"/>
              </a:rPr>
              <a:t>مد العو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هو مد يقع في حال الوقف على تنوين النصب عوضاًُعن فتحتي التنوين في حال الوص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 فيؤول تنوين النصب إلى ألف ساكن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:غفو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ً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رحيم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اً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رحيم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ا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c27d"/>
                </a:solidFill>
                <a:latin typeface="Arial"/>
              </a:rPr>
              <a:t>   </a:t>
            </a: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يُمد بمقدار حركت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68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332000" y="260280"/>
            <a:ext cx="705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د بسبب الهم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28640"/>
            <a:ext cx="4500720" cy="5229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628640"/>
            <a:ext cx="4643280" cy="5229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700280"/>
            <a:ext cx="309744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المد المُتصل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حر ف الم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بعده همزة ٌ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لمة واح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سم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اء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_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يئ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 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_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ب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ء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يمد خمس حركات وج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276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360036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المد المُنفص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حرف المد في آخ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لمة وتليه الهمزة 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ول الكل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ي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آ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ها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ذ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0" lang="ar-SY" sz="32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رس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ساط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مد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حر كات جوازاً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42920" y="47628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raditional Arabic"/>
              </a:rPr>
              <a:t>المد بسبب السكون  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060640"/>
            <a:ext cx="3816360" cy="4797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060640"/>
            <a:ext cx="3816360" cy="4797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060640"/>
            <a:ext cx="31687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المد العارض للسك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ن يأتي  بعد حرف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المد حرف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ُتحرك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ُوقف علي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بالسك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ُ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د بمق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حركا 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:نستع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1916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بعد حرف المد حرف ساكن سكوناًلازماً أو حرف    مُشدد و يُمد بمقدار ست حركات و جوبًا  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الح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َّ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7:30:59Z</dcterms:created>
  <dc:creator>syst-16-02-13</dc:creator>
  <dc:description/>
  <dc:language>en-US</dc:language>
  <cp:lastModifiedBy>syst-16-02-13</cp:lastModifiedBy>
  <dcterms:modified xsi:type="dcterms:W3CDTF">2016-02-24T05:54:41Z</dcterms:modified>
  <cp:revision>9</cp:revision>
  <dc:subject/>
  <dc:title>الشريحة 1</dc:title>
</cp:coreProperties>
</file>