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525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3D6-21F4-433D-9B47-60AD19C3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558-E860-40EF-BB19-B2C5976D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280-62B7-4F4D-83D0-CC2DA286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C97-80DD-40FF-85F2-709707EA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4602-A3CD-461A-8219-480B9DC7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83E2-9201-46D3-AB71-7F8E9F4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EDAA-2B8C-4B29-815C-29AB20C5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05AE-8FE7-4C32-A78A-70B86B7E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A828-2ECF-438A-853C-97D2F5C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808A-8FDF-448E-A251-40AB660B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7EBB-DCDD-4767-ACA9-15B623E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DFF-29D7-4D67-A226-27BD563E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C66E-33E3-480F-9D42-47F1FDD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0E5F-0A0E-4B6F-8281-FB6AAC5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4F67-9612-43CC-9716-6AC1D728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77C4-959E-402B-AC27-ACA7F267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88F-0440-41CB-B99D-966FAF1F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5E8A-F5B2-4257-A96A-D888EB8E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258A-23A7-442F-9C30-3A578AF2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3764-1FA1-46F4-A107-AFE2B72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414F-FA83-4D2E-AAFF-8C803E9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6DD9-54CE-4A89-82FC-40C7987A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617-7D72-4F09-A957-376A2A67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BC32-23FE-4E45-BD4B-07C37DE1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896A-0100-4B5B-9E31-FE5BA9D4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EDE7-DB42-446D-975B-57775DAE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F4B3-104E-4DAE-A9AA-86F40C4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6BDC-9E21-4C11-9CE4-D603ABB5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3719-7A01-451F-9E63-55303E57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82D4-0303-4CAA-B591-2D4CD4C1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AFA0-3DBC-4F2F-B72E-6E2D8703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0ECF-15E9-405C-A45C-88E4F880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31905-A678-4A63-B1A0-8180B098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786-1FEE-4887-A1C5-4E5AD2F0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171B-DFEC-4277-8F33-34800D18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C019-CF60-48BF-A1F8-2EC0BD55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0995-D9E5-44E5-A61C-AD5998F8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3067-4998-477A-B2E2-68BAAA0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FA62-B002-4D75-87F9-2EDE2226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259A-7771-48AB-9705-F8A9126F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C24C-F3DC-4581-80A4-33201EF8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A43D-9B06-4B08-B025-CC22D3BB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5D64-9EAA-4A05-8695-757A17ED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67FF-52D6-4856-8508-4C02C7B4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73D-973A-4FD5-974E-B93372E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418B-08AD-4522-912E-C15BB7D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18D5-27CD-40B0-AE95-5DFD357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163D3-AF1E-4112-A46A-401BDE7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10A4-2A9F-44A7-9441-E6D83AA3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AF04-B16C-465F-A4D6-3824495E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5086F-8FC5-4584-9FFE-D3FA4ED3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53E5-86F8-4D4C-96B7-62FA065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B6A7-FE31-4EA9-81DA-301315F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1EA6C-C08A-401B-928C-0EE8317E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E499-2224-47A5-99D1-A715D828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BD6-6974-44DF-8903-583A4785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D87C9-8C9D-4750-9C6B-6BF0DAC4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013-6535-47A1-BFF8-F9B9016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8AA-5D92-43A5-B3EF-1B2F0E7C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900-115E-43B7-B362-4B5912A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EED5-E6F1-48F9-9E75-01442D44EF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ACD-4D2D-4EFA-8DA3-0C29D49B01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3D64-8A61-4592-8C58-8F61126659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DD16-66A8-473D-9444-55D6EEB318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0916-92EA-4E2E-8FDF-ED5718BB4E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KDZe9y-sSSY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536256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96464"/>
                </a:solidFill>
                <a:latin typeface="Franklin Gothic Book"/>
                <a:ea typeface="Tahoma"/>
              </a:rPr>
              <a:t> </a:t>
            </a:r>
            <a:r>
              <a:rPr b="1" lang="ar-SA" sz="44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لـــعب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3080" y="5373720"/>
            <a:ext cx="5948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Rectangle 3"/>
          <p:cNvGrpSpPr/>
          <p:nvPr/>
        </p:nvGrpSpPr>
        <p:grpSpPr>
          <a:xfrm>
            <a:off x="2975040" y="-23760"/>
            <a:ext cx="6431040" cy="6954840"/>
            <a:chOff x="2975040" y="-23760"/>
            <a:chExt cx="6431040" cy="6954840"/>
          </a:xfrm>
        </p:grpSpPr>
        <p:pic>
          <p:nvPicPr>
            <p:cNvPr id="258" name="Rectangle 3" descr=""/>
            <p:cNvPicPr/>
            <p:nvPr/>
          </p:nvPicPr>
          <p:blipFill>
            <a:blip r:embed="rId1"/>
            <a:stretch/>
          </p:blipFill>
          <p:spPr>
            <a:xfrm>
              <a:off x="2975040" y="-23760"/>
              <a:ext cx="643104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284720" y="0"/>
              <a:ext cx="4859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883e4"/>
                  </a:solidFill>
                  <a:latin typeface="Perpetua"/>
                </a:rPr>
                <a:t>إن للعب - في نظر إيزاكس – 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cs typeface="Times New Roman"/>
                </a:rPr>
                <a:t>ثلاثة أهداف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هي</a:t>
              </a:r>
              <a:r>
                <a:rPr b="1" lang="en-US" sz="3600" spc="-1" strike="noStrike">
                  <a:solidFill>
                    <a:srgbClr val="4883e4"/>
                  </a:solidFill>
                  <a:latin typeface="Perpetua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يقود للتفكير والاستكشاف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جسر الذي نعبر عنه إلى إقامة علاقات اجتماعية مع الآخرين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يؤدي إلى التوازن العاطفي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2689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3"/>
          <p:cNvGrpSpPr/>
          <p:nvPr/>
        </p:nvGrpSpPr>
        <p:grpSpPr>
          <a:xfrm>
            <a:off x="-49320" y="-109440"/>
            <a:ext cx="5310360" cy="7040520"/>
            <a:chOff x="-49320" y="-109440"/>
            <a:chExt cx="5310360" cy="7040520"/>
          </a:xfrm>
        </p:grpSpPr>
        <p:pic>
          <p:nvPicPr>
            <p:cNvPr id="262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109440"/>
              <a:ext cx="5310360" cy="70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5003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1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4883e4"/>
                  </a:solidFill>
                  <a:uFillTx/>
                  <a:latin typeface="Perpetua"/>
                </a:rPr>
                <a:t>فوائد اللع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تجريب أدوار المستقب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إظهار تجارب مكتسبة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تخلص من ميول غير مرغوبة 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التعبير عن الحاجات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إيجاد حل لبعض المشاكل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يتعلم أشياء جديدة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إقامة العلاقات الاجتماعية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2" descr="play-learn-create.jpg"/>
          <p:cNvPicPr/>
          <p:nvPr/>
        </p:nvPicPr>
        <p:blipFill>
          <a:blip r:embed="rId2"/>
          <a:stretch/>
        </p:blipFill>
        <p:spPr>
          <a:xfrm>
            <a:off x="5076720" y="1557360"/>
            <a:ext cx="3973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3"/>
          <p:cNvGrpSpPr/>
          <p:nvPr/>
        </p:nvGrpSpPr>
        <p:grpSpPr>
          <a:xfrm>
            <a:off x="-152280" y="-23760"/>
            <a:ext cx="9448560" cy="6954840"/>
            <a:chOff x="-152280" y="-23760"/>
            <a:chExt cx="9448560" cy="6954840"/>
          </a:xfrm>
        </p:grpSpPr>
        <p:pic>
          <p:nvPicPr>
            <p:cNvPr id="266" name="Rectangle 3" descr=""/>
            <p:cNvPicPr/>
            <p:nvPr/>
          </p:nvPicPr>
          <p:blipFill>
            <a:blip r:embed="rId1"/>
            <a:stretch/>
          </p:blipFill>
          <p:spPr>
            <a:xfrm>
              <a:off x="-152280" y="-23760"/>
              <a:ext cx="94485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يعتقد</a:t>
              </a:r>
              <a:r>
                <a:rPr b="1" lang="en-US" sz="3200" spc="-1" strike="noStrike">
                  <a:solidFill>
                    <a:srgbClr val="ff0000"/>
                  </a:solidFill>
                  <a:latin typeface="Perpetua"/>
                </a:rPr>
                <a:t> بياجيه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أن الأطفال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ند اللعب 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يعيدون تشكيل الصورة للبيئة التي يعيشون فيها بصورة أقرب إلى أذهانهم وعقولهم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لعب عند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Perpetua"/>
                </a:rPr>
                <a:t>بياجيه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نوعان: لعب تكيف ولعب استيعاب، فاللعب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عملية تكيف مع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بيئة، ومايكتسبه الطفل من خبرات من خلال اللعب يضيفها على ماعنده من خبرات سابقة هو الاستيعا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Rectangle 3"/>
          <p:cNvGrpSpPr/>
          <p:nvPr/>
        </p:nvGrpSpPr>
        <p:grpSpPr>
          <a:xfrm>
            <a:off x="-249120" y="-23760"/>
            <a:ext cx="9545400" cy="6954840"/>
            <a:chOff x="-249120" y="-23760"/>
            <a:chExt cx="9545400" cy="6954840"/>
          </a:xfrm>
        </p:grpSpPr>
        <p:pic>
          <p:nvPicPr>
            <p:cNvPr id="269" name="Rectangle 3" descr=""/>
            <p:cNvPicPr/>
            <p:nvPr/>
          </p:nvPicPr>
          <p:blipFill>
            <a:blip r:embed="rId1"/>
            <a:stretch/>
          </p:blipFill>
          <p:spPr>
            <a:xfrm>
              <a:off x="-249120" y="-23760"/>
              <a:ext cx="954540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Perpetua"/>
                </a:rPr>
                <a:t>اللعب</a:t>
              </a:r>
              <a:r>
                <a:rPr b="1" lang="en-US" sz="26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ليس مجرد إفراغ الطاقة الزائدة، أو ملء وقت الفراغ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أو إبعاد الملل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Perpetua"/>
                </a:rPr>
                <a:t>إنما هو</a:t>
              </a:r>
              <a:r>
                <a:rPr b="1" lang="ar-SA" sz="3600" spc="-1" strike="noStrike">
                  <a:solidFill>
                    <a:srgbClr val="ff0000"/>
                  </a:solidFill>
                  <a:latin typeface="Perpetua"/>
                  <a:ea typeface="Times New Roman"/>
                </a:rPr>
                <a:t>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وسيلة للتعرف على الحقيقة سواء في البيئة أو في معرفة الإنسان لذاته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وللعب أثر على نمو الفرد العصبي والعضلي والإدراكي ، وبالتالي في مقدرته على </a:t>
              </a:r>
              <a:r>
                <a:rPr b="1" lang="en-US" sz="3600" spc="-1" strike="noStrike">
                  <a:solidFill>
                    <a:srgbClr val="4883e4"/>
                  </a:solidFill>
                  <a:latin typeface="Perpetua"/>
                </a:rPr>
                <a:t>التعلم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Rectangle 3"/>
          <p:cNvGrpSpPr/>
          <p:nvPr/>
        </p:nvGrpSpPr>
        <p:grpSpPr>
          <a:xfrm>
            <a:off x="-128520" y="-23760"/>
            <a:ext cx="5529240" cy="6954840"/>
            <a:chOff x="-128520" y="-23760"/>
            <a:chExt cx="5529240" cy="6954840"/>
          </a:xfrm>
        </p:grpSpPr>
        <p:pic>
          <p:nvPicPr>
            <p:cNvPr id="272" name="Rectangle 3" descr=""/>
            <p:cNvPicPr/>
            <p:nvPr/>
          </p:nvPicPr>
          <p:blipFill>
            <a:blip r:embed="rId1"/>
            <a:stretch/>
          </p:blipFill>
          <p:spPr>
            <a:xfrm>
              <a:off x="-128520" y="-23760"/>
              <a:ext cx="552924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0" y="0"/>
              <a:ext cx="51483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8000"/>
                  </a:solidFill>
                  <a:latin typeface="Perpetua"/>
                </a:rPr>
                <a:t>أهمية اللعب</a:t>
              </a:r>
              <a:r>
                <a:rPr b="1" lang="ar-SA" sz="4000" spc="-1" strike="noStrike">
                  <a:solidFill>
                    <a:srgbClr val="008000"/>
                  </a:solidFill>
                  <a:latin typeface="Perpetua"/>
                  <a:ea typeface="Times New Roman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اللعب</a:t>
              </a:r>
              <a:r>
                <a:rPr b="1" lang="en-US" sz="3200" spc="-1" strike="noStrike">
                  <a:solidFill>
                    <a:srgbClr val="4883e4"/>
                  </a:solidFill>
                  <a:latin typeface="Perpetua"/>
                </a:rPr>
                <a:t> كامل 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وليس جزئي لأنه يلعب بعقله وجسمه وجوارحه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وسيلة تنمي الرغبة في المشاركة في حياة الكبار والتعاون معهم وفي زيادة المعرفة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تحقيق المتعة والسرور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Rectangle 3"/>
          <p:cNvGrpSpPr/>
          <p:nvPr/>
        </p:nvGrpSpPr>
        <p:grpSpPr>
          <a:xfrm>
            <a:off x="-49320" y="-23760"/>
            <a:ext cx="9388440" cy="6954840"/>
            <a:chOff x="-49320" y="-23760"/>
            <a:chExt cx="9388440" cy="6954840"/>
          </a:xfrm>
        </p:grpSpPr>
        <p:pic>
          <p:nvPicPr>
            <p:cNvPr id="276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38844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8000"/>
                  </a:solidFill>
                  <a:uFillTx/>
                  <a:latin typeface="Perpetua"/>
                </a:rPr>
                <a:t>أخطاء يرتكبها بعض الوالدين والمعلمين ومنها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منع الأطفال من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إجبار الأطفال على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الخوف على الأطفال من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بعض الألعا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خوف على الأدوات أن يصيبها التلف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دم تنظيم مكان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دم التجديد في بيئة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دم التنويع في طرق اللعب المقدمة للأطفا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”</a:t>
            </a:r>
            <a:r>
              <a:rPr b="1" lang="ar-SA" sz="3600" spc="-1" strike="noStrike">
                <a:solidFill>
                  <a:srgbClr val="ffffff"/>
                </a:solidFill>
                <a:latin typeface="Perpetua"/>
                <a:cs typeface="Times New Roman"/>
              </a:rPr>
              <a:t>دور المربي في لعب الأطفال</a:t>
            </a: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“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79" name="Rectangle 3"/>
          <p:cNvGrpSpPr/>
          <p:nvPr/>
        </p:nvGrpSpPr>
        <p:grpSpPr>
          <a:xfrm>
            <a:off x="579600" y="1090440"/>
            <a:ext cx="8083440" cy="5438880"/>
            <a:chOff x="579600" y="1090440"/>
            <a:chExt cx="8083440" cy="5438880"/>
          </a:xfrm>
        </p:grpSpPr>
        <p:pic>
          <p:nvPicPr>
            <p:cNvPr id="280" name="Rectangle 3" descr=""/>
            <p:cNvPicPr/>
            <p:nvPr/>
          </p:nvPicPr>
          <p:blipFill>
            <a:blip r:embed="rId1"/>
            <a:stretch/>
          </p:blipFill>
          <p:spPr>
            <a:xfrm>
              <a:off x="579600" y="1090440"/>
              <a:ext cx="808344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826920" y="1125360"/>
              <a:ext cx="7705800" cy="53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ملاحظة الأطفال أثناء اللعب للتعرف على طريقتهم في اللعب, والمواد واللعب التي يلعبون بها وذلك للتخطيط الجيد لأنشطة لعب في المستقبل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إثراء لعب الأطفال من خلال إعداد البيئة وتوجيه أسئلة مفتوحة تساعد على التركيز في اللعب والإستفادة منه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تشجيع الإعتماد على النفس في اللعب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تشجيع اللعب الذي يختاره الطفل ويقوم به بمبادأة منه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إشعار الأطفال بأنك مهتم بما يعملون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1576800" y="765000"/>
            <a:ext cx="62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نشاط الاسبوع القاد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93240" y="2276640"/>
            <a:ext cx="917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صممي مع مجموعك لعبة حركي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مناسبة للطفل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1168200" y="191628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اشكركم على الاستماع</a:t>
            </a: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مشهد.تدوين الملاحظات</a:t>
            </a:r>
            <a:r>
              <a:rPr b="0" lang="ar-SA" sz="4000" spc="-1" strike="noStrike">
                <a:solidFill>
                  <a:srgbClr val="696464"/>
                </a:solidFill>
                <a:latin typeface="Franklin Gothic Book"/>
                <a:ea typeface="Tahom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7128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www.youtube.com/watch?v=KDZe9y-s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مفهوم اللعب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4" name="Rectangle 3"/>
          <p:cNvGrpSpPr/>
          <p:nvPr/>
        </p:nvGrpSpPr>
        <p:grpSpPr>
          <a:xfrm>
            <a:off x="347760" y="957240"/>
            <a:ext cx="8308800" cy="5499000"/>
            <a:chOff x="347760" y="957240"/>
            <a:chExt cx="8308800" cy="5499000"/>
          </a:xfrm>
        </p:grpSpPr>
        <p:pic>
          <p:nvPicPr>
            <p:cNvPr id="235" name="Rectangle 3" descr=""/>
            <p:cNvPicPr/>
            <p:nvPr/>
          </p:nvPicPr>
          <p:blipFill>
            <a:blip r:embed="rId1"/>
            <a:stretch/>
          </p:blipFill>
          <p:spPr>
            <a:xfrm>
              <a:off x="347760" y="957240"/>
              <a:ext cx="830880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1280" y="981000"/>
              <a:ext cx="788508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Perpetua"/>
                </a:rPr>
                <a:t>اللعب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عبارة عن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استغلال طاقة الجسم الحركية في جلب المتعة النفسية للفرد، ولا يتم لعب دون طاقة ذهنية أو حركية جسمية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حركة أو سلسلة من الحركات بقصد التسلية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هو السرعة والخفة في تناول الأشياء واستعمالها أو التصرف فيها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هو ما نعمله باختيارنا في وقت الفرا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اللـــــــــعب</a:t>
            </a: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“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8" name="Rectangle 3"/>
          <p:cNvGrpSpPr/>
          <p:nvPr/>
        </p:nvGrpSpPr>
        <p:grpSpPr>
          <a:xfrm>
            <a:off x="566640" y="1073160"/>
            <a:ext cx="8150400" cy="5456160"/>
            <a:chOff x="566640" y="1073160"/>
            <a:chExt cx="8150400" cy="5456160"/>
          </a:xfrm>
        </p:grpSpPr>
        <p:pic>
          <p:nvPicPr>
            <p:cNvPr id="239" name="Rectangle 3" descr=""/>
            <p:cNvPicPr/>
            <p:nvPr/>
          </p:nvPicPr>
          <p:blipFill>
            <a:blip r:embed="rId1"/>
            <a:stretch/>
          </p:blipFill>
          <p:spPr>
            <a:xfrm>
              <a:off x="566640" y="1073160"/>
              <a:ext cx="815040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6920" y="1125360"/>
              <a:ext cx="7705800" cy="53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أثبتت</a:t>
              </a:r>
              <a:r>
                <a:rPr b="1" lang="en-US" sz="3000" spc="-1" strike="noStrike">
                  <a:solidFill>
                    <a:srgbClr val="ff0000"/>
                  </a:solidFill>
                  <a:latin typeface="Perpetua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Perpetua"/>
                </a:rPr>
                <a:t>الدراسات </a:t>
              </a:r>
              <a:r>
                <a:rPr b="1" lang="ar-SA" sz="28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العلمية أن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Perpetua"/>
                </a:rPr>
                <a:t> اللعب له دور في نمو الكائن الحي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يجمع علماء الأحياء على أن اللعب عند الأطفال هو تهيئة للأدوار التي سيقومون بها مستقبلاً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883e4"/>
                  </a:solidFill>
                  <a:latin typeface="Perpetua"/>
                </a:rPr>
                <a:t>مثل: لعب الأطفال لعبة المدرسة ونحوها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اللعب يمثل المجتمع الذي يعيش فيه، أي صورة للمجتم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اعتبر الناس اللعب مظهرا بارزاً من مظاهر الطفولة، وجزءاً لا يتجزأ منها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Rectangle 3"/>
          <p:cNvGrpSpPr/>
          <p:nvPr/>
        </p:nvGrpSpPr>
        <p:grpSpPr>
          <a:xfrm>
            <a:off x="-49320" y="-23760"/>
            <a:ext cx="9425160" cy="6954840"/>
            <a:chOff x="-49320" y="-23760"/>
            <a:chExt cx="9425160" cy="6954840"/>
          </a:xfrm>
        </p:grpSpPr>
        <p:pic>
          <p:nvPicPr>
            <p:cNvPr id="242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4251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351206"/>
                  </a:solidFill>
                  <a:uFillTx/>
                  <a:latin typeface="Perpetua"/>
                </a:rPr>
                <a:t>أنواع اللع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4883e4"/>
                  </a:solidFill>
                  <a:latin typeface="Perpetua"/>
                  <a:ea typeface="Times New Roman"/>
                </a:rPr>
                <a:t>1</a:t>
              </a:r>
              <a:r>
                <a:rPr b="1" lang="ar-SA" sz="3600" spc="-1" strike="noStrike">
                  <a:solidFill>
                    <a:srgbClr val="4883e4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 من حيث عدد المشتركين في اللعب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انفرادي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يلعب الطفل بمفرده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جماعي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يشترك في اللعب اثنان فأكثر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متوازي 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أن يلعب الطفلان منفردان في نفس المكان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Rectangle 3"/>
          <p:cNvGrpSpPr/>
          <p:nvPr/>
        </p:nvGrpSpPr>
        <p:grpSpPr>
          <a:xfrm>
            <a:off x="-49320" y="-23760"/>
            <a:ext cx="9425160" cy="6954840"/>
            <a:chOff x="-49320" y="-23760"/>
            <a:chExt cx="9425160" cy="6954840"/>
          </a:xfrm>
        </p:grpSpPr>
        <p:pic>
          <p:nvPicPr>
            <p:cNvPr id="245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4251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2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-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من حيث تنظيم اللعب، والإشراف عليه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حر التلقائي غير المنظم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عشوائي يكون بدون قوانين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منظم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مثل لعبة المدرسة – الغميمة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Rectangle 3"/>
          <p:cNvGrpSpPr/>
          <p:nvPr/>
        </p:nvGrpSpPr>
        <p:grpSpPr>
          <a:xfrm>
            <a:off x="-49320" y="-23760"/>
            <a:ext cx="9425160" cy="6954840"/>
            <a:chOff x="-49320" y="-23760"/>
            <a:chExt cx="9425160" cy="6954840"/>
          </a:xfrm>
        </p:grpSpPr>
        <p:pic>
          <p:nvPicPr>
            <p:cNvPr id="248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4251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51206"/>
                  </a:solidFill>
                  <a:latin typeface="Perpetu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3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-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من حيث نوعية اللعب وطبيعته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نشيط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يتمتع بالنشاط 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هادئ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يتمتع بالهدوء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ذي يساعد على تنسيق الحركات ونمو العضلات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خطة – الحبلة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ذي تغلب عليه الصفة العقلية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مثل لعبة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xo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 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785880" y="596880"/>
            <a:ext cx="2390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Perpetua"/>
                <a:cs typeface="Times New Roman"/>
              </a:rPr>
              <a:t>مواد اللعب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2" name="Rectangle 3"/>
          <p:cNvGrpSpPr/>
          <p:nvPr/>
        </p:nvGrpSpPr>
        <p:grpSpPr>
          <a:xfrm>
            <a:off x="781200" y="1079640"/>
            <a:ext cx="7935840" cy="5449680"/>
            <a:chOff x="781200" y="1079640"/>
            <a:chExt cx="7935840" cy="5449680"/>
          </a:xfrm>
        </p:grpSpPr>
        <p:pic>
          <p:nvPicPr>
            <p:cNvPr id="253" name="Rectangle 3" descr=""/>
            <p:cNvPicPr/>
            <p:nvPr/>
          </p:nvPicPr>
          <p:blipFill>
            <a:blip r:embed="rId1"/>
            <a:stretch/>
          </p:blipFill>
          <p:spPr>
            <a:xfrm>
              <a:off x="781200" y="1079640"/>
              <a:ext cx="7935840" cy="54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26920" y="1125360"/>
              <a:ext cx="7705800" cy="53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هناك بعض المعايير التي لا بد من مراعاتها عند إختيار اللعبة وهي</a:t>
              </a:r>
              <a:r>
                <a:rPr b="1" lang="ar-SA" sz="2800" spc="-1" strike="noStrike">
                  <a:solidFill>
                    <a:srgbClr val="ff0000"/>
                  </a:solidFill>
                  <a:latin typeface="Perpetua"/>
                  <a:ea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سلامة والأمان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تحمل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قابلية للتنظي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جاذبية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مناسبة لسن الطفل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51206"/>
                </a:solidFill>
                <a:latin typeface="Franklin Gothic Book"/>
              </a:rPr>
              <a:t>أهداف اللعب وفوائده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535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9:21:43Z</dcterms:created>
  <dc:creator>Dell</dc:creator>
  <dc:description/>
  <dc:language>en-US</dc:language>
  <cp:lastModifiedBy>Lena Alkhuraiji</cp:lastModifiedBy>
  <cp:lastPrinted>2017-02-20T19:15:12Z</cp:lastPrinted>
  <dcterms:modified xsi:type="dcterms:W3CDTF">2017-02-20T21:25:27Z</dcterms:modified>
  <cp:revision>63</cp:revision>
  <dc:subject/>
  <dc:title>معلمة الروضة</dc:title>
</cp:coreProperties>
</file>