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525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FA2-9106-4C41-866F-34F8F73E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A9B-46DD-46A6-91D1-6492EF7C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07F-0062-4542-A6FB-D12A6119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17C5-8F50-4E67-80FB-8709F904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981E-65B8-4D3A-BE2C-964B6B9F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470C-0E55-442F-8AB6-7F82EED7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CB7-FA37-406B-A144-34532A1A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E097-FB16-4CE3-89DE-84D33DA7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B750-18BA-456E-AA2B-B2615165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9896-4981-45A2-AC3B-52E55E2D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4513-3216-4A63-8385-62F5563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1DD-798E-4B66-A5C4-4AB27DFA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849B-F71F-4C19-A2C7-9AA12E4D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A7C9-83A6-4935-A1C3-14E7DA44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43D9-E9FE-4584-BD9B-E50E86C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CBB5-C590-4EFD-992A-B7F76E07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C09C-1E97-4D35-8DDE-B0F3F405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4274-7AF3-4EAB-9AC8-F26874D2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C8FE-A917-4194-9A5D-FC22B508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B0F1-39A5-4249-9E1A-D0442D71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ECBC-A08C-47B8-98DC-D6AC2DCB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4FE5-FD60-43FE-9320-53F1F634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BE9-9095-430D-B0DA-A2E8423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65F4D-06E1-4D51-B579-58ACB22A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7E6A-CC03-466D-922E-AA7AE5AD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B080-CBEB-430C-8C38-2FCA8A8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3A5B-1AAF-47B3-8CAA-E8F710E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E6E3F-5E0F-47F8-9542-52C832E5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01AB-C187-403C-A9A2-74B177F5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DBD6-7129-4ABE-9A47-C650004A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4F3B4-8C7B-49EF-BD4F-ED23746C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16C1-FBBC-4880-83DF-B8982A63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8D97-A284-4AEA-A6CD-9B7D39A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A44-9AFE-46DE-AF98-8B91EBDC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3C235-CA60-4F13-814B-E5525C4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55FE7-48EB-4260-9CA7-6F1E8449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1FE24-8E19-49B4-9B31-0A8CB17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7E2F-214F-4953-BB19-6B8D6EC2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6B4DB-9874-40B0-8BC9-A75E653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63CC-6F3C-4E04-97AF-BE8A7419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54DF-9A56-4E73-B5FF-1BB75A3F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7204-4334-40A5-8A91-B30E4E6A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5240-09B7-4DC5-AED4-C2DD07F6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73A8-94C1-4E14-9C78-E8829E79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3BE-BF0C-4B02-AC2F-700DE692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0CF2-6C27-4A92-B619-15DEB832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5F7B-F429-4F71-81EE-5BB461A3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B9080-4D2C-4BA4-8FE4-1155158A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3A98-0A15-4E6C-BC06-A3FDAD93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818F-ECA3-48F3-BC7A-3D0D0A82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D99A7-27A8-45FF-9241-DF45728F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7A2F4-EF9B-463E-A8D9-DC530E2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FC650-D49E-4729-981D-ED23592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0247-5096-4F65-BE8B-D0EA310A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FFB8-34C2-4E32-9957-3C4A80B1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14F-270B-4DAC-8517-5C0E4099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3EC9-912F-4CA3-9C26-A9CF6DDD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C2E-F783-419D-99A8-6A07B740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016-C3CD-4747-B352-5042A32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92D-473B-4DB2-970E-DF42C3D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8166-2497-44A5-9DD1-CAFCE42E91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BB38-5828-4312-953F-45ADCAAA18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EEBF-5A0C-48C4-9CD0-D9CCA735E5A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2AC2-EF7F-4D8D-817C-FB51F3E4A6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FE20-3D4E-451F-9B26-4F953DF95B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KDZe9y-sSSY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536256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96464"/>
                </a:solidFill>
                <a:latin typeface="Franklin Gothic Book"/>
                <a:ea typeface="Tahoma"/>
              </a:rPr>
              <a:t> </a:t>
            </a:r>
            <a:r>
              <a:rPr b="1" lang="ar-SA" sz="44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اللـــعب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3080" y="5373720"/>
            <a:ext cx="59482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Rectangle 3"/>
          <p:cNvGrpSpPr/>
          <p:nvPr/>
        </p:nvGrpSpPr>
        <p:grpSpPr>
          <a:xfrm>
            <a:off x="2975040" y="-23760"/>
            <a:ext cx="6431040" cy="6954840"/>
            <a:chOff x="2975040" y="-23760"/>
            <a:chExt cx="6431040" cy="6954840"/>
          </a:xfrm>
        </p:grpSpPr>
        <p:pic>
          <p:nvPicPr>
            <p:cNvPr id="258" name="Rectangle 3" descr=""/>
            <p:cNvPicPr/>
            <p:nvPr/>
          </p:nvPicPr>
          <p:blipFill>
            <a:blip r:embed="rId1"/>
            <a:stretch/>
          </p:blipFill>
          <p:spPr>
            <a:xfrm>
              <a:off x="2975040" y="-23760"/>
              <a:ext cx="643104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284720" y="0"/>
              <a:ext cx="4859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883e4"/>
                  </a:solidFill>
                  <a:latin typeface="Perpetua"/>
                </a:rPr>
                <a:t>إن للعب - في نظر إيزاكس – 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cs typeface="Times New Roman"/>
                </a:rPr>
                <a:t>ثلاثة أهداف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هي</a:t>
              </a:r>
              <a:r>
                <a:rPr b="1" lang="en-US" sz="3600" spc="-1" strike="noStrike">
                  <a:solidFill>
                    <a:srgbClr val="4883e4"/>
                  </a:solidFill>
                  <a:latin typeface="Perpetua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يقود للتفكير والاستكشاف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جسر الذي نعبر عنه إلى إقامة علاقات اجتماعية مع الآخرين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يؤدي إلى التوازن العاطفي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2689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Rectangle 3"/>
          <p:cNvGrpSpPr/>
          <p:nvPr/>
        </p:nvGrpSpPr>
        <p:grpSpPr>
          <a:xfrm>
            <a:off x="-49320" y="-109440"/>
            <a:ext cx="5310360" cy="7040520"/>
            <a:chOff x="-49320" y="-109440"/>
            <a:chExt cx="5310360" cy="7040520"/>
          </a:xfrm>
        </p:grpSpPr>
        <p:pic>
          <p:nvPicPr>
            <p:cNvPr id="262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109440"/>
              <a:ext cx="5310360" cy="70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5003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1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4883e4"/>
                  </a:solidFill>
                  <a:uFillTx/>
                  <a:latin typeface="Perpetua"/>
                </a:rPr>
                <a:t>فوائد اللع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تجريب أدوار المستقب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إظهار تجارب مكتسبة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تخلص من ميول غير مرغوبة 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التعبير عن الحاجات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إيجاد حل لبعض المشاكل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يتعلم أشياء جديدة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إقامة العلاقات الاجتماعية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1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2" descr="play-learn-create.jpg"/>
          <p:cNvPicPr/>
          <p:nvPr/>
        </p:nvPicPr>
        <p:blipFill>
          <a:blip r:embed="rId2"/>
          <a:stretch/>
        </p:blipFill>
        <p:spPr>
          <a:xfrm>
            <a:off x="5076720" y="1557360"/>
            <a:ext cx="39736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3"/>
          <p:cNvGrpSpPr/>
          <p:nvPr/>
        </p:nvGrpSpPr>
        <p:grpSpPr>
          <a:xfrm>
            <a:off x="-152280" y="-23760"/>
            <a:ext cx="9448560" cy="6954840"/>
            <a:chOff x="-152280" y="-23760"/>
            <a:chExt cx="9448560" cy="6954840"/>
          </a:xfrm>
        </p:grpSpPr>
        <p:pic>
          <p:nvPicPr>
            <p:cNvPr id="266" name="Rectangle 3" descr=""/>
            <p:cNvPicPr/>
            <p:nvPr/>
          </p:nvPicPr>
          <p:blipFill>
            <a:blip r:embed="rId1"/>
            <a:stretch/>
          </p:blipFill>
          <p:spPr>
            <a:xfrm>
              <a:off x="-152280" y="-23760"/>
              <a:ext cx="94485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يعتقد</a:t>
              </a:r>
              <a:r>
                <a:rPr b="1" lang="en-US" sz="3200" spc="-1" strike="noStrike">
                  <a:solidFill>
                    <a:srgbClr val="ff0000"/>
                  </a:solidFill>
                  <a:latin typeface="Perpetua"/>
                </a:rPr>
                <a:t> بياجيه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أن الأطفال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ند اللعب 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يعيدون تشكيل الصورة للبيئة التي يعيشون فيها بصورة أقرب إلى أذهانهم وعقولهم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لعب عند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Perpetua"/>
                </a:rPr>
                <a:t>بياجيه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نوعان: لعب تكيف ولعب استيعاب، فاللعب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عملية تكيف مع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بيئة، ومايكتسبه الطفل من خبرات من خلال اللعب يضيفها على ماعنده من خبرات سابقة هو الاستيعا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Rectangle 3"/>
          <p:cNvGrpSpPr/>
          <p:nvPr/>
        </p:nvGrpSpPr>
        <p:grpSpPr>
          <a:xfrm>
            <a:off x="-249120" y="-23760"/>
            <a:ext cx="9545400" cy="6954840"/>
            <a:chOff x="-249120" y="-23760"/>
            <a:chExt cx="9545400" cy="6954840"/>
          </a:xfrm>
        </p:grpSpPr>
        <p:pic>
          <p:nvPicPr>
            <p:cNvPr id="269" name="Rectangle 3" descr=""/>
            <p:cNvPicPr/>
            <p:nvPr/>
          </p:nvPicPr>
          <p:blipFill>
            <a:blip r:embed="rId1"/>
            <a:stretch/>
          </p:blipFill>
          <p:spPr>
            <a:xfrm>
              <a:off x="-249120" y="-23760"/>
              <a:ext cx="954540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Perpetua"/>
                </a:rPr>
                <a:t>اللعب</a:t>
              </a:r>
              <a:r>
                <a:rPr b="1" lang="en-US" sz="26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ليس مجرد إفراغ الطاقة الزائدة، أو ملء وقت الفراغ،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أو إبعاد الملل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Perpetua"/>
                </a:rPr>
                <a:t>إنما هو</a:t>
              </a:r>
              <a:r>
                <a:rPr b="1" lang="ar-SA" sz="3600" spc="-1" strike="noStrike">
                  <a:solidFill>
                    <a:srgbClr val="ff0000"/>
                  </a:solidFill>
                  <a:latin typeface="Perpetua"/>
                  <a:ea typeface="Times New Roman"/>
                </a:rPr>
                <a:t>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وسيلة للتعرف على الحقيقة سواء في البيئة أو في معرفة الإنسان لذاته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وللعب أثر على نمو الفرد العصبي والعضلي والإدراكي ، وبالتالي في مقدرته على </a:t>
              </a:r>
              <a:r>
                <a:rPr b="1" lang="en-US" sz="3600" spc="-1" strike="noStrike">
                  <a:solidFill>
                    <a:srgbClr val="4883e4"/>
                  </a:solidFill>
                  <a:latin typeface="Perpetua"/>
                </a:rPr>
                <a:t>التعلم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Rectangle 3"/>
          <p:cNvGrpSpPr/>
          <p:nvPr/>
        </p:nvGrpSpPr>
        <p:grpSpPr>
          <a:xfrm>
            <a:off x="-128520" y="-23760"/>
            <a:ext cx="5529240" cy="6954840"/>
            <a:chOff x="-128520" y="-23760"/>
            <a:chExt cx="5529240" cy="6954840"/>
          </a:xfrm>
        </p:grpSpPr>
        <p:pic>
          <p:nvPicPr>
            <p:cNvPr id="272" name="Rectangle 3" descr=""/>
            <p:cNvPicPr/>
            <p:nvPr/>
          </p:nvPicPr>
          <p:blipFill>
            <a:blip r:embed="rId1"/>
            <a:stretch/>
          </p:blipFill>
          <p:spPr>
            <a:xfrm>
              <a:off x="-128520" y="-23760"/>
              <a:ext cx="552924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0" y="0"/>
              <a:ext cx="51483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8000"/>
                  </a:solidFill>
                  <a:latin typeface="Perpetua"/>
                </a:rPr>
                <a:t>أهمية اللعب</a:t>
              </a:r>
              <a:r>
                <a:rPr b="1" lang="ar-SA" sz="4000" spc="-1" strike="noStrike">
                  <a:solidFill>
                    <a:srgbClr val="008000"/>
                  </a:solidFill>
                  <a:latin typeface="Perpetua"/>
                  <a:ea typeface="Times New Roman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اللعب</a:t>
              </a:r>
              <a:r>
                <a:rPr b="1" lang="en-US" sz="3200" spc="-1" strike="noStrike">
                  <a:solidFill>
                    <a:srgbClr val="4883e4"/>
                  </a:solidFill>
                  <a:latin typeface="Perpetua"/>
                </a:rPr>
                <a:t> كامل </a:t>
              </a: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وليس جزئي لأنه يلعب بعقله وجسمه وجوارحه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وسيلة تنمي الرغبة في المشاركة في حياة الكبار والتعاون معهم وفي زيادة المعرفة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تحقيق المتعة والسرور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Picture 1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Rectangle 3"/>
          <p:cNvGrpSpPr/>
          <p:nvPr/>
        </p:nvGrpSpPr>
        <p:grpSpPr>
          <a:xfrm>
            <a:off x="-49320" y="-23760"/>
            <a:ext cx="9388440" cy="6954840"/>
            <a:chOff x="-49320" y="-23760"/>
            <a:chExt cx="9388440" cy="6954840"/>
          </a:xfrm>
        </p:grpSpPr>
        <p:pic>
          <p:nvPicPr>
            <p:cNvPr id="276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38844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8000"/>
                  </a:solidFill>
                  <a:uFillTx/>
                  <a:latin typeface="Perpetua"/>
                </a:rPr>
                <a:t>أخطاء يرتكبها بعض الوالدين والمعلمين ومنها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منع الأطفال من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إجبار الأطفال على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Perpetua"/>
                </a:rPr>
                <a:t> الخوف على الأطفال من </a:t>
              </a: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بعض الألعا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خوف على الأدوات أن يصيبها التلف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دم تنظيم مكان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دم التجديد في بيئة اللعب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عدم التنويع في طرق اللعب المقدمة للأطفال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”</a:t>
            </a:r>
            <a:r>
              <a:rPr b="1" lang="ar-SA" sz="3600" spc="-1" strike="noStrike">
                <a:solidFill>
                  <a:srgbClr val="ffffff"/>
                </a:solidFill>
                <a:latin typeface="Perpetua"/>
                <a:cs typeface="Times New Roman"/>
              </a:rPr>
              <a:t>دور المربي في لعب الأطفال</a:t>
            </a: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“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79" name="Rectangle 3"/>
          <p:cNvGrpSpPr/>
          <p:nvPr/>
        </p:nvGrpSpPr>
        <p:grpSpPr>
          <a:xfrm>
            <a:off x="579600" y="1090440"/>
            <a:ext cx="8083440" cy="5438880"/>
            <a:chOff x="579600" y="1090440"/>
            <a:chExt cx="8083440" cy="5438880"/>
          </a:xfrm>
        </p:grpSpPr>
        <p:pic>
          <p:nvPicPr>
            <p:cNvPr id="280" name="Rectangle 3" descr=""/>
            <p:cNvPicPr/>
            <p:nvPr/>
          </p:nvPicPr>
          <p:blipFill>
            <a:blip r:embed="rId1"/>
            <a:stretch/>
          </p:blipFill>
          <p:spPr>
            <a:xfrm>
              <a:off x="579600" y="1090440"/>
              <a:ext cx="808344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826920" y="1125360"/>
              <a:ext cx="7705800" cy="53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ملاحظة الأطفال أثناء اللعب للتعرف على طريقتهم في اللعب, والمواد واللعب التي يلعبون بها وذلك للتخطيط الجيد لأنشطة لعب في المستقبل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إثراء لعب الأطفال من خلال إعداد البيئة وتوجيه أسئلة مفتوحة تساعد على التركيز في اللعب والإستفادة منه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تشجيع الإعتماد على النفس في اللعب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تشجيع اللعب الذي يختاره الطفل ويقوم به بمبادأة منه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Perpetu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إشعار الأطفال بأنك مهتم بما يعملون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1576800" y="765000"/>
            <a:ext cx="62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نشاط الاسبوع القاد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93240" y="2276640"/>
            <a:ext cx="917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صممي مع مجموعك لعبة حركي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مناسبة للطفل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1168200" y="191628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اشكركم على الاستماع</a:t>
            </a:r>
            <a:r>
              <a:rPr b="0" lang="ar-SA" sz="5400" spc="-1" strike="noStrike">
                <a:solidFill>
                  <a:srgbClr val="d34817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Franklin Gothic Book"/>
                <a:cs typeface="Tahoma"/>
              </a:rPr>
              <a:t>مشهد.تدوين الملاحظات</a:t>
            </a:r>
            <a:r>
              <a:rPr b="0" lang="ar-SA" sz="4000" spc="-1" strike="noStrike">
                <a:solidFill>
                  <a:srgbClr val="696464"/>
                </a:solidFill>
                <a:latin typeface="Franklin Gothic Book"/>
                <a:ea typeface="Tahom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7128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www.youtube.com/watch?v=KDZe9y-s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a28e6a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Perpetua"/>
              </a:rPr>
              <a:t>مفهوم اللعب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4" name="Rectangle 3"/>
          <p:cNvGrpSpPr/>
          <p:nvPr/>
        </p:nvGrpSpPr>
        <p:grpSpPr>
          <a:xfrm>
            <a:off x="347760" y="957240"/>
            <a:ext cx="8308800" cy="5499000"/>
            <a:chOff x="347760" y="957240"/>
            <a:chExt cx="8308800" cy="5499000"/>
          </a:xfrm>
        </p:grpSpPr>
        <p:pic>
          <p:nvPicPr>
            <p:cNvPr id="235" name="Rectangle 3" descr=""/>
            <p:cNvPicPr/>
            <p:nvPr/>
          </p:nvPicPr>
          <p:blipFill>
            <a:blip r:embed="rId1"/>
            <a:stretch/>
          </p:blipFill>
          <p:spPr>
            <a:xfrm>
              <a:off x="347760" y="957240"/>
              <a:ext cx="8308800" cy="54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1280" y="981000"/>
              <a:ext cx="788508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Perpetua"/>
                </a:rPr>
                <a:t>اللعب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عبارة عن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استغلال طاقة الجسم الحركية في جلب المتعة النفسية للفرد، ولا يتم لعب دون طاقة ذهنية أو حركية جسمية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حركة أو سلسلة من الحركات بقصد التسلية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هو السرعة والخفة في تناول الأشياء واستعمالها أو التصرف فيها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هو ما نعمله باختيارنا في وقت الفراغ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 rtl="1">
                <a:lnSpc>
                  <a:spcPct val="13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اللـــــــــعب</a:t>
            </a:r>
            <a:r>
              <a:rPr b="1" lang="en-US" sz="3600" spc="-1" strike="noStrike">
                <a:solidFill>
                  <a:srgbClr val="ffffff"/>
                </a:solidFill>
                <a:latin typeface="Perpetua"/>
              </a:rPr>
              <a:t>“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38" name="Rectangle 3"/>
          <p:cNvGrpSpPr/>
          <p:nvPr/>
        </p:nvGrpSpPr>
        <p:grpSpPr>
          <a:xfrm>
            <a:off x="566640" y="1073160"/>
            <a:ext cx="8150400" cy="5456160"/>
            <a:chOff x="566640" y="1073160"/>
            <a:chExt cx="8150400" cy="5456160"/>
          </a:xfrm>
        </p:grpSpPr>
        <p:pic>
          <p:nvPicPr>
            <p:cNvPr id="239" name="Rectangle 3" descr=""/>
            <p:cNvPicPr/>
            <p:nvPr/>
          </p:nvPicPr>
          <p:blipFill>
            <a:blip r:embed="rId1"/>
            <a:stretch/>
          </p:blipFill>
          <p:spPr>
            <a:xfrm>
              <a:off x="566640" y="1073160"/>
              <a:ext cx="815040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6920" y="1125360"/>
              <a:ext cx="7705800" cy="53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أثبتت</a:t>
              </a:r>
              <a:r>
                <a:rPr b="1" lang="en-US" sz="3000" spc="-1" strike="noStrike">
                  <a:solidFill>
                    <a:srgbClr val="ff0000"/>
                  </a:solidFill>
                  <a:latin typeface="Perpetua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Perpetua"/>
                </a:rPr>
                <a:t>الدراسات </a:t>
              </a:r>
              <a:r>
                <a:rPr b="1" lang="ar-SA" sz="28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العلمية أن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Perpetua"/>
                </a:rPr>
                <a:t> اللعب له دور في نمو الكائن الحي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يجمع علماء الأحياء على أن اللعب عند الأطفال هو تهيئة للأدوار التي سيقومون بها مستقبلاً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883e4"/>
                  </a:solidFill>
                  <a:latin typeface="Perpetua"/>
                </a:rPr>
                <a:t>مثل: لعب الأطفال لعبة المدرسة ونحوها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اللعب يمثل المجتمع الذي يعيش فيه، أي صورة للمجتم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اعتبر الناس اللعب مظهرا بارزاً من مظاهر الطفولة، وجزءاً لا يتجزأ منها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Rectangle 3"/>
          <p:cNvGrpSpPr/>
          <p:nvPr/>
        </p:nvGrpSpPr>
        <p:grpSpPr>
          <a:xfrm>
            <a:off x="-49320" y="-23760"/>
            <a:ext cx="9425160" cy="6954840"/>
            <a:chOff x="-49320" y="-23760"/>
            <a:chExt cx="9425160" cy="6954840"/>
          </a:xfrm>
        </p:grpSpPr>
        <p:pic>
          <p:nvPicPr>
            <p:cNvPr id="242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4251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351206"/>
                  </a:solidFill>
                  <a:uFillTx/>
                  <a:latin typeface="Perpetua"/>
                </a:rPr>
                <a:t>أنواع اللع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4883e4"/>
                  </a:solidFill>
                  <a:latin typeface="Perpetua"/>
                  <a:ea typeface="Times New Roman"/>
                </a:rPr>
                <a:t>1</a:t>
              </a:r>
              <a:r>
                <a:rPr b="1" lang="ar-SA" sz="3600" spc="-1" strike="noStrike">
                  <a:solidFill>
                    <a:srgbClr val="4883e4"/>
                  </a:solidFill>
                  <a:latin typeface="Perpetua"/>
                  <a:ea typeface="Times New Roman"/>
                </a:rPr>
                <a:t>-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 من حيث عدد المشتركين في اللعب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انفرادي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يلعب الطفل بمفرده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جماعي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يشترك في اللعب اثنان فأكثر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متوازي 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أن يلعب الطفلان منفردان في نفس المكان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Rectangle 3"/>
          <p:cNvGrpSpPr/>
          <p:nvPr/>
        </p:nvGrpSpPr>
        <p:grpSpPr>
          <a:xfrm>
            <a:off x="-49320" y="-23760"/>
            <a:ext cx="9425160" cy="6954840"/>
            <a:chOff x="-49320" y="-23760"/>
            <a:chExt cx="9425160" cy="6954840"/>
          </a:xfrm>
        </p:grpSpPr>
        <p:pic>
          <p:nvPicPr>
            <p:cNvPr id="245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4251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2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-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من حيث تنظيم اللعب، والإشراف عليه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حر التلقائي غير المنظم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عشوائي يكون بدون قوانين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5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منظم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مثل لعبة المدرسة – الغميمة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Rectangle 3"/>
          <p:cNvGrpSpPr/>
          <p:nvPr/>
        </p:nvGrpSpPr>
        <p:grpSpPr>
          <a:xfrm>
            <a:off x="-49320" y="-23760"/>
            <a:ext cx="9425160" cy="6954840"/>
            <a:chOff x="-49320" y="-23760"/>
            <a:chExt cx="9425160" cy="6954840"/>
          </a:xfrm>
        </p:grpSpPr>
        <p:pic>
          <p:nvPicPr>
            <p:cNvPr id="248" name="Rectangle 3" descr=""/>
            <p:cNvPicPr/>
            <p:nvPr/>
          </p:nvPicPr>
          <p:blipFill>
            <a:blip r:embed="rId1"/>
            <a:stretch/>
          </p:blipFill>
          <p:spPr>
            <a:xfrm>
              <a:off x="-49320" y="-23760"/>
              <a:ext cx="9425160" cy="695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51206"/>
                  </a:solidFill>
                  <a:latin typeface="Perpetu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3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- </a:t>
              </a:r>
              <a:r>
                <a:rPr b="1" lang="en-US" sz="3600" spc="-1" strike="noStrike" u="sng">
                  <a:solidFill>
                    <a:srgbClr val="4883e4"/>
                  </a:solidFill>
                  <a:uFillTx/>
                  <a:latin typeface="Perpetua"/>
                </a:rPr>
                <a:t>من حيث نوعية اللعب وطبيعته</a:t>
              </a:r>
              <a:r>
                <a:rPr b="1" lang="ar-SA" sz="3600" spc="-1" strike="noStrike" u="sng">
                  <a:solidFill>
                    <a:srgbClr val="4883e4"/>
                  </a:solidFill>
                  <a:uFillTx/>
                  <a:latin typeface="Perpetua"/>
                  <a:ea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نشيط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يتمتع بالنشاط 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هادئ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يتمتع بالهدوء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ذي يساعد على تنسيق الحركات ونمو العضلات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خطة – الحبلة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اللعب الذي تغلب عليه الصفة العقلية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: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مثل لعبة 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xo</a:t>
              </a:r>
              <a:r>
                <a:rPr b="1" lang="en-US" sz="3600" spc="-1" strike="noStrike">
                  <a:solidFill>
                    <a:srgbClr val="000000"/>
                  </a:solidFill>
                  <a:latin typeface="Perpetua"/>
                </a:rPr>
                <a:t>  </a:t>
              </a:r>
              <a:r>
                <a:rPr b="1" lang="ar-SA" sz="36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785880" y="596880"/>
            <a:ext cx="2390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d34817"/>
          </a:solidFill>
          <a:ln w="3816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Perpetua"/>
                <a:cs typeface="Times New Roman"/>
              </a:rPr>
              <a:t>مواد اللعب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2" name="Rectangle 3"/>
          <p:cNvGrpSpPr/>
          <p:nvPr/>
        </p:nvGrpSpPr>
        <p:grpSpPr>
          <a:xfrm>
            <a:off x="781200" y="1079640"/>
            <a:ext cx="7935840" cy="5449680"/>
            <a:chOff x="781200" y="1079640"/>
            <a:chExt cx="7935840" cy="5449680"/>
          </a:xfrm>
        </p:grpSpPr>
        <p:pic>
          <p:nvPicPr>
            <p:cNvPr id="253" name="Rectangle 3" descr=""/>
            <p:cNvPicPr/>
            <p:nvPr/>
          </p:nvPicPr>
          <p:blipFill>
            <a:blip r:embed="rId1"/>
            <a:stretch/>
          </p:blipFill>
          <p:spPr>
            <a:xfrm>
              <a:off x="781200" y="1079640"/>
              <a:ext cx="7935840" cy="54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26920" y="1125360"/>
              <a:ext cx="7705800" cy="53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2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0" spc="-1" strike="noStrike">
                  <a:solidFill>
                    <a:srgbClr val="ff0000"/>
                  </a:solidFill>
                  <a:latin typeface="Perpetua"/>
                  <a:cs typeface="Times New Roman"/>
                </a:rPr>
                <a:t>هناك بعض المعايير التي لا بد من مراعاتها عند إختيار اللعبة وهي</a:t>
              </a:r>
              <a:r>
                <a:rPr b="1" lang="ar-SA" sz="2800" spc="-1" strike="noStrike">
                  <a:solidFill>
                    <a:srgbClr val="ff0000"/>
                  </a:solidFill>
                  <a:latin typeface="Perpetua"/>
                  <a:ea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سلامة والأمان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تحمل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قابلية للتنظيف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الجاذبية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2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Perpetua"/>
                  <a:cs typeface="Times New Roman"/>
                </a:rPr>
                <a:t>مناسبة لسن الطفل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51206"/>
                </a:solidFill>
                <a:latin typeface="Franklin Gothic Book"/>
              </a:rPr>
              <a:t>أهداف اللعب وفوائده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535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9:21:43Z</dcterms:created>
  <dc:creator>Dell</dc:creator>
  <dc:description/>
  <dc:language>en-US</dc:language>
  <cp:lastModifiedBy>Lena Alkhuraiji</cp:lastModifiedBy>
  <cp:lastPrinted>2017-02-20T19:15:12Z</cp:lastPrinted>
  <dcterms:modified xsi:type="dcterms:W3CDTF">2017-02-20T21:25:27Z</dcterms:modified>
  <cp:revision>63</cp:revision>
  <dc:subject/>
  <dc:title>معلمة الروضة</dc:title>
</cp:coreProperties>
</file>